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5.wmf" ContentType="image/x-wmf"/>
  <Override PartName="/ppt/media/image1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6.jpeg" ContentType="image/jpeg"/>
  <Override PartName="/ppt/media/image20.wmf" ContentType="image/x-wmf"/>
  <Override PartName="/ppt/media/image28.jpeg" ContentType="image/jpeg"/>
  <Override PartName="/ppt/media/image18.png" ContentType="image/png"/>
  <Override PartName="/ppt/media/image1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971-FCD1-4D3C-BA9C-5493FA05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8CE-BAA5-4F14-A36A-AC50F365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99B8B-D686-48AF-AEAA-1EB77867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9E51B-B5DB-457A-9AF1-51572D80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4328B-D85E-4AB7-8149-DE94C271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72395-9FA8-462E-A867-28A1C160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D7DC7-FCD3-4D0C-AA57-CCC3C668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A1965-0884-4592-B84A-9133095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82EB4-7F24-4A83-A7F4-CEA46FC8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73BAA-76BB-4447-BCC3-1EEED951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752EB-FB31-4683-B6F8-D671CD68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9CAB7-9BD6-4224-8519-F1F250C1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F70-08D9-45EE-BE5F-716E2E4A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5ABE7-4927-4594-B47C-681879B9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0D9CF-0549-43CB-B06F-17F8000F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C6773-8825-4770-97CD-EF29182D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8C3FF-3CEC-4902-8599-62F38838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7A296-5E4C-4B98-A9C3-C9E1667F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F1C1A-B19D-41BA-AE9E-D2FF5C0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CD77A-9E9A-44ED-8940-B704E3B4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3C912-D1A6-4FB4-AECB-B94AE0AD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0F1EC-45F9-49FA-B557-2A69DBAC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D4833-E9C4-48DF-881F-F311255A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F46-5BC2-444C-9EB8-4FE13B1A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2F59E-C1CF-4EB3-8607-4A5C4510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0699D-854D-4F64-8EF9-2F73F403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25E14-BD9D-4B1A-A6E2-3D08183D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9C0CD-E11C-4A38-A7AC-8BD57A4F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E070E-CF2B-455A-AAFC-6FAE5F05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EC42-FFF2-47D0-9A52-D70EC5F8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929B-1150-4B7A-BB8E-252F764C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9457C-2BEF-489A-B882-06D8498F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F832D-8013-4970-88A1-18CD00BC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1C15B-0ACD-451B-B7EA-88D4590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670D-3D6F-47CB-987C-6C01D44A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EA18A-8CBF-4BB0-AB57-28EB1D8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5BC5F-876F-4519-94AE-B5076CE6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5ADDE-7E8D-4190-BEAD-2608E316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0ECB0-9B77-4895-A7AD-FCD6CF80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5E2BC-0A00-452A-A68B-6A23F417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D9043-D7F2-49A8-AABD-D153FF2B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B3E18-9046-4608-8A47-71477737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FE28E-6AAB-44AA-A659-82A25D1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A6F1D-34A2-4F63-AF2E-4ED74ADA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839E4-91B0-4096-882D-51504C84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A79C-C500-4E46-AB8A-775F2F4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60715-8ED1-4098-9A96-1857659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2F7FF-445A-416C-971D-1BD8A10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0C4AA-A82D-49B8-B3E1-0BB07996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4CC80-284B-478E-8C60-1F031157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7D258-95B9-4505-B05A-301601C2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305C-296C-4452-B2BF-FD0B2A53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B502-038E-4FE7-BC04-7501AE2D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E687-32ED-459A-B077-E30AE174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892E-4F60-4A4A-AAD1-B0E857B7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F62F-E4EF-4675-933A-ECB5CD0C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F7A-83BE-4CC3-B663-D8832621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2A8E-8A05-470F-8FB9-9CB95C5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7FD6-1D64-419D-8010-9D071A3D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5D74-D10E-4019-93E1-B9DAECA0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5E31-015E-4ABD-8399-040E6030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99AB-5ECC-4E4E-95E8-556F5345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47D6-127C-48FE-AAD9-F73491F2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4A1D-0356-4D46-BF2E-FFC5E822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A222-F2C9-4E4B-8A49-6FF2B155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D7AC4-D6EE-4A26-BEFF-B03D77F8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E9C1-D526-4627-92B5-84E8F9B3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C1E-511C-4360-ABEC-7A84AEF3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D454-63AE-4498-810A-6B330B29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D4BF-A967-443A-8B49-67644F6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CADD-178A-4373-84A1-5442D55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414B-0ACD-4BDB-900A-E1B90B9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F9BD-77EF-47EE-A5EC-1DC0B7A6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8299-68CC-43A3-B3BF-86422D51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E611-28A3-4B99-B21B-D8980204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4FD3-E7B0-4C42-8C54-68CB88EB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EA5D-06B0-452C-B1E8-D3DF98F7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683D-9F3E-4E9F-82F8-F4F802C6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55E-CDC1-433C-9D49-421BBAC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F855-E361-46FD-B056-366FA9D2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4EAE-1536-4C88-9F2C-C83F4C52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5AF1-F374-4591-8CF6-28530EF6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EAAE-F8B8-49DF-9DD4-B5CFEBF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05BA-6E95-4E88-AB0E-2B8ACC11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37A70-AB18-4842-9568-552F4C3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9498E-6C30-4445-A75C-CB7C9A5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9AAD-175D-4E18-9081-9A41B07D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916D-78B2-4AEB-B935-DCACF204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B300D-8ABB-4BDA-933C-3F970AB4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3E9-DCD1-4EDF-B3DB-37F0FDC0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73512-2BF6-4A87-ACAF-848926F9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EB2C8-9378-405E-94DD-A5FBAC9B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A33E2-B490-4E47-B212-60ABC4F9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AEEA8-396F-4B36-ADC1-6A65BF2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A4FC8-4E9A-4E2D-BE4D-53814A32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5620-E470-4F60-A7D4-9FE691B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E7549-8BCA-43E2-AE33-E15F0EA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6A172-6405-4894-9CF4-6A17AFEE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331D-2FB6-4334-9BD8-3BFEAF20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FCF0-90D8-408D-BE16-0408857E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1CB-51CB-4EEE-82BE-5312FB05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60338-8820-4473-B080-070FD75A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2C01-7CD7-4DFC-A5D2-740BE676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0AFED-814B-4C42-9D7B-428F5B49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CFB20-2EFE-4FBD-AE31-48CBC962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6A09-4CCC-45C7-977D-2589DE9F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3EB4D-89F7-4F09-89BE-AEE3E501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64304-9102-491E-B48F-86AC0DF0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29A19-CB44-4F5E-A16D-953D8080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3358-4FC3-45F5-87BE-23AE3E7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02B5-D92E-41B4-973C-2E79378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D09-FBC3-4B74-A116-F0E42D8D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C3ACC-4FB7-4653-90C3-96C46F98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AE403-958F-46EA-A6D9-6B3A5BF9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E11B3-40E9-4647-B0C9-4408AF3E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3E3C4-7917-499C-A0C2-6406230F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2291B-11F7-4367-8D65-CBF59385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C11EF-DB18-42C8-80D3-3301875B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628E8-D77F-4D10-83ED-E5B97803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AC70D-D849-4D91-B255-55F034F5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AA7FC-FDCD-497D-B689-FE651980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5E2E3-808D-41F9-BC8E-387E84C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04B-73B7-4243-9548-1C540D3D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95CF1-9D6A-42AE-9066-75594AF5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ED613-E3CA-421C-92FE-D86F2E5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5CC4D-2E44-4205-A9B0-EC90B0BD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81319-44D6-4408-B586-9A18B3D5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66A08-A243-4B8E-8ADA-D65F7BAA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6C88E-56B6-4E5E-8DB8-4A7A4E2A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C9AB7-B29A-418E-9C1C-A5B6CC5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14BC9-EC27-4C2D-B1A4-2F4AE0CD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26F4D-FBCB-442C-AB2D-FBA28214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00D53-0672-4EA6-821F-BDA8ABDD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519-55FE-45EA-8285-6D4F8883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9D433-88A2-4F90-BD8F-998A0710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52D8D-4675-4E8E-9B10-CD66796B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AD301-385B-46E8-B965-5553AEF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0AC2E-8572-4B5C-80BC-3DCE16E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DF704-1135-4F52-A787-432E6ACC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90283-6029-4522-B8A7-8BAE888E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A0EA-5643-41EE-8299-48A24C6D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585F7-7FDF-454B-9C3F-FDC1AC9F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3F867-9AE5-4255-BD82-4B568608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DD3C2-7748-4BE6-8A9A-F0EE7F2D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 А. 13.02 17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0F2D-58FC-4556-9D6E-317F58BDD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6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410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1508-DAB6-44ED-846E-04CDF2239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454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CEC1-75D7-4C7B-A6E5-614012AAE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498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6598-88D5-481C-A557-C7B3477FA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45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Рисунок 7" descr="images.jpg"/>
          <p:cNvPicPr/>
          <p:nvPr/>
        </p:nvPicPr>
        <p:blipFill>
          <a:blip r:embed="rId4"/>
          <a:stretch/>
        </p:blipFill>
        <p:spPr>
          <a:xfrm>
            <a:off x="7572240" y="3786120"/>
            <a:ext cx="1357560" cy="1214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24.jpg"/>
          <p:cNvPicPr/>
          <p:nvPr/>
        </p:nvPicPr>
        <p:blipFill>
          <a:blip r:embed="rId5"/>
          <a:stretch/>
        </p:blipFill>
        <p:spPr>
          <a:xfrm flipH="1" rot="17044800">
            <a:off x="7182360" y="146880"/>
            <a:ext cx="172872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0_115d87_6dca61ec_orig.png"/>
          <p:cNvPicPr/>
          <p:nvPr/>
        </p:nvPicPr>
        <p:blipFill>
          <a:blip r:embed="rId6"/>
          <a:stretch/>
        </p:blipFill>
        <p:spPr>
          <a:xfrm>
            <a:off x="8429760" y="3214800"/>
            <a:ext cx="285480" cy="225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0_115ce1_a0a4bba0_orig.png"/>
          <p:cNvPicPr/>
          <p:nvPr/>
        </p:nvPicPr>
        <p:blipFill>
          <a:blip r:embed="rId7"/>
          <a:stretch/>
        </p:blipFill>
        <p:spPr>
          <a:xfrm rot="18970200">
            <a:off x="7919640" y="995040"/>
            <a:ext cx="314280" cy="303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0_168ef0_9f3be76_orig.png"/>
          <p:cNvPicPr/>
          <p:nvPr/>
        </p:nvPicPr>
        <p:blipFill>
          <a:blip r:embed="rId8"/>
          <a:stretch/>
        </p:blipFill>
        <p:spPr>
          <a:xfrm rot="18568800">
            <a:off x="6880320" y="285480"/>
            <a:ext cx="276120" cy="1904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0_169545_6a77a23_orig.png"/>
          <p:cNvPicPr/>
          <p:nvPr/>
        </p:nvPicPr>
        <p:blipFill>
          <a:blip r:embed="rId9"/>
          <a:stretch/>
        </p:blipFill>
        <p:spPr>
          <a:xfrm>
            <a:off x="8643960" y="292896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3" descr="5776ce614f575155a8162c2d.png"/>
          <p:cNvPicPr/>
          <p:nvPr/>
        </p:nvPicPr>
        <p:blipFill>
          <a:blip r:embed="rId10"/>
          <a:stretch/>
        </p:blipFill>
        <p:spPr>
          <a:xfrm>
            <a:off x="8643960" y="2571840"/>
            <a:ext cx="318960" cy="142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17837122.png"/>
          <p:cNvPicPr/>
          <p:nvPr/>
        </p:nvPicPr>
        <p:blipFill>
          <a:blip r:embed="rId11"/>
          <a:stretch/>
        </p:blipFill>
        <p:spPr>
          <a:xfrm>
            <a:off x="8501040" y="3429000"/>
            <a:ext cx="500040" cy="3747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963743329.png"/>
          <p:cNvPicPr/>
          <p:nvPr/>
        </p:nvPicPr>
        <p:blipFill>
          <a:blip r:embed="rId12"/>
          <a:stretch/>
        </p:blipFill>
        <p:spPr>
          <a:xfrm>
            <a:off x="8358120" y="2857680"/>
            <a:ext cx="214560" cy="250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6" descr="butterfly_pink_icon.png"/>
          <p:cNvPicPr/>
          <p:nvPr/>
        </p:nvPicPr>
        <p:blipFill>
          <a:blip r:embed="rId13"/>
          <a:stretch/>
        </p:blipFill>
        <p:spPr>
          <a:xfrm>
            <a:off x="7215120" y="464328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7" descr="i.jpg"/>
          <p:cNvPicPr/>
          <p:nvPr/>
        </p:nvPicPr>
        <p:blipFill>
          <a:blip r:embed="rId14"/>
          <a:stretch/>
        </p:blipFill>
        <p:spPr>
          <a:xfrm rot="11259000">
            <a:off x="7881480" y="3830760"/>
            <a:ext cx="695520" cy="568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8" descr="trturka_tema_susleri_dekorlar_880.png"/>
          <p:cNvPicPr/>
          <p:nvPr/>
        </p:nvPicPr>
        <p:blipFill>
          <a:blip r:embed="rId15"/>
          <a:stretch/>
        </p:blipFill>
        <p:spPr>
          <a:xfrm rot="18520200">
            <a:off x="7800120" y="1631160"/>
            <a:ext cx="1200240" cy="982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9" descr="i (4).jpg"/>
          <p:cNvPicPr/>
          <p:nvPr/>
        </p:nvPicPr>
        <p:blipFill>
          <a:blip r:embed="rId16"/>
          <a:stretch/>
        </p:blipFill>
        <p:spPr>
          <a:xfrm>
            <a:off x="6572160" y="142920"/>
            <a:ext cx="230400" cy="285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f622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&lt;date/time&gt;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Пасечник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84D4-ADBF-4E16-B90B-61C78064D0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102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BB14-E905-4878-91EF-F16CECFBE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146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F84F-F679-409F-9E81-8DE78CBE0E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190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311A-A9FB-438D-8959-0C2CF061B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234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954-60D5-435D-9659-0983167D0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278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ED4E-593A-489C-A687-9480F7294D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322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189E-66FC-4C94-A873-1A4A1D93A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Рамка 6"/>
          <p:cNvGrpSpPr/>
          <p:nvPr/>
        </p:nvGrpSpPr>
        <p:grpSpPr>
          <a:xfrm>
            <a:off x="-30240" y="-30240"/>
            <a:ext cx="9204480" cy="5199120"/>
            <a:chOff x="-30240" y="-30240"/>
            <a:chExt cx="9204480" cy="5199120"/>
          </a:xfrm>
        </p:grpSpPr>
        <p:pic>
          <p:nvPicPr>
            <p:cNvPr id="366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2044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27080" y="127080"/>
              <a:ext cx="8889840" cy="48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ligraph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E07D-08DB-456B-9299-30FD273E6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 rot="21022800">
            <a:off x="669960" y="169344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АЗБУКА ПИТАНИЯ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pic>
        <p:nvPicPr>
          <p:cNvPr id="542" name="Рисунок 3" descr="blue-water-drop-and-green-leaf-on-white-aqua-eps10_138750590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43920" y="43578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43" name="TextBox 6"/>
          <p:cNvSpPr/>
          <p:nvPr/>
        </p:nvSpPr>
        <p:spPr>
          <a:xfrm>
            <a:off x="3992040" y="428616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ligraph"/>
                <a:ea typeface="Times New Roman"/>
              </a:rPr>
              <a:t>2020</a:t>
            </a:r>
            <a:r>
              <a:rPr b="1" lang="ru-RU" sz="3600" spc="-1" strike="noStrike">
                <a:solidFill>
                  <a:srgbClr val="000000"/>
                </a:solidFill>
                <a:latin typeface="Calligraph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4"/>
          <p:cNvSpPr/>
          <p:nvPr/>
        </p:nvSpPr>
        <p:spPr>
          <a:xfrm>
            <a:off x="4716360" y="3219480"/>
            <a:ext cx="34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 для воспит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Володькина М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2"/>
          <a:stretch/>
        </p:blipFill>
        <p:spPr>
          <a:xfrm>
            <a:off x="826920" y="450720"/>
            <a:ext cx="727416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E:\Новая папка (2)\Новая папка\20200120_083630.jpg"/>
          <p:cNvPicPr/>
          <p:nvPr/>
        </p:nvPicPr>
        <p:blipFill>
          <a:blip r:embed="rId2"/>
          <a:stretch/>
        </p:blipFill>
        <p:spPr>
          <a:xfrm>
            <a:off x="1260360" y="303120"/>
            <a:ext cx="619308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"/>
          <p:cNvPicPr/>
          <p:nvPr/>
        </p:nvPicPr>
        <p:blipFill>
          <a:blip r:embed="rId2"/>
          <a:stretch/>
        </p:blipFill>
        <p:spPr>
          <a:xfrm>
            <a:off x="1333440" y="771480"/>
            <a:ext cx="64753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ligraph"/>
              </a:rPr>
              <a:t>Использованная литература</a:t>
            </a:r>
            <a:endParaRPr b="1" lang="en-US" sz="1600" spc="-1" strike="noStrike">
              <a:solidFill>
                <a:srgbClr val="c00000"/>
              </a:solidFill>
              <a:latin typeface="Calligraph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Рисунок 2" descr="2634_html_26a5dd18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E:\Новая папка (2)\Новая папка\20200120_081449.jpg"/>
          <p:cNvPicPr/>
          <p:nvPr/>
        </p:nvPicPr>
        <p:blipFill>
          <a:blip r:embed="rId2"/>
          <a:stretch/>
        </p:blipFill>
        <p:spPr>
          <a:xfrm>
            <a:off x="250920" y="484200"/>
            <a:ext cx="4825800" cy="36162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3"/>
          <a:stretch/>
        </p:blipFill>
        <p:spPr>
          <a:xfrm>
            <a:off x="4781520" y="1189080"/>
            <a:ext cx="4140360" cy="29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ligraph"/>
              </a:rPr>
              <a:t>Спасибо за внимание</a:t>
            </a:r>
            <a:endParaRPr b="1" lang="en-US" sz="6000" spc="-1" strike="noStrike">
              <a:solidFill>
                <a:srgbClr val="c00000"/>
              </a:solidFill>
              <a:latin typeface="Calligraph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987280" y="1199880"/>
            <a:ext cx="569916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т полезнее продуктов — вкусных овощей и фрукт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чень важно спозаранку есть за завтраком овся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Черный хлеб полезен нам и не только по утр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мни истину простую:  лучше видит только то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то жует морковь сырую,  или сок морковный пьё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т простуды и ангины помогают апельс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у, а лучше съесть лимон, хоть и очень кислый о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611280" y="571320"/>
            <a:ext cx="8208720" cy="33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авная задача детского сада - обеспечение права каждого ребенка на охрану его жизни и здоровья. При этом организация рационального питания – необходимое условие для гармоничного роста детей, их физического и нервно-психического развития, устойчивости к инфекциям и другим неблагоприятным факторам внешней среды занимает особое место в деятельности ДОУ. Ведь именно в детском саду дети проводят значительную часть д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1"/>
          <p:cNvSpPr/>
          <p:nvPr/>
        </p:nvSpPr>
        <p:spPr>
          <a:xfrm>
            <a:off x="3708360" y="2682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к обеду. Сервировка стола в группах детского сад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2"/>
          <a:stretch/>
        </p:blipFill>
        <p:spPr>
          <a:xfrm>
            <a:off x="1220760" y="914400"/>
            <a:ext cx="666756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Рисунок 2" descr="2634_html_26a5dd18.png"/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971640" y="557280"/>
            <a:ext cx="705636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E:\Новая папка (2)\Новая папка\20200120_115343.jpg"/>
          <p:cNvPicPr/>
          <p:nvPr/>
        </p:nvPicPr>
        <p:blipFill>
          <a:blip r:embed="rId2"/>
          <a:stretch/>
        </p:blipFill>
        <p:spPr>
          <a:xfrm>
            <a:off x="2076480" y="339840"/>
            <a:ext cx="54482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"/>
          <p:cNvPicPr/>
          <p:nvPr/>
        </p:nvPicPr>
        <p:blipFill>
          <a:blip r:embed="rId2"/>
          <a:stretch/>
        </p:blipFill>
        <p:spPr>
          <a:xfrm>
            <a:off x="900000" y="473040"/>
            <a:ext cx="752652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2"/>
          <a:stretch/>
        </p:blipFill>
        <p:spPr>
          <a:xfrm>
            <a:off x="684360" y="466560"/>
            <a:ext cx="7416720" cy="42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E:\Новая папка (2)\Новая папка\IMG-a380beed1648825ddd119321bc9a1b20-V.jpg"/>
          <p:cNvPicPr/>
          <p:nvPr/>
        </p:nvPicPr>
        <p:blipFill>
          <a:blip r:embed="rId2"/>
          <a:stretch/>
        </p:blipFill>
        <p:spPr>
          <a:xfrm>
            <a:off x="1079640" y="268200"/>
            <a:ext cx="7278480" cy="44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Рисунок 2" descr="2634_html_26a5dd18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8120" y="4214880"/>
            <a:ext cx="563760" cy="714240"/>
          </a:xfrm>
          <a:prstGeom prst="rect">
            <a:avLst/>
          </a:prstGeom>
          <a:ln w="0">
            <a:noFill/>
          </a:ln>
        </p:spPr>
      </p:pic>
      <p:sp>
        <p:nvSpPr>
          <p:cNvPr id="561" name="Прямоугольник 1"/>
          <p:cNvSpPr/>
          <p:nvPr/>
        </p:nvSpPr>
        <p:spPr>
          <a:xfrm>
            <a:off x="1187280" y="484200"/>
            <a:ext cx="7170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каждым приемом пищи дети умываются, приводят в порядок нос, волосы, одежду. Ребенок должен правильно сидеть за столом: нижняя часть спины должна быть прижата к спинке стула, ступни ног полностью касаться пола, между подачей блюд правую руку следует держать на коленях, а запястье левой руки на столе. Нельзя сидеть с перекрещенными ногами, качаться на стуле, сидеть развалясь, перегибаться через спину рядом сидящего, отодвигать стул всем весом своего тела, барабанить по столу пальцами, ставить на стол ло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3T14:16:33Z</dcterms:created>
  <dc:creator>Lenovo</dc:creator>
  <dc:description/>
  <dc:language>en-US</dc:language>
  <cp:lastModifiedBy>вован</cp:lastModifiedBy>
  <dcterms:modified xsi:type="dcterms:W3CDTF">2020-01-20T19:25:33Z</dcterms:modified>
  <cp:revision>23</cp:revision>
  <dc:subject/>
  <dc:title>Слайд 1</dc:title>
</cp:coreProperties>
</file>