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8E02-F1EC-4F25-A4C7-2B93C3608B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6D33-0FC0-41EA-9E65-A037D9BB5A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5FBE-C125-42D3-AB05-2D209FFEF15E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ллекция учебных динамических слайдов по химии 8 класс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B5C7-06F4-4F65-B3D4-413F4B69FB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4E82-01B6-47D3-9181-6CB237D809CE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ллекция учебных динамических слайдов по химии 8 класс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2C1-05EE-4C58-8FEF-7338049A4A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9CDA-A216-4E45-A76A-7A884901FC25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7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ллекция учебных динамических слайдов по химии 8 класс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85F-A690-4DFC-99FD-8EEAA53F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873-50EB-41A4-9EDC-9B9838BF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39656-BBFE-4CF8-B3DF-F2243366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2C1E3-80CE-4F36-A698-9C679B0F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B3C83-A492-4E76-A7AA-4FEB94F2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BBC43-2C78-4411-BE36-B3FACA85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08E92-DA5C-494D-BDAE-41897A1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82120-2DFE-46BD-A532-277779AF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BBE8B-F874-4995-ADE9-1B8FCC8F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48F9E-D278-4835-8D32-1AC9D79B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D8A4A-A1E0-41E2-820D-98BF4C71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CBB43-27DE-4A0F-BA33-7460D81D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1A4-E838-4287-8F28-47B92757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5FCD0-757A-4D54-AE31-E3F01810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2D33D-142A-4D7C-896B-DF5FA6C6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A45E6-FABC-42DC-B098-5D52613E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CB981-591A-4D02-A1B5-3E1A1A9E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2E6AE-55CF-4B19-9B24-26BB3EF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CE149-CBE8-4200-82CF-CA8701C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99D5E-9FA1-4CBE-86AA-B8919B1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7EBBA-9FA3-4107-B238-7023B4B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148FD-277D-4719-9502-5A8D11D7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237F2-9D36-4ED9-AB34-2DEC0F7F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972-5210-456E-A7E2-D80E2EB8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0AF54-5049-4044-B1E0-3F118CD2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A2E12-1998-4946-BB15-B435C85B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5D897-C02E-4CD4-9AF4-4CC1CC5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61C9F-8DD1-4888-96E5-D4151426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D0AA5-411C-40F2-871F-3CB6D6A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D3279-6BCE-4F8A-8DFB-A6872C01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30089-A711-4B7E-9528-0197668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2EA5D-C96D-4734-B397-8AB8AF2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01B3F-0042-426E-8723-A74DDE03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E15EE-422E-493D-AEFD-4610D3DF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2910-3949-4260-A521-F9D34426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548F7-4952-434C-A81A-661B0BE6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92646-A7C6-42D6-9C5D-12AB36B5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62905-F9A7-4B59-B7C0-5D1F4A17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FA7F3-EB49-49AC-AF8C-959EB8AA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2BC45-9B0A-4B53-A850-45D21E5E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94618-08BA-43E0-B262-41A12902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E04CA-985E-477B-9CF5-A8CA8ABB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BD78E-CE6B-4A78-84D3-FA52CC5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B2D68-8323-48A9-8827-EFECCFF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14E53-5C2C-473A-96DD-B54258B1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4082-2D44-4F5C-9078-EB0D9CB4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78BF8-A78C-4B1B-9DFD-46895233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F544A-51CC-4F30-B7C1-CCE8FB53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8593B-FCDE-499E-98C2-D426ED53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78F71-15F1-463A-816E-FCF3D036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0F17A-E529-490F-B6AC-015A41C1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0A6C8-08A4-4C06-A0A2-1349403D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4EABA-2880-44BE-AC31-7C4ABD8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02A69-A77B-4825-98E5-32650B2A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40D8C-EC8F-44A7-9977-3BF048B2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FA34A-D8BF-419E-A88D-E85E8D00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8319-729F-4996-BA48-57832646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7E60D-4B26-42F2-B051-1B2978FA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62FD6-51E8-44CF-9DC3-94229D8A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52C91-11CF-40E2-91A4-49E8FD83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11961-E99F-4240-9A84-2FA0200B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3013C-B3EF-4E96-AEC2-7F3A8A37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F538F-2046-4E7C-ADF6-E096E42F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26C5A-FCB9-4C44-8ED7-7509CC7E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9A02A-7347-418F-BE21-CFA1567C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E6E44-1C77-48BC-8FFC-18399BB4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D276F-7BFF-4870-BF4B-0155957B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F356-1627-4CFF-8E22-BC4F9771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AF640-D80D-4A8F-B90E-547BA97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CEDDB-9A78-4A11-B5B8-062C6D42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FD261-E34D-4EA4-BA77-80202C52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698BF-8C17-4607-A631-117EB4B9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3D71D-DDCA-4802-8F93-D059D13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750B7-1A26-47B4-8F21-12F72C21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D42E2-5F72-4709-8A50-6440FF1C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9CB43-9C52-4E33-9116-96919919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486BE-FE9C-4545-A9BB-76FB4794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98D59-6950-403F-9EF6-63B380E9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23CD-A231-4ED7-818F-FF99FC7E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432D1-3762-4C8F-AF72-5023DD24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4061E-4BEA-493F-883F-80B69141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CA037-AE96-48AE-95D6-2D6E9B03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4B8DA-62A0-434D-8649-3B05EA3C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E35EA-833D-4209-B18E-60F521CE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19A7B-06F0-445E-B7C0-CED86551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BC9F7-DAD7-4EB8-B903-E4907292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4F526-C115-4873-971D-C8FC3360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04C22-A651-4AF5-A822-666AB4CC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01BA8-D6E6-4C62-82B4-08CC6658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36CD-D217-47CE-B07B-08E266F5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8B763-3C83-4758-B298-EB77DD26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049DB-3810-4106-8476-5A73673B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076C9-7046-46F1-8FFA-344D7E46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C7D17-BE68-4AE0-A15C-B80F4D1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9921F-8F31-4A1D-82FA-109CE53D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C714C-FCDF-439B-9663-D340716B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8E2D7-AEC3-40DC-8542-ABB9B864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C34E5-F1BF-424A-A938-6FCA19B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0C5C6-1C09-42E3-AFE9-F5FB3773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85A8DA-A312-4FBA-AF27-FA2F8EC4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8B14-984D-4E4B-985E-7F3386E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12536-78D6-480F-B64D-B0E385FA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7FD6B-B6F6-4662-BF2E-9D8DC54F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FF13B-E975-4B3B-8FEF-E319DC4B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715-BD8F-495F-87EC-697BF509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8293-DD48-4A6E-9499-9A52C147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88DB-6367-4640-950B-715C1CD6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D152-755E-4E1F-86F1-E74F6DA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6A8C-5AE0-42E5-B84C-A59AD165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6E05-5151-4B5E-B2C7-A1D61264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E03B-EE2B-41D1-9E96-F52F1919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8BC7-325D-4F2B-B974-916F190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38FA-CF0E-43AA-A0EE-348BA6E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847D-2450-490C-AB7A-3D7DE4A5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FC99-E2B4-4CA2-AE12-9E071451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C9B-0342-4D5F-B216-43A59E52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179F-FAE9-4BC7-A202-E5270BF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2A84-DD13-492B-B8D4-5EE2A8D4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4C37-E439-4BEB-935C-A5719F6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EAEC-6FCF-4847-B80A-038EDFE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FA21-5E7A-4F43-B2DD-7EB0FD1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1707-DA20-46AF-B598-3E546170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DDC8-7D62-46C2-A5B3-89D5510F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CF55E-6789-4EF0-85FE-9A581481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0CE2-FEBE-478D-84FA-D39409C3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908C-277F-4A47-BBDF-9A4CD2C8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416-D0B5-432D-BF1F-3F4D5E8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B8B95-47E9-40F7-A0E7-95E4A266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CC03-110F-4BAD-9E10-3F33169C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9DBD-8158-42DC-A8AA-FACFDBB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AC02-12E9-4321-B0E4-A2F7D18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8E627-7882-4DE4-9E1E-CD3EE3C9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46CB-3D2B-4B0C-AAB8-7AF14661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CBED1-300F-46C2-8179-8A042C9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46FF-F764-4B3B-BE2D-E36414B7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B666-F4EE-487B-AF09-9E374734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BEFB-02FD-48C0-9E0C-900C42B0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853-09FE-4297-8A9F-2634906E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AAEA7-F601-4A9A-AF26-5C102EAF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CD895-A39C-42DD-8AAF-2CFBB930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5BEF-BFEA-4CBE-8520-47AC4EEC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11EF0-750B-4EDC-95CF-89A7EF39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CEB2-CB8E-4816-A45F-95EB623B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06800-D4E6-4A7F-877A-534694F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39DC9-24FB-4FBD-8CAE-594DD067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E789F-3DD0-466B-8ADE-12A4ECA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6B00-5358-447C-BC6C-6E4971B0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5552-0F76-4BA2-BC10-68652A25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180-8DEB-4E1F-852B-FAD48DB7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651A9-C018-4944-9434-8C598D46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8C40-BA8E-447D-96A2-4F98F8E9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A17C-42D4-4D7F-8C86-63299772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19E2A-67E7-4282-AA12-FB4F5A15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E5F3E-0750-4841-A6D1-6E4D33FA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07A3-53B0-4378-B152-B761714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C83E-3990-4B76-9205-1E3A02F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FA1B5-5A20-4C25-B4A0-741B48E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F9061-976F-49A1-A079-3C540C8D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20716-F3D0-480C-9833-C70C1E45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94C-7E7F-4C16-ABFB-DE3DAE5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A8BFD-E7CB-439F-8EAD-D2FF88B3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0A585-9122-49D8-AA5A-219DF626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E7299-AEE9-4E48-837E-F67EF162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7B0D1-CC68-4EA3-B4DB-2D8209E5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DB6E-3AEF-4594-BCDD-C9E8126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B9D1-BAE5-41B1-8B31-F02330F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64F44-CC0D-4221-9682-47D7A4F7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9B5F-1B09-4B9D-BF53-38102F19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B20E-12B8-4AEF-9C35-53BE3428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FC93D-6980-4536-9CA3-3F30B529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629-019F-4906-A1D1-CD50C417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2AD5-871B-4B60-B98C-A088C82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299DF-1AC0-45EE-8B54-F847D64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E23E2-4310-402C-9E37-7951ADA8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26A0A-ABF8-4874-8F53-46843A63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42D2-44F8-4D4F-831C-0EFEA5B5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03024-6C04-404F-803E-BA2314AB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F5C5E-D698-4D43-B21E-8CE4790E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B1A48-9332-493A-ABB8-AEB2A6C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7C69B-EE49-4D81-886E-BB2309E0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D7155-48C2-4431-843E-66215F20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177-7E0F-4599-907F-D291BA62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A2039-5711-4844-A7C3-7D893AE0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2A2A-2F05-431E-8BC9-D181066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9D54-2B1E-4A0C-A878-B2C0EC0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D740-4750-41AD-8D08-291B895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B6A30-3837-4893-97B0-53F6E276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66A6E-2210-4D8F-AC64-0C5DA6C5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04537-7474-46AA-8751-8065CE22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CBC05-912D-4B06-8DAD-A89E2F05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7FDC4-4181-43D5-85DD-9BD3C9AB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39A02-FD23-484C-B1E3-5BB7087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FC78-E81F-4F27-AF60-95EFE065A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7BAC-A0A0-4BEB-897E-8ED7E3A6B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4063-C751-483B-A5AA-9325FAD6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E54-3B2F-411F-AB52-87D5A399D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451B-5899-4A72-AF48-738FA1A71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D06A-1B1E-4F77-B3D9-EE2266F29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1A1E-E235-4B86-B677-F47EBE2F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F25F-99A1-4B58-95D5-132C8BC017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D772-A657-4D5C-A9DB-CF29B780DE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4"/>
          <p:cNvSpPr/>
          <p:nvPr/>
        </p:nvSpPr>
        <p:spPr>
          <a:xfrm>
            <a:off x="368280" y="297000"/>
            <a:ext cx="1384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23516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4857480"/>
            <a:ext cx="2133720" cy="1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4857480"/>
            <a:ext cx="2895840" cy="1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4857480"/>
            <a:ext cx="2133720" cy="1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CBE0-C969-461C-9C2D-4AE6D8CDF0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A94F-8552-4012-BF44-2A68A1DE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AD0E-AE12-4C3A-BE39-0E7638D2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7CB3-16A4-46CF-8A1E-55C70970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E9F2-717D-4856-A1E2-6921F85C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46A-E504-47C0-8355-FB136AA87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FFB-4F3C-4913-9F70-37B11665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Рисунок 2" descr=""/>
          <p:cNvPicPr/>
          <p:nvPr/>
        </p:nvPicPr>
        <p:blipFill>
          <a:blip r:embed="rId1"/>
          <a:stretch/>
        </p:blipFill>
        <p:spPr>
          <a:xfrm>
            <a:off x="-612720" y="-1697040"/>
            <a:ext cx="10261440" cy="6840720"/>
          </a:xfrm>
          <a:prstGeom prst="rect">
            <a:avLst/>
          </a:prstGeom>
          <a:ln w="0">
            <a:noFill/>
          </a:ln>
        </p:spPr>
      </p:pic>
      <p:sp>
        <p:nvSpPr>
          <p:cNvPr id="665" name="Прямоугольник 1"/>
          <p:cNvSpPr/>
          <p:nvPr/>
        </p:nvSpPr>
        <p:spPr>
          <a:xfrm>
            <a:off x="0" y="357120"/>
            <a:ext cx="8358120" cy="131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Schoolbook"/>
              </a:rPr>
              <a:t>Реакции ионного обмен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Oval 2"/>
          <p:cNvSpPr/>
          <p:nvPr/>
        </p:nvSpPr>
        <p:spPr>
          <a:xfrm>
            <a:off x="6095880" y="2629080"/>
            <a:ext cx="914400" cy="685800"/>
          </a:xfrm>
          <a:prstGeom prst="ellipse">
            <a:avLst/>
          </a:prstGeom>
          <a:gradFill rotWithShape="0">
            <a:gsLst>
              <a:gs pos="0">
                <a:srgbClr val="d23516"/>
              </a:gs>
              <a:gs pos="100000">
                <a:srgbClr val="4987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CO</a:t>
            </a:r>
            <a:r>
              <a:rPr b="1" lang="en-US" sz="1800" spc="-1" strike="noStrike">
                <a:solidFill>
                  <a:srgbClr val="0a1c74"/>
                </a:solidFill>
                <a:latin typeface="Tahoma"/>
              </a:rPr>
              <a:t>3</a:t>
            </a:r>
            <a:r>
              <a:rPr b="1" lang="en-US" sz="2400" spc="-1" strike="noStrike" baseline="40000">
                <a:solidFill>
                  <a:srgbClr val="0a1c74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0" name="Oval 3"/>
          <p:cNvSpPr/>
          <p:nvPr/>
        </p:nvSpPr>
        <p:spPr>
          <a:xfrm>
            <a:off x="7772400" y="331488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Oval 4"/>
          <p:cNvSpPr/>
          <p:nvPr/>
        </p:nvSpPr>
        <p:spPr>
          <a:xfrm>
            <a:off x="3070080" y="4140360"/>
            <a:ext cx="914400" cy="603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004c4a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Oval 5"/>
          <p:cNvSpPr/>
          <p:nvPr/>
        </p:nvSpPr>
        <p:spPr>
          <a:xfrm>
            <a:off x="2416320" y="2473200"/>
            <a:ext cx="914400" cy="6876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H</a:t>
            </a:r>
            <a:r>
              <a:rPr b="1" lang="en-US" sz="2400" spc="-1" strike="noStrike" baseline="30000">
                <a:solidFill>
                  <a:srgbClr val="0a1c74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685800" y="1787400"/>
            <a:ext cx="1077840" cy="72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Rectangle 9"/>
          <p:cNvSpPr/>
          <p:nvPr/>
        </p:nvSpPr>
        <p:spPr>
          <a:xfrm>
            <a:off x="0" y="4800600"/>
            <a:ext cx="9144000" cy="34308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1066680" y="171360"/>
            <a:ext cx="7391520" cy="68580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заимодействие ионов в раствор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AutoShape 11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7" name="Oval 13"/>
          <p:cNvSpPr/>
          <p:nvPr/>
        </p:nvSpPr>
        <p:spPr>
          <a:xfrm>
            <a:off x="7183440" y="1592280"/>
            <a:ext cx="1079640" cy="72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Oval 14"/>
          <p:cNvSpPr/>
          <p:nvPr/>
        </p:nvSpPr>
        <p:spPr>
          <a:xfrm>
            <a:off x="6008760" y="4041720"/>
            <a:ext cx="1079280" cy="72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9" name="Oval 15"/>
          <p:cNvSpPr/>
          <p:nvPr/>
        </p:nvSpPr>
        <p:spPr>
          <a:xfrm>
            <a:off x="782640" y="281772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Oval 16"/>
          <p:cNvSpPr/>
          <p:nvPr/>
        </p:nvSpPr>
        <p:spPr>
          <a:xfrm>
            <a:off x="2351160" y="1592280"/>
            <a:ext cx="914400" cy="685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H</a:t>
            </a:r>
            <a:r>
              <a:rPr b="1" lang="en-US" sz="2400" spc="-1" strike="noStrike" baseline="30000">
                <a:solidFill>
                  <a:srgbClr val="0a1c74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Oval 17"/>
          <p:cNvSpPr/>
          <p:nvPr/>
        </p:nvSpPr>
        <p:spPr>
          <a:xfrm>
            <a:off x="7969320" y="252252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2" name="Oval 18"/>
          <p:cNvSpPr/>
          <p:nvPr/>
        </p:nvSpPr>
        <p:spPr>
          <a:xfrm>
            <a:off x="1436760" y="355140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89 0.00021 L 0.17136 0.00021 E">
                                      <p:cBhvr>
                                        <p:cTn id="751" dur="2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9607E-006 3.17667E-006 L 0.24988 0.06672 E">
                                      <p:cBhvr>
                                        <p:cTn id="753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7585E-006 -3.59631E-006 L -0.13076 -0.00147 E">
                                      <p:cBhvr>
                                        <p:cTn id="755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88 0.06672 L 0.24988 0.40012 E">
                                      <p:cBhvr>
                                        <p:cTn id="759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136 0.00021 L 0.17136 0.33361 E">
                                      <p:cBhvr>
                                        <p:cTn id="761" dur="2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76 -0.00147 L -0.13076 0.33194 E">
                                      <p:cBhvr>
                                        <p:cTn id="763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4634E-006 1.98909E-006 L -0.00709 -0.71528 E">
                                      <p:cBhvr>
                                        <p:cTn id="769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 0.41083 L 0.00047 -0.27843 E">
                                      <p:cBhvr>
                                        <p:cTn id="773" dur="2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21"/>
          <p:cNvSpPr/>
          <p:nvPr/>
        </p:nvSpPr>
        <p:spPr>
          <a:xfrm>
            <a:off x="1405440" y="1522440"/>
            <a:ext cx="430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 +   NaOH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+ 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TextBox 24"/>
          <p:cNvSpPr/>
          <p:nvPr/>
        </p:nvSpPr>
        <p:spPr>
          <a:xfrm>
            <a:off x="1369800" y="1522440"/>
            <a:ext cx="50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TextBox 26"/>
          <p:cNvSpPr/>
          <p:nvPr/>
        </p:nvSpPr>
        <p:spPr>
          <a:xfrm>
            <a:off x="1676160" y="1522440"/>
            <a:ext cx="51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1291320" y="205596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Прямоугольник 31"/>
          <p:cNvSpPr/>
          <p:nvPr/>
        </p:nvSpPr>
        <p:spPr>
          <a:xfrm>
            <a:off x="2012040" y="205596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TextBox 32"/>
          <p:cNvSpPr/>
          <p:nvPr/>
        </p:nvSpPr>
        <p:spPr>
          <a:xfrm>
            <a:off x="2521440" y="1522440"/>
            <a:ext cx="68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TextBox 33"/>
          <p:cNvSpPr/>
          <p:nvPr/>
        </p:nvSpPr>
        <p:spPr>
          <a:xfrm>
            <a:off x="2863800" y="1522440"/>
            <a:ext cx="703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Прямоугольник 34"/>
          <p:cNvSpPr/>
          <p:nvPr/>
        </p:nvSpPr>
        <p:spPr>
          <a:xfrm>
            <a:off x="2831040" y="205596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Прямоугольник 42"/>
          <p:cNvSpPr/>
          <p:nvPr/>
        </p:nvSpPr>
        <p:spPr>
          <a:xfrm>
            <a:off x="6500880" y="2517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TextBox 43"/>
          <p:cNvSpPr/>
          <p:nvPr/>
        </p:nvSpPr>
        <p:spPr>
          <a:xfrm>
            <a:off x="1714680" y="4260960"/>
            <a:ext cx="7429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3" name="Прямоугольник 48"/>
          <p:cNvSpPr/>
          <p:nvPr/>
        </p:nvSpPr>
        <p:spPr>
          <a:xfrm>
            <a:off x="3567960" y="2055960"/>
            <a:ext cx="567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4" name="TextBox 50"/>
          <p:cNvSpPr/>
          <p:nvPr/>
        </p:nvSpPr>
        <p:spPr>
          <a:xfrm>
            <a:off x="3947760" y="1522440"/>
            <a:ext cx="747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5" name="TextBox 52"/>
          <p:cNvSpPr/>
          <p:nvPr/>
        </p:nvSpPr>
        <p:spPr>
          <a:xfrm>
            <a:off x="4943160" y="1522440"/>
            <a:ext cx="68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6" name="Прямоугольник 53"/>
          <p:cNvSpPr/>
          <p:nvPr/>
        </p:nvSpPr>
        <p:spPr>
          <a:xfrm>
            <a:off x="5663160" y="205596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7" name="TextBox 55"/>
          <p:cNvSpPr/>
          <p:nvPr/>
        </p:nvSpPr>
        <p:spPr>
          <a:xfrm>
            <a:off x="5287680" y="1522440"/>
            <a:ext cx="51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Прямая соединительная линия 60"/>
          <p:cNvSpPr/>
          <p:nvPr/>
        </p:nvSpPr>
        <p:spPr>
          <a:xfrm flipV="1">
            <a:off x="1539720" y="198288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9" name="Прямая соединительная линия 66"/>
          <p:cNvSpPr/>
          <p:nvPr/>
        </p:nvSpPr>
        <p:spPr>
          <a:xfrm flipV="1">
            <a:off x="6108840" y="1982880"/>
            <a:ext cx="66816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Прямая соединительная линия 67"/>
          <p:cNvSpPr/>
          <p:nvPr/>
        </p:nvSpPr>
        <p:spPr>
          <a:xfrm flipV="1">
            <a:off x="2325600" y="198288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1" name="Прямая соединительная линия 68"/>
          <p:cNvSpPr/>
          <p:nvPr/>
        </p:nvSpPr>
        <p:spPr>
          <a:xfrm flipV="1">
            <a:off x="4976640" y="198288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2" name="TextBox 71"/>
          <p:cNvSpPr/>
          <p:nvPr/>
        </p:nvSpPr>
        <p:spPr>
          <a:xfrm>
            <a:off x="828360" y="2079720"/>
            <a:ext cx="50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Прямоугольник 72"/>
          <p:cNvSpPr/>
          <p:nvPr/>
        </p:nvSpPr>
        <p:spPr>
          <a:xfrm>
            <a:off x="2421360" y="270684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TextBox 73"/>
          <p:cNvSpPr/>
          <p:nvPr/>
        </p:nvSpPr>
        <p:spPr>
          <a:xfrm>
            <a:off x="3068640" y="2079720"/>
            <a:ext cx="703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Прямоугольник 74"/>
          <p:cNvSpPr/>
          <p:nvPr/>
        </p:nvSpPr>
        <p:spPr>
          <a:xfrm>
            <a:off x="3477600" y="2706840"/>
            <a:ext cx="567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TextBox 75"/>
          <p:cNvSpPr/>
          <p:nvPr/>
        </p:nvSpPr>
        <p:spPr>
          <a:xfrm>
            <a:off x="3947760" y="2079720"/>
            <a:ext cx="747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Прямоугольник 41"/>
          <p:cNvSpPr/>
          <p:nvPr/>
        </p:nvSpPr>
        <p:spPr>
          <a:xfrm>
            <a:off x="4706280" y="2101680"/>
            <a:ext cx="312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8" name="TextBox 57"/>
          <p:cNvSpPr/>
          <p:nvPr/>
        </p:nvSpPr>
        <p:spPr>
          <a:xfrm>
            <a:off x="812880" y="3625920"/>
            <a:ext cx="708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еакцию, между кислотой и щёлочью, называют </a:t>
            </a:r>
            <a:r>
              <a:rPr b="1" lang="ru-RU" sz="1800" spc="-1" strike="noStrike">
                <a:solidFill>
                  <a:srgbClr val="4987e3"/>
                </a:solidFill>
                <a:latin typeface="Century Schoolbook"/>
              </a:rPr>
              <a:t>реакцией нейтрализац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9" name="Прямоугольник 28"/>
          <p:cNvSpPr/>
          <p:nvPr/>
        </p:nvSpPr>
        <p:spPr>
          <a:xfrm>
            <a:off x="357120" y="21420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Условия протекания реакций ионного обме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0" name="TextBox 29"/>
          <p:cNvSpPr/>
          <p:nvPr/>
        </p:nvSpPr>
        <p:spPr>
          <a:xfrm>
            <a:off x="285840" y="5716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82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144082"/>
                </a:solidFill>
                <a:latin typeface="Tahoma"/>
              </a:rPr>
              <a:t>Если образуется 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9799E-007 -0.00903 L -0.0465 0.10301 E">
                                      <p:cBhvr>
                                        <p:cTn id="803" dur="1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727E-006 -1.48148E-006 L -0.01563 0.10301 E">
                                      <p:cBhvr>
                                        <p:cTn id="810" dur="1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02483 0.10301 E">
                                      <p:cBhvr>
                                        <p:cTn id="819" dur="1000" fill="hold"/>
                                        <p:tgtEl>
                                          <p:spTgt spid="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0.02257 0.10301 E">
                                      <p:cBhvr>
                                        <p:cTn id="823" dur="1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6369E-006 -7.40741E-007 L 0.0073 0.10301 E">
                                      <p:cBhvr>
                                        <p:cTn id="835" dur="1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5 -7.40741E-007 L 0.01458 0.10301 E">
                                      <p:cBhvr>
                                        <p:cTn id="841" dur="1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2467E-006 -7.40741E-007 L 0.08713 0.10301 E">
                                      <p:cBhvr>
                                        <p:cTn id="849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12587 0.1169 E">
                                      <p:cBhvr>
                                        <p:cTn id="872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0.00533 L -0.03309 0.11157 E">
                                      <p:cBhvr>
                                        <p:cTn id="879" dur="1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11551 E">
                                      <p:cBhvr>
                                        <p:cTn id="886" dur="10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Oval 2"/>
          <p:cNvSpPr/>
          <p:nvPr/>
        </p:nvSpPr>
        <p:spPr>
          <a:xfrm>
            <a:off x="6095880" y="2629080"/>
            <a:ext cx="914400" cy="685800"/>
          </a:xfrm>
          <a:prstGeom prst="ellipse">
            <a:avLst/>
          </a:prstGeom>
          <a:gradFill rotWithShape="0">
            <a:gsLst>
              <a:gs pos="0">
                <a:srgbClr val="d23516"/>
              </a:gs>
              <a:gs pos="100000">
                <a:srgbClr val="4987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OH</a:t>
            </a:r>
            <a:r>
              <a:rPr b="1" lang="en-US" sz="2400" spc="-1" strike="noStrike" baseline="40000">
                <a:solidFill>
                  <a:srgbClr val="0a1c74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Oval 3"/>
          <p:cNvSpPr/>
          <p:nvPr/>
        </p:nvSpPr>
        <p:spPr>
          <a:xfrm>
            <a:off x="7772400" y="331488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Oval 4"/>
          <p:cNvSpPr/>
          <p:nvPr/>
        </p:nvSpPr>
        <p:spPr>
          <a:xfrm>
            <a:off x="782640" y="301140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4" name="Oval 5"/>
          <p:cNvSpPr/>
          <p:nvPr/>
        </p:nvSpPr>
        <p:spPr>
          <a:xfrm>
            <a:off x="2362320" y="2457360"/>
            <a:ext cx="914400" cy="685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H</a:t>
            </a:r>
            <a:r>
              <a:rPr b="1" lang="en-US" sz="2400" spc="-1" strike="noStrike" baseline="30000">
                <a:solidFill>
                  <a:srgbClr val="0a1c74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5" name="Oval 7"/>
          <p:cNvSpPr/>
          <p:nvPr/>
        </p:nvSpPr>
        <p:spPr>
          <a:xfrm>
            <a:off x="3135240" y="3992400"/>
            <a:ext cx="1208160" cy="8240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0" y="4800600"/>
            <a:ext cx="9144000" cy="34308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7" name="Rectangle 10"/>
          <p:cNvSpPr/>
          <p:nvPr/>
        </p:nvSpPr>
        <p:spPr>
          <a:xfrm>
            <a:off x="1066680" y="171360"/>
            <a:ext cx="7391520" cy="68580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заимодействие ионов в раствор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AutoShape 11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Oval 12"/>
          <p:cNvSpPr/>
          <p:nvPr/>
        </p:nvSpPr>
        <p:spPr>
          <a:xfrm>
            <a:off x="6988320" y="389412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Oval 13"/>
          <p:cNvSpPr/>
          <p:nvPr/>
        </p:nvSpPr>
        <p:spPr>
          <a:xfrm>
            <a:off x="7510320" y="1592280"/>
            <a:ext cx="1208160" cy="8240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1" name="Oval 14"/>
          <p:cNvSpPr/>
          <p:nvPr/>
        </p:nvSpPr>
        <p:spPr>
          <a:xfrm>
            <a:off x="2220840" y="1541520"/>
            <a:ext cx="60804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2" name="Oval 15"/>
          <p:cNvSpPr/>
          <p:nvPr/>
        </p:nvSpPr>
        <p:spPr>
          <a:xfrm>
            <a:off x="1371600" y="3503520"/>
            <a:ext cx="1208160" cy="8240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C -0.01076 -0.00416 -0.02135 -0.0081 -0.04497 -0.00995 C -0.06858 -0.0118 -0.12569 -0.01134 -0.14167 -0.01157 E">
                                      <p:cBhvr>
                                        <p:cTn id="898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C 0.01875 0.02547 0.03732 0.05162 0.0651 0.05625 C 0.09305 0.06088 0.14948 0.03311 0.16666 0.02801 E">
                                      <p:cBhvr>
                                        <p:cTn id="900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a1b6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a1b6"/>
                                      </p:to>
                                    </p:animClr>
                                    <p:set>
                                      <p:cBhvr>
                                        <p:cTn id="90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67 0.02801 L 0.16667 0.32223 E">
                                      <p:cBhvr>
                                        <p:cTn id="910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0.01158 L -0.14167 0.28889 E">
                                      <p:cBhvr>
                                        <p:cTn id="912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2329E-006 -3.78514E-006 C 0.06656 0.01175 0.12793 -0.06357 0.13675 -0.17016 C 0.14634 -0.27213 0.10559 -0.37159 0.04107 -0.38292 C -0.01857 -0.3953 -0.07757 -0.33298 -0.0856 -0.2373 C -0.09252 -0.15002 -0.05932 -0.06399 -0.00362 -0.05329 C 0.04689 -0.04259 0.09741 -0.09504 0.10496 -0.17624 C 0.11125 -0.25115 0.0834 -0.32375 0.03667 -0.33193 C -0.00503 -0.34011 -0.04799 -0.29878 -0.05287 -0.23185 C -0.05853 -0.17142 -0.03713 -0.11183 0.00063 -0.10428 C 0.03446 -0.09819 0.06877 -0.12904 0.07317 -0.1817 C 0.07726 -0.22786 0.06121 -0.2757 0.03242 -0.28094 C 0.00756 -0.28661 -0.01731 -0.26437 -0.02108 -0.22618 C -0.02455 -0.1945 -0.01495 -0.15988 0.00488 -0.15694 C 0.02077 -0.15233 0.03824 -0.16387 0.04139 -0.18737 C 0.04217 -0.20688 0.03903 -0.22597 0.02817 -0.22996 C 0.02125 -0.23227 0.01401 -0.22954 0.0107 -0.22031 C 0.00944 -0.21548 0.00944 -0.21212 0.01007 -0.20751 E">
                                      <p:cBhvr>
                                        <p:cTn id="918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ижний колонтитул 1"/>
          <p:cNvSpPr/>
          <p:nvPr/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4" name="Прямоугольник 2"/>
          <p:cNvSpPr/>
          <p:nvPr/>
        </p:nvSpPr>
        <p:spPr>
          <a:xfrm>
            <a:off x="1403280" y="1419120"/>
            <a:ext cx="6408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енные реакц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реакции, с помощью которых можно обнаружить и доказать наличие иона в растворе. Это можно сделать, если перевести ион в осадок (нерастворимое вещество), газ или изменить цв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определения ионов можно воспользовать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й растворимост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1"/>
          <p:cNvSpPr/>
          <p:nvPr/>
        </p:nvSpPr>
        <p:spPr>
          <a:xfrm>
            <a:off x="1486080" y="571680"/>
            <a:ext cx="6172200" cy="703440"/>
          </a:xfrm>
          <a:prstGeom prst="rect">
            <a:avLst/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ление знан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Прямоугольник 2"/>
          <p:cNvSpPr/>
          <p:nvPr/>
        </p:nvSpPr>
        <p:spPr>
          <a:xfrm>
            <a:off x="3809520" y="1828800"/>
            <a:ext cx="1220040" cy="642600"/>
          </a:xfrm>
          <a:prstGeom prst="rect">
            <a:avLst/>
          </a:prstGeom>
          <a:solidFill>
            <a:srgbClr val="d2351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2400" y="456840"/>
            <a:ext cx="43736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обмен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WordArt 4"/>
          <p:cNvSpPr txBox="1"/>
          <p:nvPr/>
        </p:nvSpPr>
        <p:spPr>
          <a:xfrm>
            <a:off x="260280" y="1150920"/>
            <a:ext cx="431172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B + CD = AD + CB</a:t>
            </a:r>
            <a:endParaRPr b="1" lang="en-US" sz="7300" spc="1" strike="noStrike">
              <a:ln w="507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9" name="Прямоугольник 1"/>
          <p:cNvSpPr/>
          <p:nvPr/>
        </p:nvSpPr>
        <p:spPr>
          <a:xfrm>
            <a:off x="4562640" y="149544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еакции замещения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WordArt 4"/>
          <p:cNvSpPr txBox="1"/>
          <p:nvPr/>
        </p:nvSpPr>
        <p:spPr>
          <a:xfrm>
            <a:off x="4869000" y="2036880"/>
            <a:ext cx="40557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A + CD = AD + C</a:t>
            </a:r>
            <a:endParaRPr b="1" lang="en-US" sz="73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1" name="Rectangle 2"/>
          <p:cNvSpPr/>
          <p:nvPr/>
        </p:nvSpPr>
        <p:spPr>
          <a:xfrm>
            <a:off x="314280" y="2341440"/>
            <a:ext cx="4203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еакции разлож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2" name="WordArt 4"/>
          <p:cNvSpPr txBox="1"/>
          <p:nvPr/>
        </p:nvSpPr>
        <p:spPr>
          <a:xfrm>
            <a:off x="369720" y="3049560"/>
            <a:ext cx="3481560" cy="4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AB = A + B</a:t>
            </a:r>
            <a:endParaRPr b="1" lang="en-US" sz="7300" spc="1" strike="noStrike">
              <a:ln w="507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893" name="WordArt 4"/>
          <p:cNvSpPr txBox="1"/>
          <p:nvPr/>
        </p:nvSpPr>
        <p:spPr>
          <a:xfrm>
            <a:off x="4572000" y="3543480"/>
            <a:ext cx="41911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00b300"/>
                </a:solidFill>
                <a:latin typeface="Times New Roman"/>
              </a:rPr>
              <a:t>A+B  = AB</a:t>
            </a:r>
            <a:endParaRPr b="1" lang="en-US" sz="7300" spc="1" strike="noStrike">
              <a:ln w="50760">
                <a:solidFill>
                  <a:srgbClr val="000000"/>
                </a:solidFill>
                <a:miter/>
              </a:ln>
              <a:solidFill>
                <a:srgbClr val="00b300"/>
              </a:solidFill>
              <a:latin typeface="Times New Roman"/>
              <a:ea typeface="Times New Roman"/>
            </a:endParaRPr>
          </a:p>
        </p:txBody>
      </p:sp>
      <p:sp>
        <p:nvSpPr>
          <p:cNvPr id="894" name="Прямоугольник 8"/>
          <p:cNvSpPr/>
          <p:nvPr/>
        </p:nvSpPr>
        <p:spPr>
          <a:xfrm>
            <a:off x="4509720" y="301320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e2f13"/>
                </a:solidFill>
                <a:latin typeface="Century Schoolbook"/>
              </a:rPr>
              <a:t>Реакции соедин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6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1209600" y="776520"/>
            <a:ext cx="7224120" cy="1237680"/>
          </a:xfrm>
          <a:prstGeom prst="rect">
            <a:avLst/>
          </a:prstGeom>
          <a:solidFill>
            <a:srgbClr val="36a1b6"/>
          </a:solidFill>
          <a:ln w="25560">
            <a:solidFill>
              <a:srgbClr val="92949b"/>
            </a:solidFill>
            <a:round/>
          </a:ln>
        </p:spPr>
        <p:txBody>
          <a:bodyPr anchor="t">
            <a:norm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жите уравнение реакции ионного об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Овал 228"/>
          <p:cNvSpPr/>
          <p:nvPr/>
        </p:nvSpPr>
        <p:spPr>
          <a:xfrm>
            <a:off x="1214280" y="714240"/>
            <a:ext cx="981360" cy="490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Скругленный прямоугольник 221"/>
          <p:cNvSpPr/>
          <p:nvPr/>
        </p:nvSpPr>
        <p:spPr>
          <a:xfrm>
            <a:off x="1143000" y="2081160"/>
            <a:ext cx="734688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Al + 6HCl = 2Al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8" name="Овал 228"/>
          <p:cNvSpPr/>
          <p:nvPr/>
        </p:nvSpPr>
        <p:spPr>
          <a:xfrm>
            <a:off x="1143000" y="2214720"/>
            <a:ext cx="32688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9" name="Скругленный прямоугольник 221"/>
          <p:cNvSpPr/>
          <p:nvPr/>
        </p:nvSpPr>
        <p:spPr>
          <a:xfrm>
            <a:off x="1174680" y="2717640"/>
            <a:ext cx="7326360" cy="73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Na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2Na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Овал 228"/>
          <p:cNvSpPr/>
          <p:nvPr/>
        </p:nvSpPr>
        <p:spPr>
          <a:xfrm>
            <a:off x="1174680" y="2865600"/>
            <a:ext cx="3272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1" name="Скругленный прямоугольник 221"/>
          <p:cNvSpPr/>
          <p:nvPr/>
        </p:nvSpPr>
        <p:spPr>
          <a:xfrm>
            <a:off x="1174680" y="3452760"/>
            <a:ext cx="7326360" cy="73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6KOH = 2Al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3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2" name="Скругленный прямоугольник 221"/>
          <p:cNvSpPr/>
          <p:nvPr/>
        </p:nvSpPr>
        <p:spPr>
          <a:xfrm>
            <a:off x="1174680" y="4189320"/>
            <a:ext cx="7326360" cy="73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Ba +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B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3" name="Овал 228"/>
          <p:cNvSpPr/>
          <p:nvPr/>
        </p:nvSpPr>
        <p:spPr>
          <a:xfrm>
            <a:off x="1174680" y="3649680"/>
            <a:ext cx="32724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4" name="Овал 228"/>
          <p:cNvSpPr/>
          <p:nvPr/>
        </p:nvSpPr>
        <p:spPr>
          <a:xfrm>
            <a:off x="1174680" y="4384800"/>
            <a:ext cx="32724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557280" y="486000"/>
            <a:ext cx="8069040" cy="1058400"/>
          </a:xfrm>
          <a:prstGeom prst="rect">
            <a:avLst/>
          </a:prstGeom>
          <a:solidFill>
            <a:srgbClr val="36a1b6"/>
          </a:solidFill>
          <a:ln w="25560">
            <a:solidFill>
              <a:srgbClr val="92949b"/>
            </a:solidFill>
            <a:round/>
          </a:ln>
        </p:spPr>
        <p:txBody>
          <a:bodyPr anchor="t">
            <a:normAutofit/>
          </a:bodyPr>
          <a:p>
            <a:pPr marL="341280" indent="-34128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ей нейтрализации является                реакция между парой веще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Овал 228"/>
          <p:cNvSpPr/>
          <p:nvPr/>
        </p:nvSpPr>
        <p:spPr>
          <a:xfrm>
            <a:off x="571680" y="428760"/>
            <a:ext cx="979200" cy="490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Скругленный прямоугольник 221"/>
          <p:cNvSpPr/>
          <p:nvPr/>
        </p:nvSpPr>
        <p:spPr>
          <a:xfrm>
            <a:off x="522360" y="1690560"/>
            <a:ext cx="313524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Овал 228"/>
          <p:cNvSpPr/>
          <p:nvPr/>
        </p:nvSpPr>
        <p:spPr>
          <a:xfrm>
            <a:off x="522360" y="1886040"/>
            <a:ext cx="32688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9" name="Скругленный прямоугольник 221"/>
          <p:cNvSpPr/>
          <p:nvPr/>
        </p:nvSpPr>
        <p:spPr>
          <a:xfrm>
            <a:off x="522360" y="2522520"/>
            <a:ext cx="313524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a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0" name="Овал 228"/>
          <p:cNvSpPr/>
          <p:nvPr/>
        </p:nvSpPr>
        <p:spPr>
          <a:xfrm>
            <a:off x="522360" y="2717640"/>
            <a:ext cx="326880" cy="2462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Скругленный прямоугольник 221"/>
          <p:cNvSpPr/>
          <p:nvPr/>
        </p:nvSpPr>
        <p:spPr>
          <a:xfrm>
            <a:off x="4703760" y="1690560"/>
            <a:ext cx="313380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Овал 228"/>
          <p:cNvSpPr/>
          <p:nvPr/>
        </p:nvSpPr>
        <p:spPr>
          <a:xfrm>
            <a:off x="4703760" y="1886040"/>
            <a:ext cx="3254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3" name="Скругленный прямоугольник 221"/>
          <p:cNvSpPr/>
          <p:nvPr/>
        </p:nvSpPr>
        <p:spPr>
          <a:xfrm>
            <a:off x="4703760" y="2522520"/>
            <a:ext cx="313380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4" name="Овал 228"/>
          <p:cNvSpPr/>
          <p:nvPr/>
        </p:nvSpPr>
        <p:spPr>
          <a:xfrm>
            <a:off x="4703760" y="1886040"/>
            <a:ext cx="3254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Овал 228"/>
          <p:cNvSpPr/>
          <p:nvPr/>
        </p:nvSpPr>
        <p:spPr>
          <a:xfrm>
            <a:off x="4703760" y="2670120"/>
            <a:ext cx="32544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556920" y="842760"/>
            <a:ext cx="8111880" cy="1058760"/>
          </a:xfrm>
          <a:prstGeom prst="rect">
            <a:avLst/>
          </a:prstGeom>
          <a:solidFill>
            <a:srgbClr val="36a1b6"/>
          </a:solidFill>
          <a:ln w="25560">
            <a:solidFill>
              <a:srgbClr val="92949b"/>
            </a:solidFill>
            <a:round/>
          </a:ln>
        </p:spPr>
        <p:txBody>
          <a:bodyPr anchor="t">
            <a:normAutofit/>
          </a:bodyPr>
          <a:p>
            <a:pPr marL="341280" indent="-34128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литом является каждое вещество в ря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Овал 228"/>
          <p:cNvSpPr/>
          <p:nvPr/>
        </p:nvSpPr>
        <p:spPr>
          <a:xfrm>
            <a:off x="500040" y="785880"/>
            <a:ext cx="979560" cy="490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Скругленный прямоугольник 221"/>
          <p:cNvSpPr/>
          <p:nvPr/>
        </p:nvSpPr>
        <p:spPr>
          <a:xfrm>
            <a:off x="457200" y="2376360"/>
            <a:ext cx="313380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9" name="Овал 228"/>
          <p:cNvSpPr/>
          <p:nvPr/>
        </p:nvSpPr>
        <p:spPr>
          <a:xfrm>
            <a:off x="457200" y="2522520"/>
            <a:ext cx="325440" cy="2462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0" name="Скругленный прямоугольник 221"/>
          <p:cNvSpPr/>
          <p:nvPr/>
        </p:nvSpPr>
        <p:spPr>
          <a:xfrm>
            <a:off x="457200" y="3403440"/>
            <a:ext cx="313380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Cl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Cu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1" name="Овал 228"/>
          <p:cNvSpPr/>
          <p:nvPr/>
        </p:nvSpPr>
        <p:spPr>
          <a:xfrm>
            <a:off x="457200" y="3551400"/>
            <a:ext cx="3254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2" name="Скругленный прямоугольник 221"/>
          <p:cNvSpPr/>
          <p:nvPr/>
        </p:nvSpPr>
        <p:spPr>
          <a:xfrm>
            <a:off x="4703760" y="2376360"/>
            <a:ext cx="313380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Al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Овал 228"/>
          <p:cNvSpPr/>
          <p:nvPr/>
        </p:nvSpPr>
        <p:spPr>
          <a:xfrm>
            <a:off x="4703760" y="2571840"/>
            <a:ext cx="3254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4" name="Скругленный прямоугольник 221"/>
          <p:cNvSpPr/>
          <p:nvPr/>
        </p:nvSpPr>
        <p:spPr>
          <a:xfrm>
            <a:off x="4703760" y="3306600"/>
            <a:ext cx="313380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Mg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5" name="Овал 228"/>
          <p:cNvSpPr/>
          <p:nvPr/>
        </p:nvSpPr>
        <p:spPr>
          <a:xfrm>
            <a:off x="4703760" y="3503520"/>
            <a:ext cx="32544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514080" y="325080"/>
            <a:ext cx="8111880" cy="1058760"/>
          </a:xfrm>
          <a:prstGeom prst="rect">
            <a:avLst/>
          </a:prstGeom>
          <a:solidFill>
            <a:srgbClr val="36a1b6"/>
          </a:solidFill>
          <a:ln w="25560">
            <a:solidFill>
              <a:srgbClr val="92949b"/>
            </a:solidFill>
            <a:round/>
          </a:ln>
        </p:spPr>
        <p:txBody>
          <a:bodyPr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6560" indent="-28656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 веществ, при взаимодействии которых образуется в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Овал 228"/>
          <p:cNvSpPr/>
          <p:nvPr/>
        </p:nvSpPr>
        <p:spPr>
          <a:xfrm>
            <a:off x="457200" y="220680"/>
            <a:ext cx="979560" cy="490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8" name="Скругленный прямоугольник 221"/>
          <p:cNvSpPr/>
          <p:nvPr/>
        </p:nvSpPr>
        <p:spPr>
          <a:xfrm>
            <a:off x="782640" y="2278080"/>
            <a:ext cx="31352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9" name="Овал 228"/>
          <p:cNvSpPr/>
          <p:nvPr/>
        </p:nvSpPr>
        <p:spPr>
          <a:xfrm>
            <a:off x="782640" y="2473200"/>
            <a:ext cx="32688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0" name="Скругленный прямоугольник 221"/>
          <p:cNvSpPr/>
          <p:nvPr/>
        </p:nvSpPr>
        <p:spPr>
          <a:xfrm>
            <a:off x="782640" y="3355920"/>
            <a:ext cx="31352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Овал 228"/>
          <p:cNvSpPr/>
          <p:nvPr/>
        </p:nvSpPr>
        <p:spPr>
          <a:xfrm>
            <a:off x="782640" y="3551400"/>
            <a:ext cx="32688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Скругленный прямоугольник 221"/>
          <p:cNvSpPr/>
          <p:nvPr/>
        </p:nvSpPr>
        <p:spPr>
          <a:xfrm>
            <a:off x="5094360" y="2278080"/>
            <a:ext cx="31352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3" name="Овал 228"/>
          <p:cNvSpPr/>
          <p:nvPr/>
        </p:nvSpPr>
        <p:spPr>
          <a:xfrm>
            <a:off x="5094360" y="2473200"/>
            <a:ext cx="32688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4" name="Скругленный прямоугольник 221"/>
          <p:cNvSpPr/>
          <p:nvPr/>
        </p:nvSpPr>
        <p:spPr>
          <a:xfrm>
            <a:off x="5094360" y="3403440"/>
            <a:ext cx="313524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g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a(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5" name="Овал 228"/>
          <p:cNvSpPr/>
          <p:nvPr/>
        </p:nvSpPr>
        <p:spPr>
          <a:xfrm>
            <a:off x="5094360" y="3602160"/>
            <a:ext cx="32688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знакомиться с реакциями ионн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учиться составлять ионные уравнения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знакомиться с условиями протекания реакций ионн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ь определение качественным реакц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ижний колонтитул 3"/>
          <p:cNvSpPr/>
          <p:nvPr/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Oval 4"/>
          <p:cNvSpPr/>
          <p:nvPr/>
        </p:nvSpPr>
        <p:spPr>
          <a:xfrm>
            <a:off x="2133720" y="2514600"/>
            <a:ext cx="914400" cy="685800"/>
          </a:xfrm>
          <a:prstGeom prst="ellipse">
            <a:avLst/>
          </a:prstGeom>
          <a:gradFill rotWithShape="0">
            <a:gsLst>
              <a:gs pos="0">
                <a:srgbClr val="d23516"/>
              </a:gs>
              <a:gs pos="100000">
                <a:srgbClr val="4987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a1c74"/>
                </a:solidFill>
                <a:latin typeface="Arial"/>
              </a:rPr>
              <a:t>4</a:t>
            </a:r>
            <a:r>
              <a:rPr b="1" lang="en-US" sz="2400" spc="-1" strike="noStrike" baseline="40000">
                <a:solidFill>
                  <a:srgbClr val="0a1c74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Oval 6"/>
          <p:cNvSpPr/>
          <p:nvPr/>
        </p:nvSpPr>
        <p:spPr>
          <a:xfrm>
            <a:off x="2438280" y="3086280"/>
            <a:ext cx="60984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Arial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1" name="Oval 7"/>
          <p:cNvSpPr/>
          <p:nvPr/>
        </p:nvSpPr>
        <p:spPr>
          <a:xfrm>
            <a:off x="1676520" y="234324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Arial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2438280" y="914400"/>
            <a:ext cx="5105520" cy="685800"/>
          </a:xfrm>
          <a:prstGeom prst="rect">
            <a:avLst/>
          </a:prstGeom>
          <a:gradFill rotWithShape="0">
            <a:gsLst>
              <a:gs pos="0">
                <a:srgbClr val="223e69">
                  <a:alpha val="19215"/>
                </a:srgbClr>
              </a:gs>
              <a:gs pos="50000">
                <a:srgbClr val="4987e3">
                  <a:alpha val="19215"/>
                </a:srgbClr>
              </a:gs>
              <a:gs pos="100000">
                <a:srgbClr val="223e69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2Na</a:t>
            </a:r>
            <a:r>
              <a:rPr b="1" lang="en-US" sz="3600" spc="-1" strike="noStrike" baseline="48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48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48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Rectangle 9"/>
          <p:cNvSpPr/>
          <p:nvPr/>
        </p:nvSpPr>
        <p:spPr>
          <a:xfrm>
            <a:off x="1066680" y="171360"/>
            <a:ext cx="7010640" cy="57168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социация сульфата натр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2524320" y="102888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5" name="AutoShape 11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6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6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6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2963 C -0.00139 0.15764 0.00747 0.18565 0.02344 0.20602 C 0.04132 0.22894 0.06198 0.23866 0.08316 0.23635 L 0.18021 0.23056 E">
                                      <p:cBhvr>
                                        <p:cTn id="26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0033 -0.06296 C 0.00434 -0.07616 0.00035 -0.09051 -0.00677 -0.10116 C -0.0151 -0.11389 -0.02482 -0.12014 -0.03472 -0.12037 L -0.08212 -0.12408 E">
                                      <p:cBhvr>
                                        <p:cTn id="28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9.25926E-006 C 0.02831 -0.00764 0.05678 -0.01528 0.09046 -0.01413 C 0.12414 -0.01297 0.17431 -0.00232 0.20226 0.00648 C 0.23022 0.01527 0.24202 0.02523 0.25834 0.03819 C 0.27466 0.05115 0.29306 0.07662 0.30001 0.08425 E">
                                      <p:cBhvr>
                                        <p:cTn id="30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Oval 2"/>
          <p:cNvSpPr/>
          <p:nvPr/>
        </p:nvSpPr>
        <p:spPr>
          <a:xfrm>
            <a:off x="4267080" y="2800440"/>
            <a:ext cx="914400" cy="685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82"/>
                </a:solidFill>
                <a:latin typeface="Arial"/>
              </a:rPr>
              <a:t>Ba</a:t>
            </a:r>
            <a:r>
              <a:rPr b="1" lang="en-US" sz="2400" spc="-1" strike="noStrike" baseline="40000">
                <a:solidFill>
                  <a:srgbClr val="144082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Oval 3"/>
          <p:cNvSpPr/>
          <p:nvPr/>
        </p:nvSpPr>
        <p:spPr>
          <a:xfrm>
            <a:off x="3886200" y="2571840"/>
            <a:ext cx="60948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fb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48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4495680" y="3429000"/>
            <a:ext cx="60984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fb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48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1066680" y="171360"/>
            <a:ext cx="7010640" cy="57168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ссоциа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ида бар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2362320" y="914400"/>
            <a:ext cx="4800600" cy="685800"/>
          </a:xfrm>
          <a:prstGeom prst="rect">
            <a:avLst/>
          </a:prstGeom>
          <a:gradFill rotWithShape="0">
            <a:gsLst>
              <a:gs pos="0">
                <a:srgbClr val="223e69">
                  <a:alpha val="22352"/>
                </a:srgbClr>
              </a:gs>
              <a:gs pos="50000">
                <a:srgbClr val="4987e3">
                  <a:alpha val="22352"/>
                </a:srgbClr>
              </a:gs>
              <a:gs pos="100000">
                <a:srgbClr val="223e69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B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2Cl</a:t>
            </a:r>
            <a:r>
              <a:rPr b="1" lang="en-US" sz="2800" spc="-1" strike="noStrike" baseline="6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2827080" y="94788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AutoShape 8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05209 -0.01505 C -0.06337 -0.01783 -0.07796 -0.0257 -0.09219 -0.03588 C -0.10955 -0.04769 -0.1224 -0.05926 -0.13056 -0.06968 L -0.16962 -0.11875 E">
                                      <p:cBhvr>
                                        <p:cTn id="36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0.04288 0.03982 C 0.05226 0.04769 0.06424 0.06204 0.07518 0.07778 C 0.08768 0.097 0.09705 0.1132 0.10174 0.12686 L 0.12761 0.18866 E">
                                      <p:cBhvr>
                                        <p:cTn id="38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46 C 0.01163 -0.00023 0.02378 -1.11111000000025E-006 0.03524 -0.0081 C 0.04705 -0.0162 0.06198 -0.03472 0.06961 -0.04768 C 0.07725 -0.06018 0.07899 -0.07037 0.08142 -0.0838 C 0.08385 -0.09745 0.08368 -0.12083 0.08455 -0.12847 E">
                                      <p:cBhvr>
                                        <p:cTn id="40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6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6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6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19288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еакции между ионами в растворе называют </a:t>
            </a: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ионными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реакциями.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19"/>
          <p:cNvSpPr/>
          <p:nvPr/>
        </p:nvSpPr>
        <p:spPr>
          <a:xfrm>
            <a:off x="533520" y="17136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1d4e"/>
                </a:solidFill>
                <a:latin typeface="Tahoma"/>
              </a:rPr>
              <a:t>Пример:  Взаимодействие хлорида бария с сульфатом натрия</a:t>
            </a:r>
            <a:r>
              <a:rPr b="1" lang="ru-RU" sz="1800" spc="-1" strike="noStrike">
                <a:solidFill>
                  <a:srgbClr val="37399b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TextBox 21"/>
          <p:cNvSpPr/>
          <p:nvPr/>
        </p:nvSpPr>
        <p:spPr>
          <a:xfrm>
            <a:off x="2269440" y="2517840"/>
            <a:ext cx="547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 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Cl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6" name="TextBox 24"/>
          <p:cNvSpPr/>
          <p:nvPr/>
        </p:nvSpPr>
        <p:spPr>
          <a:xfrm>
            <a:off x="2162880" y="25178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7" name="TextBox 26"/>
          <p:cNvSpPr/>
          <p:nvPr/>
        </p:nvSpPr>
        <p:spPr>
          <a:xfrm>
            <a:off x="2357640" y="251784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Прямоугольник 30"/>
          <p:cNvSpPr/>
          <p:nvPr/>
        </p:nvSpPr>
        <p:spPr>
          <a:xfrm>
            <a:off x="1813320" y="3029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Прямоугольник 31"/>
          <p:cNvSpPr/>
          <p:nvPr/>
        </p:nvSpPr>
        <p:spPr>
          <a:xfrm>
            <a:off x="2832480" y="305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TextBox 32"/>
          <p:cNvSpPr/>
          <p:nvPr/>
        </p:nvSpPr>
        <p:spPr>
          <a:xfrm>
            <a:off x="3363120" y="2517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TextBox 33"/>
          <p:cNvSpPr/>
          <p:nvPr/>
        </p:nvSpPr>
        <p:spPr>
          <a:xfrm>
            <a:off x="4016160" y="251784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Прямоугольник 34"/>
          <p:cNvSpPr/>
          <p:nvPr/>
        </p:nvSpPr>
        <p:spPr>
          <a:xfrm>
            <a:off x="3885120" y="305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TextBox 38"/>
          <p:cNvSpPr/>
          <p:nvPr/>
        </p:nvSpPr>
        <p:spPr>
          <a:xfrm>
            <a:off x="1690920" y="1928880"/>
            <a:ext cx="63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. Записать уравнение реакции в молекулярном вид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TextBox 39"/>
          <p:cNvSpPr/>
          <p:nvPr/>
        </p:nvSpPr>
        <p:spPr>
          <a:xfrm>
            <a:off x="380880" y="85716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399b"/>
                </a:solidFill>
                <a:latin typeface="Tahoma"/>
              </a:rPr>
              <a:t>Порядок действий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TextBox 40"/>
          <p:cNvSpPr/>
          <p:nvPr/>
        </p:nvSpPr>
        <p:spPr>
          <a:xfrm>
            <a:off x="1792440" y="192888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2. Расставить коэффициен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Прямоугольник 42"/>
          <p:cNvSpPr/>
          <p:nvPr/>
        </p:nvSpPr>
        <p:spPr>
          <a:xfrm>
            <a:off x="6499800" y="251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TextBox 43"/>
          <p:cNvSpPr/>
          <p:nvPr/>
        </p:nvSpPr>
        <p:spPr>
          <a:xfrm>
            <a:off x="1857240" y="19288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3. По таблице растворимости, определить нерастворимые вещества. Обозначить их стрелкой вниз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98" name="Прямая со стрелкой 45"/>
          <p:cNvCxnSpPr/>
          <p:nvPr/>
        </p:nvCxnSpPr>
        <p:spPr>
          <a:xfrm flipH="1">
            <a:off x="6214680" y="2517480"/>
            <a:ext cx="2160" cy="3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9" name="Прямая со стрелкой 46"/>
          <p:cNvCxnSpPr/>
          <p:nvPr/>
        </p:nvCxnSpPr>
        <p:spPr>
          <a:xfrm flipH="1">
            <a:off x="6214680" y="2517480"/>
            <a:ext cx="2160" cy="3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0" name="TextBox 47"/>
          <p:cNvSpPr/>
          <p:nvPr/>
        </p:nvSpPr>
        <p:spPr>
          <a:xfrm>
            <a:off x="380880" y="19288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4.  Составить полное ионное уравнение (растворимые вещества расписать на ио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1" name="Прямоугольник 48"/>
          <p:cNvSpPr/>
          <p:nvPr/>
        </p:nvSpPr>
        <p:spPr>
          <a:xfrm>
            <a:off x="4855320" y="30542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2" name="TextBox 50"/>
          <p:cNvSpPr/>
          <p:nvPr/>
        </p:nvSpPr>
        <p:spPr>
          <a:xfrm>
            <a:off x="5172120" y="251784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Прямоугольник 51"/>
          <p:cNvSpPr/>
          <p:nvPr/>
        </p:nvSpPr>
        <p:spPr>
          <a:xfrm>
            <a:off x="6528240" y="305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4" name="TextBox 52"/>
          <p:cNvSpPr/>
          <p:nvPr/>
        </p:nvSpPr>
        <p:spPr>
          <a:xfrm>
            <a:off x="6506280" y="2517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5" name="Прямоугольник 53"/>
          <p:cNvSpPr/>
          <p:nvPr/>
        </p:nvSpPr>
        <p:spPr>
          <a:xfrm>
            <a:off x="7690320" y="305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6" name="TextBox 55"/>
          <p:cNvSpPr/>
          <p:nvPr/>
        </p:nvSpPr>
        <p:spPr>
          <a:xfrm>
            <a:off x="6929640" y="251784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TextBox 56"/>
          <p:cNvSpPr/>
          <p:nvPr/>
        </p:nvSpPr>
        <p:spPr>
          <a:xfrm>
            <a:off x="457200" y="1371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.  Сократить одинаковые ионы в левой и правой части полного ионного уравн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Прямая соединительная линия 60"/>
          <p:cNvSpPr/>
          <p:nvPr/>
        </p:nvSpPr>
        <p:spPr>
          <a:xfrm flipV="1">
            <a:off x="2143080" y="289404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Прямая соединительная линия 66"/>
          <p:cNvSpPr/>
          <p:nvPr/>
        </p:nvSpPr>
        <p:spPr>
          <a:xfrm flipV="1">
            <a:off x="8001000" y="289404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Прямая соединительная линия 67"/>
          <p:cNvSpPr/>
          <p:nvPr/>
        </p:nvSpPr>
        <p:spPr>
          <a:xfrm flipV="1">
            <a:off x="3214800" y="289404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1" name="Прямая соединительная линия 68"/>
          <p:cNvSpPr/>
          <p:nvPr/>
        </p:nvSpPr>
        <p:spPr>
          <a:xfrm flipV="1">
            <a:off x="7000920" y="289404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2" name="TextBox 69"/>
          <p:cNvSpPr/>
          <p:nvPr/>
        </p:nvSpPr>
        <p:spPr>
          <a:xfrm>
            <a:off x="380880" y="19288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6.  Составить сокращенное ионное уравнени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TextBox 71"/>
          <p:cNvSpPr/>
          <p:nvPr/>
        </p:nvSpPr>
        <p:spPr>
          <a:xfrm>
            <a:off x="1162800" y="30290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Прямоугольник 72"/>
          <p:cNvSpPr/>
          <p:nvPr/>
        </p:nvSpPr>
        <p:spPr>
          <a:xfrm>
            <a:off x="3118320" y="36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TextBox 73"/>
          <p:cNvSpPr/>
          <p:nvPr/>
        </p:nvSpPr>
        <p:spPr>
          <a:xfrm>
            <a:off x="4158720" y="302904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Прямоугольник 74"/>
          <p:cNvSpPr/>
          <p:nvPr/>
        </p:nvSpPr>
        <p:spPr>
          <a:xfrm>
            <a:off x="4652280" y="36180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TextBox 75"/>
          <p:cNvSpPr/>
          <p:nvPr/>
        </p:nvSpPr>
        <p:spPr>
          <a:xfrm>
            <a:off x="5273640" y="302904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18" name="Прямая со стрелкой 76"/>
          <p:cNvCxnSpPr/>
          <p:nvPr/>
        </p:nvCxnSpPr>
        <p:spPr>
          <a:xfrm flipH="1">
            <a:off x="6357600" y="3053880"/>
            <a:ext cx="216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0.10833 0.10162 E">
                                      <p:cBhvr>
                                        <p:cTn id="115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01563 0.10301 E">
                                      <p:cBhvr>
                                        <p:cTn id="122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02483 0.10301 E">
                                      <p:cBhvr>
                                        <p:cTn id="131" dur="1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0.02257 0.10301 E">
                                      <p:cBhvr>
                                        <p:cTn id="135" dur="1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85185E-006 L 0.00729 0.10301 E">
                                      <p:cBhvr>
                                        <p:cTn id="147" dur="1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00903 0.10533 E">
                                      <p:cBhvr>
                                        <p:cTn id="151" dur="1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0.04063 0.10301 E">
                                      <p:cBhvr>
                                        <p:cTn id="160" dur="1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0.12222 0.10301 E">
                                      <p:cBhvr>
                                        <p:cTn id="167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12587 0.1169 E">
                                      <p:cBhvr>
                                        <p:cTn id="204" dur="1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05521 0.11551 E">
                                      <p:cBhvr>
                                        <p:cTn id="211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11551 E">
                                      <p:cBhvr>
                                        <p:cTn id="218" dur="10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3.61111E-006 0.11551 E">
                                      <p:cBhvr>
                                        <p:cTn id="222" dur="1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окращённое ионное уравнение показывает, какие именно ионы участвуют в реакции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1"/>
          <p:cNvSpPr/>
          <p:nvPr/>
        </p:nvSpPr>
        <p:spPr>
          <a:xfrm>
            <a:off x="928800" y="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Условия</a:t>
            </a: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протекания реакций ионного обме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1" name="Прямая соединительная линия 20"/>
          <p:cNvSpPr/>
          <p:nvPr/>
        </p:nvSpPr>
        <p:spPr>
          <a:xfrm>
            <a:off x="1000080" y="588960"/>
            <a:ext cx="814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TextBox 41"/>
          <p:cNvSpPr/>
          <p:nvPr/>
        </p:nvSpPr>
        <p:spPr>
          <a:xfrm>
            <a:off x="285840" y="5716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82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144082"/>
                </a:solidFill>
                <a:latin typeface="Tahoma"/>
              </a:rPr>
              <a:t>.  Если образуется осад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TextBox 21"/>
          <p:cNvSpPr/>
          <p:nvPr/>
        </p:nvSpPr>
        <p:spPr>
          <a:xfrm>
            <a:off x="1674360" y="1014480"/>
            <a:ext cx="547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 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Cl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TextBox 24"/>
          <p:cNvSpPr/>
          <p:nvPr/>
        </p:nvSpPr>
        <p:spPr>
          <a:xfrm>
            <a:off x="1567800" y="10144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5" name="TextBox 26"/>
          <p:cNvSpPr/>
          <p:nvPr/>
        </p:nvSpPr>
        <p:spPr>
          <a:xfrm>
            <a:off x="1762200" y="1014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Прямоугольник 30"/>
          <p:cNvSpPr/>
          <p:nvPr/>
        </p:nvSpPr>
        <p:spPr>
          <a:xfrm>
            <a:off x="1217880" y="152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Прямоугольник 31"/>
          <p:cNvSpPr/>
          <p:nvPr/>
        </p:nvSpPr>
        <p:spPr>
          <a:xfrm>
            <a:off x="2237040" y="155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TextBox 32"/>
          <p:cNvSpPr/>
          <p:nvPr/>
        </p:nvSpPr>
        <p:spPr>
          <a:xfrm>
            <a:off x="2767680" y="10144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9" name="TextBox 33"/>
          <p:cNvSpPr/>
          <p:nvPr/>
        </p:nvSpPr>
        <p:spPr>
          <a:xfrm>
            <a:off x="3420720" y="101448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0" name="Прямоугольник 34"/>
          <p:cNvSpPr/>
          <p:nvPr/>
        </p:nvSpPr>
        <p:spPr>
          <a:xfrm>
            <a:off x="3289680" y="155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Прямоугольник 42"/>
          <p:cNvSpPr/>
          <p:nvPr/>
        </p:nvSpPr>
        <p:spPr>
          <a:xfrm>
            <a:off x="5904360" y="1014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32" name="Прямая со стрелкой 45"/>
          <p:cNvCxnSpPr/>
          <p:nvPr/>
        </p:nvCxnSpPr>
        <p:spPr>
          <a:xfrm flipH="1">
            <a:off x="5618880" y="1014120"/>
            <a:ext cx="252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Прямая со стрелкой 46"/>
          <p:cNvCxnSpPr/>
          <p:nvPr/>
        </p:nvCxnSpPr>
        <p:spPr>
          <a:xfrm flipH="1">
            <a:off x="5618880" y="1014120"/>
            <a:ext cx="252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4" name="Прямоугольник 48"/>
          <p:cNvSpPr/>
          <p:nvPr/>
        </p:nvSpPr>
        <p:spPr>
          <a:xfrm>
            <a:off x="4260240" y="15508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5" name="TextBox 50"/>
          <p:cNvSpPr/>
          <p:nvPr/>
        </p:nvSpPr>
        <p:spPr>
          <a:xfrm>
            <a:off x="4577040" y="10144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Прямоугольник 51"/>
          <p:cNvSpPr/>
          <p:nvPr/>
        </p:nvSpPr>
        <p:spPr>
          <a:xfrm>
            <a:off x="5932800" y="155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TextBox 52"/>
          <p:cNvSpPr/>
          <p:nvPr/>
        </p:nvSpPr>
        <p:spPr>
          <a:xfrm>
            <a:off x="5910840" y="10144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8" name="Прямоугольник 53"/>
          <p:cNvSpPr/>
          <p:nvPr/>
        </p:nvSpPr>
        <p:spPr>
          <a:xfrm>
            <a:off x="7094880" y="155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TextBox 55"/>
          <p:cNvSpPr/>
          <p:nvPr/>
        </p:nvSpPr>
        <p:spPr>
          <a:xfrm>
            <a:off x="6334200" y="1014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Прямая соединительная линия 60"/>
          <p:cNvSpPr/>
          <p:nvPr/>
        </p:nvSpPr>
        <p:spPr>
          <a:xfrm flipV="1">
            <a:off x="1547640" y="1389240"/>
            <a:ext cx="785880" cy="536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Прямая соединительная линия 66"/>
          <p:cNvSpPr/>
          <p:nvPr/>
        </p:nvSpPr>
        <p:spPr>
          <a:xfrm flipV="1">
            <a:off x="7405560" y="1389240"/>
            <a:ext cx="785880" cy="536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Прямая соединительная линия 67"/>
          <p:cNvSpPr/>
          <p:nvPr/>
        </p:nvSpPr>
        <p:spPr>
          <a:xfrm flipV="1">
            <a:off x="2619360" y="1389240"/>
            <a:ext cx="785880" cy="536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Прямая соединительная линия 68"/>
          <p:cNvSpPr/>
          <p:nvPr/>
        </p:nvSpPr>
        <p:spPr>
          <a:xfrm flipV="1">
            <a:off x="6405480" y="1389240"/>
            <a:ext cx="785880" cy="536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TextBox 71"/>
          <p:cNvSpPr/>
          <p:nvPr/>
        </p:nvSpPr>
        <p:spPr>
          <a:xfrm>
            <a:off x="567360" y="15256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Прямоугольник 72"/>
          <p:cNvSpPr/>
          <p:nvPr/>
        </p:nvSpPr>
        <p:spPr>
          <a:xfrm>
            <a:off x="2522880" y="213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TextBox 73"/>
          <p:cNvSpPr/>
          <p:nvPr/>
        </p:nvSpPr>
        <p:spPr>
          <a:xfrm>
            <a:off x="3563640" y="152568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7" name="Прямоугольник 74"/>
          <p:cNvSpPr/>
          <p:nvPr/>
        </p:nvSpPr>
        <p:spPr>
          <a:xfrm>
            <a:off x="4056840" y="21146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8" name="TextBox 75"/>
          <p:cNvSpPr/>
          <p:nvPr/>
        </p:nvSpPr>
        <p:spPr>
          <a:xfrm>
            <a:off x="4678560" y="15256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49" name="Прямая со стрелкой 76"/>
          <p:cNvCxnSpPr/>
          <p:nvPr/>
        </p:nvCxnSpPr>
        <p:spPr>
          <a:xfrm flipH="1">
            <a:off x="5761800" y="1550520"/>
            <a:ext cx="252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44"/>
          <p:cNvSpPr/>
          <p:nvPr/>
        </p:nvSpPr>
        <p:spPr>
          <a:xfrm>
            <a:off x="1619280" y="2836800"/>
            <a:ext cx="656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(N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)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 Na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Mg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NaN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1" name="TextBox 49"/>
          <p:cNvSpPr/>
          <p:nvPr/>
        </p:nvSpPr>
        <p:spPr>
          <a:xfrm>
            <a:off x="1627560" y="2836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2" name="TextBox 54"/>
          <p:cNvSpPr/>
          <p:nvPr/>
        </p:nvSpPr>
        <p:spPr>
          <a:xfrm>
            <a:off x="1968120" y="2836800"/>
            <a:ext cx="98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2N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3" name="Прямоугольник 57"/>
          <p:cNvSpPr/>
          <p:nvPr/>
        </p:nvSpPr>
        <p:spPr>
          <a:xfrm>
            <a:off x="1432440" y="334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4" name="Прямоугольник 58"/>
          <p:cNvSpPr/>
          <p:nvPr/>
        </p:nvSpPr>
        <p:spPr>
          <a:xfrm>
            <a:off x="2451600" y="33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5" name="TextBox 59"/>
          <p:cNvSpPr/>
          <p:nvPr/>
        </p:nvSpPr>
        <p:spPr>
          <a:xfrm>
            <a:off x="3410640" y="28368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TextBox 61"/>
          <p:cNvSpPr/>
          <p:nvPr/>
        </p:nvSpPr>
        <p:spPr>
          <a:xfrm>
            <a:off x="4098960" y="2836800"/>
            <a:ext cx="86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7" name="Прямоугольник 62"/>
          <p:cNvSpPr/>
          <p:nvPr/>
        </p:nvSpPr>
        <p:spPr>
          <a:xfrm>
            <a:off x="3503880" y="33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8" name="Прямоугольник 63"/>
          <p:cNvSpPr/>
          <p:nvPr/>
        </p:nvSpPr>
        <p:spPr>
          <a:xfrm>
            <a:off x="6618960" y="2836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59" name="Прямая со стрелкой 64"/>
          <p:cNvCxnSpPr/>
          <p:nvPr/>
        </p:nvCxnSpPr>
        <p:spPr>
          <a:xfrm flipH="1">
            <a:off x="6333840" y="2836440"/>
            <a:ext cx="216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0" name="Прямая со стрелкой 65"/>
          <p:cNvCxnSpPr/>
          <p:nvPr/>
        </p:nvCxnSpPr>
        <p:spPr>
          <a:xfrm flipH="1">
            <a:off x="6333840" y="2836440"/>
            <a:ext cx="216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1" name="Прямоугольник 70"/>
          <p:cNvSpPr/>
          <p:nvPr/>
        </p:nvSpPr>
        <p:spPr>
          <a:xfrm>
            <a:off x="4474440" y="33717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2" name="TextBox 77"/>
          <p:cNvSpPr/>
          <p:nvPr/>
        </p:nvSpPr>
        <p:spPr>
          <a:xfrm>
            <a:off x="5228640" y="2836800"/>
            <a:ext cx="117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3" name="Прямоугольник 78"/>
          <p:cNvSpPr/>
          <p:nvPr/>
        </p:nvSpPr>
        <p:spPr>
          <a:xfrm>
            <a:off x="6147000" y="33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TextBox 79"/>
          <p:cNvSpPr/>
          <p:nvPr/>
        </p:nvSpPr>
        <p:spPr>
          <a:xfrm>
            <a:off x="6696720" y="28368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Прямоугольник 80"/>
          <p:cNvSpPr/>
          <p:nvPr/>
        </p:nvSpPr>
        <p:spPr>
          <a:xfrm>
            <a:off x="7309080" y="33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6" name="TextBox 81"/>
          <p:cNvSpPr/>
          <p:nvPr/>
        </p:nvSpPr>
        <p:spPr>
          <a:xfrm>
            <a:off x="7076520" y="2836800"/>
            <a:ext cx="98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2N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7" name="Прямая соединительная линия 82"/>
          <p:cNvSpPr/>
          <p:nvPr/>
        </p:nvSpPr>
        <p:spPr>
          <a:xfrm flipV="1">
            <a:off x="1762200" y="321156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8" name="Прямая соединительная линия 83"/>
          <p:cNvSpPr/>
          <p:nvPr/>
        </p:nvSpPr>
        <p:spPr>
          <a:xfrm flipV="1">
            <a:off x="7620120" y="3211560"/>
            <a:ext cx="78552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Прямая соединительная линия 84"/>
          <p:cNvSpPr/>
          <p:nvPr/>
        </p:nvSpPr>
        <p:spPr>
          <a:xfrm flipV="1">
            <a:off x="2833560" y="321156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Прямая соединительная линия 85"/>
          <p:cNvSpPr/>
          <p:nvPr/>
        </p:nvSpPr>
        <p:spPr>
          <a:xfrm flipV="1">
            <a:off x="6620040" y="3211560"/>
            <a:ext cx="78552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1" name="TextBox 86"/>
          <p:cNvSpPr/>
          <p:nvPr/>
        </p:nvSpPr>
        <p:spPr>
          <a:xfrm>
            <a:off x="765720" y="33465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Прямоугольник 87"/>
          <p:cNvSpPr/>
          <p:nvPr/>
        </p:nvSpPr>
        <p:spPr>
          <a:xfrm>
            <a:off x="2737080" y="3960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TextBox 88"/>
          <p:cNvSpPr/>
          <p:nvPr/>
        </p:nvSpPr>
        <p:spPr>
          <a:xfrm>
            <a:off x="3772080" y="3346560"/>
            <a:ext cx="86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Прямоугольник 89"/>
          <p:cNvSpPr/>
          <p:nvPr/>
        </p:nvSpPr>
        <p:spPr>
          <a:xfrm>
            <a:off x="4271040" y="39369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5" name="TextBox 90"/>
          <p:cNvSpPr/>
          <p:nvPr/>
        </p:nvSpPr>
        <p:spPr>
          <a:xfrm>
            <a:off x="4871520" y="3346560"/>
            <a:ext cx="117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76" name="Прямая со стрелкой 91"/>
          <p:cNvCxnSpPr/>
          <p:nvPr/>
        </p:nvCxnSpPr>
        <p:spPr>
          <a:xfrm flipH="1">
            <a:off x="6046560" y="3371400"/>
            <a:ext cx="2160" cy="3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7" name="Прямая соединительная линия 93"/>
          <p:cNvSpPr/>
          <p:nvPr/>
        </p:nvSpPr>
        <p:spPr>
          <a:xfrm>
            <a:off x="1000080" y="2784600"/>
            <a:ext cx="814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8" name="TextBox 69"/>
          <p:cNvSpPr/>
          <p:nvPr/>
        </p:nvSpPr>
        <p:spPr>
          <a:xfrm>
            <a:off x="285840" y="5716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82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144082"/>
                </a:solidFill>
                <a:latin typeface="Tahoma"/>
              </a:rPr>
              <a:t>Если образуется г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9" name="TextBox 92"/>
          <p:cNvSpPr/>
          <p:nvPr/>
        </p:nvSpPr>
        <p:spPr>
          <a:xfrm>
            <a:off x="1262160" y="907920"/>
            <a:ext cx="57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80" name="Группа 94"/>
          <p:cNvGrpSpPr/>
          <p:nvPr/>
        </p:nvGrpSpPr>
        <p:grpSpPr>
          <a:xfrm>
            <a:off x="6905520" y="693720"/>
            <a:ext cx="1144080" cy="885240"/>
            <a:chOff x="6905520" y="693720"/>
            <a:chExt cx="1144080" cy="885240"/>
          </a:xfrm>
        </p:grpSpPr>
        <p:cxnSp>
          <p:nvCxnSpPr>
            <p:cNvPr id="781" name="Прямая со стрелкой 95"/>
            <p:cNvCxnSpPr/>
            <p:nvPr/>
          </p:nvCxnSpPr>
          <p:spPr>
            <a:xfrm flipV="1">
              <a:off x="6905520" y="853200"/>
              <a:ext cx="35784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2" name="Прямая со стрелкой 96"/>
            <p:cNvCxnSpPr/>
            <p:nvPr/>
          </p:nvCxnSpPr>
          <p:spPr>
            <a:xfrm>
              <a:off x="6905520" y="1068120"/>
              <a:ext cx="35784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3" name="Прямоугольник 97"/>
            <p:cNvSpPr/>
            <p:nvPr/>
          </p:nvSpPr>
          <p:spPr>
            <a:xfrm>
              <a:off x="7305120" y="69372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784" name="Прямоугольник 98"/>
            <p:cNvSpPr/>
            <p:nvPr/>
          </p:nvSpPr>
          <p:spPr>
            <a:xfrm>
              <a:off x="7328880" y="1068840"/>
              <a:ext cx="71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785" name="Прямая со стрелкой 99"/>
            <p:cNvCxnSpPr/>
            <p:nvPr/>
          </p:nvCxnSpPr>
          <p:spPr>
            <a:xfrm flipV="1">
              <a:off x="7976160" y="1067760"/>
              <a:ext cx="1080" cy="37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86" name="Прямоугольник 100"/>
          <p:cNvSpPr/>
          <p:nvPr/>
        </p:nvSpPr>
        <p:spPr>
          <a:xfrm>
            <a:off x="7314480" y="69372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7" name="Прямоугольник 101"/>
          <p:cNvSpPr/>
          <p:nvPr/>
        </p:nvSpPr>
        <p:spPr>
          <a:xfrm>
            <a:off x="7328160" y="1068480"/>
            <a:ext cx="7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88" name="Прямая со стрелкой 102"/>
          <p:cNvCxnSpPr/>
          <p:nvPr/>
        </p:nvCxnSpPr>
        <p:spPr>
          <a:xfrm flipV="1">
            <a:off x="7977240" y="1068120"/>
            <a:ext cx="2160" cy="37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Прямоугольник 103"/>
          <p:cNvSpPr/>
          <p:nvPr/>
        </p:nvSpPr>
        <p:spPr>
          <a:xfrm>
            <a:off x="1124640" y="9079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Прямоугольник 104"/>
          <p:cNvSpPr/>
          <p:nvPr/>
        </p:nvSpPr>
        <p:spPr>
          <a:xfrm>
            <a:off x="1716120" y="907920"/>
            <a:ext cx="86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1" name="Прямоугольник 105"/>
          <p:cNvSpPr/>
          <p:nvPr/>
        </p:nvSpPr>
        <p:spPr>
          <a:xfrm>
            <a:off x="128952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2" name="Прямоугольник 106"/>
          <p:cNvSpPr/>
          <p:nvPr/>
        </p:nvSpPr>
        <p:spPr>
          <a:xfrm>
            <a:off x="237996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Прямоугольник 107"/>
          <p:cNvSpPr/>
          <p:nvPr/>
        </p:nvSpPr>
        <p:spPr>
          <a:xfrm>
            <a:off x="2777400" y="907920"/>
            <a:ext cx="6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Прямоугольник 108"/>
          <p:cNvSpPr/>
          <p:nvPr/>
        </p:nvSpPr>
        <p:spPr>
          <a:xfrm>
            <a:off x="3260160" y="90792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5" name="Прямоугольник 109"/>
          <p:cNvSpPr/>
          <p:nvPr/>
        </p:nvSpPr>
        <p:spPr>
          <a:xfrm>
            <a:off x="323712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Прямоугольник 110"/>
          <p:cNvSpPr/>
          <p:nvPr/>
        </p:nvSpPr>
        <p:spPr>
          <a:xfrm>
            <a:off x="4205160" y="149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Прямоугольник 111"/>
          <p:cNvSpPr/>
          <p:nvPr/>
        </p:nvSpPr>
        <p:spPr>
          <a:xfrm>
            <a:off x="4267800" y="9079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Прямоугольник 112"/>
          <p:cNvSpPr/>
          <p:nvPr/>
        </p:nvSpPr>
        <p:spPr>
          <a:xfrm>
            <a:off x="4903560" y="90792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Прямоугольник 113"/>
          <p:cNvSpPr/>
          <p:nvPr/>
        </p:nvSpPr>
        <p:spPr>
          <a:xfrm>
            <a:off x="530892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Прямоугольник 114"/>
          <p:cNvSpPr/>
          <p:nvPr/>
        </p:nvSpPr>
        <p:spPr>
          <a:xfrm>
            <a:off x="636156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Прямоугольник 115"/>
          <p:cNvSpPr/>
          <p:nvPr/>
        </p:nvSpPr>
        <p:spPr>
          <a:xfrm>
            <a:off x="743292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Прямая соединительная линия 116"/>
          <p:cNvSpPr/>
          <p:nvPr/>
        </p:nvSpPr>
        <p:spPr>
          <a:xfrm flipV="1">
            <a:off x="832680" y="1389240"/>
            <a:ext cx="500040" cy="482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Прямая соединительная линия 117"/>
          <p:cNvSpPr/>
          <p:nvPr/>
        </p:nvSpPr>
        <p:spPr>
          <a:xfrm flipV="1">
            <a:off x="4690440" y="1389240"/>
            <a:ext cx="500040" cy="482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Прямая соединительная линия 118"/>
          <p:cNvSpPr/>
          <p:nvPr/>
        </p:nvSpPr>
        <p:spPr>
          <a:xfrm flipV="1">
            <a:off x="3690360" y="1389240"/>
            <a:ext cx="500040" cy="482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Прямая соединительная линия 119"/>
          <p:cNvSpPr/>
          <p:nvPr/>
        </p:nvSpPr>
        <p:spPr>
          <a:xfrm flipV="1">
            <a:off x="5761800" y="1389240"/>
            <a:ext cx="500040" cy="482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6" name="Прямоугольник 120"/>
          <p:cNvSpPr/>
          <p:nvPr/>
        </p:nvSpPr>
        <p:spPr>
          <a:xfrm>
            <a:off x="1700280" y="1471680"/>
            <a:ext cx="86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7" name="Прямоугольник 121"/>
          <p:cNvSpPr/>
          <p:nvPr/>
        </p:nvSpPr>
        <p:spPr>
          <a:xfrm>
            <a:off x="2575440" y="203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8" name="Прямоугольник 122"/>
          <p:cNvSpPr/>
          <p:nvPr/>
        </p:nvSpPr>
        <p:spPr>
          <a:xfrm>
            <a:off x="2709360" y="1471680"/>
            <a:ext cx="6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9" name="Прямоугольник 123"/>
          <p:cNvSpPr/>
          <p:nvPr/>
        </p:nvSpPr>
        <p:spPr>
          <a:xfrm>
            <a:off x="3976560" y="2031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0" name="Прямоугольник 124"/>
          <p:cNvSpPr/>
          <p:nvPr/>
        </p:nvSpPr>
        <p:spPr>
          <a:xfrm>
            <a:off x="6752520" y="144288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Прямоугольник 125"/>
          <p:cNvSpPr/>
          <p:nvPr/>
        </p:nvSpPr>
        <p:spPr>
          <a:xfrm>
            <a:off x="7756920" y="1442880"/>
            <a:ext cx="7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Прямоугольник 126"/>
          <p:cNvSpPr/>
          <p:nvPr/>
        </p:nvSpPr>
        <p:spPr>
          <a:xfrm>
            <a:off x="5308920" y="203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813" name="Прямая со стрелкой 127"/>
          <p:cNvCxnSpPr/>
          <p:nvPr/>
        </p:nvCxnSpPr>
        <p:spPr>
          <a:xfrm flipV="1">
            <a:off x="8404560" y="1442160"/>
            <a:ext cx="2520" cy="37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TextBox 128"/>
          <p:cNvSpPr/>
          <p:nvPr/>
        </p:nvSpPr>
        <p:spPr>
          <a:xfrm>
            <a:off x="762120" y="251460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 Если образуется в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Прямоугольник 137"/>
          <p:cNvSpPr/>
          <p:nvPr/>
        </p:nvSpPr>
        <p:spPr>
          <a:xfrm>
            <a:off x="3237120" y="353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Прямоугольник 138"/>
          <p:cNvSpPr/>
          <p:nvPr/>
        </p:nvSpPr>
        <p:spPr>
          <a:xfrm>
            <a:off x="4205160" y="353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7" name="Прямоугольник 141"/>
          <p:cNvSpPr/>
          <p:nvPr/>
        </p:nvSpPr>
        <p:spPr>
          <a:xfrm>
            <a:off x="5308920" y="353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18" name="Рисунок 160" descr="Scan_20231206_160450.jpg"/>
          <p:cNvPicPr/>
          <p:nvPr/>
        </p:nvPicPr>
        <p:blipFill>
          <a:blip r:embed="rId1"/>
          <a:stretch/>
        </p:blipFill>
        <p:spPr>
          <a:xfrm>
            <a:off x="285840" y="2857680"/>
            <a:ext cx="8558280" cy="178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0.10833 0.10162 E">
                                      <p:cBhvr>
                                        <p:cTn id="250" dur="1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01563 0.10301 E">
                                      <p:cBhvr>
                                        <p:cTn id="257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02483 0.10301 E">
                                      <p:cBhvr>
                                        <p:cTn id="266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0.02257 0.10301 E">
                                      <p:cBhvr>
                                        <p:cTn id="270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85185E-006 L 0.00729 0.10301 E">
                                      <p:cBhvr>
                                        <p:cTn id="282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00903 0.10533 E">
                                      <p:cBhvr>
                                        <p:cTn id="286" dur="1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0.04063 0.10301 E">
                                      <p:cBhvr>
                                        <p:cTn id="295" dur="1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0.12222 0.10301 E">
                                      <p:cBhvr>
                                        <p:cTn id="302" dur="1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12587 0.1169 E">
                                      <p:cBhvr>
                                        <p:cTn id="325" dur="1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05521 0.11551 E">
                                      <p:cBhvr>
                                        <p:cTn id="332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11551 E">
                                      <p:cBhvr>
                                        <p:cTn id="339" dur="1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3.61111E-006 0.11551 E">
                                      <p:cBhvr>
                                        <p:cTn id="343" dur="1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0.10833 0.10162 E">
                                      <p:cBhvr>
                                        <p:cTn id="367" dur="1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3951E-008 L -0.03281 0.10363 E">
                                      <p:cBhvr>
                                        <p:cTn id="374" dur="1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951E-008 L -0.07951 0.10363 E">
                                      <p:cBhvr>
                                        <p:cTn id="383" dur="1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-4.3951E-008 L -0.03715 0.10363 E">
                                      <p:cBhvr>
                                        <p:cTn id="387" dur="1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0.0044 L -0.03906 0.09923 E">
                                      <p:cBhvr>
                                        <p:cTn id="399" dur="1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0.00185 L -0.03142 0.10409 E">
                                      <p:cBhvr>
                                        <p:cTn id="403" dur="1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951E-008 L -0.0217 0.10363 E">
                                      <p:cBhvr>
                                        <p:cTn id="412" dur="1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951E-008 L 0.04844 0.10363 E">
                                      <p:cBhvr>
                                        <p:cTn id="419" dur="1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12587 0.1169 E">
                                      <p:cBhvr>
                                        <p:cTn id="442" dur="1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05521 0.11551 E">
                                      <p:cBhvr>
                                        <p:cTn id="449" dur="1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11551 E">
                                      <p:cBhvr>
                                        <p:cTn id="456" dur="1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3.61111E-006 0.11551 E">
                                      <p:cBhvr>
                                        <p:cTn id="460" dur="1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8.44321E-007 L -0.05764 0.11126 E">
                                      <p:cBhvr>
                                        <p:cTn id="595" dur="1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8.44321E-007 L -0.01042 0.11126 E">
                                      <p:cBhvr>
                                        <p:cTn id="599" dur="1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8.44321E-007 L -0.01632 0.11126 E">
                                      <p:cBhvr>
                                        <p:cTn id="610" dur="1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1 8.44321E-007 L 0.03229 0.11126 E">
                                      <p:cBhvr>
                                        <p:cTn id="614" dur="1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44321E-007 L 0.0316 0.11126 E">
                                      <p:cBhvr>
                                        <p:cTn id="626" dur="1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44321E-007 L 0.08091 0.11126 E">
                                      <p:cBhvr>
                                        <p:cTn id="630" dur="1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0412E-006 L -0.06719 0.1529 E">
                                      <p:cBhvr>
                                        <p:cTn id="640" dur="1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3065E-006 L 0.0434 0.08003 E">
                                      <p:cBhvr>
                                        <p:cTn id="647" dur="1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1945E-006 L 0.05069 0.07726 E">
                                      <p:cBhvr>
                                        <p:cTn id="651" dur="1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8.44321E-007 L -0.01042 0.11126 E">
                                      <p:cBhvr>
                                        <p:cTn id="674" dur="1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0162 L 0.03733 0.10802 E">
                                      <p:cBhvr>
                                        <p:cTn id="681" dur="1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0717 L -0.24775 0.10872 E">
                                      <p:cBhvr>
                                        <p:cTn id="688" dur="1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8 0.00717 L -0.21962 0.10872 E">
                                      <p:cBhvr>
                                        <p:cTn id="692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625 L -0.21284 0.10294 E">
                                      <p:cBhvr>
                                        <p:cTn id="696" dur="1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Oval 2"/>
          <p:cNvSpPr/>
          <p:nvPr/>
        </p:nvSpPr>
        <p:spPr>
          <a:xfrm>
            <a:off x="6095880" y="2629080"/>
            <a:ext cx="914400" cy="685800"/>
          </a:xfrm>
          <a:prstGeom prst="ellipse">
            <a:avLst/>
          </a:prstGeom>
          <a:gradFill rotWithShape="0">
            <a:gsLst>
              <a:gs pos="0">
                <a:srgbClr val="d23516"/>
              </a:gs>
              <a:gs pos="100000">
                <a:srgbClr val="4987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a1c74"/>
                </a:solidFill>
                <a:latin typeface="Arial"/>
              </a:rPr>
              <a:t>4</a:t>
            </a:r>
            <a:r>
              <a:rPr b="1" lang="en-US" sz="2400" spc="-1" strike="noStrike" baseline="40000">
                <a:solidFill>
                  <a:srgbClr val="0a1c74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Oval 3"/>
          <p:cNvSpPr/>
          <p:nvPr/>
        </p:nvSpPr>
        <p:spPr>
          <a:xfrm>
            <a:off x="7772400" y="331488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Arial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1" name="Oval 4"/>
          <p:cNvSpPr/>
          <p:nvPr/>
        </p:nvSpPr>
        <p:spPr>
          <a:xfrm>
            <a:off x="3581280" y="1828800"/>
            <a:ext cx="60984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Arial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2" name="Oval 5"/>
          <p:cNvSpPr/>
          <p:nvPr/>
        </p:nvSpPr>
        <p:spPr>
          <a:xfrm>
            <a:off x="2362320" y="2457360"/>
            <a:ext cx="914400" cy="685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Arial"/>
              </a:rPr>
              <a:t>Ba</a:t>
            </a:r>
            <a:r>
              <a:rPr b="1" lang="en-US" sz="2400" spc="-1" strike="noStrike" baseline="30000">
                <a:solidFill>
                  <a:srgbClr val="0a1c74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Oval 6"/>
          <p:cNvSpPr/>
          <p:nvPr/>
        </p:nvSpPr>
        <p:spPr>
          <a:xfrm>
            <a:off x="7696080" y="1714680"/>
            <a:ext cx="60984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Oval 7"/>
          <p:cNvSpPr/>
          <p:nvPr/>
        </p:nvSpPr>
        <p:spPr>
          <a:xfrm>
            <a:off x="685800" y="2057400"/>
            <a:ext cx="60948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5" name="Oval 8"/>
          <p:cNvSpPr/>
          <p:nvPr/>
        </p:nvSpPr>
        <p:spPr>
          <a:xfrm>
            <a:off x="1600200" y="4000680"/>
            <a:ext cx="60948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0" y="4800600"/>
            <a:ext cx="9144000" cy="34308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1066680" y="171360"/>
            <a:ext cx="7391520" cy="68580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ионов в раствор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AutoShape 11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C -0.01076 -0.00416 -0.02135 -0.0081 -0.04497 -0.00995 C -0.06858 -0.0118 -0.12569 -0.01134 -0.14167 -0.01157 E">
                                      <p:cBhvr>
                                        <p:cTn id="731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C 0.01875 0.02547 0.03732 0.05162 0.0651 0.05625 C 0.09305 0.06088 0.14948 0.03311 0.16666 0.02801 E">
                                      <p:cBhvr>
                                        <p:cTn id="733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67 0.02801 L 0.16667 0.32223 E">
                                      <p:cBhvr>
                                        <p:cTn id="743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0.01158 L -0.14167 0.28889 E">
                                      <p:cBhvr>
                                        <p:cTn id="745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06:56:07Z</dcterms:created>
  <dc:creator>Space Time</dc:creator>
  <dc:description/>
  <dc:language>en-US</dc:language>
  <cp:lastModifiedBy>Точка роста 5</cp:lastModifiedBy>
  <dcterms:modified xsi:type="dcterms:W3CDTF">2025-03-22T12:11:13Z</dcterms:modified>
  <cp:revision>315</cp:revision>
  <dc:subject/>
  <dc:title>Презентация PowerPoint</dc:title>
</cp:coreProperties>
</file>