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3D7E-3BF9-4FAC-808F-E8533673D1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F867-D950-4329-8E92-DDBD9D3DA7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E1FF-730E-4B6D-9365-00200AB63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C009-C2EA-4485-8819-09EAE1B1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5107-D889-48D7-A2CA-31B0A6DB0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702E-1B17-4225-9A02-C1A2EC2B0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422A-9817-498C-A87D-4A42A193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CEED-A50D-433A-A673-A1BE4131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27A5-5E51-480C-85F7-55EC8D83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FF87-977B-40EF-8797-940061FD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41E6-744F-4F35-9E58-B80505D6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2A38-7D59-4A5F-A07A-EF934214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9E0D-5C2F-4D72-B9CE-98C57EC3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9D3B-1301-4E20-B961-C1077823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ACE8-BCC0-4324-8433-1881A78456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s://fipi.ru/gve" TargetMode="External"/><Relationship Id="rId2" Type="http://schemas.openxmlformats.org/officeDocument/2006/relationships/hyperlink" Target="https://fipi.ru/gve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448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дготовка учащихся с ОВЗ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 ГИ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90560" y="5229360"/>
            <a:ext cx="6553080" cy="134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ладимирова Александра Андреевн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учитель математики высшей квалификационной категори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БОУ Покровской СОШ№2 с УИОП им. З.И. Ксенофонтов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"/>
          <p:cNvPicPr/>
          <p:nvPr/>
        </p:nvPicPr>
        <p:blipFill>
          <a:blip r:embed="rId1"/>
          <a:stretch/>
        </p:blipFill>
        <p:spPr>
          <a:xfrm>
            <a:off x="3419640" y="122400"/>
            <a:ext cx="242064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або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ель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ы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ельны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ление с нормативными документами ГВЭ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ение индивидуальных особенностей ребенка (беседа с психологом, классным руководителем)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экзаменационной работы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а с родителями (разъяснительная работа с учащимися и родителями по специфике ГВЭ, психологическая подготовка учащихся)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учащихся к экзамену в форме инструктажа (содержание - правила поведения на экзамене; правила заполнения бланков)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ное тестирование (оценка готовности учащихся к ГВЭ, выявление проблем)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работ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ы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 уро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ая внеурочная раб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жуточ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блемы у выпускников с ОВЗ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умножения (в справочном материале ее нет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ть арифметические действия столбиком (умножение и деление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ть действия с обыкновенными и десятичными дробям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ь тождественные преобразования рациональных выражени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ть свойства арифметических квадратных корней для преобразования числовых выражений, содержащих квадратные корн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ать из формулы одну величину через другие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ть практические расчеты по формулам, составлять несложные формулы, выражающие зависимости между величинам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ть уравнения, неравенства и их системы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ть с математическим текстом, представленным в разном виде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новные приемы в подготовке учащихся по математик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ботка таблицы умножения на тренажере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ить упражнения «от простого к сложному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прочитывает задание несколько раз (чередуя чтение вслух и «про себя»), выделяя данные задания и вопрос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оваривает вслух этапы решения заданий, после найти необходимые формулы в справочном материале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68360" y="259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у составлять схемы решений заданий, делать рисунки к задачам, запоминать информацию с помощью мнемонических приемов и в виде визуальных образ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ю над развитием умения оценить полученный ответ, сделать прикидку в уме, отрабатываю устный счет с разными видами чисел, с процентами, т.е. пытаюсь развивать математическую интуицию, логическое мышление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68360" y="620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у концентрировать и переключать внимание, переходить от одного задания к другому, от чтения к счету, от переживаний за результат экзамена к продуктивной дея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ю над повышением внешней и внутренней мотив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своей работе для подготовки к ГИА использую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орные конспекты и справочный материал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онные карточки с образцами выполнения заданий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– тренажеры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йты по оказанию помощи обучающимся по подготовке к ГИ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тернет-ресур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s://gve.sdamgia.ru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rcRect l="0" t="4429" r="0" b="6250"/>
          <a:stretch/>
        </p:blipFill>
        <p:spPr>
          <a:xfrm>
            <a:off x="826920" y="2421000"/>
            <a:ext cx="650592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тернет-ресур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s://fipi.ru/gve/gve-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rcRect l="0" t="5207" r="0" b="6250"/>
          <a:stretch/>
        </p:blipFill>
        <p:spPr>
          <a:xfrm>
            <a:off x="1042920" y="2492280"/>
            <a:ext cx="705816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rcRect l="4961" t="11973" r="80676" b="63971"/>
          <a:stretch/>
        </p:blipFill>
        <p:spPr>
          <a:xfrm>
            <a:off x="-20520" y="189000"/>
            <a:ext cx="1868400" cy="17589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иды экзаменационной работы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ВЭ-9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заменационные материалы с 100-ми номерами вариантов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ля участников ГВЭ-9 без ОВЗ и обучающихся с ОВЗ: глухих, слабослышащих, позднооглохших, кохлеарно имплантированных экзаменуемых; с тяжёлыми нарушениями речи; для обучающихся, экстернов с нарушениями опорнодвигательного аппарата (далее – НОДА), осваивающих вариант 6.1 ФАОП ООО1; с расстройствами аутистического спектра; иных категорий участников ГВЭ, которым требуется создание специальных условий (с диабетом, онкологическими заболеваниями, астмой и др.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ля того чтобы достичь хороших результатов, нужно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ждом уроке проводить обязательный устный счет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ть в изучение текущего учебного материала задания, соответствующие экзаменационным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держание текущего контроля включать экзаменационные задачи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вое повторение строить исключительно на отработке умений и навыков, необходимых для получения положительной отметки на экзамене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эффективной подготовки нужна тренировка, тренировка и еще раз тренировка. Довести решение задач до автоматизм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fipi.ru/g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rcRect l="18073" t="29365" r="9084" b="31063"/>
          <a:stretch/>
        </p:blipFill>
        <p:spPr>
          <a:xfrm>
            <a:off x="158760" y="1197000"/>
            <a:ext cx="8958240" cy="2736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3"/>
          <a:srcRect l="9595" t="46629" r="10982" b="30758"/>
          <a:stretch/>
        </p:blipFill>
        <p:spPr>
          <a:xfrm>
            <a:off x="128520" y="3933720"/>
            <a:ext cx="8985240" cy="1438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4"/>
          <a:stretch/>
        </p:blipFill>
        <p:spPr>
          <a:xfrm>
            <a:off x="-3240" y="114480"/>
            <a:ext cx="1871640" cy="17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6480" y="0"/>
            <a:ext cx="1871640" cy="17622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заменационные материалы с 200-ми номерами варианто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ля слепых обучающихся, слабовидящих и поздноослепших обучающихся. Для слепых обучающихся задания переводятся на рельефно-точечный шрифт Брайля. Экзаменационные материалы аналогичны 100-м номерам вариантов, но в текстах заданий сведено к минимуму количество изображе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rcRect l="13610" t="34326" r="9418" b="23612"/>
          <a:stretch/>
        </p:blipFill>
        <p:spPr>
          <a:xfrm>
            <a:off x="230040" y="1484280"/>
            <a:ext cx="8844120" cy="271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3"/>
          <a:srcRect l="4850" t="40251" r="23272" b="38652"/>
          <a:stretch/>
        </p:blipFill>
        <p:spPr>
          <a:xfrm>
            <a:off x="179280" y="4653000"/>
            <a:ext cx="8883720" cy="1466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4"/>
          <a:stretch/>
        </p:blipFill>
        <p:spPr>
          <a:xfrm>
            <a:off x="17640" y="154080"/>
            <a:ext cx="187308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440" y="98280"/>
            <a:ext cx="1871640" cy="17622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заменационные материалы с 300-ми номерами варианто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ля участников ГВЭ-9 с задержкой психического развития, обучающихся по адаптированным основным общеобразовательным программам; для обучающихся с НОДА, осваивающих вариант 6.2 ФАОП ОО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rcRect l="23048" t="35664" r="9360" b="32170"/>
          <a:stretch/>
        </p:blipFill>
        <p:spPr>
          <a:xfrm>
            <a:off x="146160" y="1438200"/>
            <a:ext cx="8794800" cy="2354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rcRect l="9900" t="50005" r="21994" b="31988"/>
          <a:stretch/>
        </p:blipFill>
        <p:spPr>
          <a:xfrm>
            <a:off x="112680" y="4437000"/>
            <a:ext cx="8861400" cy="1317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3"/>
          <a:stretch/>
        </p:blipFill>
        <p:spPr>
          <a:xfrm>
            <a:off x="0" y="34920"/>
            <a:ext cx="187164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ричины отставания по математик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елы в знаниях за предшествующий период обучения;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темп на уроке;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систематической подготовки к урокам;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очный контроль со стороны родителей;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ая учебная мотивация у обучающихся и родителей;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ые болезни и госпитализации отрывают ребенка от учебного процесса, после болезни сложно вновь включиться в работу;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иантное поведение;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мышления и умственной деятельности, связанные с характером заболевания, влияют на восприятие учебного материала, память и мыслительные процессы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3964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обучения математике для детей с ограниченными возможностями здоровья (ОВЗ) включают освоение набора математических знаний и навыков, необходимых для повседневной жизни и будущей профессиональной деятельности. Также акцентируется внимание на развитии логического мышления, пространственного воображения и других когнитивных качеств, а также на формировании основных учебных умений и создании условий для социальной адаптации детей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2-29T16:05:07Z</dcterms:created>
  <dc:creator>User</dc:creator>
  <dc:description/>
  <dc:language>en-US</dc:language>
  <cp:lastModifiedBy>User</cp:lastModifiedBy>
  <dcterms:modified xsi:type="dcterms:W3CDTF">2025-03-24T17:43:05Z</dcterms:modified>
  <cp:revision>22</cp:revision>
  <dc:subject/>
  <dc:title>Подготовка учащихся с ОВЗ  к ГИА</dc:title>
</cp:coreProperties>
</file>