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73.png" ContentType="image/pn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1.jpeg" ContentType="image/jpe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44.png" ContentType="image/png"/>
  <Override PartName="/ppt/media/image36.png" ContentType="image/png"/>
  <Override PartName="/ppt/media/image34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5.png" ContentType="image/png"/>
  <Override PartName="/ppt/media/image5.png" ContentType="image/png"/>
  <Override PartName="/ppt/media/image52.jpeg" ContentType="image/jpeg"/>
  <Override PartName="/ppt/media/image13.png" ContentType="image/png"/>
  <Override PartName="/ppt/media/image29.jpeg" ContentType="image/jpeg"/>
  <Override PartName="/ppt/media/image88.jpeg" ContentType="image/jpeg"/>
  <Override PartName="/ppt/media/image39.png" ContentType="image/png"/>
  <Override PartName="/ppt/media/image64.jpeg" ContentType="image/jpeg"/>
  <Override PartName="/ppt/media/image61.jpeg" ContentType="image/jpeg"/>
  <Override PartName="/ppt/media/image25.jpeg" ContentType="image/jpeg"/>
  <Override PartName="/ppt/media/image69.png" ContentType="image/png"/>
  <Override PartName="/ppt/media/image32.png" ContentType="image/png"/>
  <Override PartName="/ppt/media/image62.png" ContentType="image/png"/>
  <Override PartName="/ppt/media/image66.png" ContentType="image/png"/>
  <Override PartName="/ppt/media/image70.jpeg" ContentType="image/jpeg"/>
  <Override PartName="/ppt/media/image72.png" ContentType="image/png"/>
  <Override PartName="/ppt/media/image24.png" ContentType="image/png"/>
  <Override PartName="/ppt/media/image87.jpeg" ContentType="image/jpeg"/>
  <Override PartName="/ppt/media/image11.jpeg" ContentType="image/jpeg"/>
  <Override PartName="/ppt/media/image79.png" ContentType="image/png"/>
  <Override PartName="/ppt/media/image68.jpeg" ContentType="image/jpeg"/>
  <Override PartName="/ppt/media/image96.png" ContentType="image/png"/>
  <Override PartName="/ppt/media/image84.png" ContentType="image/png"/>
  <Override PartName="/ppt/media/image17.jpeg" ContentType="image/jpeg"/>
  <Override PartName="/ppt/media/image60.png" ContentType="image/png"/>
  <Override PartName="/ppt/media/image95.png" ContentType="image/png"/>
  <Override PartName="/ppt/media/image94.png" ContentType="image/png"/>
  <Override PartName="/ppt/media/image18.jpeg" ContentType="image/jpeg"/>
  <Override PartName="/ppt/media/image67.png" ContentType="image/png"/>
  <Override PartName="/ppt/media/image91.jpeg" ContentType="image/jpeg"/>
  <Override PartName="/ppt/media/image78.png" ContentType="image/png"/>
  <Override PartName="/ppt/media/image90.png" ContentType="image/png"/>
  <Override PartName="/ppt/media/image85.jpeg" ContentType="image/jpeg"/>
  <Override PartName="/ppt/media/image77.jpeg" ContentType="image/jpeg"/>
  <Override PartName="/ppt/media/image26.png" ContentType="image/png"/>
  <Override PartName="/ppt/media/image76.png" ContentType="image/png"/>
  <Override PartName="/ppt/media/image65.png" ContentType="image/png"/>
  <Override PartName="/ppt/media/image80.jpeg" ContentType="image/jpeg"/>
  <Override PartName="/ppt/media/image74.jpeg" ContentType="image/jpeg"/>
  <Override PartName="/ppt/media/image81.jpeg" ContentType="image/jpeg"/>
  <Override PartName="/ppt/media/image75.png" ContentType="image/png"/>
  <Override PartName="/ppt/media/image22.png" ContentType="image/png"/>
  <Override PartName="/ppt/media/image59.png" ContentType="image/png"/>
  <Override PartName="/ppt/media/image19.jpeg" ContentType="image/jpeg"/>
  <Override PartName="/ppt/media/image83.png" ContentType="image/png"/>
  <Override PartName="/ppt/media/image4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89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6.jpeg" ContentType="image/jpeg"/>
  <Override PartName="/ppt/media/image71.png" ContentType="image/png"/>
  <Override PartName="/ppt/media/image82.jpeg" ContentType="image/jpeg"/>
  <Override PartName="/ppt/media/image8.png" ContentType="image/png"/>
  <Override PartName="/ppt/media/image38.png" ContentType="image/png"/>
  <Override PartName="/ppt/media/image7.jpeg" ContentType="image/jpeg"/>
  <Override PartName="/ppt/media/image4.png" ContentType="image/png"/>
  <Override PartName="/ppt/media/image9.png" ContentType="image/png"/>
  <Override PartName="/ppt/media/image8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44D-306B-4C55-81B4-B00328E7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186-B9F2-4157-811A-463A65B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FEB-FD89-474C-95CD-E00DBF1A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EAE-35A5-4612-95AA-1AA50FD9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F8EC-7D76-4550-ACE3-5DAD61CB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082-74F8-496E-8722-141D357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A7C0-899B-4705-BAB3-87B583FD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A2E-D11D-4492-AF6B-6F80067B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44E-B106-4718-BD35-DBB1251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416-388F-420F-B640-B882EAE2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13F7-4753-44F1-BAD2-B7008B4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698-4CA3-46CE-8E69-0E95D50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6682-C15E-4072-B0FF-D257882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21D-1CEE-4394-9A88-2298829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CB97-6279-4B33-9E2E-3F51941B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4D2D-A1A4-4A5F-8B5B-E503DEF5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F7F5-4580-4B83-B83E-22A6FE61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8E6-E949-4A3B-89FA-2A9B6542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76C-0AA2-4F06-A128-2DF6CCB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D71-99FB-4FD5-8D0F-0013E1E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DF8-1CBB-4530-A356-FB1B0F0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837-D749-44AA-AE06-442DD4A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CF0-FB68-4B99-BB2E-5D8F4ED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361-C120-4AE0-B73D-BC5A3D4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http://www.tvoyrebenok.ru/images/presentation/literature/m/01.jpg"/>
          <p:cNvPicPr/>
          <p:nvPr/>
        </p:nvPicPr>
        <p:blipFill>
          <a:blip r:embed="rId2"/>
          <a:srcRect l="0" t="0" r="0" b="36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CE0-8A18-4E41-9E44-885E181C39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F7B-1E78-4147-9898-118D8A194F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ttp://fb.ru/misc/i/gallery/12064/256119.jpg"/>
          <p:cNvPicPr/>
          <p:nvPr/>
        </p:nvPicPr>
        <p:blipFill>
          <a:blip r:embed="rId1"/>
          <a:stretch/>
        </p:blipFill>
        <p:spPr>
          <a:xfrm>
            <a:off x="250920" y="189000"/>
            <a:ext cx="3135240" cy="4394160"/>
          </a:xfrm>
          <a:prstGeom prst="rect">
            <a:avLst/>
          </a:prstGeom>
          <a:ln w="0">
            <a:noFill/>
          </a:ln>
        </p:spPr>
      </p:pic>
      <p:grpSp>
        <p:nvGrpSpPr>
          <p:cNvPr id="93" name="Rectangle 1"/>
          <p:cNvGrpSpPr/>
          <p:nvPr/>
        </p:nvGrpSpPr>
        <p:grpSpPr>
          <a:xfrm>
            <a:off x="3571920" y="2494080"/>
            <a:ext cx="5591160" cy="4205160"/>
            <a:chOff x="3571920" y="2494080"/>
            <a:chExt cx="5591160" cy="4205160"/>
          </a:xfrm>
        </p:grpSpPr>
        <p:pic>
          <p:nvPicPr>
            <p:cNvPr id="94" name="Rectangle 1" descr=""/>
            <p:cNvPicPr/>
            <p:nvPr/>
          </p:nvPicPr>
          <p:blipFill>
            <a:blip r:embed="rId2"/>
            <a:stretch/>
          </p:blipFill>
          <p:spPr>
            <a:xfrm>
              <a:off x="3571920" y="2494080"/>
              <a:ext cx="559116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635280" y="2553480"/>
              <a:ext cx="5329440" cy="40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Желание служить благу должно непременно быть потребностью души, условием личного счастья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А. П. Чех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Правда и красота … всегда составляли главное в человеческой жизни и вообще на земл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А. П. Чех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Все там, в человеческой душе, и счастье, и несчастье, трагедия и комед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А.П.Чех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6"/>
          <p:cNvGrpSpPr/>
          <p:nvPr/>
        </p:nvGrpSpPr>
        <p:grpSpPr>
          <a:xfrm>
            <a:off x="3645000" y="73080"/>
            <a:ext cx="5479920" cy="2371680"/>
            <a:chOff x="3645000" y="73080"/>
            <a:chExt cx="5479920" cy="2371680"/>
          </a:xfrm>
        </p:grpSpPr>
        <p:pic>
          <p:nvPicPr>
            <p:cNvPr id="9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645000" y="73080"/>
              <a:ext cx="5479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708360" y="189000"/>
              <a:ext cx="525636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Жизнь и творчество </a:t>
              </a:r>
              <a:r>
                <a:rPr b="1" lang="ru-RU" sz="3600" spc="-1" strike="noStrike">
                  <a:solidFill>
                    <a:srgbClr val="303000"/>
                  </a:solidFill>
                  <a:latin typeface="Bookman Old Style"/>
                </a:rPr>
                <a:t>Антона Павловича Чехо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(1</a:t>
              </a:r>
              <a:r>
                <a:rPr b="1" lang="en-US" sz="3200" spc="-1" strike="noStrike">
                  <a:solidFill>
                    <a:srgbClr val="303000"/>
                  </a:solidFill>
                  <a:latin typeface="Bookman Old Style"/>
                </a:rPr>
                <a:t>8</a:t>
              </a: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60–1</a:t>
              </a:r>
              <a:r>
                <a:rPr b="1" lang="en-US" sz="3200" spc="-1" strike="noStrike">
                  <a:solidFill>
                    <a:srgbClr val="303000"/>
                  </a:solidFill>
                  <a:latin typeface="Bookman Old Style"/>
                </a:rPr>
                <a:t>9</a:t>
              </a: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04 гг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"/>
          <p:cNvGrpSpPr/>
          <p:nvPr/>
        </p:nvGrpSpPr>
        <p:grpSpPr>
          <a:xfrm>
            <a:off x="189000" y="4668840"/>
            <a:ext cx="3432240" cy="1762200"/>
            <a:chOff x="189000" y="4668840"/>
            <a:chExt cx="3432240" cy="1762200"/>
          </a:xfrm>
        </p:grpSpPr>
        <p:pic>
          <p:nvPicPr>
            <p:cNvPr id="100" name="Rectangle 1" descr=""/>
            <p:cNvPicPr/>
            <p:nvPr/>
          </p:nvPicPr>
          <p:blipFill>
            <a:blip r:embed="rId4"/>
            <a:stretch/>
          </p:blipFill>
          <p:spPr>
            <a:xfrm>
              <a:off x="189000" y="4668840"/>
              <a:ext cx="34322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50920" y="4883400"/>
              <a:ext cx="316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Большой, умный, ко всему внимательный человек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  <a:ea typeface="Calibri"/>
                </a:rPr>
                <a:t>М.Горь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Прямоугольник 7"/>
          <p:cNvGrpSpPr/>
          <p:nvPr/>
        </p:nvGrpSpPr>
        <p:grpSpPr>
          <a:xfrm>
            <a:off x="146160" y="73080"/>
            <a:ext cx="8632800" cy="774720"/>
            <a:chOff x="146160" y="73080"/>
            <a:chExt cx="8632800" cy="774720"/>
          </a:xfrm>
        </p:grpSpPr>
        <p:pic>
          <p:nvPicPr>
            <p:cNvPr id="18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46160" y="73080"/>
              <a:ext cx="86328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50920" y="18900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Начало литературной деятель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Рисунок 5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89548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4" descr="img331"/>
          <p:cNvPicPr/>
          <p:nvPr/>
        </p:nvPicPr>
        <p:blipFill>
          <a:blip r:embed="rId3"/>
          <a:stretch/>
        </p:blipFill>
        <p:spPr>
          <a:xfrm>
            <a:off x="3492360" y="981000"/>
            <a:ext cx="535176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91" name="Прямоугольник 11"/>
          <p:cNvGrpSpPr/>
          <p:nvPr/>
        </p:nvGrpSpPr>
        <p:grpSpPr>
          <a:xfrm>
            <a:off x="3432240" y="4237200"/>
            <a:ext cx="5589360" cy="1054080"/>
            <a:chOff x="3432240" y="4237200"/>
            <a:chExt cx="5589360" cy="1054080"/>
          </a:xfrm>
        </p:grpSpPr>
        <p:pic>
          <p:nvPicPr>
            <p:cNvPr id="192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3432240" y="4237200"/>
              <a:ext cx="55893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492360" y="4292640"/>
              <a:ext cx="547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03000"/>
                  </a:solidFill>
                  <a:latin typeface="Bookman Old Style"/>
                </a:rPr>
                <a:t>Лист журнала «Зритель», где в 1881 г. была напечатана юмореска А.П.Чехова «Свадебный сезон». Рис. Н.П.Чех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8"/>
          <p:cNvGrpSpPr/>
          <p:nvPr/>
        </p:nvGrpSpPr>
        <p:grpSpPr>
          <a:xfrm>
            <a:off x="73080" y="5310360"/>
            <a:ext cx="8875800" cy="1334880"/>
            <a:chOff x="73080" y="5310360"/>
            <a:chExt cx="8875800" cy="1334880"/>
          </a:xfrm>
        </p:grpSpPr>
        <p:pic>
          <p:nvPicPr>
            <p:cNvPr id="195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73080" y="5310360"/>
              <a:ext cx="88758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79280" y="5373720"/>
              <a:ext cx="871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Чехов начинает «по капле выдавливать из себя раба», увлекается литературой, пишет первые рассказы, печатается в журналах «Стрекоза», «Будильник», «Зритель», «Сверчок», «Осколки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Прямоугольник 7"/>
          <p:cNvGrpSpPr/>
          <p:nvPr/>
        </p:nvGrpSpPr>
        <p:grpSpPr>
          <a:xfrm>
            <a:off x="189000" y="73080"/>
            <a:ext cx="8540640" cy="774720"/>
            <a:chOff x="189000" y="73080"/>
            <a:chExt cx="8540640" cy="774720"/>
          </a:xfrm>
        </p:grpSpPr>
        <p:pic>
          <p:nvPicPr>
            <p:cNvPr id="198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89000" y="73080"/>
              <a:ext cx="8540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0920" y="18900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О литературных псевдонима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4"/>
          <p:cNvGrpSpPr/>
          <p:nvPr/>
        </p:nvGrpSpPr>
        <p:grpSpPr>
          <a:xfrm>
            <a:off x="3071880" y="920880"/>
            <a:ext cx="5962680" cy="2717640"/>
            <a:chOff x="3071880" y="920880"/>
            <a:chExt cx="5962680" cy="2717640"/>
          </a:xfrm>
        </p:grpSpPr>
        <p:pic>
          <p:nvPicPr>
            <p:cNvPr id="201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3071880" y="920880"/>
              <a:ext cx="596268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132000" y="981000"/>
              <a:ext cx="5724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Фамилию я отдал медицине, с которою не расстанусь до гробовой доски. С литературой же мне рано или поздно придется расстаться. Во-вторых, медицина, которая мнит себя быть серьезной, и игра в литературу должны иметь разные клич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А.П.Чех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литератору Билиби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ectangle 1"/>
          <p:cNvGrpSpPr/>
          <p:nvPr/>
        </p:nvGrpSpPr>
        <p:grpSpPr>
          <a:xfrm>
            <a:off x="378000" y="3773520"/>
            <a:ext cx="8643600" cy="3157560"/>
            <a:chOff x="378000" y="3773520"/>
            <a:chExt cx="8643600" cy="3157560"/>
          </a:xfrm>
        </p:grpSpPr>
        <p:pic>
          <p:nvPicPr>
            <p:cNvPr id="204" name="Rectangle 1" descr=""/>
            <p:cNvPicPr/>
            <p:nvPr/>
          </p:nvPicPr>
          <p:blipFill>
            <a:blip r:embed="rId3"/>
            <a:stretch/>
          </p:blipFill>
          <p:spPr>
            <a:xfrm>
              <a:off x="378000" y="3773520"/>
              <a:ext cx="864360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8360" y="3949200"/>
              <a:ext cx="8496360" cy="27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— 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Антоша Ч., Ан. Ч., А. Чехонте — так называл Чехова законоучитель таганрогской гимназии отец Покровский, любитель переиначивать фамил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— 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Сокращение фамилии: Нте, -нте, Анч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 — 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Шуточное письмо в редакцию «Осколков» подписано «полковник Кочкарев» («гибрид» полковника Кошкарева из «Мертвых душ» и Кочкарева из «Женитьбы»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— 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Чехов подписывался Лаэрт, Улисс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 — 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  <a:ea typeface="Times New Roman"/>
                </a:rPr>
                <a:t>Юмористические подписи и псевдонимы: Врач без пациентов, Гайка № 6, Акакий Тарантулов, Кисляев, Балдастов, Шампанский, Ч. Б. С. (Человек без селезенки), Брат моего брата, Некто, Шиллер Шекспирович Гет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оугольник 6"/>
          <p:cNvGrpSpPr/>
          <p:nvPr/>
        </p:nvGrpSpPr>
        <p:grpSpPr>
          <a:xfrm>
            <a:off x="407880" y="0"/>
            <a:ext cx="8541000" cy="1268280"/>
            <a:chOff x="407880" y="0"/>
            <a:chExt cx="8541000" cy="1268280"/>
          </a:xfrm>
        </p:grpSpPr>
        <p:pic>
          <p:nvPicPr>
            <p:cNvPr id="207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407880" y="0"/>
              <a:ext cx="8541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68360" y="115920"/>
              <a:ext cx="842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А.П.Чехов – мастер короткого расска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оугольник 7"/>
          <p:cNvGrpSpPr/>
          <p:nvPr/>
        </p:nvGrpSpPr>
        <p:grpSpPr>
          <a:xfrm>
            <a:off x="3743280" y="2212920"/>
            <a:ext cx="2133720" cy="3554640"/>
            <a:chOff x="3743280" y="2212920"/>
            <a:chExt cx="2133720" cy="3554640"/>
          </a:xfrm>
        </p:grpSpPr>
        <p:pic>
          <p:nvPicPr>
            <p:cNvPr id="21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743280" y="2212920"/>
              <a:ext cx="2133720" cy="35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851280" y="2276640"/>
              <a:ext cx="1873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В 1884 вышла первая книга рассказов Чехова — "Сказки Мельпомены", затем следуют "Пестрые рассказы" (18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4" descr="худ И"/>
          <p:cNvPicPr/>
          <p:nvPr/>
        </p:nvPicPr>
        <p:blipFill>
          <a:blip r:embed="rId3"/>
          <a:stretch/>
        </p:blipFill>
        <p:spPr>
          <a:xfrm>
            <a:off x="324000" y="1484280"/>
            <a:ext cx="3311280" cy="4416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www.my-chekhov.ru/images/sbornik.jpg"/>
          <p:cNvPicPr/>
          <p:nvPr/>
        </p:nvPicPr>
        <p:blipFill>
          <a:blip r:embed="rId4"/>
          <a:stretch/>
        </p:blipFill>
        <p:spPr>
          <a:xfrm>
            <a:off x="5867280" y="1773360"/>
            <a:ext cx="292428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Григорович Д"/>
          <p:cNvPicPr/>
          <p:nvPr/>
        </p:nvPicPr>
        <p:blipFill>
          <a:blip r:embed="rId1"/>
          <a:stretch/>
        </p:blipFill>
        <p:spPr>
          <a:xfrm>
            <a:off x="5435640" y="981000"/>
            <a:ext cx="3344760" cy="4754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5580000" y="5805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.Григ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Text Box 7"/>
          <p:cNvGrpSpPr/>
          <p:nvPr/>
        </p:nvGrpSpPr>
        <p:grpSpPr>
          <a:xfrm>
            <a:off x="60480" y="920880"/>
            <a:ext cx="5084640" cy="5765760"/>
            <a:chOff x="60480" y="920880"/>
            <a:chExt cx="5084640" cy="5765760"/>
          </a:xfrm>
        </p:grpSpPr>
        <p:pic>
          <p:nvPicPr>
            <p:cNvPr id="217" name="Text Box 7" descr=""/>
            <p:cNvPicPr/>
            <p:nvPr/>
          </p:nvPicPr>
          <p:blipFill>
            <a:blip r:embed="rId2"/>
            <a:stretch/>
          </p:blipFill>
          <p:spPr>
            <a:xfrm>
              <a:off x="60480" y="920880"/>
              <a:ext cx="5084640" cy="57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9280" y="981000"/>
              <a:ext cx="4897440" cy="52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В 1885 году состоялась первая поездка А.П.Чехова в Петербург. Там он впервые встретился с людьми «большой литературы» -писателями, публицистами А.С.Сувориным, Д.В. Григоровичем. Они его литературную деятельность восприняли всерьез. Д.В.Григорович в письме от 25 марта 1886 года признался А.П.Чехову в том, что видит у него «настоящий талант, - талант, выдвигающий Вас далеко из круга литераторов нового поколенья». Это было первое признанье чеховского талант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Прямоугольник 5"/>
          <p:cNvGrpSpPr/>
          <p:nvPr/>
        </p:nvGrpSpPr>
        <p:grpSpPr>
          <a:xfrm>
            <a:off x="189000" y="73080"/>
            <a:ext cx="8540640" cy="774720"/>
            <a:chOff x="189000" y="73080"/>
            <a:chExt cx="8540640" cy="774720"/>
          </a:xfrm>
        </p:grpSpPr>
        <p:pic>
          <p:nvPicPr>
            <p:cNvPr id="22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89000" y="73080"/>
              <a:ext cx="8540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50920" y="18900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Признание Чеховского талан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Text Box 6"/>
          <p:cNvGrpSpPr/>
          <p:nvPr/>
        </p:nvGrpSpPr>
        <p:grpSpPr>
          <a:xfrm>
            <a:off x="5632560" y="858960"/>
            <a:ext cx="3511440" cy="5876640"/>
            <a:chOff x="5632560" y="858960"/>
            <a:chExt cx="3511440" cy="5876640"/>
          </a:xfrm>
        </p:grpSpPr>
        <p:pic>
          <p:nvPicPr>
            <p:cNvPr id="223" name="Text Box 6" descr=""/>
            <p:cNvPicPr/>
            <p:nvPr/>
          </p:nvPicPr>
          <p:blipFill>
            <a:blip r:embed="rId1"/>
            <a:stretch/>
          </p:blipFill>
          <p:spPr>
            <a:xfrm>
              <a:off x="5632560" y="858960"/>
              <a:ext cx="3511440" cy="58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724360" y="907920"/>
              <a:ext cx="3275280" cy="56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</a:rPr>
                <a:t>В 1890 г. писатель уезжает на Сахалин, чтобы изучить каторгу — «одну из самых ужасных нелепостей, до которой мог додуматься человек». Поездка — подвиг. Более четырех тысяч верст на лошадях по Сибири, где холод, пронзительный ветер, разливы рек, а Чехов серьезно болен и, как врач, знает, чем ему грозит этот путь. Им была сделана перепись сахалинского населения. </a:t>
              </a:r>
              <a:br>
                <a:rPr sz="1600"/>
              </a:b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</a:rPr>
                <a:t>Впечатления сахалинской поездки воплотились в рассказах «Бабы», «В ссылке», «Убийство», в очерке «Из Сибири», в книге очерков «Остров Сахалин» (1890-94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Прямоугольник 5"/>
          <p:cNvGrpSpPr/>
          <p:nvPr/>
        </p:nvGrpSpPr>
        <p:grpSpPr>
          <a:xfrm>
            <a:off x="189000" y="73080"/>
            <a:ext cx="6383160" cy="774720"/>
            <a:chOff x="189000" y="73080"/>
            <a:chExt cx="6383160" cy="774720"/>
          </a:xfrm>
        </p:grpSpPr>
        <p:pic>
          <p:nvPicPr>
            <p:cNvPr id="2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89000" y="73080"/>
              <a:ext cx="6383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50920" y="189000"/>
              <a:ext cx="62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Путешествие на Сахал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5" descr="сах заковка арестантов в кандалы фотография привезённая ч с сах"/>
          <p:cNvPicPr/>
          <p:nvPr/>
        </p:nvPicPr>
        <p:blipFill>
          <a:blip r:embed="rId3"/>
          <a:stretch/>
        </p:blipFill>
        <p:spPr>
          <a:xfrm>
            <a:off x="324000" y="1052640"/>
            <a:ext cx="5211720" cy="34272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8"/>
          <p:cNvSpPr/>
          <p:nvPr/>
        </p:nvSpPr>
        <p:spPr>
          <a:xfrm>
            <a:off x="75564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халин. Заковка арестантов в кандалы. Фотография, привезённая Чех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Чехов с сотрудниками журнала Русская мысль"/>
          <p:cNvPicPr/>
          <p:nvPr/>
        </p:nvPicPr>
        <p:blipFill>
          <a:blip r:embed="rId1"/>
          <a:stretch/>
        </p:blipFill>
        <p:spPr>
          <a:xfrm>
            <a:off x="179280" y="1197000"/>
            <a:ext cx="5184720" cy="4033800"/>
          </a:xfrm>
          <a:prstGeom prst="rect">
            <a:avLst/>
          </a:prstGeom>
          <a:ln w="0">
            <a:noFill/>
          </a:ln>
        </p:spPr>
      </p:pic>
      <p:grpSp>
        <p:nvGrpSpPr>
          <p:cNvPr id="231" name="Text Box 6"/>
          <p:cNvGrpSpPr/>
          <p:nvPr/>
        </p:nvGrpSpPr>
        <p:grpSpPr>
          <a:xfrm>
            <a:off x="5546880" y="1206360"/>
            <a:ext cx="3365280" cy="5213520"/>
            <a:chOff x="5546880" y="1206360"/>
            <a:chExt cx="3365280" cy="5213520"/>
          </a:xfrm>
        </p:grpSpPr>
        <p:pic>
          <p:nvPicPr>
            <p:cNvPr id="2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6880" y="1206360"/>
              <a:ext cx="336528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651640" y="1268280"/>
              <a:ext cx="320508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В первой половине 1890-х гг. Чехов становится одним из самых читаемых писателей России — его произведения регулярно появляются в журналах «Северный вестник» и «Русская мысль» (с 1892), газетах «Новое время» (до 1893) и «Русские ведомости»; выходят отдельные издания и сборники («Рассказы», 1888; «Хмурые люди», 1890; Повести и рассказы», 1894)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7"/>
          <p:cNvSpPr/>
          <p:nvPr/>
        </p:nvSpPr>
        <p:spPr>
          <a:xfrm>
            <a:off x="179280" y="551664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.Чехов с сотрудниками жур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усская мыс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ик 5"/>
          <p:cNvGrpSpPr/>
          <p:nvPr/>
        </p:nvGrpSpPr>
        <p:grpSpPr>
          <a:xfrm>
            <a:off x="158760" y="73080"/>
            <a:ext cx="8723160" cy="774720"/>
            <a:chOff x="158760" y="73080"/>
            <a:chExt cx="8723160" cy="774720"/>
          </a:xfrm>
        </p:grpSpPr>
        <p:pic>
          <p:nvPicPr>
            <p:cNvPr id="236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58760" y="73080"/>
              <a:ext cx="8723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50920" y="18900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Литературная деятельность Чех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Мелех"/>
          <p:cNvPicPr/>
          <p:nvPr/>
        </p:nvPicPr>
        <p:blipFill>
          <a:blip r:embed="rId1"/>
          <a:stretch/>
        </p:blipFill>
        <p:spPr>
          <a:xfrm>
            <a:off x="3995640" y="1197000"/>
            <a:ext cx="4897440" cy="4481640"/>
          </a:xfrm>
          <a:prstGeom prst="rect">
            <a:avLst/>
          </a:prstGeom>
          <a:ln w="0">
            <a:noFill/>
          </a:ln>
        </p:spPr>
      </p:pic>
      <p:grpSp>
        <p:nvGrpSpPr>
          <p:cNvPr id="239" name="Text Box 6"/>
          <p:cNvGrpSpPr/>
          <p:nvPr/>
        </p:nvGrpSpPr>
        <p:grpSpPr>
          <a:xfrm>
            <a:off x="73080" y="1060560"/>
            <a:ext cx="3870360" cy="4938480"/>
            <a:chOff x="73080" y="1060560"/>
            <a:chExt cx="3870360" cy="4938480"/>
          </a:xfrm>
        </p:grpSpPr>
        <p:pic>
          <p:nvPicPr>
            <p:cNvPr id="240" name="Text Box 6" descr=""/>
            <p:cNvPicPr/>
            <p:nvPr/>
          </p:nvPicPr>
          <p:blipFill>
            <a:blip r:embed="rId2"/>
            <a:stretch/>
          </p:blipFill>
          <p:spPr>
            <a:xfrm>
              <a:off x="73080" y="1060560"/>
              <a:ext cx="3870360" cy="49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79280" y="1125360"/>
              <a:ext cx="360072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Усадьба Мелихово была куплена А.П.Чеховым в 1892 году у художника Н. Сорохтина. Чехов с семьей переехал туда 4 марта 1892 г. Имение было большое, для полевых работ нанимали работников. Чехов посадил сотни фруктовых деревьев и розовых кустов. В огороде, кроме обычных для Подмосковья овощей, росли баклажаны, кукуруза, сахалинская греч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7"/>
          <p:cNvSpPr/>
          <p:nvPr/>
        </p:nvSpPr>
        <p:spPr>
          <a:xfrm>
            <a:off x="3995640" y="5805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60 г., к 100-летию со дня рождения Чехова, в Мелихове открылся его м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Прямоугольник 5"/>
          <p:cNvGrpSpPr/>
          <p:nvPr/>
        </p:nvGrpSpPr>
        <p:grpSpPr>
          <a:xfrm>
            <a:off x="2133720" y="73080"/>
            <a:ext cx="6595920" cy="774720"/>
            <a:chOff x="2133720" y="73080"/>
            <a:chExt cx="6595920" cy="774720"/>
          </a:xfrm>
        </p:grpSpPr>
        <p:pic>
          <p:nvPicPr>
            <p:cNvPr id="24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133720" y="73080"/>
              <a:ext cx="6595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95640" y="189000"/>
              <a:ext cx="64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Мелихо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Image0191"/>
          <p:cNvPicPr/>
          <p:nvPr/>
        </p:nvPicPr>
        <p:blipFill>
          <a:blip r:embed="rId1"/>
          <a:srcRect l="64636" t="5789" r="0" b="0"/>
          <a:stretch/>
        </p:blipFill>
        <p:spPr>
          <a:xfrm>
            <a:off x="5940360" y="1484280"/>
            <a:ext cx="2963880" cy="363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Image0191"/>
          <p:cNvPicPr/>
          <p:nvPr/>
        </p:nvPicPr>
        <p:blipFill>
          <a:blip r:embed="rId2"/>
          <a:srcRect l="39053" t="6975" r="36555" b="2360"/>
          <a:stretch/>
        </p:blipFill>
        <p:spPr>
          <a:xfrm>
            <a:off x="250920" y="1268280"/>
            <a:ext cx="2678040" cy="4176720"/>
          </a:xfrm>
          <a:prstGeom prst="rect">
            <a:avLst/>
          </a:prstGeom>
          <a:ln w="0">
            <a:noFill/>
          </a:ln>
        </p:spPr>
      </p:pic>
      <p:grpSp>
        <p:nvGrpSpPr>
          <p:cNvPr id="248" name="Text Box 7"/>
          <p:cNvGrpSpPr/>
          <p:nvPr/>
        </p:nvGrpSpPr>
        <p:grpSpPr>
          <a:xfrm>
            <a:off x="3041640" y="858960"/>
            <a:ext cx="2822760" cy="4646520"/>
            <a:chOff x="3041640" y="858960"/>
            <a:chExt cx="2822760" cy="4646520"/>
          </a:xfrm>
        </p:grpSpPr>
        <p:pic>
          <p:nvPicPr>
            <p:cNvPr id="249" name="Text Box 7" descr=""/>
            <p:cNvPicPr/>
            <p:nvPr/>
          </p:nvPicPr>
          <p:blipFill>
            <a:blip r:embed="rId3"/>
            <a:stretch/>
          </p:blipFill>
          <p:spPr>
            <a:xfrm>
              <a:off x="3041640" y="858960"/>
              <a:ext cx="2822760" cy="46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132000" y="907920"/>
              <a:ext cx="2592360" cy="44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Bookman Old Style"/>
                </a:rPr>
                <a:t>Сразу по приезде в Мелихово Чехов начал заниматься врачебной практикой. В состав мелиховского врачебного участка входило 26 деревень. Чехов вел регулярный прием больных. В то время в </a:t>
              </a:r>
              <a:r>
                <a:rPr b="1" lang="ru-RU" sz="1600" spc="-1" strike="noStrike">
                  <a:solidFill>
                    <a:srgbClr val="303000"/>
                  </a:solidFill>
                  <a:latin typeface="Bookman Old Style"/>
                </a:rPr>
                <a:t>России</a:t>
              </a:r>
              <a:r>
                <a:rPr b="1" lang="ru-RU" sz="1600" spc="-1" strike="noStrike">
                  <a:solidFill>
                    <a:srgbClr val="000000"/>
                  </a:solidFill>
                  <a:latin typeface="Bookman Old Style"/>
                </a:rPr>
                <a:t> была эпидемия холеры. Ожидали ее и в Серпуховском уезде. К счастью, холеры на его участке не случилось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Text Box 9"/>
          <p:cNvGrpSpPr/>
          <p:nvPr/>
        </p:nvGrpSpPr>
        <p:grpSpPr>
          <a:xfrm>
            <a:off x="189000" y="5595840"/>
            <a:ext cx="8832600" cy="1060560"/>
            <a:chOff x="189000" y="5595840"/>
            <a:chExt cx="8832600" cy="1060560"/>
          </a:xfrm>
        </p:grpSpPr>
        <p:pic>
          <p:nvPicPr>
            <p:cNvPr id="252" name="Text Box 9" descr=""/>
            <p:cNvPicPr/>
            <p:nvPr/>
          </p:nvPicPr>
          <p:blipFill>
            <a:blip r:embed="rId4"/>
            <a:stretch/>
          </p:blipFill>
          <p:spPr>
            <a:xfrm>
              <a:off x="189000" y="5595840"/>
              <a:ext cx="88326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50920" y="5661000"/>
              <a:ext cx="871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В Мелихове были написаны рассказы: «Палата №6», «Черный монах», «Дом с мезонином», «Мужики», «Ионыч», пьеса «Чайка» и многое друго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Прямоугольник 7"/>
          <p:cNvGrpSpPr/>
          <p:nvPr/>
        </p:nvGrpSpPr>
        <p:grpSpPr>
          <a:xfrm>
            <a:off x="407880" y="73080"/>
            <a:ext cx="8334360" cy="774720"/>
            <a:chOff x="407880" y="73080"/>
            <a:chExt cx="8334360" cy="774720"/>
          </a:xfrm>
        </p:grpSpPr>
        <p:pic>
          <p:nvPicPr>
            <p:cNvPr id="25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407880" y="73080"/>
              <a:ext cx="8334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8360" y="189000"/>
              <a:ext cx="820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Мелиховский врачебный участок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Image0190"/>
          <p:cNvPicPr/>
          <p:nvPr/>
        </p:nvPicPr>
        <p:blipFill>
          <a:blip r:embed="rId1"/>
          <a:stretch/>
        </p:blipFill>
        <p:spPr>
          <a:xfrm>
            <a:off x="1979640" y="1052640"/>
            <a:ext cx="4753080" cy="4303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979640" y="5661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П.Чехов у постели больного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Прямоугольник 5"/>
          <p:cNvGrpSpPr/>
          <p:nvPr/>
        </p:nvGrpSpPr>
        <p:grpSpPr>
          <a:xfrm>
            <a:off x="1920960" y="73080"/>
            <a:ext cx="4863960" cy="774720"/>
            <a:chOff x="1920960" y="73080"/>
            <a:chExt cx="4863960" cy="774720"/>
          </a:xfrm>
        </p:grpSpPr>
        <p:pic>
          <p:nvPicPr>
            <p:cNvPr id="26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920960" y="73080"/>
              <a:ext cx="4863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979640" y="189000"/>
              <a:ext cx="47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Чехов - вра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Image0192"/>
          <p:cNvPicPr/>
          <p:nvPr/>
        </p:nvPicPr>
        <p:blipFill>
          <a:blip r:embed="rId1"/>
          <a:srcRect l="4286" t="6764" r="36667" b="4558"/>
          <a:stretch/>
        </p:blipFill>
        <p:spPr>
          <a:xfrm>
            <a:off x="250920" y="907920"/>
            <a:ext cx="4464000" cy="280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0192"/>
          <p:cNvPicPr/>
          <p:nvPr/>
        </p:nvPicPr>
        <p:blipFill>
          <a:blip r:embed="rId2"/>
          <a:srcRect l="64766" t="6821" r="0" b="4513"/>
          <a:stretch/>
        </p:blipFill>
        <p:spPr>
          <a:xfrm>
            <a:off x="5796000" y="189000"/>
            <a:ext cx="2868480" cy="3024000"/>
          </a:xfrm>
          <a:prstGeom prst="rect">
            <a:avLst/>
          </a:prstGeom>
          <a:ln w="0">
            <a:noFill/>
          </a:ln>
        </p:spPr>
      </p:pic>
      <p:grpSp>
        <p:nvGrpSpPr>
          <p:cNvPr id="264" name="Text Box 8"/>
          <p:cNvGrpSpPr/>
          <p:nvPr/>
        </p:nvGrpSpPr>
        <p:grpSpPr>
          <a:xfrm>
            <a:off x="347760" y="3797280"/>
            <a:ext cx="8643960" cy="2689200"/>
            <a:chOff x="347760" y="3797280"/>
            <a:chExt cx="8643960" cy="2689200"/>
          </a:xfrm>
        </p:grpSpPr>
        <p:pic>
          <p:nvPicPr>
            <p:cNvPr id="265" name="Text Box 8" descr=""/>
            <p:cNvPicPr/>
            <p:nvPr/>
          </p:nvPicPr>
          <p:blipFill>
            <a:blip r:embed="rId3"/>
            <a:stretch/>
          </p:blipFill>
          <p:spPr>
            <a:xfrm>
              <a:off x="347760" y="3797280"/>
              <a:ext cx="864396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68360" y="3860640"/>
              <a:ext cx="83516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С этим периодом связана постройка Чеховым трех сельских школ для крестьянских детей – в Талеже, Новоселках и Мелихове. Он занимался сбором денег – у земства, у частных благотворителей, искал подрядчиков, проверял счета, наблюдал за ходом работ. Все это тоже требовало много времени и сил. За общественную деятельность Чехову было пожаловано потомственное дворянство и орден Святого Станислава 3-й степен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Прямоугольник 6"/>
          <p:cNvGrpSpPr/>
          <p:nvPr/>
        </p:nvGrpSpPr>
        <p:grpSpPr>
          <a:xfrm>
            <a:off x="103320" y="0"/>
            <a:ext cx="5035320" cy="774720"/>
            <a:chOff x="103320" y="0"/>
            <a:chExt cx="5035320" cy="774720"/>
          </a:xfrm>
        </p:grpSpPr>
        <p:pic>
          <p:nvPicPr>
            <p:cNvPr id="26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03320" y="0"/>
              <a:ext cx="5035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920" y="11592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Мелиховская шко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Мать"/>
          <p:cNvPicPr/>
          <p:nvPr/>
        </p:nvPicPr>
        <p:blipFill>
          <a:blip r:embed="rId1"/>
          <a:stretch/>
        </p:blipFill>
        <p:spPr>
          <a:xfrm>
            <a:off x="6156360" y="907920"/>
            <a:ext cx="2719440" cy="36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Отец"/>
          <p:cNvPicPr/>
          <p:nvPr/>
        </p:nvPicPr>
        <p:blipFill>
          <a:blip r:embed="rId2"/>
          <a:stretch/>
        </p:blipFill>
        <p:spPr>
          <a:xfrm>
            <a:off x="250920" y="981000"/>
            <a:ext cx="2776320" cy="367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012000" y="4653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ь - Евгения Яковлевна – домохозя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Прямоугольник 6"/>
          <p:cNvGrpSpPr/>
          <p:nvPr/>
        </p:nvGrpSpPr>
        <p:grpSpPr>
          <a:xfrm>
            <a:off x="2060640" y="73080"/>
            <a:ext cx="5157720" cy="774720"/>
            <a:chOff x="2060640" y="73080"/>
            <a:chExt cx="5157720" cy="774720"/>
          </a:xfrm>
        </p:grpSpPr>
        <p:pic>
          <p:nvPicPr>
            <p:cNvPr id="10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060640" y="73080"/>
              <a:ext cx="5157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124000" y="189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Родит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ик 7"/>
          <p:cNvGrpSpPr/>
          <p:nvPr/>
        </p:nvGrpSpPr>
        <p:grpSpPr>
          <a:xfrm>
            <a:off x="3097080" y="1494000"/>
            <a:ext cx="3029040" cy="4662360"/>
            <a:chOff x="3097080" y="1494000"/>
            <a:chExt cx="3029040" cy="4662360"/>
          </a:xfrm>
        </p:grpSpPr>
        <p:pic>
          <p:nvPicPr>
            <p:cNvPr id="10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097080" y="1494000"/>
              <a:ext cx="30290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03640" y="1557360"/>
              <a:ext cx="280836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«Отец и мать единственные для меня люди на всем земном шаре, для которых я ничего никогда не пожалею. Если я буду высоко стоять, то это дело их рук, славные они люди, и одно безграничное их детолюбие ставит их выше всяких похвал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 </a:t>
              </a: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А.П.Чех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395280" y="4724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ц А.П.Чехова - Павел Егорович Чехов, купец 3-й гиль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Text Box 6"/>
          <p:cNvGrpSpPr/>
          <p:nvPr/>
        </p:nvGrpSpPr>
        <p:grpSpPr>
          <a:xfrm>
            <a:off x="3743280" y="987480"/>
            <a:ext cx="5297400" cy="5773680"/>
            <a:chOff x="3743280" y="987480"/>
            <a:chExt cx="5297400" cy="5773680"/>
          </a:xfrm>
        </p:grpSpPr>
        <p:pic>
          <p:nvPicPr>
            <p:cNvPr id="271" name="Text Box 6" descr=""/>
            <p:cNvPicPr/>
            <p:nvPr/>
          </p:nvPicPr>
          <p:blipFill>
            <a:blip r:embed="rId1"/>
            <a:stretch/>
          </p:blipFill>
          <p:spPr>
            <a:xfrm>
              <a:off x="3743280" y="987480"/>
              <a:ext cx="529740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851280" y="1052640"/>
              <a:ext cx="5041800" cy="53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Незадолго до продажи имения Мелихово посетила Ольга Леонардовна Книппер – актриса Московского Художественного театра, последняя любовь и будущая жена А.П.Чехова. На сцене театра ставились пьесы Чехова: «Вишневый сад», «Три сестры», «Чайка», а О. Л. Книппер играла в них главные роли. Ее он в 1899 году назвал «последней страницей» своей жизни. Венчание состоялось 25 мая 1901 года в Москве. После свадьбы Ольга Леонардовна не оставила московскую сцену, а Чехов по состоянию здоровья вынужден был жить на юге. Годы совместной жизни Чехова и Книппер – это история долгой разлуки, редких встреч и чрезвычайно насыщенной перепис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4" descr="ч и о, Книппер -чехова 1901"/>
          <p:cNvPicPr/>
          <p:nvPr/>
        </p:nvPicPr>
        <p:blipFill>
          <a:blip r:embed="rId2"/>
          <a:stretch/>
        </p:blipFill>
        <p:spPr>
          <a:xfrm>
            <a:off x="250920" y="981000"/>
            <a:ext cx="3295440" cy="4535640"/>
          </a:xfrm>
          <a:prstGeom prst="rect">
            <a:avLst/>
          </a:prstGeom>
          <a:ln w="0">
            <a:noFill/>
          </a:ln>
        </p:spPr>
      </p:pic>
      <p:grpSp>
        <p:nvGrpSpPr>
          <p:cNvPr id="274" name="Прямоугольник 5"/>
          <p:cNvGrpSpPr/>
          <p:nvPr/>
        </p:nvGrpSpPr>
        <p:grpSpPr>
          <a:xfrm>
            <a:off x="4078440" y="139680"/>
            <a:ext cx="4937040" cy="781200"/>
            <a:chOff x="4078440" y="139680"/>
            <a:chExt cx="4937040" cy="781200"/>
          </a:xfrm>
        </p:grpSpPr>
        <p:pic>
          <p:nvPicPr>
            <p:cNvPr id="275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078440" y="139680"/>
              <a:ext cx="49370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140360" y="26028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А.П.Чехов с жено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Text Box 6"/>
          <p:cNvGrpSpPr/>
          <p:nvPr/>
        </p:nvGrpSpPr>
        <p:grpSpPr>
          <a:xfrm>
            <a:off x="146160" y="4017960"/>
            <a:ext cx="8918640" cy="2992320"/>
            <a:chOff x="146160" y="4017960"/>
            <a:chExt cx="8918640" cy="2992320"/>
          </a:xfrm>
        </p:grpSpPr>
        <p:pic>
          <p:nvPicPr>
            <p:cNvPr id="278" name="Text Box 6" descr=""/>
            <p:cNvPicPr/>
            <p:nvPr/>
          </p:nvPicPr>
          <p:blipFill>
            <a:blip r:embed="rId1"/>
            <a:stretch/>
          </p:blipFill>
          <p:spPr>
            <a:xfrm>
              <a:off x="146160" y="4017960"/>
              <a:ext cx="8918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50920" y="4076640"/>
              <a:ext cx="86421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По состоянию здоровья (он был болен туберкулезом) Чехов вынужден был продать имение Мелихово и купить участок земли в Ялте, где был построен дом, который получил название Белая дача и стал, по словам Куприна, «самым оригинальным зданием в Ялте». Здесь также было очень много гостей. К Чехову приезжали писатели, в его доме пел Шаляпин, играл Рахманинов… Сразу по приезде в Ялту он начал принимать участие в устройстве больницы для туберкулезных больных. В эти годы были написаны рассказы: «В овраге», «Дама с собачкой», пьеса «Вишневый сад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5" descr="дача ч в ялте 1900"/>
          <p:cNvPicPr/>
          <p:nvPr/>
        </p:nvPicPr>
        <p:blipFill>
          <a:blip r:embed="rId2"/>
          <a:stretch/>
        </p:blipFill>
        <p:spPr>
          <a:xfrm>
            <a:off x="611280" y="189000"/>
            <a:ext cx="5341680" cy="3744720"/>
          </a:xfrm>
          <a:prstGeom prst="rect">
            <a:avLst/>
          </a:prstGeom>
          <a:ln w="0">
            <a:noFill/>
          </a:ln>
        </p:spPr>
      </p:pic>
      <p:grpSp>
        <p:nvGrpSpPr>
          <p:cNvPr id="281" name="Прямоугольник 6"/>
          <p:cNvGrpSpPr/>
          <p:nvPr/>
        </p:nvGrpSpPr>
        <p:grpSpPr>
          <a:xfrm>
            <a:off x="6235560" y="1365120"/>
            <a:ext cx="2494080" cy="774720"/>
            <a:chOff x="6235560" y="1365120"/>
            <a:chExt cx="2494080" cy="774720"/>
          </a:xfrm>
        </p:grpSpPr>
        <p:pic>
          <p:nvPicPr>
            <p:cNvPr id="28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235560" y="1365120"/>
              <a:ext cx="24940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00720" y="148428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Ялт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оугольник 6"/>
          <p:cNvGrpSpPr/>
          <p:nvPr/>
        </p:nvGrpSpPr>
        <p:grpSpPr>
          <a:xfrm>
            <a:off x="6168960" y="73080"/>
            <a:ext cx="2487600" cy="774720"/>
            <a:chOff x="6168960" y="73080"/>
            <a:chExt cx="2487600" cy="774720"/>
          </a:xfrm>
        </p:grpSpPr>
        <p:pic>
          <p:nvPicPr>
            <p:cNvPr id="285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6168960" y="73080"/>
              <a:ext cx="2487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227640" y="18900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Ялт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5" descr="ч"/>
          <p:cNvPicPr/>
          <p:nvPr/>
        </p:nvPicPr>
        <p:blipFill>
          <a:blip r:embed="rId2"/>
          <a:stretch/>
        </p:blipFill>
        <p:spPr>
          <a:xfrm>
            <a:off x="250920" y="333360"/>
            <a:ext cx="5219640" cy="35370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7"/>
          <p:cNvSpPr/>
          <p:nvPr/>
        </p:nvSpPr>
        <p:spPr>
          <a:xfrm>
            <a:off x="324000" y="3933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П.Чехов в своём кабинете в Ялт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в ялте 1904"/>
          <p:cNvPicPr/>
          <p:nvPr/>
        </p:nvPicPr>
        <p:blipFill>
          <a:blip r:embed="rId3"/>
          <a:stretch/>
        </p:blipFill>
        <p:spPr>
          <a:xfrm>
            <a:off x="5796000" y="1197000"/>
            <a:ext cx="3135240" cy="471168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9"/>
          <p:cNvSpPr/>
          <p:nvPr/>
        </p:nvSpPr>
        <p:spPr>
          <a:xfrm>
            <a:off x="6094080" y="60930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П.Чехов в Ялте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Баденвейлер"/>
          <p:cNvPicPr/>
          <p:nvPr/>
        </p:nvPicPr>
        <p:blipFill>
          <a:blip r:embed="rId1"/>
          <a:stretch/>
        </p:blipFill>
        <p:spPr>
          <a:xfrm>
            <a:off x="4427640" y="1700280"/>
            <a:ext cx="43909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92" name="Text Box 6"/>
          <p:cNvGrpSpPr/>
          <p:nvPr/>
        </p:nvGrpSpPr>
        <p:grpSpPr>
          <a:xfrm>
            <a:off x="219240" y="1639800"/>
            <a:ext cx="4140000" cy="4937040"/>
            <a:chOff x="219240" y="1639800"/>
            <a:chExt cx="4140000" cy="4937040"/>
          </a:xfrm>
        </p:grpSpPr>
        <p:pic>
          <p:nvPicPr>
            <p:cNvPr id="293" name="Text Box 6" descr=""/>
            <p:cNvPicPr/>
            <p:nvPr/>
          </p:nvPicPr>
          <p:blipFill>
            <a:blip r:embed="rId2"/>
            <a:stretch/>
          </p:blipFill>
          <p:spPr>
            <a:xfrm>
              <a:off x="219240" y="1639800"/>
              <a:ext cx="4140000" cy="49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24000" y="1700280"/>
              <a:ext cx="388764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К лету 1904 года состояние здоровья Чехова ухудшилось настолько, что врачи потребовали немедленной поездки на немецкий горный курорт Шварцвальд, в городок Баденвейлер. Там 15 июля оборвалась земная жизнь А.П.Чехов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В</a:t>
              </a:r>
              <a:r>
                <a:rPr b="0" lang="ru-RU" sz="1800" spc="-1" strike="noStrike">
                  <a:solidFill>
                    <a:srgbClr val="303000"/>
                  </a:solidFill>
                  <a:latin typeface="Bookman Old Style"/>
                </a:rPr>
                <a:t> </a:t>
              </a: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Германии в Баденвейлере установлена стела в память А.П.Чехова с надпис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"Доброму человеку и врачу Антону П. Чехову </a:t>
              </a:r>
              <a:br>
                <a:rPr sz="1800"/>
              </a:b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род. 29. 1. 1860 в Таганроге </a:t>
              </a:r>
              <a:br>
                <a:rPr sz="1800"/>
              </a:b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ум. 15. 7. 1904 в Баденвейлере"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Прямоугольник 4"/>
          <p:cNvGrpSpPr/>
          <p:nvPr/>
        </p:nvGrpSpPr>
        <p:grpSpPr>
          <a:xfrm>
            <a:off x="981000" y="73080"/>
            <a:ext cx="7315200" cy="1268280"/>
            <a:chOff x="981000" y="73080"/>
            <a:chExt cx="7315200" cy="1268280"/>
          </a:xfrm>
        </p:grpSpPr>
        <p:pic>
          <p:nvPicPr>
            <p:cNvPr id="29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981000" y="73080"/>
              <a:ext cx="73152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042920" y="189000"/>
              <a:ext cx="720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Последние годы жизни А.П.Чех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bimg091"/>
          <p:cNvPicPr/>
          <p:nvPr/>
        </p:nvPicPr>
        <p:blipFill>
          <a:blip r:embed="rId1"/>
          <a:stretch/>
        </p:blipFill>
        <p:spPr>
          <a:xfrm>
            <a:off x="468360" y="620640"/>
            <a:ext cx="40989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299" name="Text Box 6"/>
          <p:cNvGrpSpPr/>
          <p:nvPr/>
        </p:nvGrpSpPr>
        <p:grpSpPr>
          <a:xfrm>
            <a:off x="4657680" y="2212920"/>
            <a:ext cx="4145040" cy="1768680"/>
            <a:chOff x="4657680" y="2212920"/>
            <a:chExt cx="4145040" cy="1768680"/>
          </a:xfrm>
        </p:grpSpPr>
        <p:pic>
          <p:nvPicPr>
            <p:cNvPr id="300" name="Text Box 6" descr=""/>
            <p:cNvPicPr/>
            <p:nvPr/>
          </p:nvPicPr>
          <p:blipFill>
            <a:blip r:embed="rId2"/>
            <a:stretch/>
          </p:blipFill>
          <p:spPr>
            <a:xfrm>
              <a:off x="4657680" y="2212920"/>
              <a:ext cx="41450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716360" y="2276640"/>
              <a:ext cx="403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22 июля 1904 года тело А.П.Чехова было перевезено в Москву. Похоронен на Новодевичьем кладбищ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Памятник А"/>
          <p:cNvPicPr/>
          <p:nvPr/>
        </p:nvPicPr>
        <p:blipFill>
          <a:blip r:embed="rId1"/>
          <a:stretch/>
        </p:blipFill>
        <p:spPr>
          <a:xfrm>
            <a:off x="6659640" y="2637000"/>
            <a:ext cx="1944720" cy="3189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Мелихово"/>
          <p:cNvPicPr/>
          <p:nvPr/>
        </p:nvPicPr>
        <p:blipFill>
          <a:blip r:embed="rId2"/>
          <a:stretch/>
        </p:blipFill>
        <p:spPr>
          <a:xfrm>
            <a:off x="2771640" y="1341360"/>
            <a:ext cx="3400560" cy="4032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Сахалин"/>
          <p:cNvPicPr/>
          <p:nvPr/>
        </p:nvPicPr>
        <p:blipFill>
          <a:blip r:embed="rId3"/>
          <a:stretch/>
        </p:blipFill>
        <p:spPr>
          <a:xfrm>
            <a:off x="539640" y="2637000"/>
            <a:ext cx="1901880" cy="3095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1"/>
          <p:cNvSpPr/>
          <p:nvPr/>
        </p:nvSpPr>
        <p:spPr>
          <a:xfrm>
            <a:off x="611280" y="5805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аха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059280" y="544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елих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680400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аганр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Прямоугольник 9"/>
          <p:cNvGrpSpPr/>
          <p:nvPr/>
        </p:nvGrpSpPr>
        <p:grpSpPr>
          <a:xfrm>
            <a:off x="1268280" y="212760"/>
            <a:ext cx="6742080" cy="774720"/>
            <a:chOff x="1268280" y="212760"/>
            <a:chExt cx="6742080" cy="774720"/>
          </a:xfrm>
        </p:grpSpPr>
        <p:pic>
          <p:nvPicPr>
            <p:cNvPr id="309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1268280" y="212760"/>
              <a:ext cx="67420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332000" y="33336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Памятники А.П.Чехов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1902"/>
          <p:cNvPicPr/>
          <p:nvPr/>
        </p:nvPicPr>
        <p:blipFill>
          <a:blip r:embed="rId1"/>
          <a:stretch/>
        </p:blipFill>
        <p:spPr>
          <a:xfrm>
            <a:off x="468360" y="549360"/>
            <a:ext cx="38386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312" name="Прямоугольник 5"/>
          <p:cNvGrpSpPr/>
          <p:nvPr/>
        </p:nvGrpSpPr>
        <p:grpSpPr>
          <a:xfrm>
            <a:off x="4522680" y="920880"/>
            <a:ext cx="4597560" cy="3608280"/>
            <a:chOff x="4522680" y="920880"/>
            <a:chExt cx="4597560" cy="3608280"/>
          </a:xfrm>
        </p:grpSpPr>
        <p:pic>
          <p:nvPicPr>
            <p:cNvPr id="31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522680" y="920880"/>
              <a:ext cx="459756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43280" y="981000"/>
              <a:ext cx="42847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03000"/>
                  </a:solidFill>
                  <a:latin typeface="Bookman Old Style"/>
                </a:rPr>
                <a:t>Чехов – это Пушкин в прозе. Вот как в стихах Пушкина каждый может найти что-нибудь такое, что пережил и сам, так и в рассказах Чехова, хоть в каком-нибудь из них, читатель непременно увидит себя и свои мыс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03000"/>
                  </a:solidFill>
                  <a:latin typeface="Bookman Old Style"/>
                </a:rPr>
                <a:t>Л.Н.Толст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ямоугольник 6"/>
          <p:cNvSpPr/>
          <p:nvPr/>
        </p:nvSpPr>
        <p:spPr>
          <a:xfrm>
            <a:off x="684720" y="609300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П.Чехов и Л.Н.Толстой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Прямоугольник 6"/>
          <p:cNvGrpSpPr/>
          <p:nvPr/>
        </p:nvGrpSpPr>
        <p:grpSpPr>
          <a:xfrm>
            <a:off x="1200240" y="0"/>
            <a:ext cx="7242120" cy="774720"/>
            <a:chOff x="1200240" y="0"/>
            <a:chExt cx="7242120" cy="774720"/>
          </a:xfrm>
        </p:grpSpPr>
        <p:pic>
          <p:nvPicPr>
            <p:cNvPr id="317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200240" y="0"/>
              <a:ext cx="72421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258920" y="115920"/>
              <a:ext cx="712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Черты чеховской поэт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1"/>
          <p:cNvGrpSpPr/>
          <p:nvPr/>
        </p:nvGrpSpPr>
        <p:grpSpPr>
          <a:xfrm>
            <a:off x="219240" y="725400"/>
            <a:ext cx="8705520" cy="6023160"/>
            <a:chOff x="219240" y="725400"/>
            <a:chExt cx="8705520" cy="6023160"/>
          </a:xfrm>
        </p:grpSpPr>
        <p:pic>
          <p:nvPicPr>
            <p:cNvPr id="320" name="Rectangle 1" descr=""/>
            <p:cNvPicPr/>
            <p:nvPr/>
          </p:nvPicPr>
          <p:blipFill>
            <a:blip r:embed="rId2"/>
            <a:stretch/>
          </p:blipFill>
          <p:spPr>
            <a:xfrm>
              <a:off x="219240" y="725400"/>
              <a:ext cx="8705520" cy="602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24000" y="792000"/>
              <a:ext cx="8496000" cy="58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1. Общая характеристика «новой драмы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Чеховские драмы пронизывает атмосфера всеобщего неблагополучия. В них нет счастливых люд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У писателя особое ощущение драматизма жизни. Зло в его пьесах как бы измельчается, проникая в будни, растворяясь в повседневности. Возникает ощущение, что в нескладице отношений между людьми в той или иной степени повинен каждый герой в отдельности и все вместе. Всеобщее неблагополучие усиливается ощущениями всеобщего одиночества. Конфликт приглушен, поэтому не деления на положительных и отрицательных герое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2. Исторические истоки «новой драмы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Драма Чехова выражает общественное пробуждение в период наступления нового столетия и нового общественного подъем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а) Недовольство существующей жизнью охватывает всю интеллигенцию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б) Идет неуклонное нарастание этого недоволь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в) Освободительные порывы становятся достоянием не только отдельных личностей, но и каждого здравомыслящего челове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г) Беспокойность становится фактом повседневного существования люд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На этой исторической почве и вырастает чеховская драм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Прямоугольник 6"/>
          <p:cNvGrpSpPr/>
          <p:nvPr/>
        </p:nvGrpSpPr>
        <p:grpSpPr>
          <a:xfrm>
            <a:off x="407880" y="19080"/>
            <a:ext cx="8541000" cy="693720"/>
            <a:chOff x="407880" y="19080"/>
            <a:chExt cx="8541000" cy="693720"/>
          </a:xfrm>
        </p:grpSpPr>
        <p:pic>
          <p:nvPicPr>
            <p:cNvPr id="323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407880" y="19080"/>
              <a:ext cx="8541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68360" y="11592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03000"/>
                  </a:solidFill>
                  <a:latin typeface="Bookman Old Style"/>
                </a:rPr>
                <a:t>Особенности поэтики «новой драмы»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2"/>
          <p:cNvGrpSpPr/>
          <p:nvPr/>
        </p:nvGrpSpPr>
        <p:grpSpPr>
          <a:xfrm>
            <a:off x="158760" y="609480"/>
            <a:ext cx="8893080" cy="5956560"/>
            <a:chOff x="158760" y="609480"/>
            <a:chExt cx="8893080" cy="5956560"/>
          </a:xfrm>
        </p:grpSpPr>
        <p:pic>
          <p:nvPicPr>
            <p:cNvPr id="326" name="Rectangle 2" descr=""/>
            <p:cNvPicPr/>
            <p:nvPr/>
          </p:nvPicPr>
          <p:blipFill>
            <a:blip r:embed="rId2"/>
            <a:stretch/>
          </p:blipFill>
          <p:spPr>
            <a:xfrm>
              <a:off x="158760" y="609480"/>
              <a:ext cx="8893080" cy="59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50920" y="672840"/>
              <a:ext cx="8713800" cy="57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а) нет ключевого события, судьбы героев сливаются в единую судьбу, формируется общее настроение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б) нет главного героя, нет деления на положительных и отрицательных, главных и второстепенных. Каждый ведет свою партию, а целое рождается в созвучии множество равноправных и подголосков (полифонизм)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в) новый подход в раскрытии человеческого характера: пафос действия сменяется пафосом раздумья. Герой показан не в борьбе за достижение целей, а в переживании противоречий бытия. Слова героев имеют скрытый душевный подтекст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г) Речевая индивидуализация героев стушевана. Речь их напевна, мелодична, поэтически напряжена, чтобы создать общее настроение драмы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д) События в драмах даны как репетиция, идет накопление сил, к решительным поединкам герои еще не готовы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е) Пьесы состоят из четырех актов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       </a:t>
              </a: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1) медленное вступление, экспозиция к действию, идет знакомство с героями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       </a:t>
              </a: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2) общий характер — лирическое раздумье, развиваются настроения, стремления героев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       </a:t>
              </a: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3) кульминация, действие оживленное, захватывающие события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       </a:t>
              </a:r>
              <a:r>
                <a:rPr b="1" lang="ru-RU" sz="1700" spc="-1" strike="noStrike">
                  <a:solidFill>
                    <a:srgbClr val="303000"/>
                  </a:solidFill>
                  <a:latin typeface="Bookman Old Style"/>
                  <a:ea typeface="Calibri"/>
                </a:rPr>
                <a:t>4) действие замедляется, будничное течение жизни, развязки нет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Домик Чехова, Таганрог"/>
          <p:cNvPicPr/>
          <p:nvPr/>
        </p:nvPicPr>
        <p:blipFill>
          <a:blip r:embed="rId1"/>
          <a:stretch/>
        </p:blipFill>
        <p:spPr>
          <a:xfrm>
            <a:off x="250920" y="907920"/>
            <a:ext cx="4600440" cy="331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Домик Чехова, Таганрог мемор"/>
          <p:cNvPicPr/>
          <p:nvPr/>
        </p:nvPicPr>
        <p:blipFill>
          <a:blip r:embed="rId2"/>
          <a:stretch/>
        </p:blipFill>
        <p:spPr>
          <a:xfrm>
            <a:off x="900000" y="4437000"/>
            <a:ext cx="3098880" cy="2217960"/>
          </a:xfrm>
          <a:prstGeom prst="rect">
            <a:avLst/>
          </a:prstGeom>
          <a:ln w="0">
            <a:noFill/>
          </a:ln>
        </p:spPr>
      </p:pic>
      <p:grpSp>
        <p:nvGrpSpPr>
          <p:cNvPr id="114" name="Text Box 7"/>
          <p:cNvGrpSpPr/>
          <p:nvPr/>
        </p:nvGrpSpPr>
        <p:grpSpPr>
          <a:xfrm>
            <a:off x="4297320" y="4303800"/>
            <a:ext cx="4541760" cy="2382840"/>
            <a:chOff x="4297320" y="4303800"/>
            <a:chExt cx="4541760" cy="2382840"/>
          </a:xfrm>
        </p:grpSpPr>
        <p:pic>
          <p:nvPicPr>
            <p:cNvPr id="115" name="Text Box 7" descr=""/>
            <p:cNvPicPr/>
            <p:nvPr/>
          </p:nvPicPr>
          <p:blipFill>
            <a:blip r:embed="rId3"/>
            <a:stretch/>
          </p:blipFill>
          <p:spPr>
            <a:xfrm>
              <a:off x="4297320" y="4303800"/>
              <a:ext cx="45417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356000" y="4365720"/>
              <a:ext cx="44290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03000"/>
                  </a:solidFill>
                  <a:latin typeface="Bookman Old Style"/>
                </a:rPr>
                <a:t>Антон Павлович Чехов родился 17 (29) января 1860 года в городе Таганроге в маленьком домике, состоящем из трех крохотных комнат общей площадью 23 метр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 5"/>
          <p:cNvGrpSpPr/>
          <p:nvPr/>
        </p:nvGrpSpPr>
        <p:grpSpPr>
          <a:xfrm>
            <a:off x="1127160" y="0"/>
            <a:ext cx="6742080" cy="774720"/>
            <a:chOff x="1127160" y="0"/>
            <a:chExt cx="6742080" cy="774720"/>
          </a:xfrm>
        </p:grpSpPr>
        <p:pic>
          <p:nvPicPr>
            <p:cNvPr id="118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127160" y="0"/>
              <a:ext cx="67420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187280" y="11592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Дом, где родился Чех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рямоугольник 8"/>
          <p:cNvGrpSpPr/>
          <p:nvPr/>
        </p:nvGrpSpPr>
        <p:grpSpPr>
          <a:xfrm>
            <a:off x="5016600" y="920880"/>
            <a:ext cx="4071960" cy="3303360"/>
            <a:chOff x="5016600" y="920880"/>
            <a:chExt cx="4071960" cy="3303360"/>
          </a:xfrm>
        </p:grpSpPr>
        <p:pic>
          <p:nvPicPr>
            <p:cNvPr id="121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5016600" y="920880"/>
              <a:ext cx="407196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076720" y="981000"/>
              <a:ext cx="38163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03000"/>
                  </a:solidFill>
                  <a:latin typeface="Bookman Old Style"/>
                </a:rPr>
                <a:t>Чехов родился на берегу Азовского моря, в уездном городе, глухом в ту пору, и характер этой страны не мало, должно быть способствовал развитию его природной меланхолии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03000"/>
                  </a:solidFill>
                  <a:latin typeface="Bookman Old Style"/>
                </a:rPr>
                <a:t>И.А.Бунин  «О Чехове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716360" y="9079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емье Чеховых было шестеро детей: Александр, Николай, Антон, Михаил, Иван и Мар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Брат А"/>
          <p:cNvPicPr/>
          <p:nvPr/>
        </p:nvPicPr>
        <p:blipFill>
          <a:blip r:embed="rId1"/>
          <a:stretch/>
        </p:blipFill>
        <p:spPr>
          <a:xfrm>
            <a:off x="250920" y="260280"/>
            <a:ext cx="1728720" cy="3092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Брат А"/>
          <p:cNvPicPr/>
          <p:nvPr/>
        </p:nvPicPr>
        <p:blipFill>
          <a:blip r:embed="rId2"/>
          <a:srcRect l="3845" t="0" r="3845" b="0"/>
          <a:stretch/>
        </p:blipFill>
        <p:spPr>
          <a:xfrm>
            <a:off x="250920" y="3645000"/>
            <a:ext cx="1728720" cy="279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Брат И"/>
          <p:cNvPicPr/>
          <p:nvPr/>
        </p:nvPicPr>
        <p:blipFill>
          <a:blip r:embed="rId3"/>
          <a:stretch/>
        </p:blipFill>
        <p:spPr>
          <a:xfrm>
            <a:off x="7020000" y="2997360"/>
            <a:ext cx="1987560" cy="30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Чехова Мария сестра"/>
          <p:cNvPicPr/>
          <p:nvPr/>
        </p:nvPicPr>
        <p:blipFill>
          <a:blip r:embed="rId4"/>
          <a:stretch/>
        </p:blipFill>
        <p:spPr>
          <a:xfrm>
            <a:off x="4859280" y="1989000"/>
            <a:ext cx="2089080" cy="278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Чехов 1888 г"/>
          <p:cNvPicPr/>
          <p:nvPr/>
        </p:nvPicPr>
        <p:blipFill>
          <a:blip r:embed="rId5"/>
          <a:stretch/>
        </p:blipFill>
        <p:spPr>
          <a:xfrm>
            <a:off x="2124000" y="1197000"/>
            <a:ext cx="2519280" cy="346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5148360" y="47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00"/>
                </a:solidFill>
                <a:latin typeface="Arial"/>
              </a:rPr>
              <a:t>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556000" y="465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39640" y="638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00"/>
                </a:solidFill>
                <a:latin typeface="Arial"/>
              </a:rPr>
              <a:t>Миха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45164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3964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00"/>
                </a:solidFill>
                <a:latin typeface="Arial"/>
              </a:rPr>
              <a:t>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Прямоугольник 13"/>
          <p:cNvGrpSpPr/>
          <p:nvPr/>
        </p:nvGrpSpPr>
        <p:grpSpPr>
          <a:xfrm>
            <a:off x="2060640" y="73080"/>
            <a:ext cx="5157720" cy="774720"/>
            <a:chOff x="2060640" y="73080"/>
            <a:chExt cx="5157720" cy="774720"/>
          </a:xfrm>
        </p:grpSpPr>
        <p:pic>
          <p:nvPicPr>
            <p:cNvPr id="135" name="Прямоугольник 13" descr=""/>
            <p:cNvPicPr/>
            <p:nvPr/>
          </p:nvPicPr>
          <p:blipFill>
            <a:blip r:embed="rId6"/>
            <a:stretch/>
          </p:blipFill>
          <p:spPr>
            <a:xfrm>
              <a:off x="2060640" y="73080"/>
              <a:ext cx="5157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124000" y="189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Братья и сест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Лавка Чехова в Таганроге"/>
          <p:cNvPicPr/>
          <p:nvPr/>
        </p:nvPicPr>
        <p:blipFill>
          <a:blip r:embed="rId1"/>
          <a:stretch/>
        </p:blipFill>
        <p:spPr>
          <a:xfrm>
            <a:off x="250920" y="189000"/>
            <a:ext cx="3095640" cy="4778280"/>
          </a:xfrm>
          <a:prstGeom prst="rect">
            <a:avLst/>
          </a:prstGeom>
          <a:ln w="0">
            <a:noFill/>
          </a:ln>
        </p:spPr>
      </p:pic>
      <p:grpSp>
        <p:nvGrpSpPr>
          <p:cNvPr id="138" name="Text Box 7"/>
          <p:cNvGrpSpPr/>
          <p:nvPr/>
        </p:nvGrpSpPr>
        <p:grpSpPr>
          <a:xfrm>
            <a:off x="73080" y="5237280"/>
            <a:ext cx="3724200" cy="1339560"/>
            <a:chOff x="73080" y="5237280"/>
            <a:chExt cx="3724200" cy="1339560"/>
          </a:xfrm>
        </p:grpSpPr>
        <p:pic>
          <p:nvPicPr>
            <p:cNvPr id="139" name="Text Box 7" descr=""/>
            <p:cNvPicPr/>
            <p:nvPr/>
          </p:nvPicPr>
          <p:blipFill>
            <a:blip r:embed="rId2"/>
            <a:stretch/>
          </p:blipFill>
          <p:spPr>
            <a:xfrm>
              <a:off x="73080" y="5237280"/>
              <a:ext cx="372420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79280" y="530064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Детство А.П.Чехова прошло в Таганроге. Дом, в котором помещалась лавка отц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оугольник 5"/>
          <p:cNvGrpSpPr/>
          <p:nvPr/>
        </p:nvGrpSpPr>
        <p:grpSpPr>
          <a:xfrm>
            <a:off x="3865680" y="0"/>
            <a:ext cx="5155920" cy="774720"/>
            <a:chOff x="3865680" y="0"/>
            <a:chExt cx="5155920" cy="774720"/>
          </a:xfrm>
        </p:grpSpPr>
        <p:pic>
          <p:nvPicPr>
            <p:cNvPr id="142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865680" y="0"/>
              <a:ext cx="5155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924360" y="11592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Таганрог Чех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Прямоугольник 9"/>
          <p:cNvGrpSpPr/>
          <p:nvPr/>
        </p:nvGrpSpPr>
        <p:grpSpPr>
          <a:xfrm>
            <a:off x="3865680" y="1060560"/>
            <a:ext cx="5241960" cy="3828960"/>
            <a:chOff x="3865680" y="1060560"/>
            <a:chExt cx="5241960" cy="3828960"/>
          </a:xfrm>
        </p:grpSpPr>
        <p:pic>
          <p:nvPicPr>
            <p:cNvPr id="145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65680" y="1060560"/>
              <a:ext cx="524196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924360" y="1125360"/>
              <a:ext cx="50036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Я в Таганроге… Все дома приплюснуты, давно  не штукатурены, крыши не крашены, ставни затворены…   Я мог убедиться, как грязен, пуст, ленив, безграмотен  и скучен Таганрог. Нет ни одной грамотной вывески и есть даже «Трактир Расия»; улицы пустынны… всеобщая лень, уменье довольствоваться грошами и неопределённым будущим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Из письма А.П.Чехова сестре Ма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5"/>
          <p:cNvGrpSpPr/>
          <p:nvPr/>
        </p:nvGrpSpPr>
        <p:grpSpPr>
          <a:xfrm>
            <a:off x="1700280" y="73080"/>
            <a:ext cx="5157720" cy="774720"/>
            <a:chOff x="1700280" y="73080"/>
            <a:chExt cx="5157720" cy="774720"/>
          </a:xfrm>
        </p:grpSpPr>
        <p:pic>
          <p:nvPicPr>
            <p:cNvPr id="14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700280" y="73080"/>
              <a:ext cx="5157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763640" y="189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Детство Чех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4" descr="семья ч 1874"/>
          <p:cNvPicPr/>
          <p:nvPr/>
        </p:nvPicPr>
        <p:blipFill>
          <a:blip r:embed="rId2"/>
          <a:stretch/>
        </p:blipFill>
        <p:spPr>
          <a:xfrm>
            <a:off x="250920" y="1052640"/>
            <a:ext cx="5040360" cy="4441680"/>
          </a:xfrm>
          <a:prstGeom prst="rect">
            <a:avLst/>
          </a:prstGeom>
          <a:ln w="0">
            <a:noFill/>
          </a:ln>
        </p:spPr>
      </p:pic>
      <p:grpSp>
        <p:nvGrpSpPr>
          <p:cNvPr id="151" name="Прямоугольник 7"/>
          <p:cNvGrpSpPr/>
          <p:nvPr/>
        </p:nvGrpSpPr>
        <p:grpSpPr>
          <a:xfrm>
            <a:off x="96840" y="5742000"/>
            <a:ext cx="5218200" cy="781200"/>
            <a:chOff x="96840" y="5742000"/>
            <a:chExt cx="5218200" cy="781200"/>
          </a:xfrm>
        </p:grpSpPr>
        <p:pic>
          <p:nvPicPr>
            <p:cNvPr id="15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5742000"/>
              <a:ext cx="52182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79280" y="5805360"/>
              <a:ext cx="50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Семья Чеховых. В центре – родител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Второй справа (стоит) – А. Чех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8"/>
          <p:cNvGrpSpPr/>
          <p:nvPr/>
        </p:nvGrpSpPr>
        <p:grpSpPr>
          <a:xfrm>
            <a:off x="5589720" y="2000160"/>
            <a:ext cx="3755880" cy="4656240"/>
            <a:chOff x="5589720" y="2000160"/>
            <a:chExt cx="3755880" cy="4656240"/>
          </a:xfrm>
        </p:grpSpPr>
        <p:pic>
          <p:nvPicPr>
            <p:cNvPr id="15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589720" y="2000160"/>
              <a:ext cx="3755880" cy="46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651640" y="2060640"/>
              <a:ext cx="32050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А детство? Мещанская уездная бедность семьи, молчаливая мать, «истовый и строгий» отец, заставлявший старших сыновей по ночам петь в     церковном хоре… требовавший с самого нежного возраста, чтобы они сидели по очереди в качестве «хозяйского ока» в лавке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И.А.Бунин «О Чехове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оугольник 10"/>
          <p:cNvGrpSpPr/>
          <p:nvPr/>
        </p:nvGrpSpPr>
        <p:grpSpPr>
          <a:xfrm>
            <a:off x="5364000" y="847800"/>
            <a:ext cx="3803760" cy="1060200"/>
            <a:chOff x="5364000" y="847800"/>
            <a:chExt cx="3803760" cy="1060200"/>
          </a:xfrm>
        </p:grpSpPr>
        <p:pic>
          <p:nvPicPr>
            <p:cNvPr id="158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5364000" y="847800"/>
              <a:ext cx="38037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435640" y="907920"/>
              <a:ext cx="35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В детстве у меня не было дет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А.П.Чех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А"/>
          <p:cNvPicPr/>
          <p:nvPr/>
        </p:nvPicPr>
        <p:blipFill>
          <a:blip r:embed="rId1"/>
          <a:stretch/>
        </p:blipFill>
        <p:spPr>
          <a:xfrm>
            <a:off x="6588000" y="907920"/>
            <a:ext cx="20163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61" name="Text Box 8"/>
          <p:cNvGrpSpPr/>
          <p:nvPr/>
        </p:nvGrpSpPr>
        <p:grpSpPr>
          <a:xfrm>
            <a:off x="115920" y="3724200"/>
            <a:ext cx="7967520" cy="847800"/>
            <a:chOff x="115920" y="3724200"/>
            <a:chExt cx="7967520" cy="847800"/>
          </a:xfrm>
        </p:grpSpPr>
        <p:pic>
          <p:nvPicPr>
            <p:cNvPr id="162" name="Text Box 8" descr=""/>
            <p:cNvPicPr/>
            <p:nvPr/>
          </p:nvPicPr>
          <p:blipFill>
            <a:blip r:embed="rId2"/>
            <a:stretch/>
          </p:blipFill>
          <p:spPr>
            <a:xfrm>
              <a:off x="115920" y="3724200"/>
              <a:ext cx="7967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9280" y="3789360"/>
              <a:ext cx="784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03000"/>
                  </a:solidFill>
                  <a:latin typeface="Bookman Old Style"/>
                </a:rPr>
                <a:t>Классическая мужская гимназия в Таганроге, в которой А.П.Чехов вместе со своим братом Иваном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Рисунок 6" descr=""/>
          <p:cNvPicPr/>
          <p:nvPr/>
        </p:nvPicPr>
        <p:blipFill>
          <a:blip r:embed="rId3"/>
          <a:srcRect l="0" t="0" r="0" b="14324"/>
          <a:stretch/>
        </p:blipFill>
        <p:spPr>
          <a:xfrm>
            <a:off x="611280" y="907920"/>
            <a:ext cx="5400720" cy="26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5" name="Прямоугольник 8"/>
          <p:cNvGrpSpPr/>
          <p:nvPr/>
        </p:nvGrpSpPr>
        <p:grpSpPr>
          <a:xfrm>
            <a:off x="115920" y="73080"/>
            <a:ext cx="8693280" cy="774720"/>
            <a:chOff x="115920" y="73080"/>
            <a:chExt cx="8693280" cy="774720"/>
          </a:xfrm>
        </p:grpSpPr>
        <p:pic>
          <p:nvPicPr>
            <p:cNvPr id="166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15920" y="73080"/>
              <a:ext cx="8693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50920" y="18900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Годы учебы в гимназии (1868-1879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Прямоугольник 11"/>
          <p:cNvGrpSpPr/>
          <p:nvPr/>
        </p:nvGrpSpPr>
        <p:grpSpPr>
          <a:xfrm>
            <a:off x="85680" y="4591080"/>
            <a:ext cx="8912160" cy="2170080"/>
            <a:chOff x="85680" y="4591080"/>
            <a:chExt cx="8912160" cy="2170080"/>
          </a:xfrm>
        </p:grpSpPr>
        <p:pic>
          <p:nvPicPr>
            <p:cNvPr id="169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85680" y="4591080"/>
              <a:ext cx="891216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79280" y="4653000"/>
              <a:ext cx="8640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03000"/>
                  </a:solidFill>
                  <a:latin typeface="Bookman Old Style"/>
                </a:rPr>
                <a:t>Когда ночью спадает с меня одеяло, я начинаю видеть во сне громадные склизкие камни, холодную осеннюю воду… всё до бесконечности сурово, уныло и сыро. Когда же я бегу от реки, то встречаю на пути обвалившиеся ворота кладбища, похороны, своих гимназических учителей… Лица снятся обязательно несимпатичны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Из письма А.П.Чехова Д.В.Григорович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Дом Чехов А"/>
          <p:cNvPicPr/>
          <p:nvPr/>
        </p:nvPicPr>
        <p:blipFill>
          <a:blip r:embed="rId1"/>
          <a:stretch/>
        </p:blipFill>
        <p:spPr>
          <a:xfrm>
            <a:off x="395280" y="1197000"/>
            <a:ext cx="4824360" cy="4368600"/>
          </a:xfrm>
          <a:prstGeom prst="rect">
            <a:avLst/>
          </a:prstGeom>
          <a:ln w="0">
            <a:noFill/>
          </a:ln>
        </p:spPr>
      </p:pic>
      <p:grpSp>
        <p:nvGrpSpPr>
          <p:cNvPr id="172" name="Text Box 6"/>
          <p:cNvGrpSpPr/>
          <p:nvPr/>
        </p:nvGrpSpPr>
        <p:grpSpPr>
          <a:xfrm>
            <a:off x="5315040" y="1133640"/>
            <a:ext cx="3591000" cy="5462280"/>
            <a:chOff x="5315040" y="1133640"/>
            <a:chExt cx="3591000" cy="5462280"/>
          </a:xfrm>
        </p:grpSpPr>
        <p:pic>
          <p:nvPicPr>
            <p:cNvPr id="173" name="Text Box 6" descr=""/>
            <p:cNvPicPr/>
            <p:nvPr/>
          </p:nvPicPr>
          <p:blipFill>
            <a:blip r:embed="rId2"/>
            <a:stretch/>
          </p:blipFill>
          <p:spPr>
            <a:xfrm>
              <a:off x="5315040" y="1133640"/>
              <a:ext cx="3591000" cy="54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435640" y="1197000"/>
              <a:ext cx="3313080" cy="49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03000"/>
                  </a:solidFill>
                  <a:latin typeface="Bookman Old Style"/>
                </a:rPr>
                <a:t>В 1876 году семья Чеховых переехала в Москву, Антон остался жить в Таганроге, доучиваться в гимназии. Только в 1879 году А.П.Чехов покинул Таганрог и приехал в Москву: без нее он не мыслил своей жизни. Писатель говорил о Москве: «Кто привыкнет к ней, тот не уедет из нее. Я навсегда москвич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Прямоугольник 4"/>
          <p:cNvGrpSpPr/>
          <p:nvPr/>
        </p:nvGrpSpPr>
        <p:grpSpPr>
          <a:xfrm>
            <a:off x="1268280" y="73080"/>
            <a:ext cx="7680600" cy="774720"/>
            <a:chOff x="1268280" y="73080"/>
            <a:chExt cx="7680600" cy="774720"/>
          </a:xfrm>
        </p:grpSpPr>
        <p:pic>
          <p:nvPicPr>
            <p:cNvPr id="17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68280" y="73080"/>
              <a:ext cx="7680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332000" y="189000"/>
              <a:ext cx="75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Дом Чеховых в Москв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95144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79" name="Прямоугольник 7"/>
          <p:cNvGrpSpPr/>
          <p:nvPr/>
        </p:nvGrpSpPr>
        <p:grpSpPr>
          <a:xfrm>
            <a:off x="189000" y="73080"/>
            <a:ext cx="8540640" cy="1268280"/>
            <a:chOff x="189000" y="73080"/>
            <a:chExt cx="8540640" cy="1268280"/>
          </a:xfrm>
        </p:grpSpPr>
        <p:pic>
          <p:nvPicPr>
            <p:cNvPr id="18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89000" y="73080"/>
              <a:ext cx="85406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50920" y="189000"/>
              <a:ext cx="842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03000"/>
                  </a:solidFill>
                  <a:latin typeface="Bookman Old Style"/>
                </a:rPr>
                <a:t>Годы учебы в Московском университете (1879-188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оугольник 8"/>
          <p:cNvGrpSpPr/>
          <p:nvPr/>
        </p:nvGrpSpPr>
        <p:grpSpPr>
          <a:xfrm>
            <a:off x="219240" y="4876920"/>
            <a:ext cx="5127480" cy="1888920"/>
            <a:chOff x="219240" y="4876920"/>
            <a:chExt cx="5127480" cy="188892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219240" y="4876920"/>
              <a:ext cx="512748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24000" y="4941720"/>
              <a:ext cx="496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03000"/>
                  </a:solidFill>
                  <a:latin typeface="Bookman Old Style"/>
                </a:rPr>
                <a:t>Окончив гимназию в 1879, уехал в Москву и поступил на медицинский факультет Московского университета, где слушал лекции знаменитых профессоров — Н. Склифосовского, Г. Захарьина и др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2" descr="http://chehov.niv.ru/images/chehov/chehov_12.jpg"/>
          <p:cNvPicPr/>
          <p:nvPr/>
        </p:nvPicPr>
        <p:blipFill>
          <a:blip r:embed="rId4"/>
          <a:stretch/>
        </p:blipFill>
        <p:spPr>
          <a:xfrm>
            <a:off x="5580000" y="1557360"/>
            <a:ext cx="32050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9:25:19Z</dcterms:created>
  <dc:creator>Пользователь</dc:creator>
  <dc:description/>
  <dc:language>en-US</dc:language>
  <cp:lastModifiedBy>Пользователь</cp:lastModifiedBy>
  <dcterms:modified xsi:type="dcterms:W3CDTF">2019-10-23T20:01:02Z</dcterms:modified>
  <cp:revision>50</cp:revision>
  <dc:subject/>
  <dc:title>Слайд 1</dc:title>
</cp:coreProperties>
</file>