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2CF-09B3-4BE6-BE87-DF2C984E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A9F-FFDB-439F-8D8E-634A9168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E03-F7F4-4246-9586-5EB07C24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15A-1AD2-492A-B170-361DB0B7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BF3-4F60-49AD-B912-2EF6234F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E11-E34C-4FC8-95C6-BCE5F810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307-6E8F-4411-81B9-2554254A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5E1-F47E-414A-9A67-C28D8B79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933-1902-4167-A118-BF18320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0DC-B2A8-486A-AFCD-09F2DD0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F29-15E0-4FBB-BC5C-C11B008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145-28B8-4870-80FA-D99B0BA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1A8-983C-4F3F-BB7E-0B610062A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648320" y="685800"/>
            <a:ext cx="2923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СТИ  РЕЧИ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WordArt 8" descr=""/>
          <p:cNvPicPr/>
          <p:nvPr/>
        </p:nvPicPr>
        <p:blipFill>
          <a:blip r:embed="rId2"/>
          <a:stretch/>
        </p:blipFill>
        <p:spPr>
          <a:xfrm>
            <a:off x="450720" y="1895400"/>
            <a:ext cx="8498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Проверь 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б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ёзовый,  гл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дли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е, с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е,  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ый,  кр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вый,  р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л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сл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, р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,  р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,  лё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обл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1371600" y="4267080"/>
            <a:ext cx="5562720" cy="1524240"/>
          </a:xfrm>
          <a:prstGeom prst="cloudCallout">
            <a:avLst>
              <a:gd name="adj1" fmla="val 55564"/>
              <a:gd name="adj2" fmla="val 11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 предложения  из  данных 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 гриб,  дождь,  лес,  зверь,  цвет,  лиса,  медведь,  земля,  дерево,  облако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разование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имён  прилагатель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VIOLET1"/>
          <p:cNvPicPr/>
          <p:nvPr/>
        </p:nvPicPr>
        <p:blipFill>
          <a:blip r:embed="rId1"/>
          <a:stretch/>
        </p:blipFill>
        <p:spPr>
          <a:xfrm>
            <a:off x="7201080" y="4648320"/>
            <a:ext cx="1693800" cy="1935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/>
          <p:cNvSpPr/>
          <p:nvPr/>
        </p:nvSpPr>
        <p:spPr>
          <a:xfrm>
            <a:off x="1371600" y="3276720"/>
            <a:ext cx="6781680" cy="2514600"/>
          </a:xfrm>
          <a:prstGeom prst="cloudCallout">
            <a:avLst>
              <a:gd name="adj1" fmla="val 37361"/>
              <a:gd name="adj2" fmla="val 56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 данным  существительным  подберите  однокоренные  прилагательные.  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образуются  имена  прилага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 лесу  вес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к…  лесок.  Ласково  светит  весенн…  солнце.  На  деревьях  надулись  пушист…  почки. Из  коры белоствольн…  берёзы  закапал  сладк…  сок.  Золот…  пуховки  украсили  кустики  плакуч…  ивы.  Задремала  на  ласков… солнышке  стар…  лосиха.  У  ее  ног  резвится  маленьк…  лосё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IOLET1"/>
          <p:cNvPicPr/>
          <p:nvPr/>
        </p:nvPicPr>
        <p:blipFill>
          <a:blip r:embed="rId1"/>
          <a:stretch/>
        </p:blipFill>
        <p:spPr>
          <a:xfrm>
            <a:off x="6934320" y="3809880"/>
            <a:ext cx="193500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609480" y="4724280"/>
            <a:ext cx="5486400" cy="1957680"/>
          </a:xfrm>
          <a:prstGeom prst="cloudCallout">
            <a:avLst>
              <a:gd name="adj1" fmla="val 69273"/>
              <a:gd name="adj2" fmla="val -19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те  пропущенные 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>
            <a:hlinkClick r:id="" action="ppaction://hlinkshowjump?jump=nextslide"/>
          </p:cNvPr>
          <p:cNvSpPr/>
          <p:nvPr/>
        </p:nvSpPr>
        <p:spPr>
          <a:xfrm>
            <a:off x="8077320" y="228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>
            <a:hlinkClick r:id="" action="ppaction://hlinkshowjump?jump=lastslide"/>
          </p:cNvPr>
          <p:cNvSpPr/>
          <p:nvPr/>
        </p:nvSpPr>
        <p:spPr>
          <a:xfrm>
            <a:off x="830592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5698" y="10800"/>
                </a:moveTo>
                <a:lnTo>
                  <a:pt x="5192" y="17806"/>
                </a:lnTo>
                <a:lnTo>
                  <a:pt x="5192" y="3794"/>
                </a:lnTo>
                <a:close/>
              </a:path>
              <a:path fill="darken" w="24398" h="21600">
                <a:moveTo>
                  <a:pt x="17543" y="3794"/>
                </a:moveTo>
                <a:lnTo>
                  <a:pt x="17543" y="17806"/>
                </a:lnTo>
                <a:lnTo>
                  <a:pt x="19205" y="17806"/>
                </a:lnTo>
                <a:lnTo>
                  <a:pt x="1920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VIOLET1"/>
          <p:cNvPicPr/>
          <p:nvPr/>
        </p:nvPicPr>
        <p:blipFill>
          <a:blip r:embed="rId1"/>
          <a:stretch/>
        </p:blipFill>
        <p:spPr>
          <a:xfrm>
            <a:off x="5867280" y="3200400"/>
            <a:ext cx="30038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весна"/>
          <p:cNvPicPr/>
          <p:nvPr/>
        </p:nvPicPr>
        <p:blipFill>
          <a:blip r:embed="rId2"/>
          <a:stretch/>
        </p:blipFill>
        <p:spPr>
          <a:xfrm>
            <a:off x="457200" y="1828800"/>
            <a:ext cx="2790720" cy="46483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1905120" y="304920"/>
            <a:ext cx="5715000" cy="1523880"/>
          </a:xfrm>
          <a:prstGeom prst="cloudCallout">
            <a:avLst>
              <a:gd name="adj1" fmla="val -45805"/>
              <a:gd name="adj2" fmla="val 136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,  ребята!  Вы  меня  очень  порад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886200" y="1905120"/>
            <a:ext cx="3733920" cy="1295280"/>
          </a:xfrm>
          <a:prstGeom prst="cloudCallout">
            <a:avLst>
              <a:gd name="adj1" fmla="val 9523"/>
              <a:gd name="adj2" fmla="val 145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 скорых  встре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VIOLET1"/>
          <p:cNvPicPr/>
          <p:nvPr/>
        </p:nvPicPr>
        <p:blipFill>
          <a:blip r:embed="rId2"/>
          <a:stretch/>
        </p:blipFill>
        <p:spPr>
          <a:xfrm>
            <a:off x="6553080" y="4114800"/>
            <a:ext cx="220356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2286000" y="2133720"/>
            <a:ext cx="6858000" cy="1600200"/>
          </a:xfrm>
          <a:prstGeom prst="cloudCallout">
            <a:avLst>
              <a:gd name="adj1" fmla="val 17939"/>
              <a:gd name="adj2" fmla="val 88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 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 первый  весенний  цвет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меня  зов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09480" y="380880"/>
            <a:ext cx="6400800" cy="2514600"/>
          </a:xfrm>
          <a:prstGeom prst="cloudCallout">
            <a:avLst>
              <a:gd name="adj1" fmla="val 48981"/>
              <a:gd name="adj2" fmla="val 108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 мы  отправимся  на  лесную  опушку,  где  уже  расцвели подснежни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 это  б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гадайте 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  красна  пришл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  много 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VIOLET1"/>
          <p:cNvPicPr/>
          <p:nvPr/>
        </p:nvPicPr>
        <p:blipFill>
          <a:blip r:embed="rId1"/>
          <a:stretch/>
        </p:blipFill>
        <p:spPr>
          <a:xfrm>
            <a:off x="7391520" y="4800600"/>
            <a:ext cx="153504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VIOLET1"/>
          <p:cNvPicPr/>
          <p:nvPr/>
        </p:nvPicPr>
        <p:blipFill>
          <a:blip r:embed="rId2"/>
          <a:stretch/>
        </p:blipFill>
        <p:spPr>
          <a:xfrm>
            <a:off x="5181480" y="5562720"/>
            <a:ext cx="10684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весна"/>
          <p:cNvPicPr/>
          <p:nvPr/>
        </p:nvPicPr>
        <p:blipFill>
          <a:blip r:embed="rId3"/>
          <a:stretch/>
        </p:blipFill>
        <p:spPr>
          <a:xfrm>
            <a:off x="380880" y="1523880"/>
            <a:ext cx="2791080" cy="464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VIOLET1"/>
          <p:cNvPicPr/>
          <p:nvPr/>
        </p:nvPicPr>
        <p:blipFill>
          <a:blip r:embed="rId4"/>
          <a:stretch/>
        </p:blipFill>
        <p:spPr>
          <a:xfrm>
            <a:off x="152280" y="4724280"/>
            <a:ext cx="18687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VIOLET1"/>
          <p:cNvPicPr/>
          <p:nvPr/>
        </p:nvPicPr>
        <p:blipFill>
          <a:blip r:embed="rId5"/>
          <a:stretch/>
        </p:blipFill>
        <p:spPr>
          <a:xfrm>
            <a:off x="2590920" y="5257800"/>
            <a:ext cx="133488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7010280" y="2957400"/>
            <a:ext cx="154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  на  полях  растаял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ые  ветры  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  беспокойных  ст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у  навстречу 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  полноводных  кипень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их  берёз  белиз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 весны  день  рожд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гости  пришла  к  нам  весн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VIOLET1"/>
          <p:cNvPicPr/>
          <p:nvPr/>
        </p:nvPicPr>
        <p:blipFill>
          <a:blip r:embed="rId1"/>
          <a:stretch/>
        </p:blipFill>
        <p:spPr>
          <a:xfrm>
            <a:off x="7010280" y="4495680"/>
            <a:ext cx="18687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1752480" y="0"/>
            <a:ext cx="4648320" cy="1676520"/>
          </a:xfrm>
          <a:prstGeom prst="cloudCallout">
            <a:avLst>
              <a:gd name="adj1" fmla="val 75476"/>
              <a:gd name="adj2" fmla="val 247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 эпитеты  можно  подобр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 слову  ве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" action="ppaction://hlinkshowjump?jump=nextslide"/>
          </p:cNvPr>
          <p:cNvSpPr/>
          <p:nvPr/>
        </p:nvSpPr>
        <p:spPr>
          <a:xfrm>
            <a:off x="228600" y="228600"/>
            <a:ext cx="509760" cy="5335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10800" y="153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06">
                <a:moveTo>
                  <a:pt x="11905" y="14785"/>
                </a:moveTo>
                <a:lnTo>
                  <a:pt x="11905" y="12826"/>
                </a:lnTo>
                <a:cubicBezTo>
                  <a:pt x="11905" y="11999"/>
                  <a:pt x="12236" y="11303"/>
                  <a:pt x="12837" y="11303"/>
                </a:cubicBezTo>
                <a:cubicBezTo>
                  <a:pt x="13968" y="11303"/>
                  <a:pt x="14865" y="9937"/>
                  <a:pt x="14865" y="8352"/>
                </a:cubicBezTo>
                <a:cubicBezTo>
                  <a:pt x="14865" y="6037"/>
                  <a:pt x="13011" y="4297"/>
                  <a:pt x="10800" y="4297"/>
                </a:cubicBezTo>
                <a:cubicBezTo>
                  <a:pt x="8589" y="4297"/>
                  <a:pt x="6918" y="6037"/>
                  <a:pt x="6918" y="8352"/>
                </a:cubicBezTo>
                <a:lnTo>
                  <a:pt x="8772" y="8352"/>
                </a:lnTo>
                <a:cubicBezTo>
                  <a:pt x="8772" y="7212"/>
                  <a:pt x="9695" y="6325"/>
                  <a:pt x="10800" y="6325"/>
                </a:cubicBezTo>
                <a:cubicBezTo>
                  <a:pt x="11905" y="6325"/>
                  <a:pt x="12837" y="7212"/>
                  <a:pt x="12837" y="8352"/>
                </a:cubicBezTo>
                <a:cubicBezTo>
                  <a:pt x="12837" y="9092"/>
                  <a:pt x="12367" y="9823"/>
                  <a:pt x="11905" y="9823"/>
                </a:cubicBezTo>
                <a:cubicBezTo>
                  <a:pt x="10800" y="9823"/>
                  <a:pt x="9695" y="11303"/>
                  <a:pt x="9695" y="12826"/>
                </a:cubicBezTo>
                <a:lnTo>
                  <a:pt x="9695" y="147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562720" y="152280"/>
            <a:ext cx="3047760" cy="4114800"/>
          </a:xfrm>
          <a:prstGeom prst="cloudCallout">
            <a:avLst>
              <a:gd name="adj1" fmla="val 21356"/>
              <a:gd name="adj2" fmla="val 71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 части  речи  нам  помогают  ярко  и  образно  представить  весну – красавиц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845820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п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 определение,  придающее  образность  или  эмоциональность  слову  или  выражению  и  подчеркивающее  один  из  признаков 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VIOLET1"/>
          <p:cNvPicPr/>
          <p:nvPr/>
        </p:nvPicPr>
        <p:blipFill>
          <a:blip r:embed="rId1"/>
          <a:stretch/>
        </p:blipFill>
        <p:spPr>
          <a:xfrm>
            <a:off x="6858000" y="4267080"/>
            <a:ext cx="18684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>
            <a:hlinkClick r:id="" action="ppaction://hlinkshowjump?jump=previousslide"/>
          </p:cNvPr>
          <p:cNvSpPr/>
          <p:nvPr/>
        </p:nvSpPr>
        <p:spPr>
          <a:xfrm>
            <a:off x="304920" y="594360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27672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ра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мя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 называется  именем  прилага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 изменяется  имя 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 членом  предложения  является  имя 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 роль  играют  прилагательные  в  нашей 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VIOLET1"/>
          <p:cNvPicPr/>
          <p:nvPr/>
        </p:nvPicPr>
        <p:blipFill>
          <a:blip r:embed="rId1"/>
          <a:stretch/>
        </p:blipFill>
        <p:spPr>
          <a:xfrm>
            <a:off x="6172200" y="4114800"/>
            <a:ext cx="186840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8305920" y="6095880"/>
            <a:ext cx="585720" cy="533520"/>
          </a:xfrm>
          <a:custGeom>
            <a:avLst/>
            <a:gdLst>
              <a:gd name="textAreaLeft" fmla="*/ 34560 w 585720"/>
              <a:gd name="textAreaRight" fmla="*/ 551160 w 585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12" h="21600">
                <a:moveTo>
                  <a:pt x="0" y="0"/>
                </a:moveTo>
                <a:lnTo>
                  <a:pt x="23712" y="0"/>
                </a:lnTo>
                <a:lnTo>
                  <a:pt x="23712" y="21600"/>
                </a:lnTo>
                <a:lnTo>
                  <a:pt x="0" y="21600"/>
                </a:lnTo>
                <a:close/>
              </a:path>
              <a:path fill="lightenLess" w="23712" h="21600">
                <a:moveTo>
                  <a:pt x="0" y="0"/>
                </a:moveTo>
                <a:lnTo>
                  <a:pt x="23712" y="0"/>
                </a:lnTo>
                <a:lnTo>
                  <a:pt x="22312" y="1400"/>
                </a:lnTo>
                <a:lnTo>
                  <a:pt x="1400" y="1400"/>
                </a:lnTo>
                <a:close/>
              </a:path>
              <a:path fill="darken" w="23712" h="21600">
                <a:moveTo>
                  <a:pt x="23712" y="0"/>
                </a:moveTo>
                <a:lnTo>
                  <a:pt x="23712" y="21600"/>
                </a:lnTo>
                <a:lnTo>
                  <a:pt x="22312" y="20200"/>
                </a:lnTo>
                <a:lnTo>
                  <a:pt x="22312" y="1400"/>
                </a:lnTo>
                <a:close/>
              </a:path>
              <a:path fill="darkenLess" w="23712" h="21600">
                <a:moveTo>
                  <a:pt x="23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2" y="20200"/>
                </a:lnTo>
                <a:close/>
              </a:path>
              <a:path fill="lighten" w="23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12" h="21600">
                <a:moveTo>
                  <a:pt x="4849" y="3794"/>
                </a:moveTo>
                <a:lnTo>
                  <a:pt x="18862" y="10800"/>
                </a:lnTo>
                <a:lnTo>
                  <a:pt x="4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рав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мя  прилагатель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 самостоятельная  часть  речи,  которая  обозначает  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признак  предм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 отвечает  на  вопросы  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какой?  ч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 прилагательное  изменяется  по  родам,  числам  и  падежам  и  зависит  от  имени 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ельные  в  предложении  чаще  всего  являются  опреде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Monotype Corsiva"/>
              </a:rPr>
              <a:t>Минутка 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с   шла    на   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к  под  снеж   ве   рок  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ч  сол  ный  крас  пре  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весна"/>
          <p:cNvPicPr/>
          <p:nvPr/>
        </p:nvPicPr>
        <p:blipFill>
          <a:blip r:embed="rId1"/>
          <a:stretch/>
        </p:blipFill>
        <p:spPr>
          <a:xfrm>
            <a:off x="380880" y="1523880"/>
            <a:ext cx="2791080" cy="464832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3352680" y="2209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352680" y="2895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352680" y="3581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IOLET1"/>
          <p:cNvPicPr/>
          <p:nvPr/>
        </p:nvPicPr>
        <p:blipFill>
          <a:blip r:embed="rId2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"/>
          <p:cNvSpPr/>
          <p:nvPr/>
        </p:nvSpPr>
        <p:spPr>
          <a:xfrm>
            <a:off x="3276720" y="3733920"/>
            <a:ext cx="3962160" cy="2666880"/>
          </a:xfrm>
          <a:prstGeom prst="cloudCallout">
            <a:avLst>
              <a:gd name="adj1" fmla="val 59134"/>
              <a:gd name="adj2" fmla="val 1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 слоги,  составьте 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 части 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ловарно – орфографическ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…кий,  б…рёзовый,  гла…кий,  дли...ые, со…нце,  в…р…б…иный,  кр…кливый,  ро…кий,  лу(ч, чь),  сла...кий,  в…се…ий, ре…ка,  ра…ий,  лё…кий, обл…(ч, чь)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>
            <a:off x="990720" y="4800600"/>
            <a:ext cx="5257800" cy="1295280"/>
          </a:xfrm>
          <a:prstGeom prst="cloudCallout">
            <a:avLst>
              <a:gd name="adj1" fmla="val 75907"/>
              <a:gd name="adj2" fmla="val -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,  вставляя  пропущенные 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066680" y="4800600"/>
            <a:ext cx="5257800" cy="1295280"/>
          </a:xfrm>
          <a:prstGeom prst="cloudCallout">
            <a:avLst>
              <a:gd name="adj1" fmla="val 75907"/>
              <a:gd name="adj2" fmla="val -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  орф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User</cp:lastModifiedBy>
  <dcterms:modified xsi:type="dcterms:W3CDTF">2020-03-29T12:14:15Z</dcterms:modified>
  <cp:revision>12</cp:revision>
  <dc:subject>русский  язык</dc:subject>
  <dc:title>Части  речи. Имя  прилаг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