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4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5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2.png" ContentType="image/png"/>
  <Override PartName="/ppt/media/image7.png" ContentType="image/png"/>
  <Override PartName="/ppt/media/image22.jpeg" ContentType="image/jpeg"/>
  <Override PartName="/ppt/media/image40.jpeg" ContentType="image/jpeg"/>
  <Override PartName="/ppt/media/image44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31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48.png" ContentType="image/png"/>
  <Override PartName="/ppt/media/image9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2822C-B96E-48BD-B0DD-41BDD4A456E8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3DA8E-C700-4AC4-8543-E7F6FA440E9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2CEFA-5EF1-4928-AE79-6CE068C0B4D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E26EE-A49A-4BAB-8316-06A3CCF19C8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09BB7-7859-4226-A273-DB2CCEF78F8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68780-ADDC-467C-86EF-06D9E97451F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DBE3F-D2CA-4928-8F22-E4896EB1C4D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328AE-5884-4270-A849-BF706C9C8CD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1D686-29DA-42C4-891A-E868229E9D5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542EE-26A4-4576-AC34-90F16B5162F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7FCA9-3EF5-4B16-9399-674C530D891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DE41F-1477-482F-B6B2-6AE4081BDD3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93CC5-B1FA-42E7-AF13-33DBDCD97A2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0DA66-B611-461B-9B7A-44784B58742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0C4F3-2BD1-40EC-AEC5-837D90A99C7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358FB-59B4-4CFD-BC64-EAF9E56BEAD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5EA69-4DE6-4728-9DD0-6832768F5D1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3F4B4-7B7E-4C24-97A6-BDB0B14F4B1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fld id="{13ED0271-6049-4171-A180-54821FD6C9B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F4D6D-E142-41EE-9327-A6E463378BB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33DC3-A7D0-4672-94A9-AB2FB216BAB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FBA05-9FA1-4F47-8D2C-AF0B2F4A34D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EDA5D-3CA4-4A6B-9CF6-8129C775C7D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C6D5A-D27C-431C-A732-16D65982111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D9C0E-B347-4D5D-9C95-2A315014465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559C8-6AD6-4F89-A0FE-ADBC1145DFA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3398B-F300-44B2-98B2-2EE58D075CD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0B905-E373-49DD-84F8-50BC73F1643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-85680" y="-49320"/>
            <a:ext cx="8951760" cy="6659640"/>
            <a:chOff x="-85680" y="-49320"/>
            <a:chExt cx="8951760" cy="6659640"/>
          </a:xfrm>
        </p:grpSpPr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85680" y="-49320"/>
              <a:ext cx="8951760" cy="66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-7920" y="-17640"/>
              <a:ext cx="8750160" cy="644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-12600" y="4443480"/>
            <a:ext cx="8464320" cy="1716120"/>
            <a:chOff x="-12600" y="4443480"/>
            <a:chExt cx="8464320" cy="1716120"/>
          </a:xfrm>
        </p:grpSpPr>
        <p:pic>
          <p:nvPicPr>
            <p:cNvPr id="5" name="" descr=""/>
            <p:cNvPicPr/>
            <p:nvPr/>
          </p:nvPicPr>
          <p:blipFill>
            <a:blip r:embed="rId5"/>
            <a:stretch/>
          </p:blipFill>
          <p:spPr>
            <a:xfrm>
              <a:off x="-12600" y="4443480"/>
              <a:ext cx="846432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-11160" y="4444920"/>
              <a:ext cx="8462880" cy="171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0" y="0"/>
            <a:ext cx="5807160" cy="320760"/>
            <a:chOff x="0" y="0"/>
            <a:chExt cx="5807160" cy="320760"/>
          </a:xfrm>
        </p:grpSpPr>
        <p:pic>
          <p:nvPicPr>
            <p:cNvPr id="8" name="" descr=""/>
            <p:cNvPicPr/>
            <p:nvPr/>
          </p:nvPicPr>
          <p:blipFill>
            <a:blip r:embed="rId6"/>
            <a:stretch/>
          </p:blipFill>
          <p:spPr>
            <a:xfrm>
              <a:off x="3240" y="0"/>
              <a:ext cx="5803920" cy="3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0" y="0"/>
              <a:ext cx="5805360" cy="31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0" name=""/>
          <p:cNvSpPr/>
          <p:nvPr/>
        </p:nvSpPr>
        <p:spPr>
          <a:xfrm rot="21420000">
            <a:off x="-171360" y="212400"/>
            <a:ext cx="8480160" cy="5746680"/>
          </a:xfrm>
          <a:custGeom>
            <a:avLst/>
            <a:gdLst/>
            <a:ahLst/>
            <a:rect l="l" t="t" r="r" b="b"/>
            <a:pathLst>
              <a:path w="11307378" h="5746008">
                <a:moveTo>
                  <a:pt x="11270997" y="0"/>
                </a:moveTo>
                <a:lnTo>
                  <a:pt x="11307378" y="5746008"/>
                </a:lnTo>
                <a:lnTo>
                  <a:pt x="1" y="5743137"/>
                </a:lnTo>
              </a:path>
            </a:pathLst>
          </a:custGeom>
          <a:noFill/>
          <a:ln w="82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"/>
          <p:cNvSpPr/>
          <p:nvPr/>
        </p:nvSpPr>
        <p:spPr>
          <a:xfrm rot="21420000">
            <a:off x="3122640" y="5059080"/>
            <a:ext cx="514440" cy="514440"/>
          </a:xfrm>
          <a:custGeom>
            <a:avLst/>
            <a:gdLst/>
            <a:ahLst/>
            <a:rect l="l" t="t" r="r" b="b"/>
            <a:pathLst>
              <a:path w="514349" h="514349">
                <a:moveTo>
                  <a:pt x="1" y="196464"/>
                </a:moveTo>
                <a:lnTo>
                  <a:pt x="172322" y="161524"/>
                </a:lnTo>
                <a:lnTo>
                  <a:pt x="257175" y="0"/>
                </a:lnTo>
                <a:lnTo>
                  <a:pt x="342028" y="161524"/>
                </a:lnTo>
                <a:lnTo>
                  <a:pt x="514349" y="196464"/>
                </a:lnTo>
                <a:lnTo>
                  <a:pt x="394470" y="331231"/>
                </a:lnTo>
                <a:lnTo>
                  <a:pt x="416118" y="514349"/>
                </a:lnTo>
                <a:lnTo>
                  <a:pt x="257175" y="436115"/>
                </a:lnTo>
                <a:lnTo>
                  <a:pt x="98232" y="514349"/>
                </a:lnTo>
                <a:lnTo>
                  <a:pt x="119880" y="331231"/>
                </a:lnTo>
                <a:lnTo>
                  <a:pt x="1" y="196464"/>
                </a:lnTo>
                <a:close/>
              </a:path>
            </a:pathLst>
          </a:cu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"/>
          <p:cNvSpPr/>
          <p:nvPr/>
        </p:nvSpPr>
        <p:spPr>
          <a:xfrm rot="21420000">
            <a:off x="-15480" y="4956120"/>
            <a:ext cx="2987640" cy="91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-19080" y="0"/>
            <a:ext cx="9001080" cy="6640560"/>
            <a:chOff x="-19080" y="0"/>
            <a:chExt cx="9001080" cy="664056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0"/>
              <a:ext cx="9001080" cy="6640560"/>
              <a:chOff x="-19080" y="0"/>
              <a:chExt cx="9001080" cy="6640560"/>
            </a:xfrm>
          </p:grpSpPr>
          <p:pic>
            <p:nvPicPr>
              <p:cNvPr id="5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19080" y="0"/>
                <a:ext cx="9001080" cy="664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58680" y="30240"/>
                <a:ext cx="8804160" cy="6438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8680" y="5462640"/>
              <a:ext cx="8601120" cy="752400"/>
              <a:chOff x="58680" y="5462640"/>
              <a:chExt cx="8601120" cy="752400"/>
            </a:xfrm>
          </p:grpSpPr>
          <p:pic>
            <p:nvPicPr>
              <p:cNvPr id="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680" y="5464080"/>
                <a:ext cx="8599680" cy="7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8680" y="5462640"/>
                <a:ext cx="8601120" cy="750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39600" y="30240"/>
              <a:ext cx="8651880" cy="6221160"/>
            </a:xfrm>
            <a:custGeom>
              <a:avLst/>
              <a:gdLst/>
              <a:ahLst/>
              <a:rect l="l" t="t" r="r" b="b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14440" y="5757840"/>
            <a:ext cx="4124160" cy="49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6040" y="2781360"/>
            <a:ext cx="4642920" cy="173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Учитель высшей категор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Веселова Марина Владимиров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МБОУ «Многопрофильный лицей №170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г. Казань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9080" y="1987560"/>
            <a:ext cx="619272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385920"/>
            <a:ext cx="914400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"/>
          <p:cNvSpPr/>
          <p:nvPr/>
        </p:nvSpPr>
        <p:spPr>
          <a:xfrm>
            <a:off x="857160" y="500040"/>
            <a:ext cx="7215120" cy="581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  <a:ea typeface="DejaVu Sans"/>
              </a:rPr>
              <a:t>Проверка выполненных работ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1197000"/>
          <a:ext cx="8211600" cy="4397040"/>
        </p:xfrm>
        <a:graphic>
          <a:graphicData uri="http://schemas.openxmlformats.org/drawingml/2006/table">
            <a:tbl>
              <a:tblPr/>
              <a:tblGrid>
                <a:gridCol w="4107600"/>
                <a:gridCol w="410400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b80e0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b80e0f"/>
                    </a:solidFill>
                  </a:tcPr>
                </a:tc>
              </a:tr>
              <a:tr h="55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Доброе слово лечит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а злое калечи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cccc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Доброе слово человеку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что дождь в засух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Кто любит добрые дел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тому и жизнь ми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cccc"/>
                    </a:solidFill>
                  </a:tcPr>
                </a:tc>
              </a:tr>
              <a:tr h="82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Худо тому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кто добра не делает ником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</a:tr>
              <a:tr h="55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Добро помн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а зло забыва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cccc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Добрые д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красят чело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85840" y="357120"/>
            <a:ext cx="5000400" cy="600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3000" algn="ctr">
              <a:lnSpc>
                <a:spcPct val="11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5c0708"/>
                </a:solidFill>
                <a:latin typeface="Impact"/>
                <a:ea typeface="DejaVu Sans"/>
              </a:rPr>
              <a:t>ПРИТЧА О ДОБРЕ И ЗЛЕ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14440" indent="-513000" algn="ctr">
              <a:lnSpc>
                <a:spcPct val="11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Impact"/>
                <a:ea typeface="DejaVu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14440" indent="-513000">
              <a:lnSpc>
                <a:spcPct val="105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Impact"/>
                <a:ea typeface="DejaVu Sans"/>
              </a:rPr>
              <a:t>КОГДА-ТО ДАВНО СТАРИК ОТКРЫЛ СВОЕМУ ВНУКУ ОДНУ ЖИЗНЕННУЮ ИСТИНУ: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14440" indent="-513000">
              <a:lnSpc>
                <a:spcPct val="105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Impact"/>
                <a:ea typeface="DejaVu Sans"/>
              </a:rPr>
              <a:t>— </a:t>
            </a:r>
            <a:r>
              <a:rPr b="1" i="1" lang="ru-RU" sz="2000" spc="-1" strike="noStrike">
                <a:solidFill>
                  <a:srgbClr val="404040"/>
                </a:solidFill>
                <a:latin typeface="Impact"/>
                <a:ea typeface="DejaVu Sans"/>
              </a:rPr>
              <a:t>В КАЖДОМ ЧЕЛОВЕКЕ ИДЕТ БОРЬБА, ОЧЕНЬ ПОХОЖАЯ НА БОРЬБУ ДВУХ ВОЛКОВ. ОДИН ВОЛК ПРЕДСТАВЛЯЕТ ЗЛО: ЗАВИСТЬ, РЕВНОСТЬ, СОЖАЛЕНИЕ, ЭГОИЗМ, АМБИЦИИ, ЛОЖЬ. ДРУГОЙ ВОЛК ПРЕДСТАВЛЯЕТ ДОБРО: МИР, ЛЮБОВЬ, НАДЕЖДУ, ИСТИНУ, ДОБРОТУ И ВЕРНОСТЬ. ВНУК, ТРОНУТЫЙ ДО ГЛУБИНЫ ДУШИ СЛОВАМИ ДЕДА, ЗАДУМАЛСЯ, А ПОТОМ СПРОСИЛ: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14440" indent="-513000">
              <a:lnSpc>
                <a:spcPct val="105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Impact"/>
                <a:ea typeface="DejaVu Sans"/>
              </a:rPr>
              <a:t>— </a:t>
            </a:r>
            <a:r>
              <a:rPr b="1" i="1" lang="ru-RU" sz="2000" spc="-1" strike="noStrike">
                <a:solidFill>
                  <a:srgbClr val="404040"/>
                </a:solidFill>
                <a:latin typeface="Impact"/>
                <a:ea typeface="DejaVu Sans"/>
              </a:rPr>
              <a:t>А КАКОЙ ВОЛК В КОНЦЕ ПОБЕЖДАЕТ? СТАРИК УЛЫБНУЛСЯ И ОТВЕТИЛ…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14440" indent="-513000" algn="just">
              <a:lnSpc>
                <a:spcPct val="11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14440" indent="-513000">
              <a:lnSpc>
                <a:spcPct val="11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219640" y="115920"/>
            <a:ext cx="3838680" cy="54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14440" y="309600"/>
            <a:ext cx="7797600" cy="190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24544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5280" y="189000"/>
            <a:ext cx="77979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0" lang="ru-RU" sz="4400" spc="-1" strike="noStrike">
                <a:solidFill>
                  <a:srgbClr val="b80e0f"/>
                </a:solidFill>
                <a:latin typeface="Impact"/>
                <a:ea typeface="DejaVu Sans"/>
              </a:rPr>
              <a:t>                     </a:t>
            </a:r>
            <a:r>
              <a:rPr b="0" lang="ru-RU" sz="4400" spc="-1" strike="noStrike">
                <a:solidFill>
                  <a:srgbClr val="b80e0f"/>
                </a:solidFill>
                <a:latin typeface="Impact"/>
                <a:ea typeface="DejaVu Sans"/>
              </a:rPr>
              <a:t>ПИЩА ВОЛКОВ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95280" y="1052640"/>
          <a:ext cx="8140320" cy="4525560"/>
        </p:xfrm>
        <a:graphic>
          <a:graphicData uri="http://schemas.openxmlformats.org/drawingml/2006/table">
            <a:tbl>
              <a:tblPr/>
              <a:tblGrid>
                <a:gridCol w="2503800"/>
                <a:gridCol w="2603880"/>
                <a:gridCol w="3032640"/>
              </a:tblGrid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насил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об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под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воров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жесток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преда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донос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эгоиз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з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скверносло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гн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злопамят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уни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враж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ненави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злосло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уны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отча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небре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ле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агресс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алч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ворчлив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малодуш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бессерде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наг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горды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упрям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лжив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безразли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равнодуш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взаимо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бескорыс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дружелюб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любов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отзывчив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надеж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добр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вежлив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рад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улыб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вер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жизнелюб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весё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открыт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преда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сопережи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опря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аккура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организова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смел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терп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доброжел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гуманиз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трудолюб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, serif"/>
                        </a:rPr>
                        <a:t>ответств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14440" y="685800"/>
            <a:ext cx="779760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0" lang="ru-RU" sz="2400" spc="-1" strike="noStrike">
                <a:solidFill>
                  <a:srgbClr val="b80e0f"/>
                </a:solidFill>
                <a:latin typeface="Impact"/>
                <a:ea typeface="DejaVu Sans"/>
              </a:rPr>
              <a:t>ДРЕВО ДОБРА                                               </a:t>
            </a:r>
            <a:r>
              <a:rPr b="0" lang="ru-RU" sz="2400" spc="-1" strike="noStrike">
                <a:solidFill>
                  <a:srgbClr val="5c0708"/>
                </a:solidFill>
                <a:latin typeface="Impact"/>
                <a:ea typeface="DejaVu Sans"/>
              </a:rPr>
              <a:t>ДРЕВО ЗЛ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2050920" y="1700280"/>
            <a:ext cx="144720" cy="3463920"/>
          </a:xfrm>
          <a:custGeom>
            <a:avLst/>
            <a:gdLst/>
            <a:ahLst/>
            <a:rect l="l" t="t" r="r" b="b"/>
            <a:pathLst>
              <a:path w="403" h="9623">
                <a:moveTo>
                  <a:pt x="100" y="0"/>
                </a:moveTo>
                <a:lnTo>
                  <a:pt x="100" y="9422"/>
                </a:lnTo>
                <a:lnTo>
                  <a:pt x="0" y="9422"/>
                </a:lnTo>
                <a:lnTo>
                  <a:pt x="201" y="9623"/>
                </a:lnTo>
                <a:lnTo>
                  <a:pt x="403" y="9422"/>
                </a:lnTo>
                <a:lnTo>
                  <a:pt x="302" y="9422"/>
                </a:lnTo>
                <a:lnTo>
                  <a:pt x="302" y="0"/>
                </a:lnTo>
                <a:lnTo>
                  <a:pt x="100" y="0"/>
                </a:lnTo>
              </a:path>
            </a:pathLst>
          </a:custGeom>
          <a:solidFill>
            <a:srgbClr val="b80e0f"/>
          </a:solidFill>
          <a:ln w="19080">
            <a:solidFill>
              <a:srgbClr val="8607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1700280"/>
            <a:ext cx="144720" cy="3384360"/>
          </a:xfrm>
          <a:custGeom>
            <a:avLst/>
            <a:gdLst/>
            <a:ahLst/>
            <a:rect l="l" t="t" r="r" b="b"/>
            <a:pathLst>
              <a:path w="403" h="9402">
                <a:moveTo>
                  <a:pt x="100" y="0"/>
                </a:moveTo>
                <a:lnTo>
                  <a:pt x="100" y="9201"/>
                </a:lnTo>
                <a:lnTo>
                  <a:pt x="0" y="9201"/>
                </a:lnTo>
                <a:lnTo>
                  <a:pt x="201" y="9402"/>
                </a:lnTo>
                <a:lnTo>
                  <a:pt x="403" y="9201"/>
                </a:lnTo>
                <a:lnTo>
                  <a:pt x="302" y="9201"/>
                </a:lnTo>
                <a:lnTo>
                  <a:pt x="302" y="0"/>
                </a:lnTo>
                <a:lnTo>
                  <a:pt x="100" y="0"/>
                </a:lnTo>
              </a:path>
            </a:pathLst>
          </a:custGeom>
          <a:solidFill>
            <a:srgbClr val="000000"/>
          </a:solidFill>
          <a:ln w="19080">
            <a:solidFill>
              <a:srgbClr val="8607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"/>
          <p:cNvSpPr/>
          <p:nvPr/>
        </p:nvSpPr>
        <p:spPr>
          <a:xfrm rot="2940000">
            <a:off x="460800" y="4263120"/>
            <a:ext cx="2305080" cy="360360"/>
          </a:xfrm>
          <a:custGeom>
            <a:avLst/>
            <a:gdLst/>
            <a:ahLst/>
            <a:rect l="l" t="t" r="r" b="b"/>
            <a:pathLst>
              <a:path w="1999516" h="222560">
                <a:moveTo>
                  <a:pt x="305534" y="137802"/>
                </a:moveTo>
                <a:lnTo>
                  <a:pt x="1999516" y="137802"/>
                </a:lnTo>
                <a:lnTo>
                  <a:pt x="1999516" y="222560"/>
                </a:lnTo>
                <a:lnTo>
                  <a:pt x="305534" y="222560"/>
                </a:lnTo>
                <a:lnTo>
                  <a:pt x="305534" y="137802"/>
                </a:lnTo>
                <a:close/>
              </a:path>
            </a:pathLst>
          </a:custGeom>
          <a:solidFill>
            <a:srgbClr val="b80e0f"/>
          </a:solidFill>
          <a:ln w="19080">
            <a:solidFill>
              <a:srgbClr val="8607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2" name=""/>
          <p:cNvSpPr/>
          <p:nvPr/>
        </p:nvSpPr>
        <p:spPr>
          <a:xfrm rot="18840000">
            <a:off x="1569960" y="4212720"/>
            <a:ext cx="2305080" cy="358920"/>
          </a:xfrm>
          <a:custGeom>
            <a:avLst/>
            <a:gdLst/>
            <a:ahLst/>
            <a:rect l="l" t="t" r="r" b="b"/>
            <a:pathLst>
              <a:path w="1999516" h="221579">
                <a:moveTo>
                  <a:pt x="305534" y="137196"/>
                </a:moveTo>
                <a:lnTo>
                  <a:pt x="1999516" y="137196"/>
                </a:lnTo>
                <a:lnTo>
                  <a:pt x="1999516" y="221579"/>
                </a:lnTo>
                <a:lnTo>
                  <a:pt x="305534" y="221579"/>
                </a:lnTo>
                <a:lnTo>
                  <a:pt x="305534" y="137196"/>
                </a:lnTo>
                <a:close/>
              </a:path>
            </a:pathLst>
          </a:custGeom>
          <a:solidFill>
            <a:srgbClr val="b80e0f"/>
          </a:solidFill>
          <a:ln w="19080">
            <a:solidFill>
              <a:srgbClr val="8607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3" name=""/>
          <p:cNvSpPr/>
          <p:nvPr/>
        </p:nvSpPr>
        <p:spPr>
          <a:xfrm rot="2760000">
            <a:off x="471600" y="3520800"/>
            <a:ext cx="2305080" cy="358560"/>
          </a:xfrm>
          <a:custGeom>
            <a:avLst/>
            <a:gdLst/>
            <a:ahLst/>
            <a:rect l="l" t="t" r="r" b="b"/>
            <a:pathLst>
              <a:path w="1999516" h="221579">
                <a:moveTo>
                  <a:pt x="305534" y="137196"/>
                </a:moveTo>
                <a:lnTo>
                  <a:pt x="1999516" y="137196"/>
                </a:lnTo>
                <a:lnTo>
                  <a:pt x="1999516" y="221579"/>
                </a:lnTo>
                <a:lnTo>
                  <a:pt x="305534" y="221579"/>
                </a:lnTo>
                <a:lnTo>
                  <a:pt x="305534" y="137196"/>
                </a:lnTo>
                <a:close/>
              </a:path>
            </a:pathLst>
          </a:custGeom>
          <a:solidFill>
            <a:srgbClr val="b80e0f"/>
          </a:solidFill>
          <a:ln w="19080">
            <a:solidFill>
              <a:srgbClr val="8607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4" name=""/>
          <p:cNvSpPr/>
          <p:nvPr/>
        </p:nvSpPr>
        <p:spPr>
          <a:xfrm rot="18900000">
            <a:off x="1555560" y="3560400"/>
            <a:ext cx="2303280" cy="360360"/>
          </a:xfrm>
          <a:custGeom>
            <a:avLst/>
            <a:gdLst/>
            <a:ahLst/>
            <a:rect l="l" t="t" r="r" b="b"/>
            <a:pathLst>
              <a:path w="1998138" h="222560">
                <a:moveTo>
                  <a:pt x="305324" y="137802"/>
                </a:moveTo>
                <a:lnTo>
                  <a:pt x="1998138" y="137802"/>
                </a:lnTo>
                <a:lnTo>
                  <a:pt x="1998138" y="222560"/>
                </a:lnTo>
                <a:lnTo>
                  <a:pt x="305324" y="222560"/>
                </a:lnTo>
                <a:lnTo>
                  <a:pt x="305324" y="137802"/>
                </a:lnTo>
                <a:close/>
              </a:path>
            </a:pathLst>
          </a:custGeom>
          <a:solidFill>
            <a:srgbClr val="b80e0f"/>
          </a:solidFill>
          <a:ln w="19080">
            <a:solidFill>
              <a:srgbClr val="8607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"/>
          <p:cNvSpPr/>
          <p:nvPr/>
        </p:nvSpPr>
        <p:spPr>
          <a:xfrm rot="2700000">
            <a:off x="456120" y="2872440"/>
            <a:ext cx="2305080" cy="360360"/>
          </a:xfrm>
          <a:custGeom>
            <a:avLst/>
            <a:gdLst/>
            <a:ahLst/>
            <a:rect l="l" t="t" r="r" b="b"/>
            <a:pathLst>
              <a:path w="1999516" h="222560">
                <a:moveTo>
                  <a:pt x="305534" y="137803"/>
                </a:moveTo>
                <a:lnTo>
                  <a:pt x="1999516" y="137803"/>
                </a:lnTo>
                <a:lnTo>
                  <a:pt x="1999516" y="222560"/>
                </a:lnTo>
                <a:lnTo>
                  <a:pt x="305534" y="222560"/>
                </a:lnTo>
                <a:lnTo>
                  <a:pt x="305534" y="137803"/>
                </a:lnTo>
                <a:close/>
              </a:path>
            </a:pathLst>
          </a:custGeom>
          <a:solidFill>
            <a:srgbClr val="b80e0f"/>
          </a:solidFill>
          <a:ln w="19080">
            <a:solidFill>
              <a:srgbClr val="8607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"/>
          <p:cNvSpPr/>
          <p:nvPr/>
        </p:nvSpPr>
        <p:spPr>
          <a:xfrm rot="19020000">
            <a:off x="1596600" y="2927160"/>
            <a:ext cx="2303640" cy="360360"/>
          </a:xfrm>
          <a:custGeom>
            <a:avLst/>
            <a:gdLst/>
            <a:ahLst/>
            <a:rect l="l" t="t" r="r" b="b"/>
            <a:pathLst>
              <a:path w="1998138" h="222560">
                <a:moveTo>
                  <a:pt x="305324" y="137803"/>
                </a:moveTo>
                <a:lnTo>
                  <a:pt x="1998138" y="137803"/>
                </a:lnTo>
                <a:lnTo>
                  <a:pt x="1998138" y="222560"/>
                </a:lnTo>
                <a:lnTo>
                  <a:pt x="305324" y="222560"/>
                </a:lnTo>
                <a:lnTo>
                  <a:pt x="305324" y="137803"/>
                </a:lnTo>
                <a:close/>
              </a:path>
            </a:pathLst>
          </a:custGeom>
          <a:solidFill>
            <a:srgbClr val="b80e0f"/>
          </a:solidFill>
          <a:ln w="19080">
            <a:solidFill>
              <a:srgbClr val="8607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7" name=""/>
          <p:cNvSpPr/>
          <p:nvPr/>
        </p:nvSpPr>
        <p:spPr>
          <a:xfrm rot="18900000">
            <a:off x="1531440" y="2347560"/>
            <a:ext cx="2303640" cy="360360"/>
          </a:xfrm>
          <a:custGeom>
            <a:avLst/>
            <a:gdLst/>
            <a:ahLst/>
            <a:rect l="l" t="t" r="r" b="b"/>
            <a:pathLst>
              <a:path w="1998138" h="222560">
                <a:moveTo>
                  <a:pt x="305324" y="137803"/>
                </a:moveTo>
                <a:lnTo>
                  <a:pt x="1998138" y="137803"/>
                </a:lnTo>
                <a:lnTo>
                  <a:pt x="1998138" y="222560"/>
                </a:lnTo>
                <a:lnTo>
                  <a:pt x="305324" y="222560"/>
                </a:lnTo>
                <a:lnTo>
                  <a:pt x="305324" y="137803"/>
                </a:lnTo>
                <a:close/>
              </a:path>
            </a:pathLst>
          </a:custGeom>
          <a:solidFill>
            <a:srgbClr val="b80e0f"/>
          </a:solidFill>
          <a:ln w="19080">
            <a:solidFill>
              <a:srgbClr val="8607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8" name=""/>
          <p:cNvSpPr/>
          <p:nvPr/>
        </p:nvSpPr>
        <p:spPr>
          <a:xfrm rot="2640000">
            <a:off x="355320" y="2154240"/>
            <a:ext cx="2305080" cy="360360"/>
          </a:xfrm>
          <a:custGeom>
            <a:avLst/>
            <a:gdLst/>
            <a:ahLst/>
            <a:rect l="l" t="t" r="r" b="b"/>
            <a:pathLst>
              <a:path w="1999516" h="222560">
                <a:moveTo>
                  <a:pt x="305534" y="137802"/>
                </a:moveTo>
                <a:lnTo>
                  <a:pt x="1999516" y="137802"/>
                </a:lnTo>
                <a:lnTo>
                  <a:pt x="1999516" y="222560"/>
                </a:lnTo>
                <a:lnTo>
                  <a:pt x="305534" y="222560"/>
                </a:lnTo>
                <a:lnTo>
                  <a:pt x="305534" y="137802"/>
                </a:lnTo>
                <a:close/>
              </a:path>
            </a:pathLst>
          </a:custGeom>
          <a:solidFill>
            <a:srgbClr val="b80e0f"/>
          </a:solidFill>
          <a:ln w="19080">
            <a:solidFill>
              <a:srgbClr val="8607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 rot="2640000">
            <a:off x="5387760" y="2153880"/>
            <a:ext cx="2303280" cy="360360"/>
          </a:xfrm>
          <a:custGeom>
            <a:avLst/>
            <a:gdLst/>
            <a:ahLst/>
            <a:rect l="l" t="t" r="r" b="b"/>
            <a:pathLst>
              <a:path w="1998138" h="222560">
                <a:moveTo>
                  <a:pt x="305324" y="137802"/>
                </a:moveTo>
                <a:lnTo>
                  <a:pt x="1998138" y="137802"/>
                </a:lnTo>
                <a:lnTo>
                  <a:pt x="1998138" y="222560"/>
                </a:lnTo>
                <a:lnTo>
                  <a:pt x="305324" y="222560"/>
                </a:lnTo>
                <a:lnTo>
                  <a:pt x="305324" y="137802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8607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"/>
          <p:cNvSpPr/>
          <p:nvPr/>
        </p:nvSpPr>
        <p:spPr>
          <a:xfrm rot="8040000">
            <a:off x="4134600" y="2122200"/>
            <a:ext cx="2303640" cy="360360"/>
          </a:xfrm>
          <a:custGeom>
            <a:avLst/>
            <a:gdLst/>
            <a:ahLst/>
            <a:rect l="l" t="t" r="r" b="b"/>
            <a:pathLst>
              <a:path w="1998139" h="222560">
                <a:moveTo>
                  <a:pt x="305324" y="137802"/>
                </a:moveTo>
                <a:lnTo>
                  <a:pt x="1998139" y="137802"/>
                </a:lnTo>
                <a:lnTo>
                  <a:pt x="1998139" y="222560"/>
                </a:lnTo>
                <a:lnTo>
                  <a:pt x="305324" y="222560"/>
                </a:lnTo>
                <a:lnTo>
                  <a:pt x="305324" y="137802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8607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1" name=""/>
          <p:cNvSpPr/>
          <p:nvPr/>
        </p:nvSpPr>
        <p:spPr>
          <a:xfrm rot="18900000">
            <a:off x="4178160" y="2820600"/>
            <a:ext cx="2305080" cy="360360"/>
          </a:xfrm>
          <a:custGeom>
            <a:avLst/>
            <a:gdLst/>
            <a:ahLst/>
            <a:rect l="l" t="t" r="r" b="b"/>
            <a:pathLst>
              <a:path w="1999516" h="222560">
                <a:moveTo>
                  <a:pt x="305534" y="137802"/>
                </a:moveTo>
                <a:lnTo>
                  <a:pt x="1999516" y="137802"/>
                </a:lnTo>
                <a:lnTo>
                  <a:pt x="1999516" y="222560"/>
                </a:lnTo>
                <a:lnTo>
                  <a:pt x="305534" y="222560"/>
                </a:lnTo>
                <a:lnTo>
                  <a:pt x="305534" y="137802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8607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"/>
          <p:cNvSpPr/>
          <p:nvPr/>
        </p:nvSpPr>
        <p:spPr>
          <a:xfrm rot="19320000">
            <a:off x="4065480" y="3455640"/>
            <a:ext cx="2305080" cy="360360"/>
          </a:xfrm>
          <a:custGeom>
            <a:avLst/>
            <a:gdLst/>
            <a:ahLst/>
            <a:rect l="l" t="t" r="r" b="b"/>
            <a:pathLst>
              <a:path w="1999516" h="222560">
                <a:moveTo>
                  <a:pt x="305534" y="137802"/>
                </a:moveTo>
                <a:lnTo>
                  <a:pt x="1999516" y="137802"/>
                </a:lnTo>
                <a:lnTo>
                  <a:pt x="1999516" y="222560"/>
                </a:lnTo>
                <a:lnTo>
                  <a:pt x="305534" y="222560"/>
                </a:lnTo>
                <a:lnTo>
                  <a:pt x="305534" y="137802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8607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3" name=""/>
          <p:cNvSpPr/>
          <p:nvPr/>
        </p:nvSpPr>
        <p:spPr>
          <a:xfrm rot="2280000">
            <a:off x="5451120" y="3546360"/>
            <a:ext cx="2305080" cy="358920"/>
          </a:xfrm>
          <a:custGeom>
            <a:avLst/>
            <a:gdLst/>
            <a:ahLst/>
            <a:rect l="l" t="t" r="r" b="b"/>
            <a:pathLst>
              <a:path w="1999516" h="221579">
                <a:moveTo>
                  <a:pt x="305534" y="137196"/>
                </a:moveTo>
                <a:lnTo>
                  <a:pt x="1999516" y="137196"/>
                </a:lnTo>
                <a:lnTo>
                  <a:pt x="1999516" y="221579"/>
                </a:lnTo>
                <a:lnTo>
                  <a:pt x="305534" y="221579"/>
                </a:lnTo>
                <a:lnTo>
                  <a:pt x="305534" y="137196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8607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"/>
          <p:cNvSpPr/>
          <p:nvPr/>
        </p:nvSpPr>
        <p:spPr>
          <a:xfrm rot="2520000">
            <a:off x="5395680" y="2727360"/>
            <a:ext cx="2305080" cy="360360"/>
          </a:xfrm>
          <a:custGeom>
            <a:avLst/>
            <a:gdLst/>
            <a:ahLst/>
            <a:rect l="l" t="t" r="r" b="b"/>
            <a:pathLst>
              <a:path w="1999516" h="222560">
                <a:moveTo>
                  <a:pt x="305534" y="137802"/>
                </a:moveTo>
                <a:lnTo>
                  <a:pt x="1999516" y="137802"/>
                </a:lnTo>
                <a:lnTo>
                  <a:pt x="1999516" y="222560"/>
                </a:lnTo>
                <a:lnTo>
                  <a:pt x="305534" y="222560"/>
                </a:lnTo>
                <a:lnTo>
                  <a:pt x="305534" y="137802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8607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5" name=""/>
          <p:cNvSpPr/>
          <p:nvPr/>
        </p:nvSpPr>
        <p:spPr>
          <a:xfrm rot="19380000">
            <a:off x="4070520" y="4022280"/>
            <a:ext cx="2304720" cy="360360"/>
          </a:xfrm>
          <a:custGeom>
            <a:avLst/>
            <a:gdLst/>
            <a:ahLst/>
            <a:rect l="l" t="t" r="r" b="b"/>
            <a:pathLst>
              <a:path w="1999516" h="222560">
                <a:moveTo>
                  <a:pt x="305534" y="137803"/>
                </a:moveTo>
                <a:lnTo>
                  <a:pt x="1999516" y="137803"/>
                </a:lnTo>
                <a:lnTo>
                  <a:pt x="1999516" y="222560"/>
                </a:lnTo>
                <a:lnTo>
                  <a:pt x="305534" y="222560"/>
                </a:lnTo>
                <a:lnTo>
                  <a:pt x="305534" y="13780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8607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6" name=""/>
          <p:cNvSpPr/>
          <p:nvPr/>
        </p:nvSpPr>
        <p:spPr>
          <a:xfrm rot="2580000">
            <a:off x="5451120" y="4106520"/>
            <a:ext cx="2305080" cy="360360"/>
          </a:xfrm>
          <a:custGeom>
            <a:avLst/>
            <a:gdLst/>
            <a:ahLst/>
            <a:rect l="l" t="t" r="r" b="b"/>
            <a:pathLst>
              <a:path w="1999516" h="222560">
                <a:moveTo>
                  <a:pt x="305534" y="137803"/>
                </a:moveTo>
                <a:lnTo>
                  <a:pt x="1999516" y="137803"/>
                </a:lnTo>
                <a:lnTo>
                  <a:pt x="1999516" y="222560"/>
                </a:lnTo>
                <a:lnTo>
                  <a:pt x="305534" y="222560"/>
                </a:lnTo>
                <a:lnTo>
                  <a:pt x="305534" y="13780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8607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454120" y="264960"/>
            <a:ext cx="2111400" cy="1343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269040" y="279360"/>
            <a:ext cx="2211480" cy="13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60360" y="482760"/>
            <a:ext cx="1800360" cy="1199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050920" y="2354400"/>
            <a:ext cx="2089440" cy="1506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60360" y="1967040"/>
            <a:ext cx="1440000" cy="1893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386240" y="2346480"/>
            <a:ext cx="2241720" cy="1585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4314960" y="476280"/>
            <a:ext cx="2098440" cy="1577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2367000" y="476280"/>
            <a:ext cx="1657440" cy="1658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611280" y="4005360"/>
            <a:ext cx="2198520" cy="1439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2916360" y="4005360"/>
            <a:ext cx="2049480" cy="143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5364000" y="4005360"/>
            <a:ext cx="3156120" cy="1439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1"/>
          <a:stretch/>
        </p:blipFill>
        <p:spPr>
          <a:xfrm>
            <a:off x="6659640" y="476280"/>
            <a:ext cx="1800000" cy="1554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2"/>
          <a:stretch/>
        </p:blipFill>
        <p:spPr>
          <a:xfrm>
            <a:off x="6894360" y="2354400"/>
            <a:ext cx="1565280" cy="153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3200" y="1770120"/>
            <a:ext cx="7797600" cy="3317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08000" y="2602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8424720" cy="63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8000" y="476280"/>
            <a:ext cx="878508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85880" y="0"/>
            <a:ext cx="757224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  <a:ea typeface="DejaVu Sans"/>
              </a:rPr>
              <a:t>Правила доброты.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"/>
          <p:cNvSpPr/>
          <p:nvPr/>
        </p:nvSpPr>
        <p:spPr>
          <a:xfrm>
            <a:off x="2214720" y="857160"/>
            <a:ext cx="771516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Impac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  <a:ea typeface="DejaVu Sans"/>
              </a:rPr>
              <a:t>Помогать людям.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marL="514440" indent="-51300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2376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14440" y="685800"/>
            <a:ext cx="7797600" cy="534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  <a:ea typeface="DejaVu Sans"/>
              </a:rPr>
              <a:t>Правила доброты.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661000"/>
            <a:ext cx="914400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Impact"/>
                <a:ea typeface="DejaVu Sans"/>
              </a:rPr>
              <a:t>2) Защищать слабого.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571760" y="785880"/>
            <a:ext cx="6191280" cy="46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  <a:ea typeface="DejaVu Sans"/>
              </a:rPr>
              <a:t>Правила доброты.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87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Impact"/>
                <a:ea typeface="DejaVu Sans"/>
              </a:rPr>
              <a:t>3) Делиться последним с другом.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85880" y="785880"/>
            <a:ext cx="757224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  <a:ea typeface="DejaVu Sans"/>
              </a:rPr>
              <a:t>Правила доброты.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85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Impact"/>
                <a:ea typeface="DejaVu Sans"/>
              </a:rPr>
              <a:t>4) Не завидовать. 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143000" y="714240"/>
            <a:ext cx="69292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  <a:ea typeface="DejaVu Sans"/>
              </a:rPr>
              <a:t>Правила доброты.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95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  <a:ea typeface="DejaVu Sans"/>
              </a:rPr>
              <a:t>5) Прощать ошибки другим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57160" y="785880"/>
            <a:ext cx="735804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000160" y="714240"/>
            <a:ext cx="4786560" cy="5572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  <a:ea typeface="DejaVu Sans"/>
              </a:rPr>
              <a:t>Правила доброты.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85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Impact"/>
                <a:ea typeface="DejaVu Sans"/>
              </a:rPr>
              <a:t>6) Беречь природу</a:t>
            </a:r>
            <a:r>
              <a:rPr b="1" lang="ru-RU" sz="2800" spc="-1" strike="noStrike">
                <a:solidFill>
                  <a:srgbClr val="324b50"/>
                </a:solidFill>
                <a:latin typeface="Impact"/>
                <a:ea typeface="DejaVu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357200" y="1071720"/>
            <a:ext cx="6438960" cy="4286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  <a:ea typeface="DejaVu Sans"/>
              </a:rPr>
              <a:t>Правила доброты.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5732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Impact"/>
                <a:ea typeface="DejaVu Sans"/>
              </a:rPr>
              <a:t>7) Уважать старших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792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0" lang="ru-RU" sz="4000" spc="-1" strike="noStrike">
                <a:solidFill>
                  <a:srgbClr val="8a0b0b"/>
                </a:solidFill>
                <a:latin typeface="Impact"/>
                <a:ea typeface="Times New Roman"/>
              </a:rPr>
              <a:t>А теперь давайте улыбнемся другу, забудем все плохое и постараемся быть добрыми.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403280" y="1938240"/>
            <a:ext cx="6027840" cy="40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0240" y="755640"/>
            <a:ext cx="7986600" cy="51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21300000">
            <a:off x="23400" y="1752480"/>
            <a:ext cx="7772400" cy="147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3600" spc="-1" strike="noStrike">
                <a:solidFill>
                  <a:srgbClr val="000000"/>
                </a:solidFill>
                <a:latin typeface="Bookman Old Style"/>
                <a:ea typeface="DejaVu Sans"/>
              </a:rPr>
              <a:t>«Главная задача мудрости в том, чтоб </a:t>
            </a:r>
            <a:r>
              <a:rPr b="0" lang="ru-RU" sz="3600" spc="-1" strike="noStrike">
                <a:solidFill>
                  <a:srgbClr val="ff0000"/>
                </a:solidFill>
                <a:latin typeface="Bookman Old Style"/>
                <a:ea typeface="DejaVu Sans"/>
              </a:rPr>
              <a:t>РАЗЛИЧАТЬ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  <a:ea typeface="DejaVu Sans"/>
              </a:rPr>
              <a:t> </a:t>
            </a:r>
            <a:br>
              <a:rPr sz="1800"/>
            </a:br>
            <a:r>
              <a:rPr b="0" lang="ru-RU" sz="3600" spc="-1" strike="noStrike">
                <a:solidFill>
                  <a:srgbClr val="000000"/>
                </a:solidFill>
                <a:latin typeface="Bookman Old Style"/>
                <a:ea typeface="DejaVu Sans"/>
              </a:rPr>
              <a:t>добро и зло».</a:t>
            </a:r>
            <a:br>
              <a:rPr sz="1800"/>
            </a:br>
            <a:br>
              <a:rPr sz="1800"/>
            </a:br>
            <a:r>
              <a:rPr b="0" lang="ru-RU" sz="2900" spc="-1" strike="noStrike">
                <a:solidFill>
                  <a:srgbClr val="ff0000"/>
                </a:solidFill>
                <a:latin typeface="Bookman Old Style"/>
                <a:ea typeface="DejaVu Sans"/>
              </a:rPr>
              <a:t>Сократ</a:t>
            </a: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04960" y="1914480"/>
            <a:ext cx="37177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7240" y="1773360"/>
            <a:ext cx="77979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476360" y="476280"/>
            <a:ext cx="5099040" cy="4703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42880" y="79200"/>
            <a:ext cx="3022560" cy="1633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65680" y="3230640"/>
            <a:ext cx="441936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2920" y="6480"/>
            <a:ext cx="8643960" cy="119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20640" y="601560"/>
            <a:ext cx="7688160" cy="518472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95640" y="1125360"/>
            <a:ext cx="4464000" cy="4353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-123840" y="1424160"/>
            <a:ext cx="5329080" cy="303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1280" indent="-34128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Clr>
                <a:srgbClr val="60565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80e0f"/>
                </a:solidFill>
                <a:latin typeface="Impact"/>
                <a:ea typeface="DejaVu Sans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b80e0f"/>
                </a:solidFill>
                <a:latin typeface="Impact"/>
                <a:ea typeface="DejaVu Sans"/>
              </a:rPr>
              <a:t>       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b80e0f"/>
                </a:solidFill>
                <a:latin typeface="Impact"/>
                <a:ea typeface="DejaVu Sans"/>
              </a:rPr>
              <a:t> </a:t>
            </a:r>
            <a:r>
              <a:rPr b="0" lang="ru-RU" sz="1800" spc="-1" strike="noStrike">
                <a:solidFill>
                  <a:srgbClr val="b80e0f"/>
                </a:solidFill>
                <a:latin typeface="Impact"/>
                <a:ea typeface="DejaVu Sans"/>
              </a:rPr>
              <a:t>- </a:t>
            </a:r>
            <a:r>
              <a:rPr b="0" lang="ru-RU" sz="2200" spc="-1" strike="noStrike">
                <a:solidFill>
                  <a:srgbClr val="b80e0f"/>
                </a:solidFill>
                <a:latin typeface="Impact"/>
                <a:ea typeface="DejaVu Sans"/>
              </a:rPr>
              <a:t>АКТИВНОЕ УЧАСТИЕ КАЖДОГО </a:t>
            </a:r>
            <a:br>
              <a:rPr sz="1800"/>
            </a:br>
            <a:r>
              <a:rPr b="0" lang="ru-RU" sz="2200" spc="-1" strike="noStrike">
                <a:solidFill>
                  <a:srgbClr val="b80e0f"/>
                </a:solidFill>
                <a:latin typeface="Impact"/>
                <a:ea typeface="DejaVu Sans"/>
              </a:rPr>
              <a:t> - ОБРАЩЕНИЕ ПО ИМЕНИ</a:t>
            </a:r>
            <a:br>
              <a:rPr sz="1800"/>
            </a:br>
            <a:r>
              <a:rPr b="0" lang="ru-RU" sz="2200" spc="-1" strike="noStrike">
                <a:solidFill>
                  <a:srgbClr val="b80e0f"/>
                </a:solidFill>
                <a:latin typeface="Impact"/>
                <a:ea typeface="DejaVu Sans"/>
              </a:rPr>
              <a:t> -ВЫСЛУШИВАТЬ МНЕНИЕ </a:t>
            </a:r>
            <a:br>
              <a:rPr sz="1800"/>
            </a:br>
            <a:r>
              <a:rPr b="0" lang="ru-RU" sz="2200" spc="-1" strike="noStrike">
                <a:solidFill>
                  <a:srgbClr val="b80e0f"/>
                </a:solidFill>
                <a:latin typeface="Impact"/>
                <a:ea typeface="DejaVu Sans"/>
              </a:rPr>
              <a:t>    КАЖДОГО</a:t>
            </a:r>
            <a:br>
              <a:rPr sz="1800"/>
            </a:br>
            <a:r>
              <a:rPr b="0" lang="ru-RU" sz="2200" spc="-1" strike="noStrike">
                <a:solidFill>
                  <a:srgbClr val="b80e0f"/>
                </a:solidFill>
                <a:latin typeface="Impact"/>
                <a:ea typeface="DejaVu Sans"/>
              </a:rPr>
              <a:t>- УМЕТЬ ДОГОВАРИВАТЬСЯ </a:t>
            </a:r>
            <a:br>
              <a:rPr sz="1800"/>
            </a:br>
            <a:r>
              <a:rPr b="0" lang="ru-RU" sz="2200" spc="-1" strike="noStrike">
                <a:solidFill>
                  <a:srgbClr val="b80e0f"/>
                </a:solidFill>
                <a:latin typeface="Impact"/>
                <a:ea typeface="DejaVu Sans"/>
              </a:rPr>
              <a:t>- ГОВОРИ СПОКОЙНО И ЯСНО</a:t>
            </a:r>
            <a:br>
              <a:rPr sz="1800"/>
            </a:br>
            <a:r>
              <a:rPr b="0" lang="ru-RU" sz="2200" spc="-1" strike="noStrike">
                <a:solidFill>
                  <a:srgbClr val="b80e0f"/>
                </a:solidFill>
                <a:latin typeface="Impact"/>
                <a:ea typeface="DejaVu Sans"/>
              </a:rPr>
              <a:t>- ГОВОРИ ТОЛЬКО ПО ДЕЛУ</a:t>
            </a:r>
            <a:br>
              <a:rPr sz="1800"/>
            </a:br>
            <a:r>
              <a:rPr b="0" lang="ru-RU" sz="2200" spc="-1" strike="noStrike">
                <a:solidFill>
                  <a:srgbClr val="b80e0f"/>
                </a:solidFill>
                <a:latin typeface="Impact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476280"/>
            <a:ext cx="5832720" cy="105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ru-RU" sz="2800" spc="-1" strike="noStrike">
                <a:solidFill>
                  <a:srgbClr val="7e0202"/>
                </a:solidFill>
                <a:latin typeface="Impact"/>
                <a:ea typeface="DejaVu Sans"/>
              </a:rPr>
              <a:t>ПРАВИЛА РАБОТЫ В ГРУППЕ И ПАРАХ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49120" y="3498840"/>
            <a:ext cx="8645760" cy="2316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92360" y="333360"/>
            <a:ext cx="53863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0" lang="ru-RU" sz="4800" spc="-1" strike="noStrike">
                <a:solidFill>
                  <a:srgbClr val="60565c"/>
                </a:solidFill>
                <a:latin typeface="Impact"/>
                <a:ea typeface="DejaVu Sans"/>
              </a:rPr>
              <a:t>ЧТО ТАКОЕ ДОБРО ?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411280" y="1413000"/>
            <a:ext cx="3571920" cy="27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249120" y="622440"/>
            <a:ext cx="7441920" cy="5101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85920" y="285840"/>
            <a:ext cx="564336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0" lang="ru-RU" sz="4400" spc="-1" strike="noStrike">
                <a:solidFill>
                  <a:srgbClr val="141414"/>
                </a:solidFill>
                <a:latin typeface="Impact"/>
                <a:ea typeface="DejaVu Sans"/>
              </a:rPr>
              <a:t>ЧТО ТАКОЕ ЗЛО ?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227640" y="-243000"/>
            <a:ext cx="3143520" cy="40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9080"/>
            <a:ext cx="914400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5c0708"/>
                </a:solidFill>
                <a:latin typeface="Impact"/>
                <a:ea typeface="Calibri"/>
              </a:rPr>
              <a:t>Составь пословицы, соединяя правую и левую часть</a:t>
            </a:r>
            <a:r>
              <a:rPr b="0" lang="ru-RU" sz="2800" spc="-1" strike="noStrike">
                <a:solidFill>
                  <a:srgbClr val="5c0708"/>
                </a:solidFill>
                <a:latin typeface="Impact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108080"/>
          <a:ext cx="8211960" cy="4758840"/>
        </p:xfrm>
        <a:graphic>
          <a:graphicData uri="http://schemas.openxmlformats.org/drawingml/2006/table">
            <a:tbl>
              <a:tblPr/>
              <a:tblGrid>
                <a:gridCol w="4107600"/>
                <a:gridCol w="4104360"/>
              </a:tblGrid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b80e0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b80e0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Доброе слово лечит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что дождь в засух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cccc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Доброе слово человеку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а зло забыва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Кто любит добрые дела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красят челове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cccc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Худо тому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а злое калечи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</a:tr>
              <a:tr h="51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Добро помни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тому и жизнь мил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cccc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Добрые д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кто добра не делает ником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3e7e7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Влада Веселова</cp:lastModifiedBy>
  <dcterms:modified xsi:type="dcterms:W3CDTF">2025-04-11T14:16:51Z</dcterms:modified>
  <cp:revision>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