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91A3-63F0-4D64-92CE-A32EFB4A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AA3B-4CBA-425F-A839-BD468F36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5B13-7839-4D30-B4E7-DE56275E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30A5-8A23-4CA4-9CD9-3D9F6F2B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48EB-5AB6-4EBB-90E4-2A9517D5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6201-9DB2-4A2F-99BE-B66C5231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B868-700C-4606-BE7C-1154DABA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D8B1-74FE-4793-8F70-29E9943B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E02B-8D7E-405C-8D95-3779CE4A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B50A-AC75-4AF1-A9DA-89AB83C4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C2A2-D702-4E9C-92BF-BAF4BBF3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DACC-517A-4520-8A5D-8E22B0B5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CE0C-CE16-4882-A10B-F4B931BE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76A7-58D9-4A3E-AE5F-E1570F82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527F-03ED-4A76-A4D2-87B1080C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AA47-C82F-4860-AB6D-76688795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987A-8D8E-44E4-BBAC-713FDA8B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10A1F-B219-4AEF-825C-91963FE4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64C4C-7B4B-443D-A7A1-A418FBF2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5B7B5-FE47-4F8C-AD02-AF9E9E29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E2B74-10DC-47BA-85B7-B626FEED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4EA62-9C78-489E-A052-7726B475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86EF-9906-4410-820B-C8167DC6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B2051-6625-4BB3-89BD-6FA96380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A1445-A0DE-48C8-97CD-51C0B609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89A61-34B6-40FB-BB03-BC7D2333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409BF-0EB3-4FD9-A232-84ABFCBB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D818B-B7AF-4FFC-A3DD-045395CB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94CB6-DF06-406D-9CBC-CB76BA6E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25185-D693-4017-8598-ECC417B2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F8623-220F-433B-A4D6-D84B6FD2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089BF-C53C-456A-B96C-8D898B6A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B16FF-AAFA-4991-987E-7400F5C8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8A72-6B75-4C32-94CE-08E0B613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2DC9E-742F-4165-8ADC-36970B6F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B27FA-CB00-42C6-8C9B-26CBC7C0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1B1D9-43B5-420A-BF17-A9B77EA6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3D6AE-DDC7-4920-BFA2-AF139B6E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DBFFA-3184-436D-9E5B-F65F9A01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1EF47-628D-4A3B-A9E0-1C5DC509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B9BC2-FE24-4760-808D-E39F0A59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7E126-680A-4635-A455-1E6EF19B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98F36-27F6-4FC8-993B-21814041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19EFA-565F-4A82-8D86-3E3CEE83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9065-0865-4533-B7C0-5A11B63B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1DDEB-9B13-4C82-80FF-743F2BEE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FF9FA-0E28-4BA2-A2D0-E563A0A3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55445-75BE-45C1-A5C0-7E7FB205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A98C8-3760-487C-A81A-C03D733F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17B9B-723B-4AF2-AC1D-2FC924B0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70AF1-B12A-4287-8A24-6494F16F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6A16A-BF23-4830-9873-DB709051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54911-933C-4E53-A66A-42274286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15155-AF9C-4F34-8BDE-A0433D00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BC465-D0A9-4F8D-912C-C55278B2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500B-6A40-4991-8968-C23A5E8C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A824B-CE87-47F8-A7B8-3E549E38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5052-7CCE-4C48-AC45-55057A63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D082-98FD-4012-AA4C-BD9C2B66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4EFE-C02F-4A27-B094-1DB1991D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2C86-01BC-4A5B-9375-E851F9D47CF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ABE8-27A2-4194-936E-7F685B19BD83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4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4C88-B7DD-4899-96BE-F03B420B164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4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80B3-E12A-49A2-AD66-25CE6F4C843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8B98-C43B-4EEF-A7F5-7DECFFCD912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0920" y="942480"/>
            <a:ext cx="7634160" cy="264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Georgia"/>
                <a:ea typeface="Times New Roman"/>
              </a:rPr>
              <a:t>Многофункциональное дидактическое пособие</a:t>
            </a:r>
            <a:br>
              <a:rPr sz="3000"/>
            </a:br>
            <a:r>
              <a:rPr b="1" lang="ru-RU" sz="3000" spc="-1" strike="noStrike">
                <a:solidFill>
                  <a:srgbClr val="c00000"/>
                </a:solidFill>
                <a:latin typeface="Georgia"/>
                <a:ea typeface="Times New Roman"/>
              </a:rPr>
              <a:t> «Представление сказочных героев» </a:t>
            </a:r>
            <a:br>
              <a:rPr sz="3000"/>
            </a:br>
            <a:r>
              <a:rPr b="1" lang="ru-RU" sz="3000" spc="-1" strike="noStrike">
                <a:solidFill>
                  <a:srgbClr val="c00000"/>
                </a:solidFill>
                <a:latin typeface="Georgia"/>
                <a:ea typeface="Times New Roman"/>
              </a:rPr>
              <a:t>в работе с детьми </a:t>
            </a:r>
            <a:br>
              <a:rPr sz="3000"/>
            </a:br>
            <a:r>
              <a:rPr b="1" lang="ru-RU" sz="3000" spc="-1" strike="noStrike">
                <a:solidFill>
                  <a:srgbClr val="c00000"/>
                </a:solidFill>
                <a:latin typeface="Georgia"/>
                <a:ea typeface="Times New Roman"/>
              </a:rPr>
              <a:t>раннего возраста</a:t>
            </a:r>
            <a:endParaRPr b="0" lang="en-US" sz="3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5076360" y="4157280"/>
            <a:ext cx="2801880" cy="10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mbria"/>
              </a:rPr>
              <a:t>Воспитатель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mbria"/>
              </a:rPr>
              <a:t>Велиева М. Р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101600" y="260280"/>
            <a:ext cx="58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г. Мурманска № 1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Рисунок 3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433872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shape1035" descr=""/>
          <p:cNvPicPr/>
          <p:nvPr/>
        </p:nvPicPr>
        <p:blipFill>
          <a:blip r:embed="rId1"/>
          <a:srcRect l="0" t="9763" r="0" b="5014"/>
          <a:stretch/>
        </p:blipFill>
        <p:spPr>
          <a:xfrm>
            <a:off x="1476360" y="3573360"/>
            <a:ext cx="2967120" cy="2880000"/>
          </a:xfrm>
          <a:prstGeom prst="rect">
            <a:avLst/>
          </a:prstGeom>
          <a:ln w="1908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0" name="shape1040" descr=""/>
          <p:cNvPicPr/>
          <p:nvPr/>
        </p:nvPicPr>
        <p:blipFill>
          <a:blip r:embed="rId2"/>
          <a:srcRect l="0" t="4341" r="0" b="27410"/>
          <a:stretch/>
        </p:blipFill>
        <p:spPr>
          <a:xfrm>
            <a:off x="4932360" y="1916280"/>
            <a:ext cx="3164040" cy="2881080"/>
          </a:xfrm>
          <a:prstGeom prst="rect">
            <a:avLst/>
          </a:prstGeom>
          <a:ln w="1260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1" name="shape1034" descr=""/>
          <p:cNvPicPr/>
          <p:nvPr/>
        </p:nvPicPr>
        <p:blipFill>
          <a:blip r:embed="rId3"/>
          <a:srcRect l="0" t="20373" r="0" b="17669"/>
          <a:stretch/>
        </p:blipFill>
        <p:spPr>
          <a:xfrm>
            <a:off x="250920" y="260280"/>
            <a:ext cx="3697200" cy="2879640"/>
          </a:xfrm>
          <a:prstGeom prst="rect">
            <a:avLst/>
          </a:prstGeom>
          <a:ln w="1908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Рисунок 1" descr=""/>
          <p:cNvPicPr/>
          <p:nvPr/>
        </p:nvPicPr>
        <p:blipFill>
          <a:blip r:embed="rId1"/>
          <a:srcRect l="1176" t="0" r="0" b="0"/>
          <a:stretch/>
        </p:blipFill>
        <p:spPr>
          <a:xfrm>
            <a:off x="250920" y="189000"/>
            <a:ext cx="8532720" cy="5756040"/>
          </a:xfrm>
          <a:prstGeom prst="rect">
            <a:avLst/>
          </a:prstGeom>
          <a:ln w="0">
            <a:noFill/>
          </a:ln>
        </p:spPr>
      </p:pic>
      <p:pic>
        <p:nvPicPr>
          <p:cNvPr id="283" name="shape1025" descr=""/>
          <p:cNvPicPr/>
          <p:nvPr/>
        </p:nvPicPr>
        <p:blipFill>
          <a:blip r:embed="rId2"/>
          <a:srcRect l="6750" t="5669" r="1902" b="25165"/>
          <a:stretch/>
        </p:blipFill>
        <p:spPr>
          <a:xfrm>
            <a:off x="3635280" y="1125360"/>
            <a:ext cx="4105440" cy="2733840"/>
          </a:xfrm>
          <a:prstGeom prst="rect">
            <a:avLst/>
          </a:prstGeom>
          <a:ln w="1908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4" name="TextBox 1" descr=""/>
          <p:cNvPicPr/>
          <p:nvPr/>
        </p:nvPicPr>
        <p:blipFill>
          <a:blip r:embed="rId3"/>
          <a:stretch/>
        </p:blipFill>
        <p:spPr>
          <a:xfrm>
            <a:off x="1255680" y="6010200"/>
            <a:ext cx="670572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2"/>
          <p:cNvSpPr/>
          <p:nvPr/>
        </p:nvSpPr>
        <p:spPr>
          <a:xfrm>
            <a:off x="395280" y="486900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Без игры нет, и не может быть полноценного умственного развития. Игра – это огромное светлое окно, через которое в духовный мир ребёнка вливается живительный поток представлений, понят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.А. Сухомл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shape1025" descr=""/>
          <p:cNvPicPr/>
          <p:nvPr/>
        </p:nvPicPr>
        <p:blipFill>
          <a:blip r:embed="rId1"/>
          <a:srcRect l="6750" t="5669" r="1902" b="25165"/>
          <a:stretch/>
        </p:blipFill>
        <p:spPr>
          <a:xfrm>
            <a:off x="1042920" y="836640"/>
            <a:ext cx="5507280" cy="3668760"/>
          </a:xfrm>
          <a:prstGeom prst="rect">
            <a:avLst/>
          </a:prstGeom>
          <a:ln w="1908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2"/>
          <p:cNvSpPr/>
          <p:nvPr/>
        </p:nvSpPr>
        <p:spPr>
          <a:xfrm>
            <a:off x="324000" y="765000"/>
            <a:ext cx="7056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дошкольников с русскими народными сказками, на основе сочетания традиционных форм работы и новых возмож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ознавательных интересов детей, расширение кругозора, развитие всех компонентов устной речи; совершенствование мелкой моторики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ворческих способностей посредством театрализованных игр и режиссерской деятельности, развитие мышления, памяти, внимания, воображения,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предметно – пространственной  среды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ющей развитию самостоятельности, творческому самовыражению до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shape1025" descr=""/>
          <p:cNvPicPr/>
          <p:nvPr/>
        </p:nvPicPr>
        <p:blipFill>
          <a:blip r:embed="rId1"/>
          <a:srcRect l="6750" t="5669" r="1902" b="25165"/>
          <a:stretch/>
        </p:blipFill>
        <p:spPr>
          <a:xfrm>
            <a:off x="468360" y="981000"/>
            <a:ext cx="7242120" cy="4824360"/>
          </a:xfrm>
          <a:prstGeom prst="rect">
            <a:avLst/>
          </a:prstGeom>
          <a:ln w="1908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shape1030" descr=""/>
          <p:cNvPicPr/>
          <p:nvPr/>
        </p:nvPicPr>
        <p:blipFill>
          <a:blip r:embed="rId1"/>
          <a:srcRect l="3595" t="38992" r="1984" b="12926"/>
          <a:stretch/>
        </p:blipFill>
        <p:spPr>
          <a:xfrm>
            <a:off x="1828800" y="4903920"/>
            <a:ext cx="35416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2" name="Rectangle 8"/>
          <p:cNvSpPr/>
          <p:nvPr/>
        </p:nvSpPr>
        <p:spPr>
          <a:xfrm>
            <a:off x="674640" y="6840"/>
            <a:ext cx="6345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  <a:ea typeface="Times New Roman"/>
              </a:rPr>
              <a:t>«Представление сказочных герое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shape1028" descr=""/>
          <p:cNvPicPr/>
          <p:nvPr/>
        </p:nvPicPr>
        <p:blipFill>
          <a:blip r:embed="rId2"/>
          <a:srcRect l="0" t="5619" r="5828" b="5834"/>
          <a:stretch/>
        </p:blipFill>
        <p:spPr>
          <a:xfrm>
            <a:off x="3871800" y="3000240"/>
            <a:ext cx="263520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4" name="shape1029" descr=""/>
          <p:cNvPicPr/>
          <p:nvPr/>
        </p:nvPicPr>
        <p:blipFill>
          <a:blip r:embed="rId3"/>
          <a:srcRect l="0" t="23465" r="3595" b="15244"/>
          <a:stretch/>
        </p:blipFill>
        <p:spPr>
          <a:xfrm>
            <a:off x="277920" y="3021120"/>
            <a:ext cx="310356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5" name="shape1027" descr=""/>
          <p:cNvPicPr/>
          <p:nvPr/>
        </p:nvPicPr>
        <p:blipFill>
          <a:blip r:embed="rId4"/>
          <a:srcRect l="3525" t="6575" r="0" b="15496"/>
          <a:stretch/>
        </p:blipFill>
        <p:spPr>
          <a:xfrm>
            <a:off x="879480" y="1117440"/>
            <a:ext cx="2992320" cy="162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6" name="shape1026" descr=""/>
          <p:cNvPicPr/>
          <p:nvPr/>
        </p:nvPicPr>
        <p:blipFill>
          <a:blip r:embed="rId5"/>
          <a:srcRect l="0" t="24504" r="0" b="15629"/>
          <a:stretch/>
        </p:blipFill>
        <p:spPr>
          <a:xfrm>
            <a:off x="4356000" y="1133640"/>
            <a:ext cx="2598840" cy="161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shape1034" descr=""/>
          <p:cNvPicPr/>
          <p:nvPr/>
        </p:nvPicPr>
        <p:blipFill>
          <a:blip r:embed="rId1"/>
          <a:srcRect l="0" t="20373" r="0" b="17669"/>
          <a:stretch/>
        </p:blipFill>
        <p:spPr>
          <a:xfrm>
            <a:off x="554040" y="260280"/>
            <a:ext cx="4826160" cy="3781440"/>
          </a:xfrm>
          <a:prstGeom prst="rect">
            <a:avLst/>
          </a:prstGeom>
          <a:ln w="1908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8" name="Схема 1" descr=""/>
          <p:cNvPicPr/>
          <p:nvPr/>
        </p:nvPicPr>
        <p:blipFill>
          <a:blip r:embed="rId2"/>
          <a:stretch/>
        </p:blipFill>
        <p:spPr>
          <a:xfrm>
            <a:off x="2541600" y="4400640"/>
            <a:ext cx="5718240" cy="20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179280" y="1484280"/>
            <a:ext cx="21243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6c911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shape1033" descr=""/>
          <p:cNvPicPr/>
          <p:nvPr/>
        </p:nvPicPr>
        <p:blipFill>
          <a:blip r:embed="rId1"/>
          <a:srcRect l="20339" t="24000" r="21000" b="25625"/>
          <a:stretch/>
        </p:blipFill>
        <p:spPr>
          <a:xfrm>
            <a:off x="250920" y="189000"/>
            <a:ext cx="3554280" cy="424800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1" name="Схема 2" descr=""/>
          <p:cNvPicPr/>
          <p:nvPr/>
        </p:nvPicPr>
        <p:blipFill>
          <a:blip r:embed="rId2"/>
          <a:stretch/>
        </p:blipFill>
        <p:spPr>
          <a:xfrm>
            <a:off x="3267000" y="2389320"/>
            <a:ext cx="6108840" cy="40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"/>
          <p:cNvSpPr/>
          <p:nvPr/>
        </p:nvSpPr>
        <p:spPr>
          <a:xfrm>
            <a:off x="250920" y="1470960"/>
            <a:ext cx="4105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 для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ализованн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2"/>
          <p:cNvSpPr/>
          <p:nvPr/>
        </p:nvSpPr>
        <p:spPr>
          <a:xfrm>
            <a:off x="539640" y="33336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  <a:ea typeface="Times New Roman"/>
              </a:rPr>
              <a:t>Формы реализ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shape1032" descr=""/>
          <p:cNvPicPr/>
          <p:nvPr/>
        </p:nvPicPr>
        <p:blipFill>
          <a:blip r:embed="rId1"/>
          <a:srcRect l="0" t="0" r="0" b="19064"/>
          <a:stretch/>
        </p:blipFill>
        <p:spPr>
          <a:xfrm>
            <a:off x="4500720" y="1844640"/>
            <a:ext cx="4005000" cy="4321080"/>
          </a:xfrm>
          <a:prstGeom prst="rect">
            <a:avLst/>
          </a:prstGeom>
          <a:ln w="1908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shape1031" descr=""/>
          <p:cNvPicPr/>
          <p:nvPr/>
        </p:nvPicPr>
        <p:blipFill>
          <a:blip r:embed="rId1"/>
          <a:srcRect l="28444" t="31315" r="35442" b="0"/>
          <a:stretch/>
        </p:blipFill>
        <p:spPr>
          <a:xfrm>
            <a:off x="5219640" y="1052640"/>
            <a:ext cx="3497400" cy="4608360"/>
          </a:xfrm>
          <a:prstGeom prst="rect">
            <a:avLst/>
          </a:prstGeom>
          <a:ln w="1908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6" name="Rectangle 1"/>
          <p:cNvSpPr/>
          <p:nvPr/>
        </p:nvSpPr>
        <p:spPr>
          <a:xfrm>
            <a:off x="324000" y="258480"/>
            <a:ext cx="2735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  <a:ea typeface="Calibri"/>
              </a:rPr>
              <a:t>Мет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shape1038" descr=""/>
          <p:cNvPicPr/>
          <p:nvPr/>
        </p:nvPicPr>
        <p:blipFill>
          <a:blip r:embed="rId2"/>
          <a:srcRect l="0" t="25312" r="0" b="26552"/>
          <a:stretch/>
        </p:blipFill>
        <p:spPr>
          <a:xfrm>
            <a:off x="684360" y="3645000"/>
            <a:ext cx="4208400" cy="2808360"/>
          </a:xfrm>
          <a:prstGeom prst="rect">
            <a:avLst/>
          </a:prstGeom>
          <a:ln w="1908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8" name="Схема 7" descr=""/>
          <p:cNvPicPr/>
          <p:nvPr/>
        </p:nvPicPr>
        <p:blipFill>
          <a:blip r:embed="rId3"/>
          <a:stretch/>
        </p:blipFill>
        <p:spPr>
          <a:xfrm>
            <a:off x="311040" y="1212840"/>
            <a:ext cx="428004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24T17:25:41Z</dcterms:created>
  <dc:creator>Негр</dc:creator>
  <dc:description/>
  <dc:language>en-US</dc:language>
  <cp:lastModifiedBy>Негр</cp:lastModifiedBy>
  <dcterms:modified xsi:type="dcterms:W3CDTF">2025-04-12T12:23:20Z</dcterms:modified>
  <cp:revision>49</cp:revision>
  <dc:subject/>
  <dc:title>Методическая разработка  по использованию многофункционального дидактического пособия  « Сказка глазами наших детей »</dc:title>
</cp:coreProperties>
</file>