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20.jpeg" ContentType="image/jpeg"/>
  <Override PartName="/ppt/media/image18.png" ContentType="image/png"/>
  <Override PartName="/ppt/media/image15.jpeg" ContentType="image/jpeg"/>
  <Override PartName="/ppt/media/image19.jpeg" ContentType="image/jpeg"/>
  <Override PartName="/ppt/media/image16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8720" y="746280"/>
            <a:ext cx="4969080" cy="372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A17B356-1658-4419-9A39-EB7CD629A4E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Номер слайда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23CF30E-34C0-4D73-8026-128BE4D1739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Номер слайда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F97BB50-E6D7-469E-BE84-ADF2EA7161E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Номер слайда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9B102AC-5513-42F7-93DD-5213E123259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Номер слайда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D5191AB-6366-41C6-B5C7-B2D07CCF7EF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Номер слайда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D15923B-E1B6-4809-A23A-F380F05CAF4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Номер слайда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03930BE-4F04-4927-A909-98205907320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Номер слайда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9F76B97-FAE5-4A55-A41E-C10C7EA5BF6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Номер слайда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1A79D94-700F-4DB0-A489-797457926C3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3237-DE3B-468F-89DB-7ED806C7E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33D0-FFC9-40DF-BAA5-730EDC42F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75B9-15FA-4253-BF0E-B9E076DE3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C2FE-1A57-4F65-BDAA-AA1ECD125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0802-018C-486A-B0D9-3E873FA29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C360-B4C4-4F8D-BEDE-1A6DB1FF0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8AC0-CDB3-45B2-BD92-13B6785EE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6984-9672-48FF-9F81-D6A42AC85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0436-E8A9-4DFF-B30F-429662C34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0F09-F425-45BD-98F3-1D53F59C2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49D5-2233-4C78-8CD8-5266E4166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35E9-F9AA-4760-AC59-5E9CBF869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9F1E0B9-28C5-4C4E-88F7-E16144C32E0B}" type="datetime">
              <a:rPr b="0" lang="ru-RU" sz="1200" spc="-1" strike="noStrike">
                <a:solidFill>
                  <a:srgbClr val="898989"/>
                </a:solidFill>
                <a:latin typeface="Aria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D72CE50-FE54-4996-9BFA-B3D7C0BD1516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олилиния 14"/>
          <p:cNvSpPr/>
          <p:nvPr/>
        </p:nvSpPr>
        <p:spPr>
          <a:xfrm>
            <a:off x="1073160" y="-15840"/>
            <a:ext cx="8070840" cy="6873840"/>
          </a:xfrm>
          <a:custGeom>
            <a:avLst/>
            <a:gdLst/>
            <a:ahLst/>
            <a:rect l="l" t="t" r="r" b="b"/>
            <a:pathLst>
              <a:path w="8121311" h="6881247">
                <a:moveTo>
                  <a:pt x="8113562" y="0"/>
                </a:moveTo>
                <a:lnTo>
                  <a:pt x="4696573" y="7878"/>
                </a:lnTo>
                <a:lnTo>
                  <a:pt x="4525704" y="61993"/>
                </a:lnTo>
                <a:lnTo>
                  <a:pt x="4250674" y="151302"/>
                </a:lnTo>
                <a:lnTo>
                  <a:pt x="3890274" y="278969"/>
                </a:lnTo>
                <a:lnTo>
                  <a:pt x="3626932" y="383777"/>
                </a:lnTo>
                <a:lnTo>
                  <a:pt x="3318645" y="522357"/>
                </a:lnTo>
                <a:cubicBezTo>
                  <a:pt x="3228862" y="565300"/>
                  <a:pt x="3168440" y="591013"/>
                  <a:pt x="3049297" y="651187"/>
                </a:cubicBezTo>
                <a:cubicBezTo>
                  <a:pt x="2930154" y="711361"/>
                  <a:pt x="2754829" y="805998"/>
                  <a:pt x="2603785" y="883403"/>
                </a:cubicBezTo>
                <a:lnTo>
                  <a:pt x="2200958" y="1139125"/>
                </a:lnTo>
                <a:lnTo>
                  <a:pt x="1883243" y="1356102"/>
                </a:lnTo>
                <a:cubicBezTo>
                  <a:pt x="1770988" y="1449092"/>
                  <a:pt x="1651705" y="1544664"/>
                  <a:pt x="1546478" y="1635071"/>
                </a:cubicBezTo>
                <a:cubicBezTo>
                  <a:pt x="1441251" y="1725478"/>
                  <a:pt x="1350080" y="1810718"/>
                  <a:pt x="1251881" y="1898542"/>
                </a:cubicBezTo>
                <a:lnTo>
                  <a:pt x="964904" y="2193139"/>
                </a:lnTo>
                <a:cubicBezTo>
                  <a:pt x="860312" y="2322249"/>
                  <a:pt x="809060" y="2378968"/>
                  <a:pt x="651128" y="2580468"/>
                </a:cubicBezTo>
                <a:cubicBezTo>
                  <a:pt x="486975" y="2833155"/>
                  <a:pt x="459982" y="2880101"/>
                  <a:pt x="364409" y="3029918"/>
                </a:cubicBezTo>
                <a:lnTo>
                  <a:pt x="202065" y="3382311"/>
                </a:lnTo>
                <a:cubicBezTo>
                  <a:pt x="160607" y="3517986"/>
                  <a:pt x="130579" y="3607940"/>
                  <a:pt x="77691" y="3789335"/>
                </a:cubicBezTo>
                <a:cubicBezTo>
                  <a:pt x="35436" y="3954823"/>
                  <a:pt x="27472" y="4063160"/>
                  <a:pt x="8077" y="4224838"/>
                </a:cubicBezTo>
                <a:cubicBezTo>
                  <a:pt x="-8390" y="4392672"/>
                  <a:pt x="5624" y="4469065"/>
                  <a:pt x="4397" y="4591179"/>
                </a:cubicBezTo>
                <a:cubicBezTo>
                  <a:pt x="30227" y="4730750"/>
                  <a:pt x="40818" y="4836031"/>
                  <a:pt x="81888" y="5009892"/>
                </a:cubicBezTo>
                <a:lnTo>
                  <a:pt x="181981" y="5325928"/>
                </a:lnTo>
                <a:lnTo>
                  <a:pt x="321724" y="5600216"/>
                </a:lnTo>
                <a:lnTo>
                  <a:pt x="519263" y="5902174"/>
                </a:lnTo>
                <a:lnTo>
                  <a:pt x="717189" y="6133260"/>
                </a:lnTo>
                <a:lnTo>
                  <a:pt x="968843" y="6373355"/>
                </a:lnTo>
                <a:lnTo>
                  <a:pt x="1147461" y="6509288"/>
                </a:lnTo>
                <a:lnTo>
                  <a:pt x="1426043" y="6698948"/>
                </a:lnTo>
                <a:lnTo>
                  <a:pt x="1608471" y="6815315"/>
                </a:lnTo>
                <a:lnTo>
                  <a:pt x="1712762" y="6881247"/>
                </a:lnTo>
                <a:lnTo>
                  <a:pt x="8121311" y="6865749"/>
                </a:lnTo>
                <a:lnTo>
                  <a:pt x="8113562" y="0"/>
                </a:lnTo>
                <a:close/>
              </a:path>
            </a:pathLst>
          </a:custGeom>
          <a:gradFill rotWithShape="0">
            <a:gsLst>
              <a:gs pos="0">
                <a:srgbClr val="00147f"/>
              </a:gs>
              <a:gs pos="100000">
                <a:srgbClr val="002bd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олилиния 15"/>
          <p:cNvSpPr/>
          <p:nvPr/>
        </p:nvSpPr>
        <p:spPr>
          <a:xfrm>
            <a:off x="0" y="3240"/>
            <a:ext cx="5424480" cy="6881760"/>
          </a:xfrm>
          <a:custGeom>
            <a:avLst/>
            <a:gdLst/>
            <a:ahLst/>
            <a:rect l="l" t="t" r="r" b="b"/>
            <a:pathLst>
              <a:path w="5424148" h="6881247">
                <a:moveTo>
                  <a:pt x="2417736" y="6865749"/>
                </a:moveTo>
                <a:lnTo>
                  <a:pt x="0" y="6881247"/>
                </a:lnTo>
                <a:lnTo>
                  <a:pt x="0" y="7749"/>
                </a:lnTo>
                <a:lnTo>
                  <a:pt x="5424148" y="0"/>
                </a:lnTo>
                <a:lnTo>
                  <a:pt x="5222025" y="65674"/>
                </a:lnTo>
                <a:lnTo>
                  <a:pt x="5021451" y="123986"/>
                </a:lnTo>
                <a:lnTo>
                  <a:pt x="4808285" y="212779"/>
                </a:lnTo>
                <a:lnTo>
                  <a:pt x="4355024" y="371959"/>
                </a:lnTo>
                <a:lnTo>
                  <a:pt x="3890075" y="588935"/>
                </a:lnTo>
                <a:lnTo>
                  <a:pt x="3440624" y="821410"/>
                </a:lnTo>
                <a:lnTo>
                  <a:pt x="2998664" y="1084752"/>
                </a:lnTo>
                <a:lnTo>
                  <a:pt x="2518475" y="1425844"/>
                </a:lnTo>
                <a:lnTo>
                  <a:pt x="2053525" y="1821051"/>
                </a:lnTo>
                <a:lnTo>
                  <a:pt x="1782822" y="2095564"/>
                </a:lnTo>
                <a:lnTo>
                  <a:pt x="1511472" y="2406047"/>
                </a:lnTo>
                <a:lnTo>
                  <a:pt x="1247614" y="2781946"/>
                </a:lnTo>
                <a:lnTo>
                  <a:pt x="1046136" y="3122908"/>
                </a:lnTo>
                <a:lnTo>
                  <a:pt x="852148" y="3603356"/>
                </a:lnTo>
                <a:lnTo>
                  <a:pt x="759546" y="4005924"/>
                </a:lnTo>
                <a:lnTo>
                  <a:pt x="728420" y="4316278"/>
                </a:lnTo>
                <a:lnTo>
                  <a:pt x="743789" y="4707416"/>
                </a:lnTo>
                <a:lnTo>
                  <a:pt x="829159" y="5098942"/>
                </a:lnTo>
                <a:lnTo>
                  <a:pt x="945397" y="5416657"/>
                </a:lnTo>
                <a:lnTo>
                  <a:pt x="1185620" y="5811864"/>
                </a:lnTo>
                <a:lnTo>
                  <a:pt x="1456841" y="6133390"/>
                </a:lnTo>
                <a:cubicBezTo>
                  <a:pt x="1552155" y="6241447"/>
                  <a:pt x="1616990" y="6296165"/>
                  <a:pt x="1697064" y="6377552"/>
                </a:cubicBezTo>
                <a:lnTo>
                  <a:pt x="2007031" y="6617776"/>
                </a:lnTo>
                <a:lnTo>
                  <a:pt x="2255003" y="6780508"/>
                </a:lnTo>
                <a:lnTo>
                  <a:pt x="2471980" y="6873498"/>
                </a:lnTo>
                <a:lnTo>
                  <a:pt x="2471980" y="6873498"/>
                </a:lnTo>
              </a:path>
            </a:pathLst>
          </a:custGeom>
          <a:gradFill rotWithShape="0">
            <a:gsLst>
              <a:gs pos="0">
                <a:srgbClr val="ff9900"/>
              </a:gs>
              <a:gs pos="100000">
                <a:srgbClr val="f5d97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"/>
          <p:cNvSpPr/>
          <p:nvPr/>
        </p:nvSpPr>
        <p:spPr>
          <a:xfrm>
            <a:off x="1403280" y="1557360"/>
            <a:ext cx="7489800" cy="51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М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ПОЛЬЗОВАНИЕ КИНЕЗИОЛОГИЧЕСКИХ УПРАЖНЕНИЙ В РЕШЕНИИ ОБРАЗОВАТЕЛЬНЫХ ЗАДАЧ НА УРОКАХ РУССКОГО ЯЗЫКА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полнил: учитель русского языка 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тературы МБОУ Лопатинской СО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укова Л.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Группа 715"/>
          <p:cNvGrpSpPr/>
          <p:nvPr/>
        </p:nvGrpSpPr>
        <p:grpSpPr>
          <a:xfrm>
            <a:off x="0" y="0"/>
            <a:ext cx="9144000" cy="901800"/>
            <a:chOff x="0" y="0"/>
            <a:chExt cx="9144000" cy="901800"/>
          </a:xfrm>
        </p:grpSpPr>
        <p:grpSp>
          <p:nvGrpSpPr>
            <p:cNvPr id="52" name="Прямоугольник 34"/>
            <p:cNvGrpSpPr/>
            <p:nvPr/>
          </p:nvGrpSpPr>
          <p:grpSpPr>
            <a:xfrm>
              <a:off x="0" y="0"/>
              <a:ext cx="9144000" cy="322560"/>
              <a:chOff x="0" y="0"/>
              <a:chExt cx="9144000" cy="322560"/>
            </a:xfrm>
          </p:grpSpPr>
          <p:pic>
            <p:nvPicPr>
              <p:cNvPr id="53" name="Прямоугольник 34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9144000" cy="322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" name="Text Box 51"/>
              <p:cNvSpPr/>
              <p:nvPr/>
            </p:nvSpPr>
            <p:spPr>
              <a:xfrm>
                <a:off x="18360" y="19440"/>
                <a:ext cx="9114480" cy="291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3520" rIns="83520" tIns="41760" bIns="4176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4683240"/>
                    <a:tab algn="l" pos="4915080"/>
                    <a:tab algn="l" pos="5529240"/>
                    <a:tab algn="l" pos="6143760"/>
                    <a:tab algn="l" pos="6757920"/>
                    <a:tab algn="l" pos="7372440"/>
                    <a:tab algn="l" pos="7986600"/>
                    <a:tab algn="l" pos="8601120"/>
                    <a:tab algn="l" pos="9215280"/>
                    <a:tab algn="l" pos="9829800"/>
                    <a:tab algn="l" pos="10444320"/>
                  </a:tabLst>
                </a:pP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" name="Прямоугольник 44"/>
            <p:cNvGrpSpPr/>
            <p:nvPr/>
          </p:nvGrpSpPr>
          <p:grpSpPr>
            <a:xfrm>
              <a:off x="0" y="289440"/>
              <a:ext cx="9144000" cy="322560"/>
              <a:chOff x="0" y="289440"/>
              <a:chExt cx="9144000" cy="322560"/>
            </a:xfrm>
          </p:grpSpPr>
          <p:pic>
            <p:nvPicPr>
              <p:cNvPr id="56" name="Прямоугольник 44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289440"/>
                <a:ext cx="9144000" cy="322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" name="Text Box 54"/>
              <p:cNvSpPr/>
              <p:nvPr/>
            </p:nvSpPr>
            <p:spPr>
              <a:xfrm>
                <a:off x="18360" y="309240"/>
                <a:ext cx="91144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3520" rIns="83520" tIns="41760" bIns="4176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4683240"/>
                    <a:tab algn="l" pos="4915080"/>
                    <a:tab algn="l" pos="5529240"/>
                    <a:tab algn="l" pos="6143760"/>
                    <a:tab algn="l" pos="6757920"/>
                    <a:tab algn="l" pos="7372440"/>
                    <a:tab algn="l" pos="7986600"/>
                    <a:tab algn="l" pos="8601120"/>
                    <a:tab algn="l" pos="9215280"/>
                    <a:tab algn="l" pos="9829800"/>
                    <a:tab algn="l" pos="10444320"/>
                  </a:tabLst>
                </a:pP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Прямоугольник 45"/>
            <p:cNvGrpSpPr/>
            <p:nvPr/>
          </p:nvGrpSpPr>
          <p:grpSpPr>
            <a:xfrm>
              <a:off x="0" y="579240"/>
              <a:ext cx="9144000" cy="322560"/>
              <a:chOff x="0" y="579240"/>
              <a:chExt cx="9144000" cy="322560"/>
            </a:xfrm>
          </p:grpSpPr>
          <p:pic>
            <p:nvPicPr>
              <p:cNvPr id="59" name="Прямоугольник 45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579240"/>
                <a:ext cx="9144000" cy="322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" name="Text Box 57"/>
              <p:cNvSpPr/>
              <p:nvPr/>
            </p:nvSpPr>
            <p:spPr>
              <a:xfrm>
                <a:off x="16560" y="600480"/>
                <a:ext cx="91144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3520" rIns="83520" tIns="41760" bIns="4176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4683240"/>
                    <a:tab algn="l" pos="4915080"/>
                    <a:tab algn="l" pos="5529240"/>
                    <a:tab algn="l" pos="6143760"/>
                    <a:tab algn="l" pos="6757920"/>
                    <a:tab algn="l" pos="7372440"/>
                    <a:tab algn="l" pos="7986600"/>
                    <a:tab algn="l" pos="8601120"/>
                    <a:tab algn="l" pos="9215280"/>
                    <a:tab algn="l" pos="9829800"/>
                    <a:tab algn="l" pos="10444320"/>
                  </a:tabLst>
                </a:pP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1" name="Прямоугольник 2"/>
          <p:cNvSpPr/>
          <p:nvPr/>
        </p:nvSpPr>
        <p:spPr>
          <a:xfrm>
            <a:off x="1403280" y="-27000"/>
            <a:ext cx="756144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УНИЦИПАЛЬНОЕ БЮДЖЕТНОЕ ОБЩЕОБРАЗОВАТЕЛЬНОЕ УЧРЕЖДЕНИЕ ЛОПАТИНСКАЯ СРЕДНЯЯ ОБЩЕОБРАЗОВАТЕЛЬНАЯ ШКОЛА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8" descr="C:\Users\mila_\OneDrive\Рабочий стол\Изображение WhatsApp 2024-10-10 в 17.49.06_49e2a363.jpg"/>
          <p:cNvPicPr/>
          <p:nvPr/>
        </p:nvPicPr>
        <p:blipFill>
          <a:blip r:embed="rId4"/>
          <a:stretch/>
        </p:blipFill>
        <p:spPr>
          <a:xfrm>
            <a:off x="0" y="0"/>
            <a:ext cx="1355760" cy="8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CB22A3E-CB30-4366-B062-32FF93A339BC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Группа 715"/>
          <p:cNvGrpSpPr/>
          <p:nvPr/>
        </p:nvGrpSpPr>
        <p:grpSpPr>
          <a:xfrm>
            <a:off x="0" y="0"/>
            <a:ext cx="9158400" cy="901800"/>
            <a:chOff x="0" y="0"/>
            <a:chExt cx="9158400" cy="901800"/>
          </a:xfrm>
        </p:grpSpPr>
        <p:grpSp>
          <p:nvGrpSpPr>
            <p:cNvPr id="198" name="Прямоугольник 34"/>
            <p:cNvGrpSpPr/>
            <p:nvPr/>
          </p:nvGrpSpPr>
          <p:grpSpPr>
            <a:xfrm>
              <a:off x="0" y="0"/>
              <a:ext cx="9158400" cy="322560"/>
              <a:chOff x="0" y="0"/>
              <a:chExt cx="9158400" cy="322560"/>
            </a:xfrm>
          </p:grpSpPr>
          <p:pic>
            <p:nvPicPr>
              <p:cNvPr id="199" name="Прямоугольник 34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9158400" cy="322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Text Box 51"/>
              <p:cNvSpPr/>
              <p:nvPr/>
            </p:nvSpPr>
            <p:spPr>
              <a:xfrm>
                <a:off x="18360" y="19440"/>
                <a:ext cx="9128880" cy="291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3520" rIns="83520" tIns="41760" bIns="4176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4683240"/>
                    <a:tab algn="l" pos="4915080"/>
                    <a:tab algn="l" pos="5529240"/>
                    <a:tab algn="l" pos="6143760"/>
                    <a:tab algn="l" pos="6757920"/>
                    <a:tab algn="l" pos="7372440"/>
                    <a:tab algn="l" pos="7986600"/>
                    <a:tab algn="l" pos="8601120"/>
                    <a:tab algn="l" pos="9215280"/>
                    <a:tab algn="l" pos="9829800"/>
                    <a:tab algn="l" pos="10444320"/>
                  </a:tabLst>
                </a:pP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Прямоугольник 44"/>
            <p:cNvGrpSpPr/>
            <p:nvPr/>
          </p:nvGrpSpPr>
          <p:grpSpPr>
            <a:xfrm>
              <a:off x="0" y="289440"/>
              <a:ext cx="9158400" cy="322560"/>
              <a:chOff x="0" y="289440"/>
              <a:chExt cx="9158400" cy="322560"/>
            </a:xfrm>
          </p:grpSpPr>
          <p:pic>
            <p:nvPicPr>
              <p:cNvPr id="202" name="Прямоугольник 44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289440"/>
                <a:ext cx="9158400" cy="322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Text Box 54"/>
              <p:cNvSpPr/>
              <p:nvPr/>
            </p:nvSpPr>
            <p:spPr>
              <a:xfrm>
                <a:off x="18360" y="309240"/>
                <a:ext cx="91288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3520" rIns="83520" tIns="41760" bIns="4176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4683240"/>
                    <a:tab algn="l" pos="4915080"/>
                    <a:tab algn="l" pos="5529240"/>
                    <a:tab algn="l" pos="6143760"/>
                    <a:tab algn="l" pos="6757920"/>
                    <a:tab algn="l" pos="7372440"/>
                    <a:tab algn="l" pos="7986600"/>
                    <a:tab algn="l" pos="8601120"/>
                    <a:tab algn="l" pos="9215280"/>
                    <a:tab algn="l" pos="9829800"/>
                    <a:tab algn="l" pos="10444320"/>
                  </a:tabLst>
                </a:pP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4" name="Прямоугольник 45"/>
            <p:cNvGrpSpPr/>
            <p:nvPr/>
          </p:nvGrpSpPr>
          <p:grpSpPr>
            <a:xfrm>
              <a:off x="0" y="579240"/>
              <a:ext cx="9158400" cy="322560"/>
              <a:chOff x="0" y="579240"/>
              <a:chExt cx="9158400" cy="322560"/>
            </a:xfrm>
          </p:grpSpPr>
          <p:pic>
            <p:nvPicPr>
              <p:cNvPr id="205" name="Прямоугольник 45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579240"/>
                <a:ext cx="9158400" cy="322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6" name="Text Box 57"/>
              <p:cNvSpPr/>
              <p:nvPr/>
            </p:nvSpPr>
            <p:spPr>
              <a:xfrm>
                <a:off x="16560" y="600480"/>
                <a:ext cx="91288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3520" rIns="83520" tIns="41760" bIns="4176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4683240"/>
                    <a:tab algn="l" pos="4915080"/>
                    <a:tab algn="l" pos="5529240"/>
                    <a:tab algn="l" pos="6143760"/>
                    <a:tab algn="l" pos="6757920"/>
                    <a:tab algn="l" pos="7372440"/>
                    <a:tab algn="l" pos="7986600"/>
                    <a:tab algn="l" pos="8601120"/>
                    <a:tab algn="l" pos="9215280"/>
                    <a:tab algn="l" pos="9829800"/>
                    <a:tab algn="l" pos="10444320"/>
                  </a:tabLst>
                </a:pP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07" name="Picture 18" descr="C:\Users\mila_\OneDrive\Рабочий стол\Изображение WhatsApp 2024-10-10 в 17.49.06_49e2a363.jpg"/>
          <p:cNvPicPr/>
          <p:nvPr/>
        </p:nvPicPr>
        <p:blipFill>
          <a:blip r:embed="rId4"/>
          <a:stretch/>
        </p:blipFill>
        <p:spPr>
          <a:xfrm>
            <a:off x="0" y="0"/>
            <a:ext cx="1355760" cy="893880"/>
          </a:xfrm>
          <a:prstGeom prst="rect">
            <a:avLst/>
          </a:prstGeom>
          <a:ln w="0">
            <a:noFill/>
          </a:ln>
        </p:spPr>
      </p:pic>
      <p:sp>
        <p:nvSpPr>
          <p:cNvPr id="208" name="Прямоугольник 15"/>
          <p:cNvSpPr/>
          <p:nvPr/>
        </p:nvSpPr>
        <p:spPr>
          <a:xfrm>
            <a:off x="1619280" y="0"/>
            <a:ext cx="712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УНИЦИПАЛЬНОЕ БЮДЖЕТНОЕ ОБЩЕОБРАЗОВАТЕЛЬНОЕ УЧРЕЖДЕНИЕ ЛОПАТИНСКАЯ СРЕДНЯЯ ОБЩЕОБРАЗОВАТЕЛЬНАЯ ШКОЛ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оугольник 17"/>
          <p:cNvSpPr/>
          <p:nvPr/>
        </p:nvSpPr>
        <p:spPr>
          <a:xfrm>
            <a:off x="0" y="836640"/>
            <a:ext cx="9144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вивающая кинезиологическая программа как нельзя лучше справляется с задачами повышения мотивации обучения по всем предметам, концентрации внимания, улучшения памяти, а также в управлении своими эмоциями. Все это подтверждается многолетним опытом. Вот уже несколько лет я провожу со своими учениками кинезиологические упражнения и могу с уверенностью сказать, что они оказывают благотворное влияние не только на коррекцию обучения, но и в развитии интеллекта, улучшении состояния физического здоровья и социальной адаптации детей. Наблюдая за детьми на уроках, во внеурочной деятельности, делая анализы письменных работ, мне стали объяснимы ошибки, сделанные детьми, понятны детские трудности в восприятии того или иного материала, проблемы в общении между детьми и взрослы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35" descr=""/>
          <p:cNvPicPr/>
          <p:nvPr/>
        </p:nvPicPr>
        <p:blipFill>
          <a:blip r:embed="rId5"/>
          <a:stretch/>
        </p:blipFill>
        <p:spPr>
          <a:xfrm>
            <a:off x="826920" y="3068640"/>
            <a:ext cx="749016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Группа 715"/>
          <p:cNvGrpSpPr/>
          <p:nvPr/>
        </p:nvGrpSpPr>
        <p:grpSpPr>
          <a:xfrm>
            <a:off x="-3240" y="4680"/>
            <a:ext cx="9158400" cy="901800"/>
            <a:chOff x="-3240" y="4680"/>
            <a:chExt cx="9158400" cy="901800"/>
          </a:xfrm>
        </p:grpSpPr>
        <p:grpSp>
          <p:nvGrpSpPr>
            <p:cNvPr id="212" name="Прямоугольник 34"/>
            <p:cNvGrpSpPr/>
            <p:nvPr/>
          </p:nvGrpSpPr>
          <p:grpSpPr>
            <a:xfrm>
              <a:off x="-3240" y="4680"/>
              <a:ext cx="9158400" cy="322560"/>
              <a:chOff x="-3240" y="4680"/>
              <a:chExt cx="9158400" cy="322560"/>
            </a:xfrm>
          </p:grpSpPr>
          <p:pic>
            <p:nvPicPr>
              <p:cNvPr id="213" name="Прямоугольник 34" descr=""/>
              <p:cNvPicPr/>
              <p:nvPr/>
            </p:nvPicPr>
            <p:blipFill>
              <a:blip r:embed="rId1"/>
              <a:stretch/>
            </p:blipFill>
            <p:spPr>
              <a:xfrm>
                <a:off x="-3240" y="4680"/>
                <a:ext cx="9158400" cy="322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4" name="Text Box 51"/>
              <p:cNvSpPr/>
              <p:nvPr/>
            </p:nvSpPr>
            <p:spPr>
              <a:xfrm>
                <a:off x="15120" y="24120"/>
                <a:ext cx="9128880" cy="291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3520" rIns="83520" tIns="41760" bIns="4176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4683240"/>
                    <a:tab algn="l" pos="4915080"/>
                    <a:tab algn="l" pos="5529240"/>
                    <a:tab algn="l" pos="6143760"/>
                    <a:tab algn="l" pos="6757920"/>
                    <a:tab algn="l" pos="7372440"/>
                    <a:tab algn="l" pos="7986600"/>
                    <a:tab algn="l" pos="8601120"/>
                    <a:tab algn="l" pos="9215280"/>
                    <a:tab algn="l" pos="9829800"/>
                    <a:tab algn="l" pos="10444320"/>
                  </a:tabLst>
                </a:pP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5" name="Прямоугольник 44"/>
            <p:cNvGrpSpPr/>
            <p:nvPr/>
          </p:nvGrpSpPr>
          <p:grpSpPr>
            <a:xfrm>
              <a:off x="-3240" y="294120"/>
              <a:ext cx="9158400" cy="322560"/>
              <a:chOff x="-3240" y="294120"/>
              <a:chExt cx="9158400" cy="322560"/>
            </a:xfrm>
          </p:grpSpPr>
          <p:pic>
            <p:nvPicPr>
              <p:cNvPr id="216" name="Прямоугольник 44" descr=""/>
              <p:cNvPicPr/>
              <p:nvPr/>
            </p:nvPicPr>
            <p:blipFill>
              <a:blip r:embed="rId2"/>
              <a:stretch/>
            </p:blipFill>
            <p:spPr>
              <a:xfrm>
                <a:off x="-3240" y="294120"/>
                <a:ext cx="9158400" cy="322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7" name="Text Box 54"/>
              <p:cNvSpPr/>
              <p:nvPr/>
            </p:nvSpPr>
            <p:spPr>
              <a:xfrm>
                <a:off x="15120" y="313920"/>
                <a:ext cx="91288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3520" rIns="83520" tIns="41760" bIns="4176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4683240"/>
                    <a:tab algn="l" pos="4915080"/>
                    <a:tab algn="l" pos="5529240"/>
                    <a:tab algn="l" pos="6143760"/>
                    <a:tab algn="l" pos="6757920"/>
                    <a:tab algn="l" pos="7372440"/>
                    <a:tab algn="l" pos="7986600"/>
                    <a:tab algn="l" pos="8601120"/>
                    <a:tab algn="l" pos="9215280"/>
                    <a:tab algn="l" pos="9829800"/>
                    <a:tab algn="l" pos="10444320"/>
                  </a:tabLst>
                </a:pP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8" name="Прямоугольник 45"/>
            <p:cNvGrpSpPr/>
            <p:nvPr/>
          </p:nvGrpSpPr>
          <p:grpSpPr>
            <a:xfrm>
              <a:off x="-3240" y="583920"/>
              <a:ext cx="9158400" cy="322560"/>
              <a:chOff x="-3240" y="583920"/>
              <a:chExt cx="9158400" cy="322560"/>
            </a:xfrm>
          </p:grpSpPr>
          <p:pic>
            <p:nvPicPr>
              <p:cNvPr id="219" name="Прямоугольник 45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583920"/>
                <a:ext cx="9158400" cy="322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0" name="Text Box 57"/>
              <p:cNvSpPr/>
              <p:nvPr/>
            </p:nvSpPr>
            <p:spPr>
              <a:xfrm>
                <a:off x="13320" y="605160"/>
                <a:ext cx="91288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3520" rIns="83520" tIns="41760" bIns="4176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4683240"/>
                    <a:tab algn="l" pos="4915080"/>
                    <a:tab algn="l" pos="5529240"/>
                    <a:tab algn="l" pos="6143760"/>
                    <a:tab algn="l" pos="6757920"/>
                    <a:tab algn="l" pos="7372440"/>
                    <a:tab algn="l" pos="7986600"/>
                    <a:tab algn="l" pos="8601120"/>
                    <a:tab algn="l" pos="9215280"/>
                    <a:tab algn="l" pos="9829800"/>
                    <a:tab algn="l" pos="10444320"/>
                  </a:tabLst>
                </a:pP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1" name="Номер слайда 2"/>
          <p:cNvSpPr/>
          <p:nvPr/>
        </p:nvSpPr>
        <p:spPr>
          <a:xfrm>
            <a:off x="6997680" y="647388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40B0B78-FEB8-4FC3-A89F-FE42C44EF91C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Прямоугольник 24"/>
          <p:cNvSpPr/>
          <p:nvPr/>
        </p:nvSpPr>
        <p:spPr>
          <a:xfrm>
            <a:off x="1476360" y="-27000"/>
            <a:ext cx="741672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УНИЦИПАЛЬНОЕ БЮДЖЕТНОЕ ОБЩЕОБРАЗОВАТЕЛЬНОЕ УЧРЕЖДЕНИЕ ЛОПАТИНСКАЯ СРЕДНЯЯ ОБЩЕОБРАЗОВАТЕЛЬНАЯ ШКОЛА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2"/>
          <p:cNvSpPr/>
          <p:nvPr/>
        </p:nvSpPr>
        <p:spPr>
          <a:xfrm>
            <a:off x="15228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18" descr="C:\Users\mila_\OneDrive\Рабочий стол\Изображение WhatsApp 2024-10-10 в 17.49.06_49e2a363.jpg"/>
          <p:cNvPicPr/>
          <p:nvPr/>
        </p:nvPicPr>
        <p:blipFill>
          <a:blip r:embed="rId4"/>
          <a:stretch/>
        </p:blipFill>
        <p:spPr>
          <a:xfrm>
            <a:off x="0" y="0"/>
            <a:ext cx="1355760" cy="893880"/>
          </a:xfrm>
          <a:prstGeom prst="rect">
            <a:avLst/>
          </a:prstGeom>
          <a:ln w="0">
            <a:noFill/>
          </a:ln>
        </p:spPr>
      </p:pic>
      <p:sp>
        <p:nvSpPr>
          <p:cNvPr id="225" name="Прямоугольник 17"/>
          <p:cNvSpPr/>
          <p:nvPr/>
        </p:nvSpPr>
        <p:spPr>
          <a:xfrm>
            <a:off x="250920" y="1268280"/>
            <a:ext cx="871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В дальнейшем я также планирую продолжить и расширить применение данных методик в своей работе. Подобрать и опробовать новые комплексы упражнений для коррекции проблем обучения на уроках и укрепления здоровья учащих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18" descr="C:\Users\mila_\OneDrive\Рабочий стол\Новая папка\IMG_20241025_150018.jpg"/>
          <p:cNvPicPr/>
          <p:nvPr/>
        </p:nvPicPr>
        <p:blipFill>
          <a:blip r:embed="rId5"/>
          <a:stretch/>
        </p:blipFill>
        <p:spPr>
          <a:xfrm>
            <a:off x="1403280" y="2205000"/>
            <a:ext cx="5973840" cy="44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Группа 715"/>
          <p:cNvGrpSpPr/>
          <p:nvPr/>
        </p:nvGrpSpPr>
        <p:grpSpPr>
          <a:xfrm>
            <a:off x="-3240" y="4680"/>
            <a:ext cx="9158400" cy="901800"/>
            <a:chOff x="-3240" y="4680"/>
            <a:chExt cx="9158400" cy="901800"/>
          </a:xfrm>
        </p:grpSpPr>
        <p:grpSp>
          <p:nvGrpSpPr>
            <p:cNvPr id="228" name="Прямоугольник 34"/>
            <p:cNvGrpSpPr/>
            <p:nvPr/>
          </p:nvGrpSpPr>
          <p:grpSpPr>
            <a:xfrm>
              <a:off x="-3240" y="4680"/>
              <a:ext cx="9158400" cy="322560"/>
              <a:chOff x="-3240" y="4680"/>
              <a:chExt cx="9158400" cy="322560"/>
            </a:xfrm>
          </p:grpSpPr>
          <p:pic>
            <p:nvPicPr>
              <p:cNvPr id="229" name="Прямоугольник 34" descr=""/>
              <p:cNvPicPr/>
              <p:nvPr/>
            </p:nvPicPr>
            <p:blipFill>
              <a:blip r:embed="rId1"/>
              <a:stretch/>
            </p:blipFill>
            <p:spPr>
              <a:xfrm>
                <a:off x="-3240" y="4680"/>
                <a:ext cx="9158400" cy="322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0" name="Text Box 51"/>
              <p:cNvSpPr/>
              <p:nvPr/>
            </p:nvSpPr>
            <p:spPr>
              <a:xfrm>
                <a:off x="15120" y="24120"/>
                <a:ext cx="9128880" cy="291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3520" rIns="83520" tIns="41760" bIns="4176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4683240"/>
                    <a:tab algn="l" pos="4915080"/>
                    <a:tab algn="l" pos="5529240"/>
                    <a:tab algn="l" pos="6143760"/>
                    <a:tab algn="l" pos="6757920"/>
                    <a:tab algn="l" pos="7372440"/>
                    <a:tab algn="l" pos="7986600"/>
                    <a:tab algn="l" pos="8601120"/>
                    <a:tab algn="l" pos="9215280"/>
                    <a:tab algn="l" pos="9829800"/>
                    <a:tab algn="l" pos="10444320"/>
                  </a:tabLst>
                </a:pP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1" name="Прямоугольник 44"/>
            <p:cNvGrpSpPr/>
            <p:nvPr/>
          </p:nvGrpSpPr>
          <p:grpSpPr>
            <a:xfrm>
              <a:off x="-3240" y="294120"/>
              <a:ext cx="9158400" cy="322560"/>
              <a:chOff x="-3240" y="294120"/>
              <a:chExt cx="9158400" cy="322560"/>
            </a:xfrm>
          </p:grpSpPr>
          <p:pic>
            <p:nvPicPr>
              <p:cNvPr id="232" name="Прямоугольник 44" descr=""/>
              <p:cNvPicPr/>
              <p:nvPr/>
            </p:nvPicPr>
            <p:blipFill>
              <a:blip r:embed="rId2"/>
              <a:stretch/>
            </p:blipFill>
            <p:spPr>
              <a:xfrm>
                <a:off x="-3240" y="294120"/>
                <a:ext cx="9158400" cy="322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3" name="Text Box 54"/>
              <p:cNvSpPr/>
              <p:nvPr/>
            </p:nvSpPr>
            <p:spPr>
              <a:xfrm>
                <a:off x="15120" y="313920"/>
                <a:ext cx="91288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3520" rIns="83520" tIns="41760" bIns="4176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4683240"/>
                    <a:tab algn="l" pos="4915080"/>
                    <a:tab algn="l" pos="5529240"/>
                    <a:tab algn="l" pos="6143760"/>
                    <a:tab algn="l" pos="6757920"/>
                    <a:tab algn="l" pos="7372440"/>
                    <a:tab algn="l" pos="7986600"/>
                    <a:tab algn="l" pos="8601120"/>
                    <a:tab algn="l" pos="9215280"/>
                    <a:tab algn="l" pos="9829800"/>
                    <a:tab algn="l" pos="10444320"/>
                  </a:tabLst>
                </a:pP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4" name="Прямоугольник 45"/>
            <p:cNvGrpSpPr/>
            <p:nvPr/>
          </p:nvGrpSpPr>
          <p:grpSpPr>
            <a:xfrm>
              <a:off x="-3240" y="583920"/>
              <a:ext cx="9158400" cy="322560"/>
              <a:chOff x="-3240" y="583920"/>
              <a:chExt cx="9158400" cy="322560"/>
            </a:xfrm>
          </p:grpSpPr>
          <p:pic>
            <p:nvPicPr>
              <p:cNvPr id="235" name="Прямоугольник 45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583920"/>
                <a:ext cx="9158400" cy="322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6" name="Text Box 57"/>
              <p:cNvSpPr/>
              <p:nvPr/>
            </p:nvSpPr>
            <p:spPr>
              <a:xfrm>
                <a:off x="13320" y="605160"/>
                <a:ext cx="91288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3520" rIns="83520" tIns="41760" bIns="4176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4683240"/>
                    <a:tab algn="l" pos="4915080"/>
                    <a:tab algn="l" pos="5529240"/>
                    <a:tab algn="l" pos="6143760"/>
                    <a:tab algn="l" pos="6757920"/>
                    <a:tab algn="l" pos="7372440"/>
                    <a:tab algn="l" pos="7986600"/>
                    <a:tab algn="l" pos="8601120"/>
                    <a:tab algn="l" pos="9215280"/>
                    <a:tab algn="l" pos="9829800"/>
                    <a:tab algn="l" pos="10444320"/>
                  </a:tabLst>
                </a:pP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Номер слайда 2"/>
          <p:cNvSpPr/>
          <p:nvPr/>
        </p:nvSpPr>
        <p:spPr>
          <a:xfrm>
            <a:off x="6997680" y="647388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7F7E379-305C-47AA-A6FC-836B1516CBDA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Прямоугольник 24"/>
          <p:cNvSpPr/>
          <p:nvPr/>
        </p:nvSpPr>
        <p:spPr>
          <a:xfrm>
            <a:off x="1619280" y="-27000"/>
            <a:ext cx="734544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УНИЦИПАЛЬНОЕ БЮДЖЕТНОЕ ОБЩЕОБРАЗОВАТЕЛЬНОЕ УЧРЕЖДЕНИЕ ЛОПАТИНСКАЯ СРЕДНЯЯ ОБЩЕОБРАЗОВАТЕЛЬНАЯ ШКОЛА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2"/>
          <p:cNvSpPr/>
          <p:nvPr/>
        </p:nvSpPr>
        <p:spPr>
          <a:xfrm>
            <a:off x="15228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18" descr="C:\Users\mila_\OneDrive\Рабочий стол\Изображение WhatsApp 2024-10-10 в 17.49.06_49e2a363.jpg"/>
          <p:cNvPicPr/>
          <p:nvPr/>
        </p:nvPicPr>
        <p:blipFill>
          <a:blip r:embed="rId4"/>
          <a:stretch/>
        </p:blipFill>
        <p:spPr>
          <a:xfrm>
            <a:off x="0" y="14400"/>
            <a:ext cx="1355760" cy="8935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20" descr="Picture background"/>
          <p:cNvPicPr/>
          <p:nvPr/>
        </p:nvPicPr>
        <p:blipFill>
          <a:blip r:embed="rId5"/>
          <a:stretch/>
        </p:blipFill>
        <p:spPr>
          <a:xfrm>
            <a:off x="0" y="907920"/>
            <a:ext cx="9144000" cy="59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Группа 715"/>
          <p:cNvGrpSpPr/>
          <p:nvPr/>
        </p:nvGrpSpPr>
        <p:grpSpPr>
          <a:xfrm>
            <a:off x="-3240" y="4680"/>
            <a:ext cx="9158400" cy="901800"/>
            <a:chOff x="-3240" y="4680"/>
            <a:chExt cx="9158400" cy="901800"/>
          </a:xfrm>
        </p:grpSpPr>
        <p:grpSp>
          <p:nvGrpSpPr>
            <p:cNvPr id="64" name="Прямоугольник 34"/>
            <p:cNvGrpSpPr/>
            <p:nvPr/>
          </p:nvGrpSpPr>
          <p:grpSpPr>
            <a:xfrm>
              <a:off x="-3240" y="4680"/>
              <a:ext cx="9158400" cy="322560"/>
              <a:chOff x="-3240" y="4680"/>
              <a:chExt cx="9158400" cy="322560"/>
            </a:xfrm>
          </p:grpSpPr>
          <p:pic>
            <p:nvPicPr>
              <p:cNvPr id="65" name="Прямоугольник 34" descr=""/>
              <p:cNvPicPr/>
              <p:nvPr/>
            </p:nvPicPr>
            <p:blipFill>
              <a:blip r:embed="rId1"/>
              <a:stretch/>
            </p:blipFill>
            <p:spPr>
              <a:xfrm>
                <a:off x="-3240" y="4680"/>
                <a:ext cx="9158400" cy="322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" name="Text Box 51"/>
              <p:cNvSpPr/>
              <p:nvPr/>
            </p:nvSpPr>
            <p:spPr>
              <a:xfrm>
                <a:off x="15120" y="24120"/>
                <a:ext cx="9128880" cy="291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3520" rIns="83520" tIns="41760" bIns="4176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4683240"/>
                    <a:tab algn="l" pos="4915080"/>
                    <a:tab algn="l" pos="5529240"/>
                    <a:tab algn="l" pos="6143760"/>
                    <a:tab algn="l" pos="6757920"/>
                    <a:tab algn="l" pos="7372440"/>
                    <a:tab algn="l" pos="7986600"/>
                    <a:tab algn="l" pos="8601120"/>
                    <a:tab algn="l" pos="9215280"/>
                    <a:tab algn="l" pos="9829800"/>
                    <a:tab algn="l" pos="10444320"/>
                  </a:tabLst>
                </a:pP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" name="Прямоугольник 44"/>
            <p:cNvGrpSpPr/>
            <p:nvPr/>
          </p:nvGrpSpPr>
          <p:grpSpPr>
            <a:xfrm>
              <a:off x="-3240" y="294120"/>
              <a:ext cx="9158400" cy="322560"/>
              <a:chOff x="-3240" y="294120"/>
              <a:chExt cx="9158400" cy="322560"/>
            </a:xfrm>
          </p:grpSpPr>
          <p:pic>
            <p:nvPicPr>
              <p:cNvPr id="68" name="Прямоугольник 44" descr=""/>
              <p:cNvPicPr/>
              <p:nvPr/>
            </p:nvPicPr>
            <p:blipFill>
              <a:blip r:embed="rId2"/>
              <a:stretch/>
            </p:blipFill>
            <p:spPr>
              <a:xfrm>
                <a:off x="-3240" y="294120"/>
                <a:ext cx="9158400" cy="322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" name="Text Box 54"/>
              <p:cNvSpPr/>
              <p:nvPr/>
            </p:nvSpPr>
            <p:spPr>
              <a:xfrm>
                <a:off x="15120" y="313920"/>
                <a:ext cx="91288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3520" rIns="83520" tIns="41760" bIns="4176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4683240"/>
                    <a:tab algn="l" pos="4915080"/>
                    <a:tab algn="l" pos="5529240"/>
                    <a:tab algn="l" pos="6143760"/>
                    <a:tab algn="l" pos="6757920"/>
                    <a:tab algn="l" pos="7372440"/>
                    <a:tab algn="l" pos="7986600"/>
                    <a:tab algn="l" pos="8601120"/>
                    <a:tab algn="l" pos="9215280"/>
                    <a:tab algn="l" pos="9829800"/>
                    <a:tab algn="l" pos="10444320"/>
                  </a:tabLst>
                </a:pP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" name="Прямоугольник 45"/>
            <p:cNvGrpSpPr/>
            <p:nvPr/>
          </p:nvGrpSpPr>
          <p:grpSpPr>
            <a:xfrm>
              <a:off x="-3240" y="583920"/>
              <a:ext cx="9158400" cy="322560"/>
              <a:chOff x="-3240" y="583920"/>
              <a:chExt cx="9158400" cy="322560"/>
            </a:xfrm>
          </p:grpSpPr>
          <p:pic>
            <p:nvPicPr>
              <p:cNvPr id="71" name="Прямоугольник 45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583920"/>
                <a:ext cx="9158400" cy="322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2" name="Text Box 57"/>
              <p:cNvSpPr/>
              <p:nvPr/>
            </p:nvSpPr>
            <p:spPr>
              <a:xfrm>
                <a:off x="13320" y="605160"/>
                <a:ext cx="91288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3520" rIns="83520" tIns="41760" bIns="4176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4683240"/>
                    <a:tab algn="l" pos="4915080"/>
                    <a:tab algn="l" pos="5529240"/>
                    <a:tab algn="l" pos="6143760"/>
                    <a:tab algn="l" pos="6757920"/>
                    <a:tab algn="l" pos="7372440"/>
                    <a:tab algn="l" pos="7986600"/>
                    <a:tab algn="l" pos="8601120"/>
                    <a:tab algn="l" pos="9215280"/>
                    <a:tab algn="l" pos="9829800"/>
                    <a:tab algn="l" pos="10444320"/>
                  </a:tabLst>
                </a:pP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3" name="Номер слайда 2"/>
          <p:cNvSpPr/>
          <p:nvPr/>
        </p:nvSpPr>
        <p:spPr>
          <a:xfrm>
            <a:off x="6997680" y="647388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BC6D103-ED59-4DBF-A877-7FF72E89CFD0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"/>
          <p:cNvSpPr/>
          <p:nvPr/>
        </p:nvSpPr>
        <p:spPr>
          <a:xfrm>
            <a:off x="179280" y="3197520"/>
            <a:ext cx="878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28"/>
          <p:cNvSpPr/>
          <p:nvPr/>
        </p:nvSpPr>
        <p:spPr>
          <a:xfrm>
            <a:off x="1476360" y="-27000"/>
            <a:ext cx="748836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УНИЦИПАЛЬНОЕ БЮДЖЕТНОЕ ОБЩЕОБРАЗОВАТЕЛЬНОЕ УЧРЕЖДЕНИЕ ЛОПАТИНСКАЯ СРЕДНЯЯ ОБЩЕОБРАЗОВАТЕЛЬНАЯ ШКОЛА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7" descr=""/>
          <p:cNvPicPr/>
          <p:nvPr/>
        </p:nvPicPr>
        <p:blipFill>
          <a:blip r:embed="rId4"/>
          <a:stretch/>
        </p:blipFill>
        <p:spPr>
          <a:xfrm>
            <a:off x="0" y="907920"/>
            <a:ext cx="9144000" cy="60501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8" descr="C:\Users\mila_\OneDrive\Рабочий стол\Изображение WhatsApp 2024-10-10 в 17.49.06_49e2a363.jpg"/>
          <p:cNvPicPr/>
          <p:nvPr/>
        </p:nvPicPr>
        <p:blipFill>
          <a:blip r:embed="rId5"/>
          <a:stretch/>
        </p:blipFill>
        <p:spPr>
          <a:xfrm>
            <a:off x="0" y="0"/>
            <a:ext cx="1355760" cy="8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Группа 715"/>
          <p:cNvGrpSpPr/>
          <p:nvPr/>
        </p:nvGrpSpPr>
        <p:grpSpPr>
          <a:xfrm>
            <a:off x="-3240" y="4680"/>
            <a:ext cx="9158400" cy="901800"/>
            <a:chOff x="-3240" y="4680"/>
            <a:chExt cx="9158400" cy="901800"/>
          </a:xfrm>
        </p:grpSpPr>
        <p:grpSp>
          <p:nvGrpSpPr>
            <p:cNvPr id="79" name="Прямоугольник 34"/>
            <p:cNvGrpSpPr/>
            <p:nvPr/>
          </p:nvGrpSpPr>
          <p:grpSpPr>
            <a:xfrm>
              <a:off x="-3240" y="4680"/>
              <a:ext cx="9158400" cy="322560"/>
              <a:chOff x="-3240" y="4680"/>
              <a:chExt cx="9158400" cy="322560"/>
            </a:xfrm>
          </p:grpSpPr>
          <p:pic>
            <p:nvPicPr>
              <p:cNvPr id="80" name="Прямоугольник 34" descr=""/>
              <p:cNvPicPr/>
              <p:nvPr/>
            </p:nvPicPr>
            <p:blipFill>
              <a:blip r:embed="rId1"/>
              <a:stretch/>
            </p:blipFill>
            <p:spPr>
              <a:xfrm>
                <a:off x="-3240" y="4680"/>
                <a:ext cx="9158400" cy="322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" name="Text Box 51"/>
              <p:cNvSpPr/>
              <p:nvPr/>
            </p:nvSpPr>
            <p:spPr>
              <a:xfrm>
                <a:off x="15120" y="24120"/>
                <a:ext cx="9128880" cy="291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3520" rIns="83520" tIns="41760" bIns="4176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4683240"/>
                    <a:tab algn="l" pos="4915080"/>
                    <a:tab algn="l" pos="5529240"/>
                    <a:tab algn="l" pos="6143760"/>
                    <a:tab algn="l" pos="6757920"/>
                    <a:tab algn="l" pos="7372440"/>
                    <a:tab algn="l" pos="7986600"/>
                    <a:tab algn="l" pos="8601120"/>
                    <a:tab algn="l" pos="9215280"/>
                    <a:tab algn="l" pos="9829800"/>
                    <a:tab algn="l" pos="10444320"/>
                  </a:tabLst>
                </a:pP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" name="Прямоугольник 44"/>
            <p:cNvGrpSpPr/>
            <p:nvPr/>
          </p:nvGrpSpPr>
          <p:grpSpPr>
            <a:xfrm>
              <a:off x="-3240" y="294120"/>
              <a:ext cx="9158400" cy="322560"/>
              <a:chOff x="-3240" y="294120"/>
              <a:chExt cx="9158400" cy="322560"/>
            </a:xfrm>
          </p:grpSpPr>
          <p:pic>
            <p:nvPicPr>
              <p:cNvPr id="83" name="Прямоугольник 44" descr=""/>
              <p:cNvPicPr/>
              <p:nvPr/>
            </p:nvPicPr>
            <p:blipFill>
              <a:blip r:embed="rId2"/>
              <a:stretch/>
            </p:blipFill>
            <p:spPr>
              <a:xfrm>
                <a:off x="-3240" y="294120"/>
                <a:ext cx="9158400" cy="322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" name="Text Box 54"/>
              <p:cNvSpPr/>
              <p:nvPr/>
            </p:nvSpPr>
            <p:spPr>
              <a:xfrm>
                <a:off x="15120" y="313920"/>
                <a:ext cx="91288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3520" rIns="83520" tIns="41760" bIns="4176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4683240"/>
                    <a:tab algn="l" pos="4915080"/>
                    <a:tab algn="l" pos="5529240"/>
                    <a:tab algn="l" pos="6143760"/>
                    <a:tab algn="l" pos="6757920"/>
                    <a:tab algn="l" pos="7372440"/>
                    <a:tab algn="l" pos="7986600"/>
                    <a:tab algn="l" pos="8601120"/>
                    <a:tab algn="l" pos="9215280"/>
                    <a:tab algn="l" pos="9829800"/>
                    <a:tab algn="l" pos="10444320"/>
                  </a:tabLst>
                </a:pP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" name="Прямоугольник 45"/>
            <p:cNvGrpSpPr/>
            <p:nvPr/>
          </p:nvGrpSpPr>
          <p:grpSpPr>
            <a:xfrm>
              <a:off x="-3240" y="583920"/>
              <a:ext cx="9158400" cy="322560"/>
              <a:chOff x="-3240" y="583920"/>
              <a:chExt cx="9158400" cy="322560"/>
            </a:xfrm>
          </p:grpSpPr>
          <p:pic>
            <p:nvPicPr>
              <p:cNvPr id="86" name="Прямоугольник 45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583920"/>
                <a:ext cx="9158400" cy="322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" name="Text Box 57"/>
              <p:cNvSpPr/>
              <p:nvPr/>
            </p:nvSpPr>
            <p:spPr>
              <a:xfrm>
                <a:off x="13320" y="605160"/>
                <a:ext cx="91288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3520" rIns="83520" tIns="41760" bIns="4176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4683240"/>
                    <a:tab algn="l" pos="4915080"/>
                    <a:tab algn="l" pos="5529240"/>
                    <a:tab algn="l" pos="6143760"/>
                    <a:tab algn="l" pos="6757920"/>
                    <a:tab algn="l" pos="7372440"/>
                    <a:tab algn="l" pos="7986600"/>
                    <a:tab algn="l" pos="8601120"/>
                    <a:tab algn="l" pos="9215280"/>
                    <a:tab algn="l" pos="9829800"/>
                    <a:tab algn="l" pos="10444320"/>
                  </a:tabLst>
                </a:pP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Кинезиология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 — 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ука о развитии головного мозга через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движение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Кинезио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– 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движение,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логос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 –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учение. Кинезиология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–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наука, изучающая движение во всех проявлениях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Чтобы стало понятно, что это за упражнения, поясню: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кинезиологи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 –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наука о развитии умственных способностей и физического здоровья через определенные двигательные упражн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CD97F75-B899-49A1-AE47-87FCCF969455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24"/>
          <p:cNvSpPr/>
          <p:nvPr/>
        </p:nvSpPr>
        <p:spPr>
          <a:xfrm>
            <a:off x="1692360" y="-27000"/>
            <a:ext cx="727236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УНИЦИПАЛЬНОЕ БЮДЖЕТНОЕ ОБЩЕОБРАЗОВАТЕЛЬНОЕ УЧРЕЖДЕНИЕ ЛОПАТИНСКАЯ СРЕДНЯЯ ОБЩЕОБРАЗОВАТЕЛЬНАЯ ШКОЛА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4251240" y="52560"/>
            <a:ext cx="641520" cy="3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8" descr="C:\Users\mila_\OneDrive\Рабочий стол\Изображение WhatsApp 2024-10-10 в 17.49.06_49e2a363.jpg"/>
          <p:cNvPicPr/>
          <p:nvPr/>
        </p:nvPicPr>
        <p:blipFill>
          <a:blip r:embed="rId4"/>
          <a:stretch/>
        </p:blipFill>
        <p:spPr>
          <a:xfrm>
            <a:off x="0" y="0"/>
            <a:ext cx="1332000" cy="8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Группа 715"/>
          <p:cNvGrpSpPr/>
          <p:nvPr/>
        </p:nvGrpSpPr>
        <p:grpSpPr>
          <a:xfrm>
            <a:off x="-3240" y="4680"/>
            <a:ext cx="8896320" cy="901800"/>
            <a:chOff x="-3240" y="4680"/>
            <a:chExt cx="8896320" cy="901800"/>
          </a:xfrm>
        </p:grpSpPr>
        <p:grpSp>
          <p:nvGrpSpPr>
            <p:cNvPr id="94" name="Прямоугольник 34"/>
            <p:cNvGrpSpPr/>
            <p:nvPr/>
          </p:nvGrpSpPr>
          <p:grpSpPr>
            <a:xfrm>
              <a:off x="-3240" y="4680"/>
              <a:ext cx="8896320" cy="322560"/>
              <a:chOff x="-3240" y="4680"/>
              <a:chExt cx="8896320" cy="322560"/>
            </a:xfrm>
          </p:grpSpPr>
          <p:pic>
            <p:nvPicPr>
              <p:cNvPr id="95" name="Прямоугольник 34" descr=""/>
              <p:cNvPicPr/>
              <p:nvPr/>
            </p:nvPicPr>
            <p:blipFill>
              <a:blip r:embed="rId1"/>
              <a:stretch/>
            </p:blipFill>
            <p:spPr>
              <a:xfrm>
                <a:off x="-3240" y="4680"/>
                <a:ext cx="8896320" cy="322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" name="Text Box 51"/>
              <p:cNvSpPr/>
              <p:nvPr/>
            </p:nvSpPr>
            <p:spPr>
              <a:xfrm>
                <a:off x="14760" y="24120"/>
                <a:ext cx="8867520" cy="291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3520" rIns="83520" tIns="41760" bIns="4176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4683240"/>
                    <a:tab algn="l" pos="4915080"/>
                    <a:tab algn="l" pos="5529240"/>
                    <a:tab algn="l" pos="6143760"/>
                    <a:tab algn="l" pos="6757920"/>
                    <a:tab algn="l" pos="7372440"/>
                    <a:tab algn="l" pos="7986600"/>
                    <a:tab algn="l" pos="8601120"/>
                    <a:tab algn="l" pos="9215280"/>
                    <a:tab algn="l" pos="9829800"/>
                    <a:tab algn="l" pos="10444320"/>
                  </a:tabLst>
                </a:pP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" name="Прямоугольник 44"/>
            <p:cNvGrpSpPr/>
            <p:nvPr/>
          </p:nvGrpSpPr>
          <p:grpSpPr>
            <a:xfrm>
              <a:off x="-3240" y="294120"/>
              <a:ext cx="8896320" cy="322560"/>
              <a:chOff x="-3240" y="294120"/>
              <a:chExt cx="8896320" cy="322560"/>
            </a:xfrm>
          </p:grpSpPr>
          <p:pic>
            <p:nvPicPr>
              <p:cNvPr id="98" name="Прямоугольник 44" descr=""/>
              <p:cNvPicPr/>
              <p:nvPr/>
            </p:nvPicPr>
            <p:blipFill>
              <a:blip r:embed="rId2"/>
              <a:stretch/>
            </p:blipFill>
            <p:spPr>
              <a:xfrm>
                <a:off x="-3240" y="294120"/>
                <a:ext cx="8896320" cy="322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" name="Text Box 54"/>
              <p:cNvSpPr/>
              <p:nvPr/>
            </p:nvSpPr>
            <p:spPr>
              <a:xfrm>
                <a:off x="14760" y="313920"/>
                <a:ext cx="886752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3520" rIns="83520" tIns="41760" bIns="4176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4683240"/>
                    <a:tab algn="l" pos="4915080"/>
                    <a:tab algn="l" pos="5529240"/>
                    <a:tab algn="l" pos="6143760"/>
                    <a:tab algn="l" pos="6757920"/>
                    <a:tab algn="l" pos="7372440"/>
                    <a:tab algn="l" pos="7986600"/>
                    <a:tab algn="l" pos="8601120"/>
                    <a:tab algn="l" pos="9215280"/>
                    <a:tab algn="l" pos="9829800"/>
                    <a:tab algn="l" pos="10444320"/>
                  </a:tabLst>
                </a:pP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" name="Прямоугольник 45"/>
            <p:cNvGrpSpPr/>
            <p:nvPr/>
          </p:nvGrpSpPr>
          <p:grpSpPr>
            <a:xfrm>
              <a:off x="-3240" y="583920"/>
              <a:ext cx="8896320" cy="322560"/>
              <a:chOff x="-3240" y="583920"/>
              <a:chExt cx="8896320" cy="322560"/>
            </a:xfrm>
          </p:grpSpPr>
          <p:pic>
            <p:nvPicPr>
              <p:cNvPr id="101" name="Прямоугольник 45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583920"/>
                <a:ext cx="8896320" cy="322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2" name="Text Box 57"/>
              <p:cNvSpPr/>
              <p:nvPr/>
            </p:nvSpPr>
            <p:spPr>
              <a:xfrm>
                <a:off x="12960" y="605160"/>
                <a:ext cx="886752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3520" rIns="83520" tIns="41760" bIns="4176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4683240"/>
                    <a:tab algn="l" pos="4915080"/>
                    <a:tab algn="l" pos="5529240"/>
                    <a:tab algn="l" pos="6143760"/>
                    <a:tab algn="l" pos="6757920"/>
                    <a:tab algn="l" pos="7372440"/>
                    <a:tab algn="l" pos="7986600"/>
                    <a:tab algn="l" pos="8601120"/>
                    <a:tab algn="l" pos="9215280"/>
                    <a:tab algn="l" pos="9829800"/>
                    <a:tab algn="l" pos="10444320"/>
                  </a:tabLst>
                </a:pP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3" name="Номер слайда 2"/>
          <p:cNvSpPr/>
          <p:nvPr/>
        </p:nvSpPr>
        <p:spPr>
          <a:xfrm>
            <a:off x="6997680" y="647388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4503DA3-F084-4B72-B1C6-43ECC454B670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24"/>
          <p:cNvSpPr/>
          <p:nvPr/>
        </p:nvSpPr>
        <p:spPr>
          <a:xfrm>
            <a:off x="1332000" y="-27000"/>
            <a:ext cx="756108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УНИЦИПАЛЬНОЕ БЮДЖЕТНОЕ ОБЩЕОБРАЗОВАТЕЛЬНОЕ УЧРЕЖДЕНИЕ ЛОПАТИНСКАЯ СРЕДНЯЯ ОБЩЕОБРАЗОВАТЕЛЬНАЯ ШКОЛА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Схема 27" descr=""/>
          <p:cNvPicPr/>
          <p:nvPr/>
        </p:nvPicPr>
        <p:blipFill>
          <a:blip r:embed="rId4"/>
          <a:stretch/>
        </p:blipFill>
        <p:spPr>
          <a:xfrm>
            <a:off x="317520" y="2773440"/>
            <a:ext cx="8582040" cy="1092240"/>
          </a:xfrm>
          <a:prstGeom prst="rect">
            <a:avLst/>
          </a:prstGeom>
          <a:ln w="0">
            <a:noFill/>
          </a:ln>
        </p:spPr>
      </p:pic>
      <p:pic>
        <p:nvPicPr>
          <p:cNvPr id="106" name="Схема 30" descr=""/>
          <p:cNvPicPr/>
          <p:nvPr/>
        </p:nvPicPr>
        <p:blipFill>
          <a:blip r:embed="rId5"/>
          <a:stretch/>
        </p:blipFill>
        <p:spPr>
          <a:xfrm>
            <a:off x="317520" y="3786120"/>
            <a:ext cx="8582040" cy="1090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33" descr=""/>
          <p:cNvPicPr/>
          <p:nvPr/>
        </p:nvPicPr>
        <p:blipFill>
          <a:blip r:embed="rId6"/>
          <a:stretch/>
        </p:blipFill>
        <p:spPr>
          <a:xfrm>
            <a:off x="250920" y="928800"/>
            <a:ext cx="4392360" cy="36525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4" descr=""/>
          <p:cNvPicPr/>
          <p:nvPr/>
        </p:nvPicPr>
        <p:blipFill>
          <a:blip r:embed="rId7"/>
          <a:stretch/>
        </p:blipFill>
        <p:spPr>
          <a:xfrm>
            <a:off x="4788000" y="2421000"/>
            <a:ext cx="4105080" cy="42670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8" descr="C:\Users\mila_\OneDrive\Рабочий стол\Изображение WhatsApp 2024-10-10 в 17.49.06_49e2a363.jpg"/>
          <p:cNvPicPr/>
          <p:nvPr/>
        </p:nvPicPr>
        <p:blipFill>
          <a:blip r:embed="rId8"/>
          <a:stretch/>
        </p:blipFill>
        <p:spPr>
          <a:xfrm>
            <a:off x="0" y="0"/>
            <a:ext cx="1355760" cy="893880"/>
          </a:xfrm>
          <a:prstGeom prst="rect">
            <a:avLst/>
          </a:prstGeom>
          <a:ln w="0">
            <a:noFill/>
          </a:ln>
        </p:spPr>
      </p:pic>
      <p:sp>
        <p:nvSpPr>
          <p:cNvPr id="110" name="Прямоугольник 19"/>
          <p:cNvSpPr/>
          <p:nvPr/>
        </p:nvSpPr>
        <p:spPr>
          <a:xfrm>
            <a:off x="5003640" y="126828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незиология  существует уже 2000 лет, используется во всем ми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23"/>
          <p:cNvSpPr/>
          <p:nvPr/>
        </p:nvSpPr>
        <p:spPr>
          <a:xfrm>
            <a:off x="250920" y="4865400"/>
            <a:ext cx="432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Кинезиологическими упражнениями пользовались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Аристотель и Гиппократ. Своей молодостью и красотой Клеопатра также была обязана кинезиолог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Группа 715"/>
          <p:cNvGrpSpPr/>
          <p:nvPr/>
        </p:nvGrpSpPr>
        <p:grpSpPr>
          <a:xfrm>
            <a:off x="-3240" y="4680"/>
            <a:ext cx="9158400" cy="901800"/>
            <a:chOff x="-3240" y="4680"/>
            <a:chExt cx="9158400" cy="901800"/>
          </a:xfrm>
        </p:grpSpPr>
        <p:grpSp>
          <p:nvGrpSpPr>
            <p:cNvPr id="113" name="Прямоугольник 34"/>
            <p:cNvGrpSpPr/>
            <p:nvPr/>
          </p:nvGrpSpPr>
          <p:grpSpPr>
            <a:xfrm>
              <a:off x="-3240" y="4680"/>
              <a:ext cx="9158400" cy="322560"/>
              <a:chOff x="-3240" y="4680"/>
              <a:chExt cx="9158400" cy="322560"/>
            </a:xfrm>
          </p:grpSpPr>
          <p:pic>
            <p:nvPicPr>
              <p:cNvPr id="114" name="Прямоугольник 34" descr=""/>
              <p:cNvPicPr/>
              <p:nvPr/>
            </p:nvPicPr>
            <p:blipFill>
              <a:blip r:embed="rId1"/>
              <a:stretch/>
            </p:blipFill>
            <p:spPr>
              <a:xfrm>
                <a:off x="-3240" y="4680"/>
                <a:ext cx="9158400" cy="322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5" name="Text Box 51"/>
              <p:cNvSpPr/>
              <p:nvPr/>
            </p:nvSpPr>
            <p:spPr>
              <a:xfrm>
                <a:off x="15120" y="24120"/>
                <a:ext cx="9128880" cy="291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3520" rIns="83520" tIns="41760" bIns="4176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4683240"/>
                    <a:tab algn="l" pos="4915080"/>
                    <a:tab algn="l" pos="5529240"/>
                    <a:tab algn="l" pos="6143760"/>
                    <a:tab algn="l" pos="6757920"/>
                    <a:tab algn="l" pos="7372440"/>
                    <a:tab algn="l" pos="7986600"/>
                    <a:tab algn="l" pos="8601120"/>
                    <a:tab algn="l" pos="9215280"/>
                    <a:tab algn="l" pos="9829800"/>
                    <a:tab algn="l" pos="10444320"/>
                  </a:tabLst>
                </a:pP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" name="Прямоугольник 44"/>
            <p:cNvGrpSpPr/>
            <p:nvPr/>
          </p:nvGrpSpPr>
          <p:grpSpPr>
            <a:xfrm>
              <a:off x="-3240" y="294120"/>
              <a:ext cx="9158400" cy="322560"/>
              <a:chOff x="-3240" y="294120"/>
              <a:chExt cx="9158400" cy="322560"/>
            </a:xfrm>
          </p:grpSpPr>
          <p:pic>
            <p:nvPicPr>
              <p:cNvPr id="117" name="Прямоугольник 44" descr=""/>
              <p:cNvPicPr/>
              <p:nvPr/>
            </p:nvPicPr>
            <p:blipFill>
              <a:blip r:embed="rId2"/>
              <a:stretch/>
            </p:blipFill>
            <p:spPr>
              <a:xfrm>
                <a:off x="-3240" y="294120"/>
                <a:ext cx="9158400" cy="322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" name="Text Box 54"/>
              <p:cNvSpPr/>
              <p:nvPr/>
            </p:nvSpPr>
            <p:spPr>
              <a:xfrm>
                <a:off x="15120" y="313920"/>
                <a:ext cx="91288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3520" rIns="83520" tIns="41760" bIns="4176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4683240"/>
                    <a:tab algn="l" pos="4915080"/>
                    <a:tab algn="l" pos="5529240"/>
                    <a:tab algn="l" pos="6143760"/>
                    <a:tab algn="l" pos="6757920"/>
                    <a:tab algn="l" pos="7372440"/>
                    <a:tab algn="l" pos="7986600"/>
                    <a:tab algn="l" pos="8601120"/>
                    <a:tab algn="l" pos="9215280"/>
                    <a:tab algn="l" pos="9829800"/>
                    <a:tab algn="l" pos="10444320"/>
                  </a:tabLst>
                </a:pP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" name="Прямоугольник 45"/>
            <p:cNvGrpSpPr/>
            <p:nvPr/>
          </p:nvGrpSpPr>
          <p:grpSpPr>
            <a:xfrm>
              <a:off x="-3240" y="583920"/>
              <a:ext cx="9158400" cy="322560"/>
              <a:chOff x="-3240" y="583920"/>
              <a:chExt cx="9158400" cy="322560"/>
            </a:xfrm>
          </p:grpSpPr>
          <p:pic>
            <p:nvPicPr>
              <p:cNvPr id="120" name="Прямоугольник 45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583920"/>
                <a:ext cx="9158400" cy="322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" name="Text Box 57"/>
              <p:cNvSpPr/>
              <p:nvPr/>
            </p:nvSpPr>
            <p:spPr>
              <a:xfrm>
                <a:off x="13320" y="605160"/>
                <a:ext cx="91288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3520" rIns="83520" tIns="41760" bIns="4176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4683240"/>
                    <a:tab algn="l" pos="4915080"/>
                    <a:tab algn="l" pos="5529240"/>
                    <a:tab algn="l" pos="6143760"/>
                    <a:tab algn="l" pos="6757920"/>
                    <a:tab algn="l" pos="7372440"/>
                    <a:tab algn="l" pos="7986600"/>
                    <a:tab algn="l" pos="8601120"/>
                    <a:tab algn="l" pos="9215280"/>
                    <a:tab algn="l" pos="9829800"/>
                    <a:tab algn="l" pos="10444320"/>
                  </a:tabLst>
                </a:pP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2" name="Номер слайда 2"/>
          <p:cNvSpPr/>
          <p:nvPr/>
        </p:nvSpPr>
        <p:spPr>
          <a:xfrm>
            <a:off x="6997680" y="647388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5A324B0-46D0-4A77-8196-7A5FC86A7ED0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24"/>
          <p:cNvSpPr/>
          <p:nvPr/>
        </p:nvSpPr>
        <p:spPr>
          <a:xfrm>
            <a:off x="1403280" y="-27000"/>
            <a:ext cx="756144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УНИЦИПАЛЬНОЕ БЮДЖЕТНОЕ ОБЩЕОБРАЗОВАТЕЛЬНОЕ УЧРЕЖДЕНИЕ ЛОПАТИНСКАЯ СРЕДНЯЯ ОБЩЕОБРАЗОВАТЕЛЬНАЯ ШКОЛА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2"/>
          <p:cNvSpPr/>
          <p:nvPr/>
        </p:nvSpPr>
        <p:spPr>
          <a:xfrm>
            <a:off x="15228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8" descr="C:\Users\mila_\OneDrive\Рабочий стол\Изображение WhatsApp 2024-10-10 в 17.49.06_49e2a363.jpg"/>
          <p:cNvPicPr/>
          <p:nvPr/>
        </p:nvPicPr>
        <p:blipFill>
          <a:blip r:embed="rId4"/>
          <a:stretch/>
        </p:blipFill>
        <p:spPr>
          <a:xfrm>
            <a:off x="0" y="0"/>
            <a:ext cx="1355760" cy="89388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18"/>
          <p:cNvSpPr/>
          <p:nvPr/>
        </p:nvSpPr>
        <p:spPr>
          <a:xfrm>
            <a:off x="324000" y="1365120"/>
            <a:ext cx="345600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Учитывая функциональную специализацию полушарий (правое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—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гуманитарное, образное; левое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—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математиче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­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ское, знаковое), а также роль совместной деятельности в осуществлении высших психических функций, можно полагать, что нарушение межполушарной передачи информации искажает познавательную деятельность дете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36" descr=""/>
          <p:cNvPicPr/>
          <p:nvPr/>
        </p:nvPicPr>
        <p:blipFill>
          <a:blip r:embed="rId5"/>
          <a:stretch/>
        </p:blipFill>
        <p:spPr>
          <a:xfrm>
            <a:off x="4356000" y="907920"/>
            <a:ext cx="4608720" cy="3076560"/>
          </a:xfrm>
          <a:prstGeom prst="rect">
            <a:avLst/>
          </a:prstGeom>
          <a:ln w="0">
            <a:noFill/>
          </a:ln>
        </p:spPr>
      </p:pic>
      <p:sp>
        <p:nvSpPr>
          <p:cNvPr id="128" name="Прямоугольник 21"/>
          <p:cNvSpPr/>
          <p:nvPr/>
        </p:nvSpPr>
        <p:spPr>
          <a:xfrm>
            <a:off x="4788000" y="4508640"/>
            <a:ext cx="374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Для стимуляции интеллектуального развития я и применяю кинезиологические упражнени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22" descr="C:\Users\mila_\OneDrive\Рабочий стол\IMG_20241016_135552.jpg"/>
          <p:cNvPicPr/>
          <p:nvPr/>
        </p:nvPicPr>
        <p:blipFill>
          <a:blip r:embed="rId6"/>
          <a:stretch/>
        </p:blipFill>
        <p:spPr>
          <a:xfrm>
            <a:off x="250920" y="3924360"/>
            <a:ext cx="3913200" cy="29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Группа 715"/>
          <p:cNvGrpSpPr/>
          <p:nvPr/>
        </p:nvGrpSpPr>
        <p:grpSpPr>
          <a:xfrm>
            <a:off x="-3240" y="4680"/>
            <a:ext cx="9158400" cy="901800"/>
            <a:chOff x="-3240" y="4680"/>
            <a:chExt cx="9158400" cy="901800"/>
          </a:xfrm>
        </p:grpSpPr>
        <p:grpSp>
          <p:nvGrpSpPr>
            <p:cNvPr id="131" name="Прямоугольник 34"/>
            <p:cNvGrpSpPr/>
            <p:nvPr/>
          </p:nvGrpSpPr>
          <p:grpSpPr>
            <a:xfrm>
              <a:off x="-3240" y="4680"/>
              <a:ext cx="9158400" cy="322560"/>
              <a:chOff x="-3240" y="4680"/>
              <a:chExt cx="9158400" cy="322560"/>
            </a:xfrm>
          </p:grpSpPr>
          <p:pic>
            <p:nvPicPr>
              <p:cNvPr id="132" name="Прямоугольник 34" descr=""/>
              <p:cNvPicPr/>
              <p:nvPr/>
            </p:nvPicPr>
            <p:blipFill>
              <a:blip r:embed="rId1"/>
              <a:stretch/>
            </p:blipFill>
            <p:spPr>
              <a:xfrm>
                <a:off x="-3240" y="4680"/>
                <a:ext cx="9158400" cy="322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" name="Text Box 51"/>
              <p:cNvSpPr/>
              <p:nvPr/>
            </p:nvSpPr>
            <p:spPr>
              <a:xfrm>
                <a:off x="15120" y="24120"/>
                <a:ext cx="9128880" cy="291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3520" rIns="83520" tIns="41760" bIns="4176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4683240"/>
                    <a:tab algn="l" pos="4915080"/>
                    <a:tab algn="l" pos="5529240"/>
                    <a:tab algn="l" pos="6143760"/>
                    <a:tab algn="l" pos="6757920"/>
                    <a:tab algn="l" pos="7372440"/>
                    <a:tab algn="l" pos="7986600"/>
                    <a:tab algn="l" pos="8601120"/>
                    <a:tab algn="l" pos="9215280"/>
                    <a:tab algn="l" pos="9829800"/>
                    <a:tab algn="l" pos="10444320"/>
                  </a:tabLst>
                </a:pP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" name="Прямоугольник 44"/>
            <p:cNvGrpSpPr/>
            <p:nvPr/>
          </p:nvGrpSpPr>
          <p:grpSpPr>
            <a:xfrm>
              <a:off x="-3240" y="294120"/>
              <a:ext cx="9158400" cy="322560"/>
              <a:chOff x="-3240" y="294120"/>
              <a:chExt cx="9158400" cy="322560"/>
            </a:xfrm>
          </p:grpSpPr>
          <p:pic>
            <p:nvPicPr>
              <p:cNvPr id="135" name="Прямоугольник 44" descr=""/>
              <p:cNvPicPr/>
              <p:nvPr/>
            </p:nvPicPr>
            <p:blipFill>
              <a:blip r:embed="rId2"/>
              <a:stretch/>
            </p:blipFill>
            <p:spPr>
              <a:xfrm>
                <a:off x="-3240" y="294120"/>
                <a:ext cx="9158400" cy="322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6" name="Text Box 54"/>
              <p:cNvSpPr/>
              <p:nvPr/>
            </p:nvSpPr>
            <p:spPr>
              <a:xfrm>
                <a:off x="15120" y="313920"/>
                <a:ext cx="91288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3520" rIns="83520" tIns="41760" bIns="4176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4683240"/>
                    <a:tab algn="l" pos="4915080"/>
                    <a:tab algn="l" pos="5529240"/>
                    <a:tab algn="l" pos="6143760"/>
                    <a:tab algn="l" pos="6757920"/>
                    <a:tab algn="l" pos="7372440"/>
                    <a:tab algn="l" pos="7986600"/>
                    <a:tab algn="l" pos="8601120"/>
                    <a:tab algn="l" pos="9215280"/>
                    <a:tab algn="l" pos="9829800"/>
                    <a:tab algn="l" pos="10444320"/>
                  </a:tabLst>
                </a:pP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" name="Прямоугольник 45"/>
            <p:cNvGrpSpPr/>
            <p:nvPr/>
          </p:nvGrpSpPr>
          <p:grpSpPr>
            <a:xfrm>
              <a:off x="-3240" y="583920"/>
              <a:ext cx="9158400" cy="322560"/>
              <a:chOff x="-3240" y="583920"/>
              <a:chExt cx="9158400" cy="322560"/>
            </a:xfrm>
          </p:grpSpPr>
          <p:pic>
            <p:nvPicPr>
              <p:cNvPr id="138" name="Прямоугольник 45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583920"/>
                <a:ext cx="9158400" cy="322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9" name="Text Box 57"/>
              <p:cNvSpPr/>
              <p:nvPr/>
            </p:nvSpPr>
            <p:spPr>
              <a:xfrm>
                <a:off x="13320" y="605160"/>
                <a:ext cx="91288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3520" rIns="83520" tIns="41760" bIns="4176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4683240"/>
                    <a:tab algn="l" pos="4915080"/>
                    <a:tab algn="l" pos="5529240"/>
                    <a:tab algn="l" pos="6143760"/>
                    <a:tab algn="l" pos="6757920"/>
                    <a:tab algn="l" pos="7372440"/>
                    <a:tab algn="l" pos="7986600"/>
                    <a:tab algn="l" pos="8601120"/>
                    <a:tab algn="l" pos="9215280"/>
                    <a:tab algn="l" pos="9829800"/>
                    <a:tab algn="l" pos="10444320"/>
                  </a:tabLst>
                </a:pP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0" name="Номер слайда 2"/>
          <p:cNvSpPr/>
          <p:nvPr/>
        </p:nvSpPr>
        <p:spPr>
          <a:xfrm>
            <a:off x="6997680" y="647388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C2FA907-1EE7-4726-A152-BCC102B81907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оугольник 24"/>
          <p:cNvSpPr/>
          <p:nvPr/>
        </p:nvSpPr>
        <p:spPr>
          <a:xfrm>
            <a:off x="1476360" y="-27000"/>
            <a:ext cx="748836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УНИЦИПАЛЬНОЕ БЮДЖЕТНОЕ ОБЩЕОБРАЗОВАТЕЛЬНОЕ УЧРЕЖДЕНИЕ ЛОПАТИНСКАЯ СРЕДНЯЯ ОБЩЕОБРАЗОВАТЕЛЬНАЯ ШКОЛА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2"/>
          <p:cNvSpPr/>
          <p:nvPr/>
        </p:nvSpPr>
        <p:spPr>
          <a:xfrm>
            <a:off x="15228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18" descr="C:\Users\mila_\OneDrive\Рабочий стол\Изображение WhatsApp 2024-10-10 в 17.49.06_49e2a363.jpg"/>
          <p:cNvPicPr/>
          <p:nvPr/>
        </p:nvPicPr>
        <p:blipFill>
          <a:blip r:embed="rId4"/>
          <a:stretch/>
        </p:blipFill>
        <p:spPr>
          <a:xfrm>
            <a:off x="0" y="14400"/>
            <a:ext cx="1355760" cy="893520"/>
          </a:xfrm>
          <a:prstGeom prst="rect">
            <a:avLst/>
          </a:prstGeom>
          <a:ln w="0">
            <a:noFill/>
          </a:ln>
        </p:spPr>
      </p:pic>
      <p:sp>
        <p:nvSpPr>
          <p:cNvPr id="144" name="Прямоугольник 17"/>
          <p:cNvSpPr/>
          <p:nvPr/>
        </p:nvSpPr>
        <p:spPr>
          <a:xfrm>
            <a:off x="108000" y="1268280"/>
            <a:ext cx="345600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вивая моторику, мы создаем предпосылки для становления многих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психических процессов. Гимнастика глаз</a:t>
            </a:r>
            <a:r>
              <a:rPr b="0" lang="ru-RU" sz="1600" spc="-1" strike="noStrike">
                <a:solidFill>
                  <a:srgbClr val="6f767f"/>
                </a:solidFill>
                <a:latin typeface="Arial"/>
                <a:ea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формирует у ребенка фундамент подкорково-корковых, внутри- и межполушарных взаимодействий.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Крюки Деннисона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»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способствуют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снижению уровня напряжения, стресса, тревожност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. Это упражнение помогает объединить потребности головы и тела. Помогает сосредоточиться. Гимнастика мозга позволяет выявить скрытые способности человека и расширить границы возможностей деятельности мозга (синхронизация работы полушарий головного мозга, развитие памяти, внимания, речи, мышления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18" descr="C:\Users\mila_\OneDrive\Рабочий стол\IMG_20241016_144954.jpg"/>
          <p:cNvPicPr/>
          <p:nvPr/>
        </p:nvPicPr>
        <p:blipFill>
          <a:blip r:embed="rId5"/>
          <a:stretch/>
        </p:blipFill>
        <p:spPr>
          <a:xfrm>
            <a:off x="3924360" y="981000"/>
            <a:ext cx="4971960" cy="29656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20" descr="C:\Users\mila_\OneDrive\Рабочий стол\IMG_20241016_145049.jpg"/>
          <p:cNvPicPr/>
          <p:nvPr/>
        </p:nvPicPr>
        <p:blipFill>
          <a:blip r:embed="rId6"/>
          <a:stretch/>
        </p:blipFill>
        <p:spPr>
          <a:xfrm>
            <a:off x="3924360" y="3933720"/>
            <a:ext cx="496872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Группа 715"/>
          <p:cNvGrpSpPr/>
          <p:nvPr/>
        </p:nvGrpSpPr>
        <p:grpSpPr>
          <a:xfrm>
            <a:off x="971640" y="-20520"/>
            <a:ext cx="8197920" cy="933480"/>
            <a:chOff x="971640" y="-20520"/>
            <a:chExt cx="8197920" cy="933480"/>
          </a:xfrm>
        </p:grpSpPr>
        <p:grpSp>
          <p:nvGrpSpPr>
            <p:cNvPr id="148" name="Прямоугольник 34"/>
            <p:cNvGrpSpPr/>
            <p:nvPr/>
          </p:nvGrpSpPr>
          <p:grpSpPr>
            <a:xfrm>
              <a:off x="1236960" y="-20520"/>
              <a:ext cx="7932600" cy="333720"/>
              <a:chOff x="1236960" y="-20520"/>
              <a:chExt cx="7932600" cy="333720"/>
            </a:xfrm>
          </p:grpSpPr>
          <p:pic>
            <p:nvPicPr>
              <p:cNvPr id="149" name="Прямоугольник 34" descr=""/>
              <p:cNvPicPr/>
              <p:nvPr/>
            </p:nvPicPr>
            <p:blipFill>
              <a:blip r:embed="rId1"/>
              <a:stretch/>
            </p:blipFill>
            <p:spPr>
              <a:xfrm>
                <a:off x="1236960" y="-20520"/>
                <a:ext cx="7932600" cy="33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 Box 51"/>
              <p:cNvSpPr/>
              <p:nvPr/>
            </p:nvSpPr>
            <p:spPr>
              <a:xfrm>
                <a:off x="1252080" y="0"/>
                <a:ext cx="7907760" cy="30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3520" rIns="83520" tIns="41760" bIns="4176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4683240"/>
                    <a:tab algn="l" pos="4915080"/>
                    <a:tab algn="l" pos="5529240"/>
                    <a:tab algn="l" pos="6143760"/>
                    <a:tab algn="l" pos="6757920"/>
                    <a:tab algn="l" pos="7372440"/>
                    <a:tab algn="l" pos="7986600"/>
                    <a:tab algn="l" pos="8601120"/>
                    <a:tab algn="l" pos="9215280"/>
                    <a:tab algn="l" pos="9829800"/>
                    <a:tab algn="l" pos="10444320"/>
                  </a:tabLst>
                </a:pP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" name="Прямоугольник 44"/>
            <p:cNvGrpSpPr/>
            <p:nvPr/>
          </p:nvGrpSpPr>
          <p:grpSpPr>
            <a:xfrm>
              <a:off x="971640" y="260280"/>
              <a:ext cx="8188560" cy="339120"/>
              <a:chOff x="971640" y="260280"/>
              <a:chExt cx="8188560" cy="339120"/>
            </a:xfrm>
          </p:grpSpPr>
          <p:pic>
            <p:nvPicPr>
              <p:cNvPr id="152" name="Прямоугольник 44" descr=""/>
              <p:cNvPicPr/>
              <p:nvPr/>
            </p:nvPicPr>
            <p:blipFill>
              <a:blip r:embed="rId2"/>
              <a:stretch/>
            </p:blipFill>
            <p:spPr>
              <a:xfrm>
                <a:off x="971640" y="260280"/>
                <a:ext cx="7932600" cy="333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" name="Text Box 54"/>
              <p:cNvSpPr/>
              <p:nvPr/>
            </p:nvSpPr>
            <p:spPr>
              <a:xfrm>
                <a:off x="1252440" y="299880"/>
                <a:ext cx="7907760" cy="299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3520" rIns="83520" tIns="41760" bIns="4176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4683240"/>
                    <a:tab algn="l" pos="4915080"/>
                    <a:tab algn="l" pos="5529240"/>
                    <a:tab algn="l" pos="6143760"/>
                    <a:tab algn="l" pos="6757920"/>
                    <a:tab algn="l" pos="7372440"/>
                    <a:tab algn="l" pos="7986600"/>
                    <a:tab algn="l" pos="8601120"/>
                    <a:tab algn="l" pos="9215280"/>
                    <a:tab algn="l" pos="9829800"/>
                    <a:tab algn="l" pos="10444320"/>
                  </a:tabLst>
                </a:pP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Прямоугольник 45"/>
            <p:cNvGrpSpPr/>
            <p:nvPr/>
          </p:nvGrpSpPr>
          <p:grpSpPr>
            <a:xfrm>
              <a:off x="1236960" y="579240"/>
              <a:ext cx="7932600" cy="333720"/>
              <a:chOff x="1236960" y="579240"/>
              <a:chExt cx="7932600" cy="333720"/>
            </a:xfrm>
          </p:grpSpPr>
          <p:pic>
            <p:nvPicPr>
              <p:cNvPr id="155" name="Прямоугольник 45" descr=""/>
              <p:cNvPicPr/>
              <p:nvPr/>
            </p:nvPicPr>
            <p:blipFill>
              <a:blip r:embed="rId3"/>
              <a:stretch/>
            </p:blipFill>
            <p:spPr>
              <a:xfrm>
                <a:off x="1236960" y="579240"/>
                <a:ext cx="7932600" cy="33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6" name="Text Box 57"/>
              <p:cNvSpPr/>
              <p:nvPr/>
            </p:nvSpPr>
            <p:spPr>
              <a:xfrm>
                <a:off x="1250640" y="601920"/>
                <a:ext cx="7907760" cy="29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3520" rIns="83520" tIns="41760" bIns="4176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4683240"/>
                    <a:tab algn="l" pos="4915080"/>
                    <a:tab algn="l" pos="5529240"/>
                    <a:tab algn="l" pos="6143760"/>
                    <a:tab algn="l" pos="6757920"/>
                    <a:tab algn="l" pos="7372440"/>
                    <a:tab algn="l" pos="7986600"/>
                    <a:tab algn="l" pos="8601120"/>
                    <a:tab algn="l" pos="9215280"/>
                    <a:tab algn="l" pos="9829800"/>
                    <a:tab algn="l" pos="10444320"/>
                  </a:tabLst>
                </a:pP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7" name="Номер слайда 2"/>
          <p:cNvSpPr/>
          <p:nvPr/>
        </p:nvSpPr>
        <p:spPr>
          <a:xfrm>
            <a:off x="6997680" y="647388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A2D70EA-1948-47BA-87D9-0FE524189893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2"/>
          <p:cNvSpPr/>
          <p:nvPr/>
        </p:nvSpPr>
        <p:spPr>
          <a:xfrm>
            <a:off x="15228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18" descr="C:\Users\mila_\OneDrive\Рабочий стол\Изображение WhatsApp 2024-10-10 в 17.49.06_49e2a363.jpg"/>
          <p:cNvPicPr/>
          <p:nvPr/>
        </p:nvPicPr>
        <p:blipFill>
          <a:blip r:embed="rId4"/>
          <a:stretch/>
        </p:blipFill>
        <p:spPr>
          <a:xfrm>
            <a:off x="0" y="0"/>
            <a:ext cx="1476360" cy="893880"/>
          </a:xfrm>
          <a:prstGeom prst="rect">
            <a:avLst/>
          </a:prstGeom>
          <a:ln w="0">
            <a:noFill/>
          </a:ln>
        </p:spPr>
      </p:pic>
      <p:sp>
        <p:nvSpPr>
          <p:cNvPr id="160" name="Прямоугольник 20"/>
          <p:cNvSpPr/>
          <p:nvPr/>
        </p:nvSpPr>
        <p:spPr>
          <a:xfrm>
            <a:off x="1979640" y="0"/>
            <a:ext cx="705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УНИЦИПАЛЬНОЕ БЮДЖЕТНОЕ ОБЩЕОБРАЗОВАТЕЛЬНОЕ УЧРЕЖДЕНИЕ ЛОПАТИНСКАЯ СРЕДНЯЯ ОБЩЕОБРАЗОВАТЕЛЬНАЯ ШКОЛ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15"/>
          <p:cNvSpPr/>
          <p:nvPr/>
        </p:nvSpPr>
        <p:spPr>
          <a:xfrm>
            <a:off x="539640" y="5516640"/>
            <a:ext cx="8425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мнастика мозга состоит из простых и доставляющих удовольствие движений и упражнений, которые используются для повышения навыка целостного развития мозг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17"/>
          <p:cNvSpPr/>
          <p:nvPr/>
        </p:nvSpPr>
        <p:spPr>
          <a:xfrm>
            <a:off x="179280" y="1052640"/>
            <a:ext cx="27370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обально с помощью нейрокоррекционной работы на этом уровне у ребенка улучшается непроизвольная саморегуляция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незиологические упражнения дают как немедленный, так и накапливающийся эффект для повышения умственной работоспособности и оптимизации интеллектуальных процесс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19" descr="C:\Users\mila_\OneDrive\Рабочий стол\IMG_20241016_183416.jpg"/>
          <p:cNvPicPr/>
          <p:nvPr/>
        </p:nvPicPr>
        <p:blipFill>
          <a:blip r:embed="rId5"/>
          <a:stretch/>
        </p:blipFill>
        <p:spPr>
          <a:xfrm>
            <a:off x="3203640" y="1197000"/>
            <a:ext cx="5478480" cy="41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9352DF5-14F8-46A2-A966-088AC73FB85E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Группа 715"/>
          <p:cNvGrpSpPr/>
          <p:nvPr/>
        </p:nvGrpSpPr>
        <p:grpSpPr>
          <a:xfrm>
            <a:off x="-108000" y="0"/>
            <a:ext cx="9158400" cy="901800"/>
            <a:chOff x="-108000" y="0"/>
            <a:chExt cx="9158400" cy="901800"/>
          </a:xfrm>
        </p:grpSpPr>
        <p:grpSp>
          <p:nvGrpSpPr>
            <p:cNvPr id="166" name="Прямоугольник 34"/>
            <p:cNvGrpSpPr/>
            <p:nvPr/>
          </p:nvGrpSpPr>
          <p:grpSpPr>
            <a:xfrm>
              <a:off x="-108000" y="0"/>
              <a:ext cx="9158400" cy="322560"/>
              <a:chOff x="-108000" y="0"/>
              <a:chExt cx="9158400" cy="322560"/>
            </a:xfrm>
          </p:grpSpPr>
          <p:pic>
            <p:nvPicPr>
              <p:cNvPr id="167" name="Прямоугольник 34" descr=""/>
              <p:cNvPicPr/>
              <p:nvPr/>
            </p:nvPicPr>
            <p:blipFill>
              <a:blip r:embed="rId1"/>
              <a:stretch/>
            </p:blipFill>
            <p:spPr>
              <a:xfrm>
                <a:off x="-108000" y="0"/>
                <a:ext cx="9158400" cy="322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8" name="Text Box 51"/>
              <p:cNvSpPr/>
              <p:nvPr/>
            </p:nvSpPr>
            <p:spPr>
              <a:xfrm>
                <a:off x="-89280" y="19440"/>
                <a:ext cx="9128880" cy="291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3520" rIns="83520" tIns="41760" bIns="4176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4683240"/>
                    <a:tab algn="l" pos="4915080"/>
                    <a:tab algn="l" pos="5529240"/>
                    <a:tab algn="l" pos="6143760"/>
                    <a:tab algn="l" pos="6757920"/>
                    <a:tab algn="l" pos="7372440"/>
                    <a:tab algn="l" pos="7986600"/>
                    <a:tab algn="l" pos="8601120"/>
                    <a:tab algn="l" pos="9215280"/>
                    <a:tab algn="l" pos="9829800"/>
                    <a:tab algn="l" pos="10444320"/>
                  </a:tabLst>
                </a:pP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9" name="Прямоугольник 44"/>
            <p:cNvGrpSpPr/>
            <p:nvPr/>
          </p:nvGrpSpPr>
          <p:grpSpPr>
            <a:xfrm>
              <a:off x="-108000" y="289440"/>
              <a:ext cx="9158400" cy="322560"/>
              <a:chOff x="-108000" y="289440"/>
              <a:chExt cx="9158400" cy="322560"/>
            </a:xfrm>
          </p:grpSpPr>
          <p:pic>
            <p:nvPicPr>
              <p:cNvPr id="170" name="Прямоугольник 44" descr=""/>
              <p:cNvPicPr/>
              <p:nvPr/>
            </p:nvPicPr>
            <p:blipFill>
              <a:blip r:embed="rId2"/>
              <a:stretch/>
            </p:blipFill>
            <p:spPr>
              <a:xfrm>
                <a:off x="-108000" y="289440"/>
                <a:ext cx="9158400" cy="322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1" name="Text Box 54"/>
              <p:cNvSpPr/>
              <p:nvPr/>
            </p:nvSpPr>
            <p:spPr>
              <a:xfrm>
                <a:off x="-89280" y="309240"/>
                <a:ext cx="91288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3520" rIns="83520" tIns="41760" bIns="4176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4683240"/>
                    <a:tab algn="l" pos="4915080"/>
                    <a:tab algn="l" pos="5529240"/>
                    <a:tab algn="l" pos="6143760"/>
                    <a:tab algn="l" pos="6757920"/>
                    <a:tab algn="l" pos="7372440"/>
                    <a:tab algn="l" pos="7986600"/>
                    <a:tab algn="l" pos="8601120"/>
                    <a:tab algn="l" pos="9215280"/>
                    <a:tab algn="l" pos="9829800"/>
                    <a:tab algn="l" pos="10444320"/>
                  </a:tabLst>
                </a:pP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" name="Прямоугольник 45"/>
            <p:cNvGrpSpPr/>
            <p:nvPr/>
          </p:nvGrpSpPr>
          <p:grpSpPr>
            <a:xfrm>
              <a:off x="-108000" y="579240"/>
              <a:ext cx="9158400" cy="322560"/>
              <a:chOff x="-108000" y="579240"/>
              <a:chExt cx="9158400" cy="322560"/>
            </a:xfrm>
          </p:grpSpPr>
          <p:pic>
            <p:nvPicPr>
              <p:cNvPr id="173" name="Прямоугольник 45" descr=""/>
              <p:cNvPicPr/>
              <p:nvPr/>
            </p:nvPicPr>
            <p:blipFill>
              <a:blip r:embed="rId3"/>
              <a:stretch/>
            </p:blipFill>
            <p:spPr>
              <a:xfrm>
                <a:off x="-108000" y="579240"/>
                <a:ext cx="9158400" cy="322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4" name="Text Box 57"/>
              <p:cNvSpPr/>
              <p:nvPr/>
            </p:nvSpPr>
            <p:spPr>
              <a:xfrm>
                <a:off x="-91080" y="600480"/>
                <a:ext cx="91288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3520" rIns="83520" tIns="41760" bIns="4176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4683240"/>
                    <a:tab algn="l" pos="4915080"/>
                    <a:tab algn="l" pos="5529240"/>
                    <a:tab algn="l" pos="6143760"/>
                    <a:tab algn="l" pos="6757920"/>
                    <a:tab algn="l" pos="7372440"/>
                    <a:tab algn="l" pos="7986600"/>
                    <a:tab algn="l" pos="8601120"/>
                    <a:tab algn="l" pos="9215280"/>
                    <a:tab algn="l" pos="9829800"/>
                    <a:tab algn="l" pos="10444320"/>
                  </a:tabLst>
                </a:pP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75" name="Picture 18" descr="C:\Users\mila_\OneDrive\Рабочий стол\Изображение WhatsApp 2024-10-10 в 17.49.06_49e2a363.jpg"/>
          <p:cNvPicPr/>
          <p:nvPr/>
        </p:nvPicPr>
        <p:blipFill>
          <a:blip r:embed="rId4"/>
          <a:stretch/>
        </p:blipFill>
        <p:spPr>
          <a:xfrm>
            <a:off x="0" y="0"/>
            <a:ext cx="1355760" cy="893880"/>
          </a:xfrm>
          <a:prstGeom prst="rect">
            <a:avLst/>
          </a:prstGeom>
          <a:ln w="0">
            <a:noFill/>
          </a:ln>
        </p:spPr>
      </p:pic>
      <p:sp>
        <p:nvSpPr>
          <p:cNvPr id="176" name="Прямоугольник 13"/>
          <p:cNvSpPr/>
          <p:nvPr/>
        </p:nvSpPr>
        <p:spPr>
          <a:xfrm>
            <a:off x="1763640" y="0"/>
            <a:ext cx="705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УНИЦИПАЛЬНОЕ БЮДЖЕТНОЕ ОБЩЕОБРАЗОВАТЕЛЬНОЕ УЧРЕЖДЕНИЕ ЛОПАТИНСКАЯ СРЕДНЯЯ ОБЩЕОБРАЗОВАТЕЛЬНАЯ ШКОЛ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оугольник 15"/>
          <p:cNvSpPr/>
          <p:nvPr/>
        </p:nvSpPr>
        <p:spPr>
          <a:xfrm>
            <a:off x="179280" y="981000"/>
            <a:ext cx="885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Эти упражнения улучшают мыслительную деятельность, синхронизируют работу полушарий, способствуют запоминанию, повышают устойчивость внимания, помогают восстановлению речевых функций, облегчают процессы чтения и письма. Практика показала улучшение почерка у многих детей, которые занимаются регулярно и вне уроков в том числ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17" descr="C:\Users\mila_\OneDrive\Рабочий стол\Лиза1.jpg"/>
          <p:cNvPicPr/>
          <p:nvPr/>
        </p:nvPicPr>
        <p:blipFill>
          <a:blip r:embed="rId5"/>
          <a:stretch/>
        </p:blipFill>
        <p:spPr>
          <a:xfrm>
            <a:off x="826920" y="2421000"/>
            <a:ext cx="3265560" cy="43131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9" descr="C:\Users\mila_\OneDrive\Рабочий стол\Лиза 2.jpg"/>
          <p:cNvPicPr/>
          <p:nvPr/>
        </p:nvPicPr>
        <p:blipFill>
          <a:blip r:embed="rId6"/>
          <a:stretch/>
        </p:blipFill>
        <p:spPr>
          <a:xfrm>
            <a:off x="5219640" y="2373480"/>
            <a:ext cx="3340080" cy="43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2280F20-E4CC-4F70-B987-DFD7F133CA5D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Группа 715"/>
          <p:cNvGrpSpPr/>
          <p:nvPr/>
        </p:nvGrpSpPr>
        <p:grpSpPr>
          <a:xfrm>
            <a:off x="-14400" y="0"/>
            <a:ext cx="9158400" cy="901800"/>
            <a:chOff x="-14400" y="0"/>
            <a:chExt cx="9158400" cy="901800"/>
          </a:xfrm>
        </p:grpSpPr>
        <p:grpSp>
          <p:nvGrpSpPr>
            <p:cNvPr id="182" name="Прямоугольник 34"/>
            <p:cNvGrpSpPr/>
            <p:nvPr/>
          </p:nvGrpSpPr>
          <p:grpSpPr>
            <a:xfrm>
              <a:off x="-14400" y="0"/>
              <a:ext cx="9158400" cy="322560"/>
              <a:chOff x="-14400" y="0"/>
              <a:chExt cx="9158400" cy="322560"/>
            </a:xfrm>
          </p:grpSpPr>
          <p:pic>
            <p:nvPicPr>
              <p:cNvPr id="183" name="Прямоугольник 34" descr=""/>
              <p:cNvPicPr/>
              <p:nvPr/>
            </p:nvPicPr>
            <p:blipFill>
              <a:blip r:embed="rId1"/>
              <a:stretch/>
            </p:blipFill>
            <p:spPr>
              <a:xfrm>
                <a:off x="-14400" y="0"/>
                <a:ext cx="9158400" cy="322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4" name="Text Box 51"/>
              <p:cNvSpPr/>
              <p:nvPr/>
            </p:nvSpPr>
            <p:spPr>
              <a:xfrm>
                <a:off x="3960" y="19440"/>
                <a:ext cx="9128880" cy="291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3520" rIns="83520" tIns="41760" bIns="4176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4683240"/>
                    <a:tab algn="l" pos="4915080"/>
                    <a:tab algn="l" pos="5529240"/>
                    <a:tab algn="l" pos="6143760"/>
                    <a:tab algn="l" pos="6757920"/>
                    <a:tab algn="l" pos="7372440"/>
                    <a:tab algn="l" pos="7986600"/>
                    <a:tab algn="l" pos="8601120"/>
                    <a:tab algn="l" pos="9215280"/>
                    <a:tab algn="l" pos="9829800"/>
                    <a:tab algn="l" pos="10444320"/>
                  </a:tabLst>
                </a:pP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Прямоугольник 44"/>
            <p:cNvGrpSpPr/>
            <p:nvPr/>
          </p:nvGrpSpPr>
          <p:grpSpPr>
            <a:xfrm>
              <a:off x="-14400" y="289440"/>
              <a:ext cx="9158400" cy="322560"/>
              <a:chOff x="-14400" y="289440"/>
              <a:chExt cx="9158400" cy="322560"/>
            </a:xfrm>
          </p:grpSpPr>
          <p:pic>
            <p:nvPicPr>
              <p:cNvPr id="186" name="Прямоугольник 44" descr=""/>
              <p:cNvPicPr/>
              <p:nvPr/>
            </p:nvPicPr>
            <p:blipFill>
              <a:blip r:embed="rId2"/>
              <a:stretch/>
            </p:blipFill>
            <p:spPr>
              <a:xfrm>
                <a:off x="-14400" y="289440"/>
                <a:ext cx="9158400" cy="322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7" name="Text Box 54"/>
              <p:cNvSpPr/>
              <p:nvPr/>
            </p:nvSpPr>
            <p:spPr>
              <a:xfrm>
                <a:off x="3960" y="309240"/>
                <a:ext cx="91288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3520" rIns="83520" tIns="41760" bIns="4176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4683240"/>
                    <a:tab algn="l" pos="4915080"/>
                    <a:tab algn="l" pos="5529240"/>
                    <a:tab algn="l" pos="6143760"/>
                    <a:tab algn="l" pos="6757920"/>
                    <a:tab algn="l" pos="7372440"/>
                    <a:tab algn="l" pos="7986600"/>
                    <a:tab algn="l" pos="8601120"/>
                    <a:tab algn="l" pos="9215280"/>
                    <a:tab algn="l" pos="9829800"/>
                    <a:tab algn="l" pos="10444320"/>
                  </a:tabLst>
                </a:pP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Прямоугольник 45"/>
            <p:cNvGrpSpPr/>
            <p:nvPr/>
          </p:nvGrpSpPr>
          <p:grpSpPr>
            <a:xfrm>
              <a:off x="-14400" y="579240"/>
              <a:ext cx="9158400" cy="322560"/>
              <a:chOff x="-14400" y="579240"/>
              <a:chExt cx="9158400" cy="322560"/>
            </a:xfrm>
          </p:grpSpPr>
          <p:pic>
            <p:nvPicPr>
              <p:cNvPr id="189" name="Прямоугольник 45" descr=""/>
              <p:cNvPicPr/>
              <p:nvPr/>
            </p:nvPicPr>
            <p:blipFill>
              <a:blip r:embed="rId3"/>
              <a:stretch/>
            </p:blipFill>
            <p:spPr>
              <a:xfrm>
                <a:off x="-14400" y="579240"/>
                <a:ext cx="9158400" cy="322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0" name="Text Box 57"/>
              <p:cNvSpPr/>
              <p:nvPr/>
            </p:nvSpPr>
            <p:spPr>
              <a:xfrm>
                <a:off x="2160" y="600480"/>
                <a:ext cx="91288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3520" rIns="83520" tIns="41760" bIns="4176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4683240"/>
                    <a:tab algn="l" pos="4915080"/>
                    <a:tab algn="l" pos="5529240"/>
                    <a:tab algn="l" pos="6143760"/>
                    <a:tab algn="l" pos="6757920"/>
                    <a:tab algn="l" pos="7372440"/>
                    <a:tab algn="l" pos="7986600"/>
                    <a:tab algn="l" pos="8601120"/>
                    <a:tab algn="l" pos="9215280"/>
                    <a:tab algn="l" pos="9829800"/>
                    <a:tab algn="l" pos="10444320"/>
                  </a:tabLst>
                </a:pP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91" name="Picture 18" descr="C:\Users\mila_\OneDrive\Рабочий стол\Изображение WhatsApp 2024-10-10 в 17.49.06_49e2a363.jpg"/>
          <p:cNvPicPr/>
          <p:nvPr/>
        </p:nvPicPr>
        <p:blipFill>
          <a:blip r:embed="rId4"/>
          <a:stretch/>
        </p:blipFill>
        <p:spPr>
          <a:xfrm>
            <a:off x="0" y="0"/>
            <a:ext cx="1355760" cy="893880"/>
          </a:xfrm>
          <a:prstGeom prst="rect">
            <a:avLst/>
          </a:prstGeom>
          <a:ln w="0">
            <a:noFill/>
          </a:ln>
        </p:spPr>
      </p:pic>
      <p:sp>
        <p:nvSpPr>
          <p:cNvPr id="192" name="Прямоугольник 13"/>
          <p:cNvSpPr/>
          <p:nvPr/>
        </p:nvSpPr>
        <p:spPr>
          <a:xfrm>
            <a:off x="1692360" y="0"/>
            <a:ext cx="705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УНИЦИПАЛЬНОЕ БЮДЖЕТНОЕ ОБЩЕОБРАЗОВАТЕЛЬНОЕ УЧРЕЖДЕНИЕ ЛОПАТИНСКАЯ СРЕДНЯЯ ОБЩЕОБРАЗОВАТЕЛЬНАЯ ШКОЛ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Прямоугольник 15"/>
          <p:cNvSpPr/>
          <p:nvPr/>
        </p:nvSpPr>
        <p:spPr>
          <a:xfrm>
            <a:off x="250920" y="1052640"/>
            <a:ext cx="81374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Основным требованием к квалификационному использованию специальных кинезиологических комплексов является ТОЧНОЕ выполнение движений и приёмов. Для этого сначала я сама осваиваю все упражнения, а затем уже начинаю обучать учеников. Упражнения проводятся по специально разработанным комплексам. Длительность занятий по одному комплексу составляет одну учебную четверть, каникулы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–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перерыв. В комплекс упражнений входит пальчиковая гимнастика, нейрофизиологические упражнения, особое место занимает гимнастика для глаз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17" descr="C:\Users\mila_\OneDrive\Рабочий стол\Новая папка\IMG_20241025_145949.jpg"/>
          <p:cNvPicPr/>
          <p:nvPr/>
        </p:nvPicPr>
        <p:blipFill>
          <a:blip r:embed="rId5"/>
          <a:stretch/>
        </p:blipFill>
        <p:spPr>
          <a:xfrm>
            <a:off x="4606920" y="2924280"/>
            <a:ext cx="4537080" cy="36781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9" descr="C:\Users\mila_\OneDrive\Рабочий стол\Новая папка\IMG_20241025_145859.jpg"/>
          <p:cNvPicPr/>
          <p:nvPr/>
        </p:nvPicPr>
        <p:blipFill>
          <a:blip r:embed="rId6"/>
          <a:stretch/>
        </p:blipFill>
        <p:spPr>
          <a:xfrm>
            <a:off x="0" y="2924280"/>
            <a:ext cx="457200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9T14:34:13Z</dcterms:created>
  <dc:creator>Аналитический отдел-Дроздов А.П.</dc:creator>
  <dc:description/>
  <dc:language>en-US</dc:language>
  <cp:lastModifiedBy>Людмила Ив</cp:lastModifiedBy>
  <cp:lastPrinted>2016-05-11T12:12:08Z</cp:lastPrinted>
  <dcterms:modified xsi:type="dcterms:W3CDTF">2024-10-25T18:40:06Z</dcterms:modified>
  <cp:revision>1346</cp:revision>
  <dc:subject/>
  <dc:title>Презентация PowerPoint</dc:title>
</cp:coreProperties>
</file>