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0EC-609D-4FEB-A817-0D4AEE88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37EA-C2FA-4A7A-B2A9-7F1FB8A6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465-ED5F-4370-86F5-08F51ECE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387D-8194-475F-8EEB-9BC790B0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533A-24E8-413D-A150-3905A525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F666-72C2-45B5-A787-4B788D24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D0DF-CB47-461E-85B7-06F99E24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C71F-EF62-46E4-A2AC-8795BFD3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7EE2-264B-475B-8F20-B1A267DE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8760-5364-457D-AA1B-C7AFCEEA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9220-A289-4020-A9AA-397B45DD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8EC-C12D-4C69-9F03-436706BF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2E38-399F-40D3-9F0A-8E11C2AC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0082-1BCD-4DEE-B1B2-CB496649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2588-B28F-4A58-A14C-E7A93687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AE7C-FABA-482D-A812-9207FFE3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8D0D-33C6-4F8A-AEA4-D6CFC67E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066C-D467-4CA9-B57E-5D748752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DF3D-0168-48A7-A668-18BFF472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170-7D95-416C-9208-B71529BA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619D-3200-4ED7-83F3-5E6F0874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10A-CD1C-400D-8280-C4F7CA2C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BD3E-1EB3-4CA6-B237-F74A0546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856-F356-42AA-92A4-C9D8B98A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E0B1-5F22-48EB-B2F6-0715F0E8B6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1EBF-6772-42A0-9C90-3AA71379A2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myjulia.ru/data/cache/2009/07/17/152778_2266-0x600.jpg" TargetMode="External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60520" y="1420920"/>
            <a:ext cx="8076960" cy="1773000"/>
          </a:xfrm>
          <a:prstGeom prst="rect">
            <a:avLst/>
          </a:prstGeom>
          <a:ln w="0">
            <a:noFill/>
          </a:ln>
        </p:spPr>
      </p:pic>
      <p:grpSp>
        <p:nvGrpSpPr>
          <p:cNvPr id="83" name="Подзаголовок 2"/>
          <p:cNvGrpSpPr/>
          <p:nvPr/>
        </p:nvGrpSpPr>
        <p:grpSpPr>
          <a:xfrm>
            <a:off x="3913200" y="4211640"/>
            <a:ext cx="5091120" cy="1665360"/>
            <a:chOff x="3913200" y="4211640"/>
            <a:chExt cx="5091120" cy="1665360"/>
          </a:xfrm>
        </p:grpSpPr>
        <p:pic>
          <p:nvPicPr>
            <p:cNvPr id="84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3913200" y="4211640"/>
              <a:ext cx="5091120" cy="16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067280" y="4365720"/>
              <a:ext cx="478764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7375e"/>
                  </a:solidFill>
                  <a:latin typeface="Calibri"/>
                </a:rPr>
                <a:t>Автор:Ромашкина И.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7375e"/>
                  </a:solidFill>
                  <a:latin typeface="Calibri"/>
                </a:rPr>
                <a:t>Учитель начальных класс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8000" spc="-1" strike="noStrike">
                <a:solidFill>
                  <a:srgbClr val="7030a0"/>
                </a:solidFill>
                <a:latin typeface="Calibri"/>
              </a:rPr>
              <a:t>Проверка</a:t>
            </a:r>
            <a:endParaRPr b="0" lang="en-US" sz="8000" spc="-1" strike="noStrike">
              <a:solidFill>
                <a:srgbClr val="17375e"/>
              </a:solidFill>
              <a:latin typeface="Calibri"/>
            </a:endParaRPr>
          </a:p>
          <a:p>
            <a:pPr lvl="1" marL="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alibri"/>
              </a:rPr>
              <a:t>5  4  24  68  10</a:t>
            </a:r>
            <a:endParaRPr b="0" lang="en-US" sz="80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alibri"/>
              </a:rPr>
              <a:t>    </a:t>
            </a:r>
            <a:endParaRPr b="0" lang="en-US" sz="8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611280" y="126828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Три брата - Ваня, Саша, Коля - учились в разных классах. Ваня был не старше Коли, а Саша - не старше Вани. Назовите имена старшего, среднего и младшего брат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826560" y="1428840"/>
            <a:ext cx="94330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Старший - Коля,  средний - Ваня,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младший - Саша.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с.Павловск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Алтайский край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Название сайта: http://pedsovet.su/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7827840" cy="903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213920" y="1428840"/>
            <a:ext cx="74725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myjulia.ru/data/cache/2009/07/17/152778_2266-0x600.jpg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7375e"/>
                </a:solidFill>
                <a:uFillTx/>
                <a:latin typeface="Calibri"/>
              </a:rPr>
              <a:t>http://files.botevcheta.webnode.com/200000016-45175461c2/1stationery15-med.jpg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7375e"/>
                </a:solidFill>
                <a:uFillTx/>
                <a:latin typeface="Calibri"/>
              </a:rPr>
              <a:t>http://www.mathknowledge.com/images/custom/LOGO.GIF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7375e"/>
                </a:solidFill>
                <a:uFillTx/>
                <a:latin typeface="Calibri"/>
              </a:rPr>
              <a:t>http://www.ccboe.net/Teachers/Durham_Sharon/images/918F9422010B4BB0B160956D6B9D4E34.JPG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7375e"/>
                </a:solidFill>
                <a:uFillTx/>
                <a:latin typeface="Calibri"/>
              </a:rPr>
              <a:t>http://lake.k12.fl.us/cms/cwp/view.asp?A=3&amp;Q=427619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7375e"/>
                </a:solidFill>
                <a:uFillTx/>
                <a:latin typeface="Calibri"/>
              </a:rPr>
              <a:t>http://www.533school.ru/nach.htm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3"/>
          <a:srcRect l="0" t="0" r="0" b="33098"/>
          <a:stretch/>
        </p:blipFill>
        <p:spPr>
          <a:xfrm>
            <a:off x="285840" y="1428840"/>
            <a:ext cx="973080" cy="5126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4"/>
          <a:srcRect l="17676" t="0" r="16880" b="2015"/>
          <a:stretch/>
        </p:blipFill>
        <p:spPr>
          <a:xfrm>
            <a:off x="500040" y="2214720"/>
            <a:ext cx="533520" cy="5238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5" descr=""/>
          <p:cNvPicPr/>
          <p:nvPr/>
        </p:nvPicPr>
        <p:blipFill>
          <a:blip r:embed="rId5"/>
          <a:stretch/>
        </p:blipFill>
        <p:spPr>
          <a:xfrm>
            <a:off x="285840" y="3000240"/>
            <a:ext cx="976320" cy="5432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6" descr=""/>
          <p:cNvPicPr/>
          <p:nvPr/>
        </p:nvPicPr>
        <p:blipFill>
          <a:blip r:embed="rId6"/>
          <a:srcRect l="0" t="0" r="36599" b="8201"/>
          <a:stretch/>
        </p:blipFill>
        <p:spPr>
          <a:xfrm>
            <a:off x="428760" y="3786120"/>
            <a:ext cx="785520" cy="5000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" descr=""/>
          <p:cNvPicPr/>
          <p:nvPr/>
        </p:nvPicPr>
        <p:blipFill>
          <a:blip r:embed="rId7"/>
          <a:stretch/>
        </p:blipFill>
        <p:spPr>
          <a:xfrm>
            <a:off x="357120" y="4429080"/>
            <a:ext cx="8701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2071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539280" y="980640"/>
            <a:ext cx="821844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8229600" cy="125100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2" descr=""/>
          <p:cNvPicPr/>
          <p:nvPr/>
        </p:nvPicPr>
        <p:blipFill>
          <a:blip r:embed="rId2"/>
          <a:stretch/>
        </p:blipFill>
        <p:spPr>
          <a:xfrm>
            <a:off x="457200" y="1285920"/>
            <a:ext cx="83088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971640" y="1125360"/>
          <a:ext cx="7365960" cy="5027760"/>
        </p:xfrm>
        <a:graphic>
          <a:graphicData uri="http://schemas.openxmlformats.org/drawingml/2006/table">
            <a:tbl>
              <a:tblPr/>
              <a:tblGrid>
                <a:gridCol w="1841400"/>
                <a:gridCol w="1841400"/>
                <a:gridCol w="1841760"/>
                <a:gridCol w="1841400"/>
              </a:tblGrid>
              <a:tr h="1492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множ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0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множ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3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4288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Украшая зал, школьники развесили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8 </a:t>
            </a: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расных и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10 </a:t>
            </a: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жёлтых шаров. Сколько шаров им осталось развесить, если первоначально  было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0</a:t>
            </a: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 шаров?</a:t>
            </a:r>
            <a:endParaRPr b="0" lang="en-US" sz="2800" spc="-1" strike="noStrike">
              <a:solidFill>
                <a:srgbClr val="17375e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Calibri"/>
            </a:endParaRPr>
          </a:p>
        </p:txBody>
      </p:sp>
      <p:pic>
        <p:nvPicPr>
          <p:cNvPr id="94" name="Picture 2" descr="Picture background"/>
          <p:cNvPicPr/>
          <p:nvPr/>
        </p:nvPicPr>
        <p:blipFill>
          <a:blip r:embed="rId2"/>
          <a:stretch/>
        </p:blipFill>
        <p:spPr>
          <a:xfrm>
            <a:off x="4498920" y="3213000"/>
            <a:ext cx="36752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2" descr=""/>
          <p:cNvPicPr/>
          <p:nvPr/>
        </p:nvPicPr>
        <p:blipFill>
          <a:blip r:embed="rId2"/>
          <a:stretch/>
        </p:blipFill>
        <p:spPr>
          <a:xfrm>
            <a:off x="457200" y="1238400"/>
            <a:ext cx="822960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4288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Два мальчика нашли в лесу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14</a:t>
            </a: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 грибов, оба поровну. Сколько грибов нашёл в лесу каждый мальчик?</a:t>
            </a: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  <a:p>
            <a:pPr lvl="1" marL="351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4932360" y="3286080"/>
            <a:ext cx="36687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pic>
        <p:nvPicPr>
          <p:cNvPr id="102" name="Прямоугольник 2" descr=""/>
          <p:cNvPicPr/>
          <p:nvPr/>
        </p:nvPicPr>
        <p:blipFill>
          <a:blip r:embed="rId3"/>
          <a:stretch/>
        </p:blipFill>
        <p:spPr>
          <a:xfrm>
            <a:off x="92160" y="1365120"/>
            <a:ext cx="80406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Найди частное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15</a:t>
            </a: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  и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3.</a:t>
            </a: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Какое число нужно умножить на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, чтобы получить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 ?</a:t>
            </a: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Найди произведение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6 </a:t>
            </a: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и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 .</a:t>
            </a: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На сколько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76 </a:t>
            </a: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больше, чем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8.</a:t>
            </a: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5.  Найди частное чисел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60</a:t>
            </a: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 и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6.</a:t>
            </a: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7:23:27Z</dcterms:created>
  <dc:creator>Comp</dc:creator>
  <dc:description/>
  <dc:language>en-US</dc:language>
  <cp:lastModifiedBy>HP</cp:lastModifiedBy>
  <dcterms:modified xsi:type="dcterms:W3CDTF">2025-04-07T05:17:28Z</dcterms:modified>
  <cp:revision>12</cp:revision>
  <dc:subject/>
  <dc:title>Слайд 1</dc:title>
</cp:coreProperties>
</file>