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1A2-F3CF-4E5D-BC9E-1726F0D7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E92-CC7D-42ED-B58E-1FE0FE92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237-D256-4741-A407-E9D954C2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5AB-8884-4173-B1E1-0B240C48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7E50-BC8A-49B2-867B-0C49A6EF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325D-C25E-4390-ABA0-43B8D817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DAD8-51AC-4A27-8877-7CB08659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E8A2-B67B-4B62-AC75-AFAA9FBB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0F43-BBCB-4202-973E-A13B30CF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400C-07EC-4780-9AEE-709E23B5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837E-EDDE-420E-B97D-27FCC863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82F-0673-4147-8183-9CD123F8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0026-6298-4328-9931-053EB8A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ED7B-8133-48ED-B4B0-759D425F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8422-1586-47C0-A614-10D47EAF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DD5B-1259-41D0-9237-D9F37F90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C726-C1C8-4630-8C16-DEDA4F7B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B6A1-79DD-4EB4-A780-280EF40E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2906-43A0-42BD-ABC7-E991E65C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5825-6F9D-46F4-BECE-7618D962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B3ED-8BF5-4BDE-BF1E-D51A741F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A22E-C278-49D2-B954-066A3E0C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B7C-555A-48AA-A81D-FED473CA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8433-CC2B-4023-B949-73FFD72C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29C7-4610-43D2-9BBB-EB45C7E2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0F11-08DB-4F49-8194-6CCBDFA0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A613-63F6-498C-A02C-4708589E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F6528-5348-4CAF-9722-C6B42FC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A3F8-4B5B-458E-BDD7-EF319174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0DD3-25D5-4707-A432-8DF54F90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655B9-6A39-4DA2-AD9D-CEE4D94A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9105-E8DA-4034-8DD1-D7A6EDC9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A53C-8854-4DFE-80A6-568DAA28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EA1-914B-438C-A53D-815B3FAA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C013-F09F-44D1-8F78-C17E8FE0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07BB-18BD-4466-B3D8-D8B4B7AC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D1DC-839E-4A44-9BA1-6B7CCAB2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5110-6EF1-4DE8-9A54-1A0E15A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4D892-4E9D-44E2-A655-DB6365A1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351C-7C44-4732-9185-0D3DB505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755B-AB5A-4E66-A553-9FF75FEF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92828-03BD-4377-86D3-E095462B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C7CD-A88A-4A47-A7AD-7971B6F9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7D1F-DF87-4516-A770-196BC687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BC9-C8ED-407B-B8B2-6B59F963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CA50-020D-4BAD-9C1D-84915758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922DF-1EA2-4BA1-A2B3-86FFD93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4834-2020-4FE6-87C6-FE573262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5265-04CA-450B-ADA7-51A60122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393C-B859-4559-8661-AA01FED2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EC860-DF24-4EDD-8F02-024D67A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3FED-E421-4EAA-8D60-F224076B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E2148-BFB5-45DD-99FA-6C9B175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526D-E0E7-432E-928B-9369D247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AC21B-0599-48DC-9499-5395AC46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649-FFB9-471F-994A-25DCD58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D1E02-DEB9-49FA-B8DD-892E3D13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E3B-9C42-4DE3-AB2A-F29782CB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C1B-5EF2-4620-8671-2B6E6677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60E-B0AA-4471-B098-71D57A3F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4B14A37-A8E5-4E51-B890-8C36D1024F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0B6B5DA-D142-4239-A544-35E276F2A4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70520EA-D824-46E2-B939-33C24117CF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013ED8A-7D28-4700-B926-921CD43FBE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730AED6-BA22-40A9-AA52-B590E16D578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 txBox="1"/>
          <p:nvPr/>
        </p:nvSpPr>
        <p:spPr>
          <a:xfrm>
            <a:off x="500040" y="1166760"/>
            <a:ext cx="8286480" cy="3046680"/>
          </a:xfrm>
          <a:prstGeom prst="rect">
            <a:avLst/>
          </a:prstGeom>
        </p:spPr>
        <p:txBody>
          <a:bodyPr numCol="1" spcCol="0" wrap="none" lIns="90000" rIns="90000" tIns="45000" bIns="450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ln w="0">
                  <a:noFill/>
                </a:ln>
                <a:solidFill>
                  <a:srgbClr val="0000cc"/>
                </a:solidFill>
                <a:latin typeface="Monotype Corsiva"/>
                <a:ea typeface="Arial"/>
              </a:rPr>
              <a:t>Дарган мезла гьаргси дарс.</a:t>
            </a:r>
            <a:endParaRPr b="0" lang="en-US" sz="9600" spc="-1" strike="noStrike">
              <a:ln w="0">
                <a:noFill/>
              </a:ln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7" name="Рисунок 2" descr="042.gif"/>
          <p:cNvPicPr/>
          <p:nvPr/>
        </p:nvPicPr>
        <p:blipFill>
          <a:blip r:embed="rId1"/>
          <a:stretch/>
        </p:blipFill>
        <p:spPr>
          <a:xfrm>
            <a:off x="0" y="4125960"/>
            <a:ext cx="2023560" cy="27316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3" descr="426246248.jpg"/>
          <p:cNvPicPr/>
          <p:nvPr/>
        </p:nvPicPr>
        <p:blipFill>
          <a:blip r:embed="rId2"/>
          <a:stretch/>
        </p:blipFill>
        <p:spPr>
          <a:xfrm>
            <a:off x="6643800" y="4071960"/>
            <a:ext cx="2547720" cy="27856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2735640" y="4714920"/>
            <a:ext cx="3940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10 класс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18000"/>
            <a:ext cx="914364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оссворд кьукьяла вег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ек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х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ъубзни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* Багьаду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жинс                                      1) жин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адеж                                     2) за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лу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                                   3) лу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Таблица 3"/>
          <p:cNvGraphicFramePr/>
          <p:nvPr/>
        </p:nvGraphicFramePr>
        <p:xfrm>
          <a:off x="571680" y="3571920"/>
          <a:ext cx="2571480" cy="2927160"/>
        </p:xfrm>
        <a:graphic>
          <a:graphicData uri="http://schemas.openxmlformats.org/drawingml/2006/table">
            <a:tbl>
              <a:tblPr/>
              <a:tblGrid>
                <a:gridCol w="384120"/>
                <a:gridCol w="384120"/>
                <a:gridCol w="420480"/>
                <a:gridCol w="414000"/>
                <a:gridCol w="493560"/>
                <a:gridCol w="474480"/>
              </a:tblGrid>
              <a:tr h="669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Таблица 4"/>
          <p:cNvGraphicFramePr/>
          <p:nvPr/>
        </p:nvGraphicFramePr>
        <p:xfrm>
          <a:off x="5143680" y="3571920"/>
          <a:ext cx="3571560" cy="3036600"/>
        </p:xfrm>
        <a:graphic>
          <a:graphicData uri="http://schemas.openxmlformats.org/drawingml/2006/table">
            <a:tbl>
              <a:tblPr/>
              <a:tblGrid>
                <a:gridCol w="434880"/>
                <a:gridCol w="607680"/>
                <a:gridCol w="522000"/>
                <a:gridCol w="676080"/>
                <a:gridCol w="676080"/>
                <a:gridCol w="653760"/>
              </a:tblGrid>
              <a:tr h="5601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1" lang="ru-RU" sz="1100" spc="-1" strike="noStrike">
                          <a:solidFill>
                            <a:srgbClr val="0099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39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1" lang="ru-RU" sz="1100" spc="-1" strike="noStrike">
                          <a:solidFill>
                            <a:srgbClr val="0099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ru-RU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ru-RU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1" lang="ru-RU" sz="1100" spc="-1" strike="noStrike">
                          <a:solidFill>
                            <a:srgbClr val="0099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1" lang="ru-RU" sz="1400" spc="-1" strike="noStrike">
                        <a:solidFill>
                          <a:srgbClr val="0099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1" lang="ru-RU" sz="1100" spc="-1" strike="noStrike">
                          <a:solidFill>
                            <a:srgbClr val="0099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1" lang="ru-RU" sz="1400" spc="-1" strike="noStrike">
                        <a:solidFill>
                          <a:srgbClr val="0099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1" lang="ru-RU" sz="1400" spc="-1" strike="noStrike">
                        <a:solidFill>
                          <a:srgbClr val="0099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1" lang="ru-RU" sz="1400" spc="-1" strike="noStrike">
                        <a:solidFill>
                          <a:srgbClr val="0099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ru-RU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3640" cy="116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Доскаличиб белк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ла х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янчи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214520" cy="6019560"/>
          </a:xfrm>
          <a:prstGeom prst="rect">
            <a:avLst/>
          </a:prstGeom>
          <a:gradFill rotWithShape="0">
            <a:gsLst>
              <a:gs pos="0">
                <a:srgbClr val="bbef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arenR"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Синтаксический разбор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Calibri"/>
              <a:buAutoNum type="arabicParenR"/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Морфологический разбор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Calibri"/>
              <a:buAutoNum type="arabicParenR"/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Девла бут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Arial"/>
              </a:rPr>
              <a:t>Iнала разбор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4)Карточкабачил х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Iянчи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14880" y="857160"/>
            <a:ext cx="4928760" cy="6000480"/>
          </a:xfrm>
          <a:prstGeom prst="rect">
            <a:avLst/>
          </a:prstGeom>
          <a:gradFill rotWithShape="0">
            <a:gsLst>
              <a:gs pos="0">
                <a:srgbClr val="ffd0aa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alibri"/>
                <a:ea typeface="Arial"/>
              </a:rPr>
              <a:t>Дургъбала замана Мусахъай нушала бургъантачи турбакад арякьун.</a:t>
            </a:r>
            <a:endParaRPr b="0" lang="ru-RU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254061"/>
                </a:solidFill>
                <a:latin typeface="Calibri"/>
                <a:ea typeface="Arial"/>
              </a:rPr>
              <a:t>   </a:t>
            </a:r>
            <a:r>
              <a:rPr b="1" lang="ru-RU" sz="3900" spc="-1" strike="noStrike">
                <a:solidFill>
                  <a:srgbClr val="254061"/>
                </a:solidFill>
                <a:latin typeface="Calibri"/>
                <a:ea typeface="Arial"/>
              </a:rPr>
              <a:t>Арякьун</a:t>
            </a:r>
            <a:r>
              <a:rPr b="1" lang="ru-RU" sz="3500" spc="-1" strike="noStrike">
                <a:solidFill>
                  <a:srgbClr val="254061"/>
                </a:solidFill>
                <a:latin typeface="Calibri"/>
                <a:ea typeface="Arial"/>
              </a:rPr>
              <a:t>.</a:t>
            </a: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254061"/>
                </a:solidFill>
                <a:latin typeface="Calibri"/>
                <a:ea typeface="Arial"/>
              </a:rPr>
              <a:t>Мусахъай,жагаси,</a:t>
            </a: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254061"/>
                </a:solidFill>
                <a:latin typeface="Calibri"/>
                <a:ea typeface="Arial"/>
              </a:rPr>
              <a:t>кумекбариб.</a:t>
            </a: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Calibri"/>
                <a:ea typeface="Arial"/>
              </a:rPr>
              <a:t>  </a:t>
            </a: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ru-RU" sz="3500" spc="-1" strike="noStrike">
                <a:solidFill>
                  <a:srgbClr val="c00000"/>
                </a:solidFill>
                <a:latin typeface="Calibri"/>
                <a:ea typeface="Arial"/>
              </a:rPr>
              <a:t>№</a:t>
            </a:r>
            <a:r>
              <a:rPr b="1" lang="ru-RU" sz="3500" spc="-1" strike="noStrike">
                <a:solidFill>
                  <a:srgbClr val="c00000"/>
                </a:solidFill>
                <a:latin typeface="Calibri"/>
                <a:ea typeface="Arial"/>
              </a:rPr>
              <a:t>1 , №2 , №3 , №4 .</a:t>
            </a: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C:\Users\ахмед\AppData\Local\Microsoft\Windows\Temporary Internet Files\Content.IE5\RGELZBMV\feather_PNG12965[1].png"/>
          <p:cNvPicPr/>
          <p:nvPr/>
        </p:nvPicPr>
        <p:blipFill>
          <a:blip r:embed="rId1"/>
          <a:stretch/>
        </p:blipFill>
        <p:spPr>
          <a:xfrm rot="20220000">
            <a:off x="7970400" y="5713200"/>
            <a:ext cx="1509480" cy="887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Users\ахмед\AppData\Local\Microsoft\Windows\Temporary Internet Files\Content.IE5\DTM0HD4W\424px-Pen_1.svg[1].png"/>
          <p:cNvPicPr/>
          <p:nvPr/>
        </p:nvPicPr>
        <p:blipFill>
          <a:blip r:embed="rId2"/>
          <a:stretch/>
        </p:blipFill>
        <p:spPr>
          <a:xfrm>
            <a:off x="8139240" y="-431640"/>
            <a:ext cx="1004400" cy="1422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C:\Users\ахмед\AppData\Local\Microsoft\Windows\Temporary Internet Files\Content.IE5\RGELZBMV\120px-%D0%A1%D0%BC%D0%B0%D0%B9%D0%BB%D0%B8%D0%BA_%D1%82%D1%83%D1%80%D0%B8%D1%81%D1%82[1].gif"/>
          <p:cNvPicPr/>
          <p:nvPr/>
        </p:nvPicPr>
        <p:blipFill>
          <a:blip r:embed="rId3"/>
          <a:stretch/>
        </p:blipFill>
        <p:spPr>
          <a:xfrm rot="1260000">
            <a:off x="7242120" y="3126960"/>
            <a:ext cx="1711080" cy="135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429320" cy="142848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Arial"/>
              </a:rPr>
              <a:t>Физминутка.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ахмед\AppData\Local\Microsoft\Windows\Temporary Internet Files\Content.IE5\DTM0HD4W\kresla_meshki_meshok-311x400[1]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1499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ахмед\AppData\Local\Microsoft\Windows\Temporary Internet Files\Content.IE5\QS7LE1MK\250_388_ded_moroz_1[1].jpg"/>
          <p:cNvPicPr/>
          <p:nvPr/>
        </p:nvPicPr>
        <p:blipFill>
          <a:blip r:embed="rId2"/>
          <a:stretch/>
        </p:blipFill>
        <p:spPr>
          <a:xfrm>
            <a:off x="-214200" y="1571760"/>
            <a:ext cx="3268440" cy="50716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3290040" y="1571760"/>
            <a:ext cx="58258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ьачам урчила мур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раухъун ар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бил дунъяла халкьл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з даахъес ца-ца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гъиста дубуртачи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мсур урчи къардбухъу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дикиб гавлагу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иуб меза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2"/>
          <p:cNvSpPr/>
          <p:nvPr/>
        </p:nvSpPr>
        <p:spPr>
          <a:xfrm>
            <a:off x="468720" y="1500120"/>
            <a:ext cx="79520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Бамсур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и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урч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Кадикиб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ти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гавлагу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Т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ут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удиуб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ти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за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Шиниш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кагъа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214200" y="357120"/>
            <a:ext cx="873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дарибти дугьби лерилра прилагательноеби сари или, д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 дире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666720" y="5143680"/>
            <a:ext cx="4996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личи мешули илд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Селичи мешути лишанти лера и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ди дугьбазир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Содержимое 21" descr="slide_7.jpg"/>
          <p:cNvPicPr/>
          <p:nvPr/>
        </p:nvPicPr>
        <p:blipFill>
          <a:blip r:embed="rId1"/>
          <a:stretch/>
        </p:blipFill>
        <p:spPr>
          <a:xfrm>
            <a:off x="0" y="2428920"/>
            <a:ext cx="9143640" cy="4428720"/>
          </a:xfrm>
          <a:prstGeom prst="rect">
            <a:avLst/>
          </a:prstGeom>
          <a:ln w="0">
            <a:noFill/>
          </a:ln>
        </p:spPr>
      </p:pic>
      <p:sp>
        <p:nvSpPr>
          <p:cNvPr id="245" name="Блок-схема: магнитный диск 6"/>
          <p:cNvSpPr/>
          <p:nvPr/>
        </p:nvSpPr>
        <p:spPr>
          <a:xfrm>
            <a:off x="3714840" y="3857760"/>
            <a:ext cx="2356920" cy="2285640"/>
          </a:xfrm>
          <a:prstGeom prst="flowChartMagneticDisk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  <a:ea typeface="Arial"/>
              </a:rPr>
              <a:t>Бамсур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  <a:ea typeface="Arial"/>
              </a:rPr>
              <a:t>Кадикиб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  <a:ea typeface="Arial"/>
              </a:rPr>
              <a:t>Т</a:t>
            </a:r>
            <a:r>
              <a:rPr b="0" lang="en-US" sz="3200" spc="-1" strike="noStrike">
                <a:solidFill>
                  <a:schemeClr val="lt1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  <a:ea typeface="Arial"/>
              </a:rPr>
              <a:t>ут</a:t>
            </a:r>
            <a:r>
              <a:rPr b="0" lang="en-US" sz="3200" spc="-1" strike="noStrike">
                <a:solidFill>
                  <a:schemeClr val="lt1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  <a:ea typeface="Arial"/>
              </a:rPr>
              <a:t>удиуб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Users\ахмед\AppData\Local\Microsoft\Windows\Temporary Internet Files\Content.IE5\RGELZBMV\owl-reading[1].gif"/>
          <p:cNvPicPr/>
          <p:nvPr/>
        </p:nvPicPr>
        <p:blipFill>
          <a:blip r:embed="rId2"/>
          <a:stretch/>
        </p:blipFill>
        <p:spPr>
          <a:xfrm>
            <a:off x="3929040" y="1643040"/>
            <a:ext cx="1928520" cy="1499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00840" y="1500120"/>
            <a:ext cx="2571480" cy="26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Сегъуна?  Сегъунти?  Чиди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0040" y="2071800"/>
            <a:ext cx="4543200" cy="44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ел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н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си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жуз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ел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н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ти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жуз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Лу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уси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рурс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Лу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ути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рурсб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ан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урш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у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анти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уршб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уркъ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я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43840" y="5000760"/>
            <a:ext cx="154260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250" name="Picture 5" descr="C:\Users\ахмед\AppData\Local\Microsoft\Windows\Temporary Internet Files\Content.IE5\ZL9Q23MY\343[1].png"/>
          <p:cNvPicPr/>
          <p:nvPr/>
        </p:nvPicPr>
        <p:blipFill>
          <a:blip r:embed="rId1"/>
          <a:stretch/>
        </p:blipFill>
        <p:spPr>
          <a:xfrm>
            <a:off x="6429240" y="4186080"/>
            <a:ext cx="2714400" cy="2671560"/>
          </a:xfrm>
          <a:prstGeom prst="rect">
            <a:avLst/>
          </a:prstGeom>
          <a:ln w="0">
            <a:noFill/>
          </a:ln>
        </p:spPr>
      </p:pic>
      <p:sp>
        <p:nvSpPr>
          <p:cNvPr id="251" name="Выгнутая вниз стрелка 25"/>
          <p:cNvSpPr/>
          <p:nvPr/>
        </p:nvSpPr>
        <p:spPr>
          <a:xfrm rot="10800000">
            <a:off x="1857600" y="1786320"/>
            <a:ext cx="1642680" cy="428400"/>
          </a:xfrm>
          <a:prstGeom prst="curvedUpArrow">
            <a:avLst>
              <a:gd name="adj1" fmla="val 7684"/>
              <a:gd name="adj2" fmla="val 58902"/>
              <a:gd name="adj3" fmla="val 27208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500040" y="0"/>
            <a:ext cx="6419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кьяйда детарули илд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738000" y="857160"/>
            <a:ext cx="488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гол  +  Суффикс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21" descr="slide_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0783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4429080" y="1714680"/>
            <a:ext cx="8568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5668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592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1111f3"/>
                </a:solidFill>
                <a:latin typeface="Arial"/>
                <a:ea typeface="Arial"/>
              </a:rPr>
              <a:t>Тема:«Причастие»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17" descr="MC900210398[1]"/>
          <p:cNvPicPr/>
          <p:nvPr/>
        </p:nvPicPr>
        <p:blipFill>
          <a:blip r:embed="rId1"/>
          <a:stretch/>
        </p:blipFill>
        <p:spPr>
          <a:xfrm>
            <a:off x="179280" y="189000"/>
            <a:ext cx="720360" cy="6465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MC900210398[1]"/>
          <p:cNvPicPr/>
          <p:nvPr/>
        </p:nvPicPr>
        <p:blipFill>
          <a:blip r:embed="rId2"/>
          <a:stretch/>
        </p:blipFill>
        <p:spPr>
          <a:xfrm>
            <a:off x="8317080" y="189000"/>
            <a:ext cx="718920" cy="6479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C:\Users\sony\AppData\Local\Microsoft\Windows\Temporary Internet Files\Content.IE5\F0W3ZVBF\MC900232915[1].wmf"/>
          <p:cNvPicPr/>
          <p:nvPr/>
        </p:nvPicPr>
        <p:blipFill>
          <a:blip r:embed="rId3"/>
          <a:stretch/>
        </p:blipFill>
        <p:spPr>
          <a:xfrm>
            <a:off x="4714920" y="3784680"/>
            <a:ext cx="3571560" cy="3072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C:\Users\sony\AppData\Local\Microsoft\Windows\Temporary Internet Files\Content.IE5\F0W3ZVBF\MC900088568[1].wmf"/>
          <p:cNvPicPr/>
          <p:nvPr/>
        </p:nvPicPr>
        <p:blipFill>
          <a:blip r:embed="rId4"/>
          <a:stretch/>
        </p:blipFill>
        <p:spPr>
          <a:xfrm>
            <a:off x="1571760" y="4148280"/>
            <a:ext cx="2285640" cy="27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7"/>
          <p:cNvSpPr txBox="1"/>
          <p:nvPr/>
        </p:nvSpPr>
        <p:spPr>
          <a:xfrm>
            <a:off x="357120" y="785880"/>
            <a:ext cx="8643600" cy="3153240"/>
          </a:xfrm>
          <a:prstGeom prst="rect">
            <a:avLst/>
          </a:prstGeom>
        </p:spPr>
        <p:txBody>
          <a:bodyPr numCol="1" spcCol="0" wrap="none" lIns="90000" rIns="90000" tIns="45000" bIns="45000" anchor="t" anchorCtr="1">
            <a:prstTxWarp prst="textWave1">
              <a:avLst>
                <a:gd name="adj1" fmla="val 15868"/>
                <a:gd name="adj2" fmla="val -2214"/>
              </a:avLst>
            </a:prstTxWarp>
            <a:noAutofit/>
            <a:scene3d>
              <a:camera prst="orthographicFront"/>
              <a:lightRig dir="t" rig="threePt"/>
            </a:scene3d>
            <a:sp3d extrusionH="57150">
              <a:bevelT prst="softRound" h="25400"/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 cap="all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C:\Users\ПРИВЕТ\Desktop\РАБОЧИЙ  СТОЛ\РАМКИ\104332657_large_13[1].png"/>
          <p:cNvPicPr/>
          <p:nvPr/>
        </p:nvPicPr>
        <p:blipFill>
          <a:blip r:embed="rId1"/>
          <a:stretch/>
        </p:blipFill>
        <p:spPr>
          <a:xfrm>
            <a:off x="6572160" y="0"/>
            <a:ext cx="2788920" cy="2214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C:\Users\ПРИВЕТ\Desktop\РАБОЧИЙ  СТОЛ\РАМКИ\104616917_a__7_[1].png"/>
          <p:cNvPicPr/>
          <p:nvPr/>
        </p:nvPicPr>
        <p:blipFill>
          <a:blip r:embed="rId2"/>
          <a:stretch/>
        </p:blipFill>
        <p:spPr>
          <a:xfrm>
            <a:off x="6810480" y="4143240"/>
            <a:ext cx="2333160" cy="27144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chemeClr val="accent1">
                    <a:lumMod val="50000"/>
                  </a:schemeClr>
                </a:solidFill>
                <a:latin typeface="Calibri"/>
                <a:ea typeface="Arial"/>
              </a:rPr>
              <a:t>Дарсла  мурад:</a:t>
            </a:r>
            <a:br>
              <a:rPr sz="4400"/>
            </a:b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240" cy="49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частие багьес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частиела суффиксуни дагьес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ложениелизиб причастиела х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янчи багьес. Причастиела ави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ешла мез руркънилизиб, дурх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зир    вег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ла Ват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айчи, мезличи, литератураличи, г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ядатуначи диги, пахру ва иштях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ак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ахъ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урх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ла мезла ва литературала шайчирти багьудлуми чедаахън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4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Глаголла ва прилагательноела лишанти лерти дугьбас </a:t>
            </a:r>
            <a:r>
              <a:rPr b="1" lang="ru-RU" sz="4800" spc="-1" strike="noStrike">
                <a:solidFill>
                  <a:srgbClr val="0000cc"/>
                </a:solidFill>
                <a:latin typeface="Calibri"/>
                <a:ea typeface="Arial"/>
              </a:rPr>
              <a:t>ПРИЧАСТИЕБИ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 или бик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ар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14200" y="3214800"/>
            <a:ext cx="9261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ффиксуни: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-си, -ти, -уси, -ут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-ан, -ян, -анти, -янти, -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3640" cy="121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Рашидов Рашид Меджидович </a:t>
            </a:r>
            <a:br>
              <a:rPr sz="4400"/>
            </a:b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(</a:t>
            </a:r>
            <a:r>
              <a:rPr b="0" lang="ru-RU" sz="3100" spc="-1" strike="noStrike">
                <a:solidFill>
                  <a:srgbClr val="0000cc"/>
                </a:solidFill>
                <a:latin typeface="Calibri"/>
                <a:ea typeface="Arial"/>
              </a:rPr>
              <a:t>1.05.1928 – 15.05.2011, с. Ванаши-Махи Сергокалинского района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143240" y="1500120"/>
            <a:ext cx="5000400" cy="5357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Чум азир тугъ делк!ал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Поэтли нешлич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Таманбируси ах!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Буруси илич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Изала хъумуртахъ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Нешла малх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  <a:ea typeface="Arial"/>
              </a:rPr>
              <a:t>I</a:t>
            </a: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ямси дев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Айт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  <a:ea typeface="Arial"/>
              </a:rPr>
              <a:t>I</a:t>
            </a: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ун тур кабик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  <a:ea typeface="Arial"/>
              </a:rPr>
              <a:t>I</a:t>
            </a: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ахъ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Arial"/>
              </a:rPr>
              <a:t>Нешла духуси де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4000320" cy="492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Глаголличи мешути лишанти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328640" cy="5125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99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  <a:ea typeface="Arial"/>
              </a:rPr>
              <a:t>Глаголла аслу леб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99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  <a:ea typeface="Arial"/>
              </a:rPr>
              <a:t>Замана чебиахъ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99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  <a:ea typeface="Arial"/>
              </a:rPr>
              <a:t>Чеббурхусили ва чебх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  <a:ea typeface="Arial"/>
              </a:rPr>
              <a:t>ебурхусили бир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99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  <a:ea typeface="Arial"/>
              </a:rPr>
              <a:t>Чеббирусили бир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99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  <a:ea typeface="Arial"/>
              </a:rPr>
              <a:t>Инкарла приставка имц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  <a:ea typeface="Arial"/>
              </a:rPr>
              <a:t>абарес вир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57840" y="1000080"/>
            <a:ext cx="4285800" cy="519696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Бурибси,бурус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Нуни белк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унси кагъар,гьаббак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ибси берх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Аргъахъибс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Хе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багьурс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Прилагательноеличи мешути лишанти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800080"/>
              </a:buClr>
              <a:buFont typeface="Wingdings" charset="2"/>
              <a:buChar char=""/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Прилагательноелагъуна суффикс лебни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800080"/>
              </a:buClr>
              <a:buFont typeface="Wingdings" charset="2"/>
              <a:buChar char=""/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Существительное баянбирни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800080"/>
              </a:buClr>
              <a:buFont typeface="Wingdings" charset="2"/>
              <a:buChar char=""/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Сегъуна? Чиди?суалтас жаваб лугни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800080"/>
              </a:buClr>
              <a:buFont typeface="Wingdings" charset="2"/>
              <a:buChar char=""/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Падежунарбирн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3" descr="C:\Users\ахмед\AppData\Local\Microsoft\Windows\Temporary Internet Files\Content.IE5\ZL9Q23MY\45386715_1245530981_pero2[1].png"/>
          <p:cNvPicPr/>
          <p:nvPr/>
        </p:nvPicPr>
        <p:blipFill>
          <a:blip r:embed="rId1"/>
          <a:stretch/>
        </p:blipFill>
        <p:spPr>
          <a:xfrm>
            <a:off x="5429160" y="4724280"/>
            <a:ext cx="3714480" cy="190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Сегъуна х</a:t>
            </a:r>
            <a:r>
              <a:rPr b="1" lang="en-US" sz="4400" spc="-1" strike="noStrike">
                <a:solidFill>
                  <a:srgbClr val="0000cc"/>
                </a:solidFill>
                <a:latin typeface="Calibri"/>
                <a:ea typeface="Arial"/>
              </a:rPr>
              <a:t>I</a:t>
            </a:r>
            <a:r>
              <a:rPr b="1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янчи бузахъули предложениелизиб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85006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рши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бячунс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уркурличи кайиб. (Опред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нц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бебк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ибси саб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. (Сказ-ое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явтазиб бахъал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бургъан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алхун.(Подлеж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уни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булхъу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хьурабарира.(Объек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Выгнутая вниз стрелка 3"/>
          <p:cNvSpPr/>
          <p:nvPr/>
        </p:nvSpPr>
        <p:spPr>
          <a:xfrm rot="10800000">
            <a:off x="2357640" y="1786320"/>
            <a:ext cx="2214360" cy="463320"/>
          </a:xfrm>
          <a:prstGeom prst="curvedUpArrow">
            <a:avLst>
              <a:gd name="adj1" fmla="val 12319"/>
              <a:gd name="adj2" fmla="val 75842"/>
              <a:gd name="adj3" fmla="val 39968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олилиния 7"/>
          <p:cNvSpPr/>
          <p:nvPr/>
        </p:nvSpPr>
        <p:spPr>
          <a:xfrm>
            <a:off x="2071800" y="2786040"/>
            <a:ext cx="1402920" cy="226800"/>
          </a:xfrm>
          <a:custGeom>
            <a:avLst/>
            <a:gdLst>
              <a:gd name="textAreaLeft" fmla="*/ 0 w 1402920"/>
              <a:gd name="textAreaRight" fmla="*/ 1403280 w 1402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403312" h="227080">
                <a:moveTo>
                  <a:pt x="0" y="150880"/>
                </a:moveTo>
                <a:cubicBezTo>
                  <a:pt x="30480" y="115320"/>
                  <a:pt x="58322" y="77318"/>
                  <a:pt x="91440" y="44200"/>
                </a:cubicBezTo>
                <a:cubicBezTo>
                  <a:pt x="104392" y="31248"/>
                  <a:pt x="119028" y="16310"/>
                  <a:pt x="137160" y="13720"/>
                </a:cubicBezTo>
                <a:cubicBezTo>
                  <a:pt x="157895" y="10758"/>
                  <a:pt x="177800" y="23880"/>
                  <a:pt x="198120" y="28960"/>
                </a:cubicBezTo>
                <a:cubicBezTo>
                  <a:pt x="329147" y="116311"/>
                  <a:pt x="174952" y="0"/>
                  <a:pt x="259080" y="105160"/>
                </a:cubicBezTo>
                <a:cubicBezTo>
                  <a:pt x="270522" y="119463"/>
                  <a:pt x="289560" y="125480"/>
                  <a:pt x="304800" y="135640"/>
                </a:cubicBezTo>
                <a:cubicBezTo>
                  <a:pt x="309880" y="150880"/>
                  <a:pt x="304235" y="178486"/>
                  <a:pt x="320040" y="181360"/>
                </a:cubicBezTo>
                <a:cubicBezTo>
                  <a:pt x="433993" y="202079"/>
                  <a:pt x="450293" y="180885"/>
                  <a:pt x="518160" y="135640"/>
                </a:cubicBezTo>
                <a:cubicBezTo>
                  <a:pt x="534416" y="111256"/>
                  <a:pt x="557784" y="63504"/>
                  <a:pt x="594360" y="59440"/>
                </a:cubicBezTo>
                <a:cubicBezTo>
                  <a:pt x="625071" y="56028"/>
                  <a:pt x="655320" y="69600"/>
                  <a:pt x="685800" y="74680"/>
                </a:cubicBezTo>
                <a:lnTo>
                  <a:pt x="777240" y="166120"/>
                </a:lnTo>
                <a:cubicBezTo>
                  <a:pt x="792480" y="181360"/>
                  <a:pt x="802513" y="205024"/>
                  <a:pt x="822960" y="211840"/>
                </a:cubicBezTo>
                <a:lnTo>
                  <a:pt x="868680" y="227080"/>
                </a:lnTo>
                <a:cubicBezTo>
                  <a:pt x="899160" y="196600"/>
                  <a:pt x="936210" y="171506"/>
                  <a:pt x="960120" y="135640"/>
                </a:cubicBezTo>
                <a:cubicBezTo>
                  <a:pt x="982611" y="101904"/>
                  <a:pt x="1001117" y="67669"/>
                  <a:pt x="1036320" y="44200"/>
                </a:cubicBezTo>
                <a:cubicBezTo>
                  <a:pt x="1049686" y="35289"/>
                  <a:pt x="1066800" y="34040"/>
                  <a:pt x="1082040" y="28960"/>
                </a:cubicBezTo>
                <a:cubicBezTo>
                  <a:pt x="1097280" y="49280"/>
                  <a:pt x="1109799" y="71959"/>
                  <a:pt x="1127760" y="89920"/>
                </a:cubicBezTo>
                <a:cubicBezTo>
                  <a:pt x="1140712" y="102872"/>
                  <a:pt x="1160528" y="107448"/>
                  <a:pt x="1173480" y="120400"/>
                </a:cubicBezTo>
                <a:cubicBezTo>
                  <a:pt x="1186432" y="133352"/>
                  <a:pt x="1190176" y="154059"/>
                  <a:pt x="1203960" y="166120"/>
                </a:cubicBezTo>
                <a:cubicBezTo>
                  <a:pt x="1231529" y="190243"/>
                  <a:pt x="1295400" y="227080"/>
                  <a:pt x="1295400" y="227080"/>
                </a:cubicBezTo>
                <a:cubicBezTo>
                  <a:pt x="1315720" y="222000"/>
                  <a:pt x="1338932" y="223458"/>
                  <a:pt x="1356360" y="211840"/>
                </a:cubicBezTo>
                <a:cubicBezTo>
                  <a:pt x="1378709" y="196941"/>
                  <a:pt x="1395995" y="144742"/>
                  <a:pt x="1402080" y="120400"/>
                </a:cubicBezTo>
                <a:cubicBezTo>
                  <a:pt x="1403312" y="115472"/>
                  <a:pt x="1402080" y="110240"/>
                  <a:pt x="1402080" y="105160"/>
                </a:cubicBezTo>
              </a:path>
            </a:pathLst>
          </a:cu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9" name="Выгнутая вверх стрелка 8"/>
          <p:cNvSpPr/>
          <p:nvPr/>
        </p:nvSpPr>
        <p:spPr>
          <a:xfrm>
            <a:off x="1357200" y="3214800"/>
            <a:ext cx="1714320" cy="428400"/>
          </a:xfrm>
          <a:prstGeom prst="curvedDownArrow">
            <a:avLst>
              <a:gd name="adj1" fmla="val 25000"/>
              <a:gd name="adj2" fmla="val 50000"/>
              <a:gd name="adj3" fmla="val 42778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0" name="Прямая соединительная линия 12"/>
          <p:cNvCxnSpPr/>
          <p:nvPr/>
        </p:nvCxnSpPr>
        <p:spPr>
          <a:xfrm>
            <a:off x="1771560" y="4198680"/>
            <a:ext cx="2572200" cy="2160"/>
          </a:xfrm>
          <a:prstGeom prst="straightConnector1">
            <a:avLst/>
          </a:prstGeom>
          <a:ln w="0">
            <a:solidFill>
              <a:srgbClr val="4a7ebb"/>
            </a:solidFill>
          </a:ln>
        </p:spPr>
      </p:cxnSp>
      <p:cxnSp>
        <p:nvCxnSpPr>
          <p:cNvPr id="281" name="Прямая соединительная линия 17"/>
          <p:cNvCxnSpPr/>
          <p:nvPr/>
        </p:nvCxnSpPr>
        <p:spPr>
          <a:xfrm>
            <a:off x="1785600" y="4071600"/>
            <a:ext cx="2643840" cy="2160"/>
          </a:xfrm>
          <a:prstGeom prst="straightConnector1">
            <a:avLst/>
          </a:prstGeom>
          <a:ln w="0">
            <a:solidFill>
              <a:srgbClr val="4a7ebb"/>
            </a:solidFill>
          </a:ln>
        </p:spPr>
      </p:cxnSp>
      <p:sp>
        <p:nvSpPr>
          <p:cNvPr id="282" name="Выгнутая вниз стрелка 18"/>
          <p:cNvSpPr/>
          <p:nvPr/>
        </p:nvSpPr>
        <p:spPr>
          <a:xfrm rot="10800000">
            <a:off x="4644000" y="4429440"/>
            <a:ext cx="1642680" cy="445680"/>
          </a:xfrm>
          <a:prstGeom prst="curvedUpArrow">
            <a:avLst>
              <a:gd name="adj1" fmla="val 24998"/>
              <a:gd name="adj2" fmla="val 84750"/>
              <a:gd name="adj3" fmla="val 35255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3" name="Прямая соединительная линия 22"/>
          <p:cNvCxnSpPr/>
          <p:nvPr/>
        </p:nvCxnSpPr>
        <p:spPr>
          <a:xfrm>
            <a:off x="4071600" y="5286240"/>
            <a:ext cx="1715040" cy="1800"/>
          </a:xfrm>
          <a:prstGeom prst="straightConnector1">
            <a:avLst/>
          </a:prstGeom>
          <a:ln w="0">
            <a:solidFill>
              <a:srgbClr val="4a7ebb"/>
            </a:solidFill>
          </a:ln>
        </p:spPr>
      </p:cxnSp>
      <p:sp>
        <p:nvSpPr>
          <p:cNvPr id="284" name="TextBox 23"/>
          <p:cNvSpPr/>
          <p:nvPr/>
        </p:nvSpPr>
        <p:spPr>
          <a:xfrm>
            <a:off x="2793960" y="1428840"/>
            <a:ext cx="119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ъу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1509480" y="2928960"/>
            <a:ext cx="175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ъуна саб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5"/>
          <p:cNvSpPr/>
          <p:nvPr/>
        </p:nvSpPr>
        <p:spPr>
          <a:xfrm>
            <a:off x="5218560" y="4500720"/>
            <a:ext cx="58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Выгнутая вниз стрелка 26"/>
          <p:cNvSpPr/>
          <p:nvPr/>
        </p:nvSpPr>
        <p:spPr>
          <a:xfrm rot="10800000">
            <a:off x="2949840" y="5429520"/>
            <a:ext cx="1693440" cy="455400"/>
          </a:xfrm>
          <a:prstGeom prst="curvedUpArrow">
            <a:avLst>
              <a:gd name="adj1" fmla="val 12909"/>
              <a:gd name="adj2" fmla="val 45956"/>
              <a:gd name="adj3" fmla="val 40736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3500280" y="5429160"/>
            <a:ext cx="595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единительная линия 29"/>
          <p:cNvCxnSpPr/>
          <p:nvPr/>
        </p:nvCxnSpPr>
        <p:spPr>
          <a:xfrm>
            <a:off x="2071440" y="6429240"/>
            <a:ext cx="1500480" cy="1800"/>
          </a:xfrm>
          <a:prstGeom prst="straightConnector1">
            <a:avLst/>
          </a:prstGeom>
          <a:ln w="0">
            <a:solidFill>
              <a:srgbClr val="4a7ebb"/>
            </a:solidFill>
          </a:ln>
        </p:spPr>
      </p:cxnSp>
      <p:sp>
        <p:nvSpPr>
          <p:cNvPr id="290" name="Полилиния 32"/>
          <p:cNvSpPr/>
          <p:nvPr/>
        </p:nvSpPr>
        <p:spPr>
          <a:xfrm>
            <a:off x="2057400" y="6494400"/>
            <a:ext cx="1509480" cy="153720"/>
          </a:xfrm>
          <a:custGeom>
            <a:avLst/>
            <a:gdLst>
              <a:gd name="textAreaLeft" fmla="*/ 0 w 1509480"/>
              <a:gd name="textAreaRight" fmla="*/ 1509840 w 150948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1509584" h="154788">
                <a:moveTo>
                  <a:pt x="0" y="135106"/>
                </a:moveTo>
                <a:cubicBezTo>
                  <a:pt x="25400" y="99546"/>
                  <a:pt x="39840" y="52666"/>
                  <a:pt x="76200" y="28426"/>
                </a:cubicBezTo>
                <a:cubicBezTo>
                  <a:pt x="118840" y="0"/>
                  <a:pt x="157101" y="68308"/>
                  <a:pt x="167640" y="89386"/>
                </a:cubicBezTo>
                <a:cubicBezTo>
                  <a:pt x="174824" y="103754"/>
                  <a:pt x="171521" y="123747"/>
                  <a:pt x="182880" y="135106"/>
                </a:cubicBezTo>
                <a:cubicBezTo>
                  <a:pt x="194239" y="146465"/>
                  <a:pt x="213360" y="145266"/>
                  <a:pt x="228600" y="150346"/>
                </a:cubicBezTo>
                <a:cubicBezTo>
                  <a:pt x="265785" y="137951"/>
                  <a:pt x="290497" y="134169"/>
                  <a:pt x="320040" y="104626"/>
                </a:cubicBezTo>
                <a:cubicBezTo>
                  <a:pt x="421640" y="3026"/>
                  <a:pt x="274320" y="109706"/>
                  <a:pt x="396240" y="28426"/>
                </a:cubicBezTo>
                <a:cubicBezTo>
                  <a:pt x="492699" y="60579"/>
                  <a:pt x="396620" y="13850"/>
                  <a:pt x="457200" y="119866"/>
                </a:cubicBezTo>
                <a:cubicBezTo>
                  <a:pt x="466287" y="135769"/>
                  <a:pt x="487680" y="140186"/>
                  <a:pt x="502920" y="150346"/>
                </a:cubicBezTo>
                <a:cubicBezTo>
                  <a:pt x="533400" y="145266"/>
                  <a:pt x="566722" y="148925"/>
                  <a:pt x="594360" y="135106"/>
                </a:cubicBezTo>
                <a:cubicBezTo>
                  <a:pt x="650890" y="106841"/>
                  <a:pt x="604016" y="79730"/>
                  <a:pt x="640080" y="43666"/>
                </a:cubicBezTo>
                <a:cubicBezTo>
                  <a:pt x="651439" y="32307"/>
                  <a:pt x="670560" y="33506"/>
                  <a:pt x="685800" y="28426"/>
                </a:cubicBezTo>
                <a:cubicBezTo>
                  <a:pt x="722985" y="40821"/>
                  <a:pt x="747697" y="44603"/>
                  <a:pt x="777240" y="74146"/>
                </a:cubicBezTo>
                <a:cubicBezTo>
                  <a:pt x="846174" y="143080"/>
                  <a:pt x="764433" y="105437"/>
                  <a:pt x="853440" y="135106"/>
                </a:cubicBezTo>
                <a:cubicBezTo>
                  <a:pt x="858580" y="119686"/>
                  <a:pt x="877889" y="48393"/>
                  <a:pt x="899160" y="43666"/>
                </a:cubicBezTo>
                <a:cubicBezTo>
                  <a:pt x="934226" y="35874"/>
                  <a:pt x="970280" y="53826"/>
                  <a:pt x="1005840" y="58906"/>
                </a:cubicBezTo>
                <a:cubicBezTo>
                  <a:pt x="1016000" y="74146"/>
                  <a:pt x="1023368" y="91674"/>
                  <a:pt x="1036320" y="104626"/>
                </a:cubicBezTo>
                <a:cubicBezTo>
                  <a:pt x="1049272" y="117578"/>
                  <a:pt x="1063973" y="132095"/>
                  <a:pt x="1082040" y="135106"/>
                </a:cubicBezTo>
                <a:cubicBezTo>
                  <a:pt x="1107279" y="139312"/>
                  <a:pt x="1157558" y="100001"/>
                  <a:pt x="1173480" y="89386"/>
                </a:cubicBezTo>
                <a:cubicBezTo>
                  <a:pt x="1193025" y="60068"/>
                  <a:pt x="1203990" y="23349"/>
                  <a:pt x="1249680" y="28426"/>
                </a:cubicBezTo>
                <a:cubicBezTo>
                  <a:pt x="1281612" y="31974"/>
                  <a:pt x="1341120" y="58906"/>
                  <a:pt x="1341120" y="58906"/>
                </a:cubicBezTo>
                <a:cubicBezTo>
                  <a:pt x="1354667" y="79226"/>
                  <a:pt x="1383453" y="135106"/>
                  <a:pt x="1417320" y="135106"/>
                </a:cubicBezTo>
                <a:cubicBezTo>
                  <a:pt x="1435636" y="135106"/>
                  <a:pt x="1447800" y="114786"/>
                  <a:pt x="1463040" y="104626"/>
                </a:cubicBezTo>
                <a:cubicBezTo>
                  <a:pt x="1473200" y="89386"/>
                  <a:pt x="1475204" y="58906"/>
                  <a:pt x="1493520" y="58906"/>
                </a:cubicBezTo>
                <a:cubicBezTo>
                  <a:pt x="1509584" y="58906"/>
                  <a:pt x="1488315" y="92082"/>
                  <a:pt x="1478280" y="104626"/>
                </a:cubicBezTo>
                <a:cubicBezTo>
                  <a:pt x="1466838" y="118929"/>
                  <a:pt x="1447800" y="124946"/>
                  <a:pt x="1432560" y="135106"/>
                </a:cubicBezTo>
                <a:cubicBezTo>
                  <a:pt x="1417320" y="124946"/>
                  <a:pt x="1403223" y="96435"/>
                  <a:pt x="1386840" y="104626"/>
                </a:cubicBezTo>
                <a:cubicBezTo>
                  <a:pt x="1372472" y="111810"/>
                  <a:pt x="1386495" y="146450"/>
                  <a:pt x="1402080" y="150346"/>
                </a:cubicBezTo>
                <a:cubicBezTo>
                  <a:pt x="1419849" y="154788"/>
                  <a:pt x="1433729" y="131592"/>
                  <a:pt x="1447800" y="119866"/>
                </a:cubicBezTo>
                <a:lnTo>
                  <a:pt x="1508760" y="58906"/>
                </a:lnTo>
              </a:path>
            </a:pathLst>
          </a:cu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1" name="Умножение 33"/>
          <p:cNvSpPr/>
          <p:nvPr/>
        </p:nvSpPr>
        <p:spPr>
          <a:xfrm>
            <a:off x="4643280" y="5715000"/>
            <a:ext cx="285480" cy="285480"/>
          </a:xfrm>
          <a:prstGeom prst="mathMultiply">
            <a:avLst>
              <a:gd name="adj1" fmla="val 2352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24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Причастиела авид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8857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азибиубти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дурх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I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н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майдайчиб багьарбиуб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  <a:ea typeface="Arial"/>
              </a:rPr>
              <a:t>Ванаси аргъличи разибиубти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дурх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I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н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майдайчиб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агьарбиуб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Дурх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I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ни 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  <a:ea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  <a:ea typeface="Arial"/>
              </a:rPr>
              <a:t>ванаси аргъличи разибиубти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  <a:ea typeface="Arial"/>
              </a:rPr>
              <a:t> 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майдайчиб багьарбиуб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Умножение 3"/>
          <p:cNvSpPr/>
          <p:nvPr/>
        </p:nvSpPr>
        <p:spPr>
          <a:xfrm>
            <a:off x="3071880" y="1500120"/>
            <a:ext cx="213840" cy="342720"/>
          </a:xfrm>
          <a:prstGeom prst="mathMultiply">
            <a:avLst>
              <a:gd name="adj1" fmla="val 9412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295" name="Выгнутая вниз стрелка 4"/>
          <p:cNvSpPr/>
          <p:nvPr/>
        </p:nvSpPr>
        <p:spPr>
          <a:xfrm rot="10800000">
            <a:off x="1357560" y="1215000"/>
            <a:ext cx="1714320" cy="445680"/>
          </a:xfrm>
          <a:prstGeom prst="curvedUpArrow">
            <a:avLst>
              <a:gd name="adj1" fmla="val 24982"/>
              <a:gd name="adj2" fmla="val 50000"/>
              <a:gd name="adj3" fmla="val 25000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6" name="Прямая соединительная линия 6"/>
          <p:cNvCxnSpPr/>
          <p:nvPr/>
        </p:nvCxnSpPr>
        <p:spPr>
          <a:xfrm>
            <a:off x="2571480" y="2214360"/>
            <a:ext cx="1286280" cy="1800"/>
          </a:xfrm>
          <a:prstGeom prst="straightConnector1">
            <a:avLst/>
          </a:prstGeom>
          <a:ln w="0">
            <a:solidFill>
              <a:srgbClr val="4a7ebb"/>
            </a:solidFill>
          </a:ln>
        </p:spPr>
      </p:cxnSp>
      <p:sp>
        <p:nvSpPr>
          <p:cNvPr id="297" name="Полилиния 9"/>
          <p:cNvSpPr/>
          <p:nvPr/>
        </p:nvSpPr>
        <p:spPr>
          <a:xfrm>
            <a:off x="304920" y="2209680"/>
            <a:ext cx="2103120" cy="205920"/>
          </a:xfrm>
          <a:custGeom>
            <a:avLst/>
            <a:gdLst>
              <a:gd name="textAreaLeft" fmla="*/ 0 w 2103120"/>
              <a:gd name="textAreaRight" fmla="*/ 2103480 w 2103120"/>
              <a:gd name="textAreaTop" fmla="*/ 0 h 205920"/>
              <a:gd name="textAreaBottom" fmla="*/ 206280 h 205920"/>
            </a:gdLst>
            <a:ahLst/>
            <a:rect l="textAreaLeft" t="textAreaTop" r="textAreaRight" b="textAreaBottom"/>
            <a:pathLst>
              <a:path w="2103120" h="206829">
                <a:moveTo>
                  <a:pt x="0" y="106680"/>
                </a:moveTo>
                <a:cubicBezTo>
                  <a:pt x="35560" y="86360"/>
                  <a:pt x="71560" y="66792"/>
                  <a:pt x="106680" y="45720"/>
                </a:cubicBezTo>
                <a:cubicBezTo>
                  <a:pt x="122386" y="36296"/>
                  <a:pt x="134333" y="12229"/>
                  <a:pt x="152400" y="15240"/>
                </a:cubicBezTo>
                <a:cubicBezTo>
                  <a:pt x="173659" y="18783"/>
                  <a:pt x="181563" y="47162"/>
                  <a:pt x="198120" y="60960"/>
                </a:cubicBezTo>
                <a:cubicBezTo>
                  <a:pt x="212191" y="72686"/>
                  <a:pt x="228600" y="81280"/>
                  <a:pt x="243840" y="91440"/>
                </a:cubicBezTo>
                <a:cubicBezTo>
                  <a:pt x="264160" y="86360"/>
                  <a:pt x="288444" y="89284"/>
                  <a:pt x="304800" y="76200"/>
                </a:cubicBezTo>
                <a:cubicBezTo>
                  <a:pt x="317344" y="66165"/>
                  <a:pt x="310005" y="43024"/>
                  <a:pt x="320040" y="30480"/>
                </a:cubicBezTo>
                <a:cubicBezTo>
                  <a:pt x="331482" y="16177"/>
                  <a:pt x="350520" y="10160"/>
                  <a:pt x="365760" y="0"/>
                </a:cubicBezTo>
                <a:cubicBezTo>
                  <a:pt x="386080" y="5080"/>
                  <a:pt x="409292" y="3622"/>
                  <a:pt x="426720" y="15240"/>
                </a:cubicBezTo>
                <a:cubicBezTo>
                  <a:pt x="481779" y="51946"/>
                  <a:pt x="437666" y="63213"/>
                  <a:pt x="472440" y="106680"/>
                </a:cubicBezTo>
                <a:cubicBezTo>
                  <a:pt x="483882" y="120983"/>
                  <a:pt x="502920" y="127000"/>
                  <a:pt x="518160" y="137160"/>
                </a:cubicBezTo>
                <a:cubicBezTo>
                  <a:pt x="548640" y="132080"/>
                  <a:pt x="582771" y="137251"/>
                  <a:pt x="609600" y="121920"/>
                </a:cubicBezTo>
                <a:cubicBezTo>
                  <a:pt x="623548" y="113950"/>
                  <a:pt x="617656" y="90568"/>
                  <a:pt x="624840" y="76200"/>
                </a:cubicBezTo>
                <a:cubicBezTo>
                  <a:pt x="652414" y="21053"/>
                  <a:pt x="648308" y="32817"/>
                  <a:pt x="701040" y="15240"/>
                </a:cubicBezTo>
                <a:cubicBezTo>
                  <a:pt x="788126" y="44269"/>
                  <a:pt x="715554" y="6531"/>
                  <a:pt x="762000" y="76200"/>
                </a:cubicBezTo>
                <a:cubicBezTo>
                  <a:pt x="794617" y="125125"/>
                  <a:pt x="805507" y="121182"/>
                  <a:pt x="853440" y="137160"/>
                </a:cubicBezTo>
                <a:cubicBezTo>
                  <a:pt x="878840" y="132080"/>
                  <a:pt x="909741" y="138503"/>
                  <a:pt x="929640" y="121920"/>
                </a:cubicBezTo>
                <a:cubicBezTo>
                  <a:pt x="945731" y="108511"/>
                  <a:pt x="933262" y="78388"/>
                  <a:pt x="944880" y="60960"/>
                </a:cubicBezTo>
                <a:cubicBezTo>
                  <a:pt x="955040" y="45720"/>
                  <a:pt x="975360" y="40640"/>
                  <a:pt x="990600" y="30480"/>
                </a:cubicBezTo>
                <a:cubicBezTo>
                  <a:pt x="1021080" y="40640"/>
                  <a:pt x="1056952" y="40889"/>
                  <a:pt x="1082040" y="60960"/>
                </a:cubicBezTo>
                <a:cubicBezTo>
                  <a:pt x="1110645" y="83844"/>
                  <a:pt x="1110235" y="136017"/>
                  <a:pt x="1143000" y="152400"/>
                </a:cubicBezTo>
                <a:cubicBezTo>
                  <a:pt x="1218328" y="190064"/>
                  <a:pt x="1182407" y="175696"/>
                  <a:pt x="1249680" y="198120"/>
                </a:cubicBezTo>
                <a:cubicBezTo>
                  <a:pt x="1336766" y="169091"/>
                  <a:pt x="1264194" y="206829"/>
                  <a:pt x="1310640" y="137160"/>
                </a:cubicBezTo>
                <a:cubicBezTo>
                  <a:pt x="1334109" y="101957"/>
                  <a:pt x="1368344" y="83451"/>
                  <a:pt x="1402080" y="60960"/>
                </a:cubicBezTo>
                <a:cubicBezTo>
                  <a:pt x="1422400" y="66040"/>
                  <a:pt x="1445996" y="64026"/>
                  <a:pt x="1463040" y="76200"/>
                </a:cubicBezTo>
                <a:cubicBezTo>
                  <a:pt x="1483709" y="90963"/>
                  <a:pt x="1484255" y="130477"/>
                  <a:pt x="1508760" y="137160"/>
                </a:cubicBezTo>
                <a:cubicBezTo>
                  <a:pt x="1548273" y="147936"/>
                  <a:pt x="1590040" y="127000"/>
                  <a:pt x="1630680" y="121920"/>
                </a:cubicBezTo>
                <a:cubicBezTo>
                  <a:pt x="1635851" y="116749"/>
                  <a:pt x="1703933" y="42689"/>
                  <a:pt x="1722120" y="45720"/>
                </a:cubicBezTo>
                <a:cubicBezTo>
                  <a:pt x="1744122" y="49387"/>
                  <a:pt x="1787048" y="120252"/>
                  <a:pt x="1798320" y="137160"/>
                </a:cubicBezTo>
                <a:cubicBezTo>
                  <a:pt x="1828800" y="132080"/>
                  <a:pt x="1864445" y="139640"/>
                  <a:pt x="1889760" y="121920"/>
                </a:cubicBezTo>
                <a:cubicBezTo>
                  <a:pt x="1919770" y="100913"/>
                  <a:pt x="1950720" y="30480"/>
                  <a:pt x="1950720" y="30480"/>
                </a:cubicBezTo>
                <a:cubicBezTo>
                  <a:pt x="1981200" y="35560"/>
                  <a:pt x="2017015" y="27759"/>
                  <a:pt x="2042160" y="45720"/>
                </a:cubicBezTo>
                <a:cubicBezTo>
                  <a:pt x="2059204" y="57894"/>
                  <a:pt x="2049149" y="87428"/>
                  <a:pt x="2057400" y="106680"/>
                </a:cubicBezTo>
                <a:cubicBezTo>
                  <a:pt x="2070324" y="136837"/>
                  <a:pt x="2083377" y="147897"/>
                  <a:pt x="2103120" y="167640"/>
                </a:cubicBezTo>
              </a:path>
            </a:pathLst>
          </a:cu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8" name="Умножение 10"/>
          <p:cNvSpPr/>
          <p:nvPr/>
        </p:nvSpPr>
        <p:spPr>
          <a:xfrm>
            <a:off x="6000840" y="2571840"/>
            <a:ext cx="285480" cy="414000"/>
          </a:xfrm>
          <a:prstGeom prst="mathMultiply">
            <a:avLst>
              <a:gd name="adj1" fmla="val 1352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299" name="Выгнутая вниз стрелка 11"/>
          <p:cNvSpPr/>
          <p:nvPr/>
        </p:nvSpPr>
        <p:spPr>
          <a:xfrm rot="10800000">
            <a:off x="4286520" y="2428920"/>
            <a:ext cx="1714320" cy="517320"/>
          </a:xfrm>
          <a:prstGeom prst="curvedUpArrow">
            <a:avLst>
              <a:gd name="adj1" fmla="val 19202"/>
              <a:gd name="adj2" fmla="val 50000"/>
              <a:gd name="adj3" fmla="val 22056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Умножение 12"/>
          <p:cNvSpPr/>
          <p:nvPr/>
        </p:nvSpPr>
        <p:spPr>
          <a:xfrm>
            <a:off x="928800" y="4357800"/>
            <a:ext cx="213840" cy="414000"/>
          </a:xfrm>
          <a:prstGeom prst="mathMultiply">
            <a:avLst>
              <a:gd name="adj1" fmla="val 1018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301" name="Выгнутая вверх стрелка 13"/>
          <p:cNvSpPr/>
          <p:nvPr/>
        </p:nvSpPr>
        <p:spPr>
          <a:xfrm>
            <a:off x="1143000" y="4214880"/>
            <a:ext cx="1928520" cy="445680"/>
          </a:xfrm>
          <a:prstGeom prst="curvedDownArrow">
            <a:avLst>
              <a:gd name="adj1" fmla="val 24982"/>
              <a:gd name="adj2" fmla="val 50005"/>
              <a:gd name="adj3" fmla="val 25000"/>
            </a:avLst>
          </a:prstGeom>
          <a:solidFill>
            <a:schemeClr val="accent1"/>
          </a:solidFill>
          <a:ln w="254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Прямая соединительная линия 19"/>
          <p:cNvCxnSpPr/>
          <p:nvPr/>
        </p:nvCxnSpPr>
        <p:spPr>
          <a:xfrm>
            <a:off x="5500440" y="3500280"/>
            <a:ext cx="1500480" cy="1800"/>
          </a:xfrm>
          <a:prstGeom prst="straightConnector1">
            <a:avLst/>
          </a:prstGeom>
          <a:ln w="0">
            <a:solidFill>
              <a:srgbClr val="4a7ebb"/>
            </a:solidFill>
          </a:ln>
        </p:spPr>
      </p:cxnSp>
      <p:cxnSp>
        <p:nvCxnSpPr>
          <p:cNvPr id="303" name="Прямая соединительная линия 27"/>
          <p:cNvCxnSpPr/>
          <p:nvPr/>
        </p:nvCxnSpPr>
        <p:spPr>
          <a:xfrm flipV="1">
            <a:off x="357120" y="5143320"/>
            <a:ext cx="1500480" cy="71640"/>
          </a:xfrm>
          <a:prstGeom prst="straightConnector1">
            <a:avLst/>
          </a:prstGeom>
          <a:ln w="0">
            <a:solidFill>
              <a:srgbClr val="4a7ebb"/>
            </a:solidFill>
          </a:ln>
        </p:spPr>
      </p:cxnSp>
      <p:sp>
        <p:nvSpPr>
          <p:cNvPr id="304" name="Полилиния 34"/>
          <p:cNvSpPr/>
          <p:nvPr/>
        </p:nvSpPr>
        <p:spPr>
          <a:xfrm>
            <a:off x="334800" y="3311640"/>
            <a:ext cx="5027400" cy="329760"/>
          </a:xfrm>
          <a:custGeom>
            <a:avLst/>
            <a:gdLst>
              <a:gd name="textAreaLeft" fmla="*/ 0 w 5027400"/>
              <a:gd name="textAreaRight" fmla="*/ 5027760 w 5027400"/>
              <a:gd name="textAreaTop" fmla="*/ 0 h 329760"/>
              <a:gd name="textAreaBottom" fmla="*/ 330120 h 329760"/>
            </a:gdLst>
            <a:ahLst/>
            <a:rect l="textAreaLeft" t="textAreaTop" r="textAreaRight" b="textAreaBottom"/>
            <a:pathLst>
              <a:path w="5026811" h="330703">
                <a:moveTo>
                  <a:pt x="0" y="147823"/>
                </a:moveTo>
                <a:cubicBezTo>
                  <a:pt x="35560" y="122423"/>
                  <a:pt x="66106" y="87853"/>
                  <a:pt x="106680" y="71623"/>
                </a:cubicBezTo>
                <a:cubicBezTo>
                  <a:pt x="151371" y="53747"/>
                  <a:pt x="164475" y="117859"/>
                  <a:pt x="182880" y="132583"/>
                </a:cubicBezTo>
                <a:cubicBezTo>
                  <a:pt x="195424" y="142618"/>
                  <a:pt x="213360" y="142743"/>
                  <a:pt x="228600" y="147823"/>
                </a:cubicBezTo>
                <a:cubicBezTo>
                  <a:pt x="243840" y="137663"/>
                  <a:pt x="261368" y="130295"/>
                  <a:pt x="274320" y="117343"/>
                </a:cubicBezTo>
                <a:cubicBezTo>
                  <a:pt x="287272" y="104391"/>
                  <a:pt x="287794" y="78425"/>
                  <a:pt x="304800" y="71623"/>
                </a:cubicBezTo>
                <a:cubicBezTo>
                  <a:pt x="319715" y="65657"/>
                  <a:pt x="335280" y="81783"/>
                  <a:pt x="350520" y="86863"/>
                </a:cubicBezTo>
                <a:cubicBezTo>
                  <a:pt x="358781" y="128169"/>
                  <a:pt x="351682" y="186068"/>
                  <a:pt x="411480" y="193543"/>
                </a:cubicBezTo>
                <a:cubicBezTo>
                  <a:pt x="437183" y="196756"/>
                  <a:pt x="462280" y="183383"/>
                  <a:pt x="487680" y="178303"/>
                </a:cubicBezTo>
                <a:cubicBezTo>
                  <a:pt x="497840" y="163063"/>
                  <a:pt x="509969" y="148966"/>
                  <a:pt x="518160" y="132583"/>
                </a:cubicBezTo>
                <a:cubicBezTo>
                  <a:pt x="525344" y="118215"/>
                  <a:pt x="523365" y="99407"/>
                  <a:pt x="533400" y="86863"/>
                </a:cubicBezTo>
                <a:cubicBezTo>
                  <a:pt x="544842" y="72560"/>
                  <a:pt x="563880" y="66543"/>
                  <a:pt x="579120" y="56383"/>
                </a:cubicBezTo>
                <a:cubicBezTo>
                  <a:pt x="599440" y="66543"/>
                  <a:pt x="624016" y="70799"/>
                  <a:pt x="640080" y="86863"/>
                </a:cubicBezTo>
                <a:cubicBezTo>
                  <a:pt x="665983" y="112766"/>
                  <a:pt x="668275" y="161920"/>
                  <a:pt x="701040" y="178303"/>
                </a:cubicBezTo>
                <a:cubicBezTo>
                  <a:pt x="776368" y="215967"/>
                  <a:pt x="740447" y="201599"/>
                  <a:pt x="807720" y="224023"/>
                </a:cubicBezTo>
                <a:cubicBezTo>
                  <a:pt x="828040" y="203703"/>
                  <a:pt x="849978" y="184882"/>
                  <a:pt x="868680" y="163063"/>
                </a:cubicBezTo>
                <a:cubicBezTo>
                  <a:pt x="906165" y="119331"/>
                  <a:pt x="892034" y="106854"/>
                  <a:pt x="944880" y="71623"/>
                </a:cubicBezTo>
                <a:cubicBezTo>
                  <a:pt x="958246" y="62712"/>
                  <a:pt x="976232" y="63567"/>
                  <a:pt x="990600" y="56383"/>
                </a:cubicBezTo>
                <a:cubicBezTo>
                  <a:pt x="1006983" y="48192"/>
                  <a:pt x="1021080" y="36063"/>
                  <a:pt x="1036320" y="25903"/>
                </a:cubicBezTo>
                <a:cubicBezTo>
                  <a:pt x="1111996" y="139417"/>
                  <a:pt x="1014734" y="0"/>
                  <a:pt x="1112520" y="117343"/>
                </a:cubicBezTo>
                <a:cubicBezTo>
                  <a:pt x="1124246" y="131414"/>
                  <a:pt x="1127760" y="152903"/>
                  <a:pt x="1143000" y="163063"/>
                </a:cubicBezTo>
                <a:cubicBezTo>
                  <a:pt x="1160428" y="174681"/>
                  <a:pt x="1183640" y="173223"/>
                  <a:pt x="1203960" y="178303"/>
                </a:cubicBezTo>
                <a:cubicBezTo>
                  <a:pt x="1234440" y="173223"/>
                  <a:pt x="1267163" y="175613"/>
                  <a:pt x="1295400" y="163063"/>
                </a:cubicBezTo>
                <a:cubicBezTo>
                  <a:pt x="1323192" y="150711"/>
                  <a:pt x="1355407" y="95912"/>
                  <a:pt x="1371600" y="71623"/>
                </a:cubicBezTo>
                <a:cubicBezTo>
                  <a:pt x="1397000" y="76703"/>
                  <a:pt x="1425310" y="74012"/>
                  <a:pt x="1447800" y="86863"/>
                </a:cubicBezTo>
                <a:cubicBezTo>
                  <a:pt x="1472130" y="100766"/>
                  <a:pt x="1485697" y="154835"/>
                  <a:pt x="1493520" y="178303"/>
                </a:cubicBezTo>
                <a:cubicBezTo>
                  <a:pt x="1524000" y="168143"/>
                  <a:pt x="1555711" y="161118"/>
                  <a:pt x="1584960" y="147823"/>
                </a:cubicBezTo>
                <a:cubicBezTo>
                  <a:pt x="1613845" y="134694"/>
                  <a:pt x="1675483" y="92555"/>
                  <a:pt x="1706880" y="71623"/>
                </a:cubicBezTo>
                <a:cubicBezTo>
                  <a:pt x="1737360" y="76703"/>
                  <a:pt x="1773175" y="68902"/>
                  <a:pt x="1798320" y="86863"/>
                </a:cubicBezTo>
                <a:cubicBezTo>
                  <a:pt x="1815364" y="99037"/>
                  <a:pt x="1807541" y="127761"/>
                  <a:pt x="1813560" y="147823"/>
                </a:cubicBezTo>
                <a:cubicBezTo>
                  <a:pt x="1822792" y="178597"/>
                  <a:pt x="1844040" y="239263"/>
                  <a:pt x="1844040" y="239263"/>
                </a:cubicBezTo>
                <a:cubicBezTo>
                  <a:pt x="1882229" y="229716"/>
                  <a:pt x="1923024" y="226779"/>
                  <a:pt x="1950720" y="193543"/>
                </a:cubicBezTo>
                <a:cubicBezTo>
                  <a:pt x="1965264" y="176090"/>
                  <a:pt x="1969928" y="152308"/>
                  <a:pt x="1981200" y="132583"/>
                </a:cubicBezTo>
                <a:cubicBezTo>
                  <a:pt x="1990287" y="116680"/>
                  <a:pt x="2001520" y="102103"/>
                  <a:pt x="2011680" y="86863"/>
                </a:cubicBezTo>
                <a:cubicBezTo>
                  <a:pt x="2092153" y="113687"/>
                  <a:pt x="2048489" y="88737"/>
                  <a:pt x="2118360" y="193543"/>
                </a:cubicBezTo>
                <a:cubicBezTo>
                  <a:pt x="2128520" y="208783"/>
                  <a:pt x="2131464" y="233471"/>
                  <a:pt x="2148840" y="239263"/>
                </a:cubicBezTo>
                <a:lnTo>
                  <a:pt x="2194560" y="254503"/>
                </a:lnTo>
                <a:cubicBezTo>
                  <a:pt x="2204720" y="239263"/>
                  <a:pt x="2212088" y="221735"/>
                  <a:pt x="2225040" y="208783"/>
                </a:cubicBezTo>
                <a:cubicBezTo>
                  <a:pt x="2326640" y="107183"/>
                  <a:pt x="2219960" y="254503"/>
                  <a:pt x="2301240" y="132583"/>
                </a:cubicBezTo>
                <a:cubicBezTo>
                  <a:pt x="2316480" y="137663"/>
                  <a:pt x="2335601" y="136464"/>
                  <a:pt x="2346960" y="147823"/>
                </a:cubicBezTo>
                <a:cubicBezTo>
                  <a:pt x="2358319" y="159182"/>
                  <a:pt x="2355016" y="179175"/>
                  <a:pt x="2362200" y="193543"/>
                </a:cubicBezTo>
                <a:cubicBezTo>
                  <a:pt x="2370391" y="209926"/>
                  <a:pt x="2382520" y="224023"/>
                  <a:pt x="2392680" y="239263"/>
                </a:cubicBezTo>
                <a:cubicBezTo>
                  <a:pt x="2407920" y="229103"/>
                  <a:pt x="2425448" y="221735"/>
                  <a:pt x="2438400" y="208783"/>
                </a:cubicBezTo>
                <a:cubicBezTo>
                  <a:pt x="2494627" y="152556"/>
                  <a:pt x="2439700" y="167276"/>
                  <a:pt x="2514600" y="117343"/>
                </a:cubicBezTo>
                <a:cubicBezTo>
                  <a:pt x="2527966" y="108432"/>
                  <a:pt x="2545080" y="107183"/>
                  <a:pt x="2560320" y="102103"/>
                </a:cubicBezTo>
                <a:cubicBezTo>
                  <a:pt x="2593716" y="152197"/>
                  <a:pt x="2590266" y="138334"/>
                  <a:pt x="2606040" y="193543"/>
                </a:cubicBezTo>
                <a:cubicBezTo>
                  <a:pt x="2611794" y="213682"/>
                  <a:pt x="2609662" y="237075"/>
                  <a:pt x="2621280" y="254503"/>
                </a:cubicBezTo>
                <a:cubicBezTo>
                  <a:pt x="2631440" y="269743"/>
                  <a:pt x="2651760" y="274823"/>
                  <a:pt x="2667000" y="284983"/>
                </a:cubicBezTo>
                <a:cubicBezTo>
                  <a:pt x="2692400" y="279903"/>
                  <a:pt x="2723301" y="286326"/>
                  <a:pt x="2743200" y="269743"/>
                </a:cubicBezTo>
                <a:cubicBezTo>
                  <a:pt x="2759291" y="256334"/>
                  <a:pt x="2750189" y="228035"/>
                  <a:pt x="2758440" y="208783"/>
                </a:cubicBezTo>
                <a:cubicBezTo>
                  <a:pt x="2765655" y="191948"/>
                  <a:pt x="2780729" y="179446"/>
                  <a:pt x="2788920" y="163063"/>
                </a:cubicBezTo>
                <a:cubicBezTo>
                  <a:pt x="2852016" y="36870"/>
                  <a:pt x="2747289" y="202650"/>
                  <a:pt x="2834640" y="71623"/>
                </a:cubicBezTo>
                <a:cubicBezTo>
                  <a:pt x="2865120" y="76703"/>
                  <a:pt x="2899876" y="70486"/>
                  <a:pt x="2926080" y="86863"/>
                </a:cubicBezTo>
                <a:cubicBezTo>
                  <a:pt x="2945345" y="98904"/>
                  <a:pt x="2948123" y="126729"/>
                  <a:pt x="2956560" y="147823"/>
                </a:cubicBezTo>
                <a:cubicBezTo>
                  <a:pt x="2968492" y="177654"/>
                  <a:pt x="2987040" y="239263"/>
                  <a:pt x="2987040" y="239263"/>
                </a:cubicBezTo>
                <a:cubicBezTo>
                  <a:pt x="3017520" y="234183"/>
                  <a:pt x="3055225" y="244371"/>
                  <a:pt x="3078480" y="224023"/>
                </a:cubicBezTo>
                <a:cubicBezTo>
                  <a:pt x="3102659" y="202866"/>
                  <a:pt x="3091138" y="159316"/>
                  <a:pt x="3108960" y="132583"/>
                </a:cubicBezTo>
                <a:lnTo>
                  <a:pt x="3139440" y="86863"/>
                </a:lnTo>
                <a:cubicBezTo>
                  <a:pt x="3180080" y="91943"/>
                  <a:pt x="3227282" y="79385"/>
                  <a:pt x="3261360" y="102103"/>
                </a:cubicBezTo>
                <a:cubicBezTo>
                  <a:pt x="3282913" y="116471"/>
                  <a:pt x="3270981" y="153017"/>
                  <a:pt x="3276600" y="178303"/>
                </a:cubicBezTo>
                <a:cubicBezTo>
                  <a:pt x="3294143" y="257248"/>
                  <a:pt x="3280038" y="227461"/>
                  <a:pt x="3337560" y="284983"/>
                </a:cubicBezTo>
                <a:cubicBezTo>
                  <a:pt x="3413760" y="259583"/>
                  <a:pt x="3378200" y="284983"/>
                  <a:pt x="3413760" y="178303"/>
                </a:cubicBezTo>
                <a:lnTo>
                  <a:pt x="3429000" y="132583"/>
                </a:lnTo>
                <a:cubicBezTo>
                  <a:pt x="3464560" y="137663"/>
                  <a:pt x="3505219" y="128785"/>
                  <a:pt x="3535680" y="147823"/>
                </a:cubicBezTo>
                <a:cubicBezTo>
                  <a:pt x="3553442" y="158924"/>
                  <a:pt x="3545166" y="188644"/>
                  <a:pt x="3550920" y="208783"/>
                </a:cubicBezTo>
                <a:cubicBezTo>
                  <a:pt x="3568241" y="269405"/>
                  <a:pt x="3557025" y="248413"/>
                  <a:pt x="3611880" y="284983"/>
                </a:cubicBezTo>
                <a:cubicBezTo>
                  <a:pt x="3695700" y="229103"/>
                  <a:pt x="3624580" y="284983"/>
                  <a:pt x="3688080" y="208783"/>
                </a:cubicBezTo>
                <a:cubicBezTo>
                  <a:pt x="3724750" y="164779"/>
                  <a:pt x="3734565" y="162553"/>
                  <a:pt x="3779520" y="132583"/>
                </a:cubicBezTo>
                <a:cubicBezTo>
                  <a:pt x="3794760" y="142743"/>
                  <a:pt x="3815080" y="147823"/>
                  <a:pt x="3825240" y="163063"/>
                </a:cubicBezTo>
                <a:cubicBezTo>
                  <a:pt x="3831389" y="172287"/>
                  <a:pt x="3855384" y="298544"/>
                  <a:pt x="3855720" y="300223"/>
                </a:cubicBezTo>
                <a:cubicBezTo>
                  <a:pt x="3876040" y="295143"/>
                  <a:pt x="3900917" y="298776"/>
                  <a:pt x="3916680" y="284983"/>
                </a:cubicBezTo>
                <a:cubicBezTo>
                  <a:pt x="3944249" y="260860"/>
                  <a:pt x="3951737" y="219446"/>
                  <a:pt x="3977640" y="193543"/>
                </a:cubicBezTo>
                <a:lnTo>
                  <a:pt x="4023360" y="147823"/>
                </a:lnTo>
                <a:cubicBezTo>
                  <a:pt x="4033520" y="163063"/>
                  <a:pt x="4048048" y="176167"/>
                  <a:pt x="4053840" y="193543"/>
                </a:cubicBezTo>
                <a:cubicBezTo>
                  <a:pt x="4063612" y="222858"/>
                  <a:pt x="4062377" y="254818"/>
                  <a:pt x="4069080" y="284983"/>
                </a:cubicBezTo>
                <a:cubicBezTo>
                  <a:pt x="4072565" y="300665"/>
                  <a:pt x="4079240" y="315463"/>
                  <a:pt x="4084320" y="330703"/>
                </a:cubicBezTo>
                <a:cubicBezTo>
                  <a:pt x="4099560" y="320543"/>
                  <a:pt x="4117088" y="313175"/>
                  <a:pt x="4130040" y="300223"/>
                </a:cubicBezTo>
                <a:cubicBezTo>
                  <a:pt x="4191916" y="238347"/>
                  <a:pt x="4121867" y="258590"/>
                  <a:pt x="4221480" y="208783"/>
                </a:cubicBezTo>
                <a:cubicBezTo>
                  <a:pt x="4240214" y="199416"/>
                  <a:pt x="4262301" y="199297"/>
                  <a:pt x="4282440" y="193543"/>
                </a:cubicBezTo>
                <a:cubicBezTo>
                  <a:pt x="4297886" y="189130"/>
                  <a:pt x="4312920" y="183383"/>
                  <a:pt x="4328160" y="178303"/>
                </a:cubicBezTo>
                <a:cubicBezTo>
                  <a:pt x="4338320" y="193543"/>
                  <a:pt x="4350449" y="207640"/>
                  <a:pt x="4358640" y="224023"/>
                </a:cubicBezTo>
                <a:cubicBezTo>
                  <a:pt x="4365824" y="238391"/>
                  <a:pt x="4363845" y="257199"/>
                  <a:pt x="4373880" y="269743"/>
                </a:cubicBezTo>
                <a:cubicBezTo>
                  <a:pt x="4385322" y="284046"/>
                  <a:pt x="4404360" y="290063"/>
                  <a:pt x="4419600" y="300223"/>
                </a:cubicBezTo>
                <a:cubicBezTo>
                  <a:pt x="4445680" y="291530"/>
                  <a:pt x="4494158" y="279826"/>
                  <a:pt x="4511040" y="254503"/>
                </a:cubicBezTo>
                <a:cubicBezTo>
                  <a:pt x="4522658" y="237075"/>
                  <a:pt x="4518029" y="212795"/>
                  <a:pt x="4526280" y="193543"/>
                </a:cubicBezTo>
                <a:cubicBezTo>
                  <a:pt x="4542905" y="154750"/>
                  <a:pt x="4565535" y="135816"/>
                  <a:pt x="4602480" y="117343"/>
                </a:cubicBezTo>
                <a:cubicBezTo>
                  <a:pt x="4616848" y="110159"/>
                  <a:pt x="4632960" y="107183"/>
                  <a:pt x="4648200" y="102103"/>
                </a:cubicBezTo>
                <a:cubicBezTo>
                  <a:pt x="4658360" y="117343"/>
                  <a:pt x="4670489" y="131440"/>
                  <a:pt x="4678680" y="147823"/>
                </a:cubicBezTo>
                <a:cubicBezTo>
                  <a:pt x="4697086" y="184635"/>
                  <a:pt x="4688004" y="210146"/>
                  <a:pt x="4724400" y="239263"/>
                </a:cubicBezTo>
                <a:cubicBezTo>
                  <a:pt x="4736944" y="249298"/>
                  <a:pt x="4754880" y="249423"/>
                  <a:pt x="4770120" y="254503"/>
                </a:cubicBezTo>
                <a:cubicBezTo>
                  <a:pt x="4785360" y="249423"/>
                  <a:pt x="4806503" y="252335"/>
                  <a:pt x="4815840" y="239263"/>
                </a:cubicBezTo>
                <a:cubicBezTo>
                  <a:pt x="4831337" y="217567"/>
                  <a:pt x="4840342" y="124889"/>
                  <a:pt x="4876800" y="102103"/>
                </a:cubicBezTo>
                <a:cubicBezTo>
                  <a:pt x="4904045" y="85075"/>
                  <a:pt x="4968240" y="71623"/>
                  <a:pt x="4968240" y="71623"/>
                </a:cubicBezTo>
                <a:cubicBezTo>
                  <a:pt x="4978400" y="86863"/>
                  <a:pt x="4990529" y="100960"/>
                  <a:pt x="4998720" y="117343"/>
                </a:cubicBezTo>
                <a:cubicBezTo>
                  <a:pt x="5026811" y="173526"/>
                  <a:pt x="5013960" y="218065"/>
                  <a:pt x="5013960" y="284983"/>
                </a:cubicBezTo>
              </a:path>
            </a:pathLst>
          </a:cu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5" name="Полилиния 35"/>
          <p:cNvSpPr/>
          <p:nvPr/>
        </p:nvSpPr>
        <p:spPr>
          <a:xfrm>
            <a:off x="2041560" y="5003640"/>
            <a:ext cx="5044680" cy="406080"/>
          </a:xfrm>
          <a:custGeom>
            <a:avLst/>
            <a:gdLst>
              <a:gd name="textAreaLeft" fmla="*/ 0 w 5044680"/>
              <a:gd name="textAreaRight" fmla="*/ 5045040 w 5044680"/>
              <a:gd name="textAreaTop" fmla="*/ 0 h 406080"/>
              <a:gd name="textAreaBottom" fmla="*/ 406440 h 406080"/>
            </a:gdLst>
            <a:ahLst/>
            <a:rect l="textAreaLeft" t="textAreaTop" r="textAreaRight" b="textAreaBottom"/>
            <a:pathLst>
              <a:path w="5044440" h="406903">
                <a:moveTo>
                  <a:pt x="0" y="163063"/>
                </a:moveTo>
                <a:cubicBezTo>
                  <a:pt x="20320" y="127503"/>
                  <a:pt x="35815" y="88712"/>
                  <a:pt x="60960" y="56383"/>
                </a:cubicBezTo>
                <a:cubicBezTo>
                  <a:pt x="72205" y="41925"/>
                  <a:pt x="90777" y="16816"/>
                  <a:pt x="106680" y="25903"/>
                </a:cubicBezTo>
                <a:cubicBezTo>
                  <a:pt x="138486" y="44078"/>
                  <a:pt x="147320" y="86863"/>
                  <a:pt x="167640" y="117343"/>
                </a:cubicBezTo>
                <a:lnTo>
                  <a:pt x="198120" y="163063"/>
                </a:lnTo>
                <a:cubicBezTo>
                  <a:pt x="218440" y="157983"/>
                  <a:pt x="240346" y="157190"/>
                  <a:pt x="259080" y="147823"/>
                </a:cubicBezTo>
                <a:cubicBezTo>
                  <a:pt x="315790" y="119468"/>
                  <a:pt x="319582" y="102790"/>
                  <a:pt x="350520" y="56383"/>
                </a:cubicBezTo>
                <a:cubicBezTo>
                  <a:pt x="428620" y="173534"/>
                  <a:pt x="405458" y="111689"/>
                  <a:pt x="426720" y="239263"/>
                </a:cubicBezTo>
                <a:cubicBezTo>
                  <a:pt x="471675" y="209293"/>
                  <a:pt x="481490" y="207067"/>
                  <a:pt x="518160" y="163063"/>
                </a:cubicBezTo>
                <a:cubicBezTo>
                  <a:pt x="624248" y="35757"/>
                  <a:pt x="460788" y="205195"/>
                  <a:pt x="594360" y="71623"/>
                </a:cubicBezTo>
                <a:cubicBezTo>
                  <a:pt x="609600" y="76703"/>
                  <a:pt x="628721" y="75504"/>
                  <a:pt x="640080" y="86863"/>
                </a:cubicBezTo>
                <a:cubicBezTo>
                  <a:pt x="658912" y="105695"/>
                  <a:pt x="676692" y="166219"/>
                  <a:pt x="685800" y="193543"/>
                </a:cubicBezTo>
                <a:cubicBezTo>
                  <a:pt x="706120" y="183383"/>
                  <a:pt x="729307" y="177607"/>
                  <a:pt x="746760" y="163063"/>
                </a:cubicBezTo>
                <a:cubicBezTo>
                  <a:pt x="760831" y="151337"/>
                  <a:pt x="765514" y="131414"/>
                  <a:pt x="777240" y="117343"/>
                </a:cubicBezTo>
                <a:cubicBezTo>
                  <a:pt x="875026" y="0"/>
                  <a:pt x="777764" y="139417"/>
                  <a:pt x="853440" y="25903"/>
                </a:cubicBezTo>
                <a:cubicBezTo>
                  <a:pt x="868680" y="36063"/>
                  <a:pt x="889452" y="40851"/>
                  <a:pt x="899160" y="56383"/>
                </a:cubicBezTo>
                <a:cubicBezTo>
                  <a:pt x="916188" y="83628"/>
                  <a:pt x="911818" y="121090"/>
                  <a:pt x="929640" y="147823"/>
                </a:cubicBezTo>
                <a:lnTo>
                  <a:pt x="960120" y="193543"/>
                </a:lnTo>
                <a:cubicBezTo>
                  <a:pt x="1007794" y="169706"/>
                  <a:pt x="1035908" y="163681"/>
                  <a:pt x="1066800" y="117343"/>
                </a:cubicBezTo>
                <a:cubicBezTo>
                  <a:pt x="1113246" y="47674"/>
                  <a:pt x="1040674" y="85412"/>
                  <a:pt x="1127760" y="56383"/>
                </a:cubicBezTo>
                <a:cubicBezTo>
                  <a:pt x="1148080" y="61463"/>
                  <a:pt x="1175089" y="55720"/>
                  <a:pt x="1188720" y="71623"/>
                </a:cubicBezTo>
                <a:cubicBezTo>
                  <a:pt x="1209629" y="96017"/>
                  <a:pt x="1201378" y="136330"/>
                  <a:pt x="1219200" y="163063"/>
                </a:cubicBezTo>
                <a:cubicBezTo>
                  <a:pt x="1229360" y="178303"/>
                  <a:pt x="1236728" y="195831"/>
                  <a:pt x="1249680" y="208783"/>
                </a:cubicBezTo>
                <a:cubicBezTo>
                  <a:pt x="1262632" y="221735"/>
                  <a:pt x="1280160" y="229103"/>
                  <a:pt x="1295400" y="239263"/>
                </a:cubicBezTo>
                <a:cubicBezTo>
                  <a:pt x="1310640" y="234183"/>
                  <a:pt x="1327754" y="232934"/>
                  <a:pt x="1341120" y="224023"/>
                </a:cubicBezTo>
                <a:cubicBezTo>
                  <a:pt x="1416020" y="174090"/>
                  <a:pt x="1361093" y="188810"/>
                  <a:pt x="1417320" y="132583"/>
                </a:cubicBezTo>
                <a:cubicBezTo>
                  <a:pt x="1430272" y="119631"/>
                  <a:pt x="1447800" y="112263"/>
                  <a:pt x="1463040" y="102103"/>
                </a:cubicBezTo>
                <a:cubicBezTo>
                  <a:pt x="1473200" y="117343"/>
                  <a:pt x="1485329" y="131440"/>
                  <a:pt x="1493520" y="147823"/>
                </a:cubicBezTo>
                <a:cubicBezTo>
                  <a:pt x="1504452" y="169687"/>
                  <a:pt x="1519117" y="234971"/>
                  <a:pt x="1524000" y="254503"/>
                </a:cubicBezTo>
                <a:cubicBezTo>
                  <a:pt x="1555206" y="244101"/>
                  <a:pt x="1592714" y="236054"/>
                  <a:pt x="1615440" y="208783"/>
                </a:cubicBezTo>
                <a:cubicBezTo>
                  <a:pt x="1633110" y="187580"/>
                  <a:pt x="1652874" y="131104"/>
                  <a:pt x="1661160" y="102103"/>
                </a:cubicBezTo>
                <a:cubicBezTo>
                  <a:pt x="1666914" y="81964"/>
                  <a:pt x="1663316" y="57499"/>
                  <a:pt x="1676400" y="41143"/>
                </a:cubicBezTo>
                <a:cubicBezTo>
                  <a:pt x="1686435" y="28599"/>
                  <a:pt x="1706880" y="30983"/>
                  <a:pt x="1722120" y="25903"/>
                </a:cubicBezTo>
                <a:cubicBezTo>
                  <a:pt x="1737360" y="36063"/>
                  <a:pt x="1756398" y="42080"/>
                  <a:pt x="1767840" y="56383"/>
                </a:cubicBezTo>
                <a:cubicBezTo>
                  <a:pt x="1783427" y="75866"/>
                  <a:pt x="1787368" y="146635"/>
                  <a:pt x="1798320" y="163063"/>
                </a:cubicBezTo>
                <a:cubicBezTo>
                  <a:pt x="1808480" y="178303"/>
                  <a:pt x="1828800" y="183383"/>
                  <a:pt x="1844040" y="193543"/>
                </a:cubicBezTo>
                <a:cubicBezTo>
                  <a:pt x="1854200" y="178303"/>
                  <a:pt x="1866329" y="164206"/>
                  <a:pt x="1874520" y="147823"/>
                </a:cubicBezTo>
                <a:cubicBezTo>
                  <a:pt x="1920516" y="55830"/>
                  <a:pt x="1827653" y="89682"/>
                  <a:pt x="2042160" y="132583"/>
                </a:cubicBezTo>
                <a:cubicBezTo>
                  <a:pt x="2047139" y="162455"/>
                  <a:pt x="2039271" y="303112"/>
                  <a:pt x="2133600" y="208783"/>
                </a:cubicBezTo>
                <a:cubicBezTo>
                  <a:pt x="2156318" y="186065"/>
                  <a:pt x="2149712" y="146080"/>
                  <a:pt x="2164080" y="117343"/>
                </a:cubicBezTo>
                <a:cubicBezTo>
                  <a:pt x="2174240" y="97023"/>
                  <a:pt x="2178496" y="72447"/>
                  <a:pt x="2194560" y="56383"/>
                </a:cubicBezTo>
                <a:cubicBezTo>
                  <a:pt x="2205919" y="45024"/>
                  <a:pt x="2225040" y="46223"/>
                  <a:pt x="2240280" y="41143"/>
                </a:cubicBezTo>
                <a:cubicBezTo>
                  <a:pt x="2250440" y="56383"/>
                  <a:pt x="2264501" y="69650"/>
                  <a:pt x="2270760" y="86863"/>
                </a:cubicBezTo>
                <a:cubicBezTo>
                  <a:pt x="2285076" y="126232"/>
                  <a:pt x="2278003" y="173928"/>
                  <a:pt x="2301240" y="208783"/>
                </a:cubicBezTo>
                <a:cubicBezTo>
                  <a:pt x="2311400" y="224023"/>
                  <a:pt x="2314885" y="247288"/>
                  <a:pt x="2331720" y="254503"/>
                </a:cubicBezTo>
                <a:cubicBezTo>
                  <a:pt x="2389476" y="279255"/>
                  <a:pt x="2514600" y="300223"/>
                  <a:pt x="2514600" y="300223"/>
                </a:cubicBezTo>
                <a:cubicBezTo>
                  <a:pt x="2550160" y="295143"/>
                  <a:pt x="2587928" y="298324"/>
                  <a:pt x="2621280" y="284983"/>
                </a:cubicBezTo>
                <a:cubicBezTo>
                  <a:pt x="2656909" y="270731"/>
                  <a:pt x="2698567" y="185708"/>
                  <a:pt x="2712720" y="163063"/>
                </a:cubicBezTo>
                <a:cubicBezTo>
                  <a:pt x="2722428" y="147531"/>
                  <a:pt x="2728897" y="128785"/>
                  <a:pt x="2743200" y="117343"/>
                </a:cubicBezTo>
                <a:cubicBezTo>
                  <a:pt x="2755744" y="107308"/>
                  <a:pt x="2773680" y="107183"/>
                  <a:pt x="2788920" y="102103"/>
                </a:cubicBezTo>
                <a:cubicBezTo>
                  <a:pt x="2825192" y="210919"/>
                  <a:pt x="2801578" y="166810"/>
                  <a:pt x="2849880" y="239263"/>
                </a:cubicBezTo>
                <a:cubicBezTo>
                  <a:pt x="2880360" y="229103"/>
                  <a:pt x="2913234" y="224386"/>
                  <a:pt x="2941320" y="208783"/>
                </a:cubicBezTo>
                <a:cubicBezTo>
                  <a:pt x="3112558" y="113651"/>
                  <a:pt x="2881505" y="198241"/>
                  <a:pt x="3032760" y="147823"/>
                </a:cubicBezTo>
                <a:cubicBezTo>
                  <a:pt x="3032916" y="148759"/>
                  <a:pt x="3047443" y="265237"/>
                  <a:pt x="3063240" y="284983"/>
                </a:cubicBezTo>
                <a:cubicBezTo>
                  <a:pt x="3074682" y="299286"/>
                  <a:pt x="3093720" y="305303"/>
                  <a:pt x="3108960" y="315463"/>
                </a:cubicBezTo>
                <a:cubicBezTo>
                  <a:pt x="3154231" y="300373"/>
                  <a:pt x="3209894" y="290729"/>
                  <a:pt x="3246120" y="254503"/>
                </a:cubicBezTo>
                <a:cubicBezTo>
                  <a:pt x="3347720" y="152903"/>
                  <a:pt x="3200400" y="259583"/>
                  <a:pt x="3322320" y="178303"/>
                </a:cubicBezTo>
                <a:cubicBezTo>
                  <a:pt x="3337560" y="183383"/>
                  <a:pt x="3355496" y="183508"/>
                  <a:pt x="3368040" y="193543"/>
                </a:cubicBezTo>
                <a:cubicBezTo>
                  <a:pt x="3382343" y="204985"/>
                  <a:pt x="3386794" y="225192"/>
                  <a:pt x="3398520" y="239263"/>
                </a:cubicBezTo>
                <a:cubicBezTo>
                  <a:pt x="3412318" y="255820"/>
                  <a:pt x="3429000" y="269743"/>
                  <a:pt x="3444240" y="284983"/>
                </a:cubicBezTo>
                <a:cubicBezTo>
                  <a:pt x="3474720" y="279903"/>
                  <a:pt x="3509476" y="286120"/>
                  <a:pt x="3535680" y="269743"/>
                </a:cubicBezTo>
                <a:cubicBezTo>
                  <a:pt x="3554945" y="257702"/>
                  <a:pt x="3557723" y="229877"/>
                  <a:pt x="3566160" y="208783"/>
                </a:cubicBezTo>
                <a:cubicBezTo>
                  <a:pt x="3578092" y="178952"/>
                  <a:pt x="3566160" y="127503"/>
                  <a:pt x="3596640" y="117343"/>
                </a:cubicBezTo>
                <a:lnTo>
                  <a:pt x="3642360" y="102103"/>
                </a:lnTo>
                <a:cubicBezTo>
                  <a:pt x="3672479" y="112143"/>
                  <a:pt x="3712314" y="120966"/>
                  <a:pt x="3733800" y="147823"/>
                </a:cubicBezTo>
                <a:cubicBezTo>
                  <a:pt x="3743835" y="160367"/>
                  <a:pt x="3740129" y="180177"/>
                  <a:pt x="3749040" y="193543"/>
                </a:cubicBezTo>
                <a:cubicBezTo>
                  <a:pt x="3760995" y="211476"/>
                  <a:pt x="3780962" y="222706"/>
                  <a:pt x="3794760" y="239263"/>
                </a:cubicBezTo>
                <a:cubicBezTo>
                  <a:pt x="3806486" y="253334"/>
                  <a:pt x="3815080" y="269743"/>
                  <a:pt x="3825240" y="284983"/>
                </a:cubicBezTo>
                <a:cubicBezTo>
                  <a:pt x="3845560" y="279903"/>
                  <a:pt x="3868772" y="281361"/>
                  <a:pt x="3886200" y="269743"/>
                </a:cubicBezTo>
                <a:cubicBezTo>
                  <a:pt x="3929364" y="240967"/>
                  <a:pt x="3907578" y="214816"/>
                  <a:pt x="3931920" y="178303"/>
                </a:cubicBezTo>
                <a:cubicBezTo>
                  <a:pt x="3955389" y="143100"/>
                  <a:pt x="3989624" y="124594"/>
                  <a:pt x="4023360" y="102103"/>
                </a:cubicBezTo>
                <a:cubicBezTo>
                  <a:pt x="4038600" y="117343"/>
                  <a:pt x="4058387" y="129110"/>
                  <a:pt x="4069080" y="147823"/>
                </a:cubicBezTo>
                <a:cubicBezTo>
                  <a:pt x="4079472" y="166009"/>
                  <a:pt x="4078566" y="188644"/>
                  <a:pt x="4084320" y="208783"/>
                </a:cubicBezTo>
                <a:cubicBezTo>
                  <a:pt x="4100094" y="263992"/>
                  <a:pt x="4096644" y="250129"/>
                  <a:pt x="4130040" y="300223"/>
                </a:cubicBezTo>
                <a:cubicBezTo>
                  <a:pt x="4145280" y="284983"/>
                  <a:pt x="4159203" y="268301"/>
                  <a:pt x="4175760" y="254503"/>
                </a:cubicBezTo>
                <a:cubicBezTo>
                  <a:pt x="4189831" y="242777"/>
                  <a:pt x="4210038" y="238326"/>
                  <a:pt x="4221480" y="224023"/>
                </a:cubicBezTo>
                <a:cubicBezTo>
                  <a:pt x="4231515" y="211479"/>
                  <a:pt x="4225361" y="189662"/>
                  <a:pt x="4236720" y="178303"/>
                </a:cubicBezTo>
                <a:cubicBezTo>
                  <a:pt x="4262623" y="152400"/>
                  <a:pt x="4328160" y="117343"/>
                  <a:pt x="4328160" y="117343"/>
                </a:cubicBezTo>
                <a:cubicBezTo>
                  <a:pt x="4333240" y="142743"/>
                  <a:pt x="4336584" y="168553"/>
                  <a:pt x="4343400" y="193543"/>
                </a:cubicBezTo>
                <a:cubicBezTo>
                  <a:pt x="4351854" y="224540"/>
                  <a:pt x="4367579" y="253478"/>
                  <a:pt x="4373880" y="284983"/>
                </a:cubicBezTo>
                <a:lnTo>
                  <a:pt x="4389120" y="361183"/>
                </a:lnTo>
                <a:cubicBezTo>
                  <a:pt x="4409440" y="356103"/>
                  <a:pt x="4433724" y="359027"/>
                  <a:pt x="4450080" y="345943"/>
                </a:cubicBezTo>
                <a:cubicBezTo>
                  <a:pt x="4462624" y="335908"/>
                  <a:pt x="4458992" y="314988"/>
                  <a:pt x="4465320" y="300223"/>
                </a:cubicBezTo>
                <a:cubicBezTo>
                  <a:pt x="4488523" y="246083"/>
                  <a:pt x="4495669" y="239459"/>
                  <a:pt x="4526280" y="193543"/>
                </a:cubicBezTo>
                <a:cubicBezTo>
                  <a:pt x="4613909" y="222753"/>
                  <a:pt x="4552216" y="187043"/>
                  <a:pt x="4587240" y="315463"/>
                </a:cubicBezTo>
                <a:cubicBezTo>
                  <a:pt x="4604427" y="378483"/>
                  <a:pt x="4616138" y="375368"/>
                  <a:pt x="4663440" y="406903"/>
                </a:cubicBezTo>
                <a:cubicBezTo>
                  <a:pt x="4709160" y="376423"/>
                  <a:pt x="4714240" y="381503"/>
                  <a:pt x="4739640" y="330703"/>
                </a:cubicBezTo>
                <a:cubicBezTo>
                  <a:pt x="4760174" y="289635"/>
                  <a:pt x="4746537" y="273233"/>
                  <a:pt x="4785360" y="239263"/>
                </a:cubicBezTo>
                <a:cubicBezTo>
                  <a:pt x="4812929" y="215140"/>
                  <a:pt x="4876800" y="178303"/>
                  <a:pt x="4876800" y="178303"/>
                </a:cubicBezTo>
                <a:cubicBezTo>
                  <a:pt x="4897120" y="183383"/>
                  <a:pt x="4924351" y="177452"/>
                  <a:pt x="4937760" y="193543"/>
                </a:cubicBezTo>
                <a:cubicBezTo>
                  <a:pt x="4954343" y="213442"/>
                  <a:pt x="4946718" y="244613"/>
                  <a:pt x="4953000" y="269743"/>
                </a:cubicBezTo>
                <a:cubicBezTo>
                  <a:pt x="4956896" y="285328"/>
                  <a:pt x="4963827" y="300017"/>
                  <a:pt x="4968240" y="315463"/>
                </a:cubicBezTo>
                <a:cubicBezTo>
                  <a:pt x="4973994" y="335602"/>
                  <a:pt x="4978400" y="356103"/>
                  <a:pt x="4983480" y="376423"/>
                </a:cubicBezTo>
                <a:cubicBezTo>
                  <a:pt x="4998720" y="366263"/>
                  <a:pt x="5017758" y="360246"/>
                  <a:pt x="5029200" y="345943"/>
                </a:cubicBezTo>
                <a:cubicBezTo>
                  <a:pt x="5039235" y="333399"/>
                  <a:pt x="5044440" y="300223"/>
                  <a:pt x="5044440" y="300223"/>
                </a:cubicBezTo>
              </a:path>
            </a:pathLst>
          </a:cu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6" name="TextBox 36"/>
          <p:cNvSpPr/>
          <p:nvPr/>
        </p:nvSpPr>
        <p:spPr>
          <a:xfrm>
            <a:off x="1721880" y="857160"/>
            <a:ext cx="129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ъун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7"/>
          <p:cNvSpPr/>
          <p:nvPr/>
        </p:nvSpPr>
        <p:spPr>
          <a:xfrm>
            <a:off x="1293120" y="3929040"/>
            <a:ext cx="129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ъун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8"/>
          <p:cNvSpPr/>
          <p:nvPr/>
        </p:nvSpPr>
        <p:spPr>
          <a:xfrm>
            <a:off x="4436280" y="2571840"/>
            <a:ext cx="129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ъун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  <a:ea typeface="Arial"/>
              </a:rPr>
              <a:t>Рефлексия: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1000"/>
          </a:bodyPr>
          <a:p>
            <a:pPr marL="871200" indent="-871200">
              <a:lnSpc>
                <a:spcPct val="100000"/>
              </a:lnSpc>
              <a:spcBef>
                <a:spcPts val="1080"/>
              </a:spcBef>
              <a:buClr>
                <a:srgbClr val="0000ff"/>
              </a:buClr>
              <a:buFont typeface="Calibri"/>
              <a:buAutoNum type="arabicPeriod"/>
            </a:pPr>
            <a:r>
              <a:rPr b="0" lang="ru-RU" sz="5400" spc="-1" strike="noStrike">
                <a:solidFill>
                  <a:srgbClr val="0000ff"/>
                </a:solidFill>
                <a:latin typeface="Calibri"/>
                <a:ea typeface="Arial"/>
              </a:rPr>
              <a:t>Селичила гъайдик!ули калунра?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871200" indent="-871200">
              <a:lnSpc>
                <a:spcPct val="100000"/>
              </a:lnSpc>
              <a:spcBef>
                <a:spcPts val="1080"/>
              </a:spcBef>
              <a:buClr>
                <a:srgbClr val="0000ff"/>
              </a:buClr>
              <a:buFont typeface="Calibri"/>
              <a:buAutoNum type="arabicPeriod"/>
            </a:pPr>
            <a:r>
              <a:rPr b="0" lang="ru-RU" sz="5400" spc="-1" strike="noStrike">
                <a:solidFill>
                  <a:srgbClr val="0000ff"/>
                </a:solidFill>
                <a:latin typeface="Calibri"/>
                <a:ea typeface="Arial"/>
              </a:rPr>
              <a:t>Селичил тянишдиубра?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871200" indent="-871200">
              <a:lnSpc>
                <a:spcPct val="100000"/>
              </a:lnSpc>
              <a:spcBef>
                <a:spcPts val="1080"/>
              </a:spcBef>
              <a:buClr>
                <a:srgbClr val="0000ff"/>
              </a:buClr>
              <a:buFont typeface="Calibri"/>
              <a:buAutoNum type="arabicPeriod"/>
            </a:pPr>
            <a:r>
              <a:rPr b="0" lang="ru-RU" sz="5400" spc="-1" strike="noStrike">
                <a:solidFill>
                  <a:srgbClr val="0000ff"/>
                </a:solidFill>
                <a:latin typeface="Calibri"/>
                <a:ea typeface="Arial"/>
              </a:rPr>
              <a:t>Селис причастие или бик</a:t>
            </a:r>
            <a:r>
              <a:rPr b="0" lang="en-US" sz="5400" spc="-1" strike="noStrike">
                <a:solidFill>
                  <a:srgbClr val="0000ff"/>
                </a:solidFill>
                <a:latin typeface="Calibri"/>
                <a:ea typeface="Arial"/>
              </a:rPr>
              <a:t>I</a:t>
            </a:r>
            <a:r>
              <a:rPr b="0" lang="ru-RU" sz="5400" spc="-1" strike="noStrike">
                <a:solidFill>
                  <a:srgbClr val="0000ff"/>
                </a:solidFill>
                <a:latin typeface="Calibri"/>
                <a:ea typeface="Arial"/>
              </a:rPr>
              <a:t>ара?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871200" indent="-871200">
              <a:lnSpc>
                <a:spcPct val="100000"/>
              </a:lnSpc>
              <a:spcBef>
                <a:spcPts val="1080"/>
              </a:spcBef>
              <a:buClr>
                <a:srgbClr val="0000ff"/>
              </a:buClr>
              <a:buFont typeface="Calibri"/>
              <a:buAutoNum type="arabicPeriod"/>
            </a:pPr>
            <a:r>
              <a:rPr b="0" lang="ru-RU" sz="5400" spc="-1" strike="noStrike">
                <a:solidFill>
                  <a:srgbClr val="0000ff"/>
                </a:solidFill>
                <a:latin typeface="Calibri"/>
                <a:ea typeface="Arial"/>
              </a:rPr>
              <a:t>Мурт причастиела авид запятаяличил дек</a:t>
            </a:r>
            <a:r>
              <a:rPr b="0" lang="en-US" sz="5400" spc="-1" strike="noStrike">
                <a:solidFill>
                  <a:srgbClr val="0000ff"/>
                </a:solidFill>
                <a:latin typeface="Calibri"/>
                <a:ea typeface="Arial"/>
              </a:rPr>
              <a:t>I</a:t>
            </a:r>
            <a:r>
              <a:rPr b="0" lang="ru-RU" sz="5400" spc="-1" strike="noStrike">
                <a:solidFill>
                  <a:srgbClr val="0000ff"/>
                </a:solidFill>
                <a:latin typeface="Calibri"/>
                <a:ea typeface="Arial"/>
              </a:rPr>
              <a:t>арбиру?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48996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48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2" descr="C:\Users\Омарасхаб Абумуслимо\AppData\Local\Microsoft\Windows\INetCache\IE\HR4J9EO2\225px-Sova.svg[1].png"/>
          <p:cNvPicPr/>
          <p:nvPr/>
        </p:nvPicPr>
        <p:blipFill>
          <a:blip r:embed="rId1"/>
          <a:stretch/>
        </p:blipFill>
        <p:spPr>
          <a:xfrm>
            <a:off x="9144000" y="4357800"/>
            <a:ext cx="1294920" cy="2074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C:\Users\Омарасхаб Абумуслимо\AppData\Local\Microsoft\Windows\INetCache\IE\WZE8YQP7\ink-and-feather-quill-clipart[1].jpg"/>
          <p:cNvPicPr/>
          <p:nvPr/>
        </p:nvPicPr>
        <p:blipFill>
          <a:blip r:embed="rId2"/>
          <a:stretch/>
        </p:blipFill>
        <p:spPr>
          <a:xfrm>
            <a:off x="7358040" y="0"/>
            <a:ext cx="1785600" cy="1785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C:\Users\Омарасхаб Абумуслимо\AppData\Local\Microsoft\Windows\INetCache\IE\HR4J9EO2\Zlatno_pero[1].png"/>
          <p:cNvPicPr/>
          <p:nvPr/>
        </p:nvPicPr>
        <p:blipFill>
          <a:blip r:embed="rId3"/>
          <a:stretch/>
        </p:blipFill>
        <p:spPr>
          <a:xfrm>
            <a:off x="214200" y="0"/>
            <a:ext cx="999720" cy="90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  <a:ea typeface="Arial"/>
              </a:rPr>
              <a:t>Хъули х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  <a:ea typeface="Arial"/>
              </a:rPr>
              <a:t>янчи.</a:t>
            </a:r>
            <a:endParaRPr b="0" lang="ru-RU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Параграф 30 , х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янчи 12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1"/>
          <p:cNvSpPr txBox="1"/>
          <p:nvPr/>
        </p:nvSpPr>
        <p:spPr>
          <a:xfrm>
            <a:off x="0" y="428760"/>
            <a:ext cx="8929440" cy="2928600"/>
          </a:xfrm>
          <a:prstGeom prst="rect">
            <a:avLst/>
          </a:prstGeom>
        </p:spPr>
        <p:txBody>
          <a:bodyPr numCol="1" spcCol="0" wrap="none" lIns="90000" rIns="90000" tIns="45000" bIns="450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8000" spc="-1" strike="noStrike">
                <a:ln w="0">
                  <a:noFill/>
                </a:ln>
                <a:solidFill>
                  <a:srgbClr val="000000"/>
                </a:solidFill>
                <a:latin typeface="Impact"/>
                <a:ea typeface="Arial"/>
              </a:rPr>
              <a:t>Къучакъуни!!!</a:t>
            </a:r>
            <a:endParaRPr b="0" lang="en-US" sz="8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5" descr="MCj03001190000[1]"/>
          <p:cNvPicPr/>
          <p:nvPr/>
        </p:nvPicPr>
        <p:blipFill>
          <a:blip r:embed="rId1"/>
          <a:stretch/>
        </p:blipFill>
        <p:spPr>
          <a:xfrm flipH="1">
            <a:off x="360" y="3211560"/>
            <a:ext cx="2285640" cy="3646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F:\УРОК  КВН 2 ГОТОВОЕ\8 (1).jpg"/>
          <p:cNvPicPr/>
          <p:nvPr/>
        </p:nvPicPr>
        <p:blipFill>
          <a:blip r:embed="rId2"/>
          <a:stretch/>
        </p:blipFill>
        <p:spPr>
          <a:xfrm>
            <a:off x="4786200" y="3357720"/>
            <a:ext cx="4357440" cy="3499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F:\УРОК  КВН 2 ГОТОВОЕ\other (1857).gif"/>
          <p:cNvPicPr/>
          <p:nvPr/>
        </p:nvPicPr>
        <p:blipFill>
          <a:blip r:embed="rId3"/>
          <a:stretch/>
        </p:blipFill>
        <p:spPr>
          <a:xfrm>
            <a:off x="2428920" y="3071880"/>
            <a:ext cx="2142720" cy="241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214200" y="928800"/>
            <a:ext cx="86436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Нешла мез х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далуси адам, ц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деш х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дашуси галгагъуна сай ».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Г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лие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7" descr="http://www.edu.cap.ru/home/4671/priem_1_and_10_klass/filin.jpg"/>
          <p:cNvPicPr/>
          <p:nvPr/>
        </p:nvPicPr>
        <p:blipFill>
          <a:blip r:embed="rId1"/>
          <a:stretch/>
        </p:blipFill>
        <p:spPr>
          <a:xfrm>
            <a:off x="493560" y="3780000"/>
            <a:ext cx="2889000" cy="275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-1886400"/>
            <a:ext cx="8929440" cy="10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шала  деви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х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ъубзни!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Дубурла гъубзни кьяйда                                                                                                             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рулизир хъярхътира,                                                                                            Нушазибад берцуди                                                                                                             Гьеч, азгъинтас  агара!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* Багьадурти!                       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ша,дубурла 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ни,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ьу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ра  гьаладя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,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ьудлумала  гьунчи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зди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  гьарзал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7000920" y="4714920"/>
            <a:ext cx="2142720" cy="214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Хъули х!янчи ахтардибарни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C:\Users\Омарасхаб Абумуслимо\AppData\Local\Microsoft\Windows\INetCache\IE\YERHNNSR\reading-book-590x5851[1].jpg"/>
          <p:cNvPicPr/>
          <p:nvPr/>
        </p:nvPicPr>
        <p:blipFill>
          <a:blip r:embed="rId1"/>
          <a:stretch/>
        </p:blipFill>
        <p:spPr>
          <a:xfrm>
            <a:off x="-208080" y="-255600"/>
            <a:ext cx="9570600" cy="73688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06440" y="571680"/>
            <a:ext cx="888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Хъули х!янчи ахтардибарн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285840" y="137880"/>
            <a:ext cx="8572320" cy="517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Arial"/>
              </a:rPr>
              <a:t>1. Суал-Жаваб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е саби глаго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Чум журала дирара глагол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Чум замана дирара глагол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Чум наклонение лера глагол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е 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лаббиру чеббурхуси глагол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C:\Users\ПРИВЕТ\Desktop\РАБОЧИЙ  СТОЛ\РАМКИ\0_828ac_dca4804f_orig-1024x482[1].png"/>
          <p:cNvPicPr/>
          <p:nvPr/>
        </p:nvPicPr>
        <p:blipFill>
          <a:blip r:embed="rId1"/>
          <a:stretch/>
        </p:blipFill>
        <p:spPr>
          <a:xfrm>
            <a:off x="928800" y="3929040"/>
            <a:ext cx="8214840" cy="292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85840" y="-69840"/>
            <a:ext cx="8857800" cy="105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Arial"/>
              </a:rPr>
              <a:t>              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Arial"/>
              </a:rPr>
              <a:t>Тамашала суалти.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cc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Arial"/>
              </a:rPr>
              <a:t>Чиди наклонениела суффикс рурсила уличил цугси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Arial"/>
              </a:rPr>
              <a:t>2.  Сегъунти глаголтазирад дигнила наклонение барес х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  <a:ea typeface="Arial"/>
              </a:rPr>
              <a:t>I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Arial"/>
              </a:rPr>
              <a:t>ейрара?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(вак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I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ес,вявес,ч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I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яре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57120" y="428760"/>
            <a:ext cx="8572320" cy="68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Чиди наклонениеличи шурдулхъули ишди дугьби, ург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рли делч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х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ьа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ц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F:\УРОК  КВН 2 ГОТОВОЕ\44cf2edcadaa6b27ebe870da41a29841.jpg"/>
          <p:cNvPicPr/>
          <p:nvPr/>
        </p:nvPicPr>
        <p:blipFill>
          <a:blip r:embed="rId1"/>
          <a:stretch/>
        </p:blipFill>
        <p:spPr>
          <a:xfrm>
            <a:off x="4857840" y="2857680"/>
            <a:ext cx="3225600" cy="37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285840" y="110880"/>
            <a:ext cx="885780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Халкьла далуйтазиб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а</a:t>
            </a:r>
            <a:r>
              <a:rPr b="1" lang="ru-RU" sz="5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бси существительное дебали къаршибиркур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Чиди наклонениела лебси 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аба </a:t>
            </a:r>
            <a:r>
              <a:rPr b="1" lang="ru-RU" sz="5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бси суффикс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8c066f"/>
                </a:solidFill>
                <a:latin typeface="Times New Roman"/>
                <a:ea typeface="Times New Roman"/>
              </a:rPr>
              <a:t>(Аба, авц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а</a:t>
            </a:r>
            <a:r>
              <a:rPr b="1" lang="ru-RU" sz="5400" spc="-1" strike="noStrike">
                <a:solidFill>
                  <a:srgbClr val="8c066f"/>
                </a:solidFill>
                <a:latin typeface="Times New Roman"/>
                <a:ea typeface="Times New Roman"/>
              </a:rPr>
              <a:t>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ПРИВЕТ\Desktop\РАБОЧИЙ  СТОЛ\РАМКИ\cf104ac45265ee13aa98cf322c96537f[1].jpg"/>
          <p:cNvPicPr/>
          <p:nvPr/>
        </p:nvPicPr>
        <p:blipFill>
          <a:blip r:embed="rId1"/>
          <a:stretch/>
        </p:blipFill>
        <p:spPr>
          <a:xfrm>
            <a:off x="5537160" y="4572000"/>
            <a:ext cx="3611160" cy="228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2:58:38Z</dcterms:created>
  <dc:creator>мадина</dc:creator>
  <dc:description/>
  <dc:language>en-US</dc:language>
  <cp:lastModifiedBy>ахмед</cp:lastModifiedBy>
  <cp:lastPrinted>2020-02-17T08:27:03Z</cp:lastPrinted>
  <dcterms:modified xsi:type="dcterms:W3CDTF">2025-04-18T08:05:57Z</dcterms:modified>
  <cp:revision>204</cp:revision>
  <dc:subject/>
  <dc:title>Дерхъаб нешла мез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6</vt:r8>
  </property>
</Properties>
</file>