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CE7-2DE1-4249-B2C3-E5512F37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166-6242-49BF-B74F-D6844EB0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6D0-F98A-47D2-BCCD-02620BD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161-F33A-4401-BD63-EEB50B545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FE6-27BB-479A-8291-2A489E89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C83-004B-48A7-A908-D50541D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38B-4E16-4765-98B3-A9537C2E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54E-8B65-4CAC-8B57-12477B6E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4E6-1C7A-48A9-99DF-109EF4C0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C71-F433-4D2A-A2E7-235CAE8F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DF4-A9EC-416E-8F19-02EA4D2D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EB8-6101-4078-8698-6B060932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1D9-F83D-42F9-B95B-448C9CC85F7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A375-2AD0-435C-B329-D1252D392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99"/>
                </a:solidFill>
                <a:latin typeface="Monotype Corsiva"/>
              </a:rPr>
              <a:t>ПРОФЕССИИ</a:t>
            </a:r>
            <a:br>
              <a:rPr sz="8000"/>
            </a:br>
            <a:r>
              <a:rPr b="1" lang="ru-RU" sz="4000" spc="-1" strike="noStrike">
                <a:solidFill>
                  <a:srgbClr val="cc0099"/>
                </a:solidFill>
                <a:latin typeface="Monotype Corsiva"/>
              </a:rPr>
              <a:t>методическое пособие для детей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695160" y="2816280"/>
            <a:ext cx="3340440" cy="2779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"/>
          <p:cNvSpPr/>
          <p:nvPr/>
        </p:nvSpPr>
        <p:spPr>
          <a:xfrm>
            <a:off x="4211640" y="4803840"/>
            <a:ext cx="4572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р:</a:t>
            </a:r>
            <a:br>
              <a:rPr sz="18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оспитатель ГБДОУ №11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Пушкинского района</a:t>
            </a:r>
            <a:br>
              <a:rPr sz="16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ковиш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икто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Хорошо на свете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Что-нибудь уметь!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Хорошие профессии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Будем мы иметь!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5200560" y="4005360"/>
            <a:ext cx="2933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ОСПИТАТЕЛ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4259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Игры, песни очень кстати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Подобрал нам воспитатель.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В группе весело у нас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Каждый день и каждый час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238720" y="2743200"/>
            <a:ext cx="28576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Назовет учитель н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Буквы все по имен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Объяснит задач решень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Вычитанье и сложен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Он расскажет о моря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О лесах, цветах, зверях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На вопрос найдет от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И полезный даст со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894200" y="1600200"/>
            <a:ext cx="354636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МУЗЫКАН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Как играет музыкант,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Как прекрасны скрипки звуки!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У него большой талант,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Золотые руки</a:t>
            </a: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648320" y="1851120"/>
            <a:ext cx="4038480" cy="40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рач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Все болезни лечит врач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Он уколет – ты не пла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Веселей смотри вокруг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Детский врач – ребятам дру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АРИКМАХЕ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Дайте ножницы, расчёску,</a:t>
            </a:r>
            <a:br>
              <a:rPr sz="3600"/>
            </a:b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Он вам сделает причёску.</a:t>
            </a:r>
            <a:br>
              <a:rPr sz="3600"/>
            </a:b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Парикмахер непременно</a:t>
            </a:r>
            <a:br>
              <a:rPr sz="3600"/>
            </a:b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Подстрижёт вас современ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1\Desktop\на-сайт.jpg"/>
          <p:cNvPicPr/>
          <p:nvPr/>
        </p:nvPicPr>
        <p:blipFill>
          <a:blip r:embed="rId2"/>
          <a:stretch/>
        </p:blipFill>
        <p:spPr>
          <a:xfrm>
            <a:off x="5435640" y="1916280"/>
            <a:ext cx="2943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родавец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Все мы ходим в магаз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В магазинах продав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Продают нам апельсин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кофе, чай и леден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И картошку, и морковк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свеклу, лук и огур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Быстро, вежливо и ловк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нам завесят продав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етчик                         Моря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Лётчик знает своё дело,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В небе водит самолёт.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Над землёй летит он смело,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Совершая перелё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7640" y="3500280"/>
            <a:ext cx="404172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Плывёт моряк на корабле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Он не тоскует по земле.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Он с ветром дружит и волной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alibri"/>
              </a:rPr>
              <a:t>Ведь море - дом его род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4041720" cy="266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6056280" y="3860640"/>
            <a:ext cx="234000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9:33:09Z</dcterms:created>
  <dc:creator>Aida_Alex</dc:creator>
  <dc:description>http://aida.ucoz.ru</dc:description>
  <dc:language>en-US</dc:language>
  <cp:lastModifiedBy>Admin</cp:lastModifiedBy>
  <dcterms:modified xsi:type="dcterms:W3CDTF">2025-04-24T07:53:01Z</dcterms:modified>
  <cp:revision>22</cp:revision>
  <dc:subject/>
  <dc:title>Слайд 1</dc:title>
</cp:coreProperties>
</file>