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42A-1850-4865-AED5-F0EB0668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757-28E2-486B-83DD-39DC750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13C-3811-400D-9891-2FC2E63D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063-6E0B-4C1F-B550-81F71593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2ECF-D42D-4E64-8223-B40CC0D5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FE6A-9566-4376-99C3-F3F8B11C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A1EF-7CED-4600-B92C-F1F91FDA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443A-91CE-4E01-B601-4FEC94E8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CFBF-7BEF-443C-9DC6-B9F3F425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48B-0DCB-4A55-8FD5-9E420A3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2257-8457-4D62-800C-B50E4EBC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701-9594-4AF2-9AE5-38E03E3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566A-BCF9-48C1-95C5-E8FB080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3156-7352-4732-A871-23252B0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406-1AFF-4219-ACC5-B9ED4C9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DCBA-496C-4DDA-BBA8-B8A9C4C5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6CD-D1A8-42C8-A56B-661AE520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DBB5-92AA-476D-AEBF-763E170B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5F5D-9A46-43A3-B4C6-C80961F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E94E-6579-432A-9EB8-F984E87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4777-2215-48F3-A6B4-E91C9AE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C80A-992A-4DCD-952D-5907FE71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4A0-B487-4F71-A1AD-6A7642D4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4F52-2904-4798-83CF-122E8AA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9E14-D5A9-42AE-9094-C23B9779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A533-1CD7-4943-AF1E-456B0B15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69DE-B387-4B25-8696-BEB37D7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3E04-79DD-498C-ADBA-3C8CB8F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5DBB-653A-4571-BA97-B7414063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8573-721D-43CF-BC3B-4CD8C640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6A61-2BB4-4E7F-9B9E-FA8D1A33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5D47-4742-48DC-83EE-F3954ECE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7E81-7288-433C-9EC4-97A36FA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A01-EDB7-43CA-8F3D-3CA8B34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9A16-1B14-4E95-8EE2-1ED197D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8F0E-18D2-4AAD-8EC7-AB568C72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1D40-DACC-4608-92F2-AF453C0E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FBED-012A-42E6-B884-A56EC4C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285B-352C-462C-8CF9-6D597BC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29B77-0804-45EF-8906-E8C901A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E4A25-DE7A-49C7-82BB-0A84BA2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A623-0BE0-4502-A852-B2E808D3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592E-C66F-4777-9A4B-E232693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610-D4BB-45D4-AF69-0AA60ED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6ED-46E4-4ED4-931C-FD34270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965-582A-4AA7-B786-250AF25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AE9-B331-4FB9-9912-94022F3E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3A0-CE64-44FB-97FD-642A0C7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15B7-EFAD-4CA7-9AA9-F6338CD0F0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B0A3-E8DB-4F5E-8A84-AA09FF0F5C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C59-E2D3-4C67-931A-ED3AE754E0C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C843-AD2B-4747-A9E6-B2E8A2A4F22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23800" y="1371600"/>
            <a:ext cx="83152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: Коровина П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ктическая работа №2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мерение атмосферного давлен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орудование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шень (шприц пластиковый), вакуумный шланг, вакуумная камера с маномет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йств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шприц должен быть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олностью вдавлен,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тягиваем шприц до 120 мл (давление уменьшается, увеличивается объем, и наоборот) и повторя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Что мы заметил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Чем ниже давление, тем труднее прикладывать уси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жно это сравнить, с тем когда человек поднимается в го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ктическая работа №3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лияние давления воздуха – уменьшение внешнего давл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орудование: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шень (шприц), барометр, воздушный шар с заглушкой, Магдебургские полушар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йств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завязанный шар – понижаем давление, он «надувается»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Магдебургские полушария «сцепленные», при понижении давления, «расцепляются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ктическая работа №4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кипание жидкости при 60 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орудование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шень (шприц пластиковый), вакуумный шланг, вакуумная камера с манометром, сосуд с водой 60 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йств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нужно закрыть плотно камеру крышки, уменьшать давление и смотреть как при этом будет закипать жидк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понижении атмосферного давл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мпература закипания,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ж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ктическая работа №5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ередача звука в вакуум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орудование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шень (шприц пластиковый), вакуумный шланг, вакуумная камера с манометром, звукопоглощающая подушка, сигнальное устройст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йств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шприц должен быть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олностью вдавлен,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тягиваем шприц до 120 мл (давление уменьшается, увеличивается объем, и наоборот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Что мы заметили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влияет понижение атмосферного давления на звуковые вол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тмосферное дав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АТМОСФЕРНОЕ ДАВЛЕНИЕ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авление атмосферного воздуха на находящиеся в нем предметы и на земную поверхность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точке атмосферы атмосферное давление равно весу вышележащего столба воздуха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к просто доказать существование атмосферного давления</a:t>
            </a:r>
            <a:r>
              <a:rPr b="1" lang="en-US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к просто доказать существование атмосферного давления</a:t>
            </a: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?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ое давление давит на жидкость, и она поднимается вверх по трубочк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8591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bdbfa"/>
                </a:solidFill>
                <a:latin typeface="Times New Roman"/>
                <a:ea typeface="Times New Roman"/>
              </a:rPr>
              <a:t>Как было открыто атмосферное давление?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крытие атмосферного давления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ом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духа привела людей в замешательство в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63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, когда не удалась зате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рцога Тосканск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ить сады Флоренции фонтанами -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а не поднималась выше 10,3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383080" y="1417680"/>
            <a:ext cx="28609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крытие атмосферного давления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5700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Эванджелиста Торричелли (1608-1647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483920"/>
            <a:ext cx="4040280" cy="487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и причин упрямства воды и опыты с более тяжелой 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дкостью - ртутью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ринятые в 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643г. Торричелл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ели к 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крытию атмосферного давления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ричелли обнаружил, что высота столба ртути в его опыте не зависит 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 от формы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ки, 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 от ее наклон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уровне моря 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ота ртутного столба всегда была около 760м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446800" y="2289240"/>
            <a:ext cx="2581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крытие атмосферного давления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341360"/>
            <a:ext cx="4040280" cy="501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м был изобретен первый прибор, который измеряет атмосферное давление 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тутный барометр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 изобретён итальянским математиком и физиком Эванджелистой Торричелли в 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644 году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26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ктическая работа №1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личие атмосферного давлен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Объект 2" descr=""/>
          <p:cNvPicPr/>
          <p:nvPr/>
        </p:nvPicPr>
        <p:blipFill>
          <a:blip r:embed="rId1"/>
          <a:stretch/>
        </p:blipFill>
        <p:spPr>
          <a:xfrm>
            <a:off x="384120" y="1932120"/>
            <a:ext cx="83026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1T01:44:30Z</dcterms:created>
  <dc:creator>Уч ит е ль</dc:creator>
  <dc:description/>
  <dc:language>en-US</dc:language>
  <cp:lastModifiedBy>Уч ит е ль</cp:lastModifiedBy>
  <dcterms:modified xsi:type="dcterms:W3CDTF">2025-05-06T00:27:00Z</dcterms:modified>
  <cp:revision>16</cp:revision>
  <dc:subject/>
  <dc:title>Атмосферное давление</dc:title>
</cp:coreProperties>
</file>