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C7D-A68B-4CCD-8067-B582CA78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4120" y="1905120"/>
            <a:ext cx="8417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44120" y="4054680"/>
            <a:ext cx="8417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34D-16E1-47C3-9DB2-C9A99A77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4120" y="190512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4120" y="40546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40546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807-86EB-453D-A8FC-DCFD878B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4120" y="190512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9920" y="190512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6080" y="190512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44120" y="40546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9920" y="40546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6080" y="40546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766-B9CD-4F3F-AA36-5022BAEA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84B4-DAA3-4099-B5F3-71F643DB1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44120" y="1905120"/>
            <a:ext cx="8417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7285-5D4A-4056-A9B5-79C41812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4120" y="1905120"/>
            <a:ext cx="841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D39F-E3CF-4BE9-A137-240BE0CA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4120" y="190512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87F5-8437-4C1E-90AF-5F92563C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8E7D-4DB5-4059-91CE-A0B4DC78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44120" y="456840"/>
            <a:ext cx="8417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1778-B36A-4D68-93ED-3F87EE80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4120" y="190512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44120" y="40546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FF64-2A24-4437-94D9-621E1A89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44120" y="1905120"/>
            <a:ext cx="8417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04C-7612-4D5B-B9C7-40178C3F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4120" y="190512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57280" y="40546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4821-906E-4AE2-933A-BEC85125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4120" y="190512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44120" y="4054680"/>
            <a:ext cx="8417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FA07-0D9A-45F4-8B8D-BAD7C0D1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4120" y="1905120"/>
            <a:ext cx="8417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44120" y="4054680"/>
            <a:ext cx="8417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016E-0748-4DA5-9C6C-0696D522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4120" y="190512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44120" y="40546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57280" y="40546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2AC6-849A-423D-860A-795301F5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4120" y="190512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89920" y="190512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36080" y="190512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744120" y="40546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89920" y="40546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36080" y="40546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20DD-6364-4000-803C-B1327A9F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4120" y="1905120"/>
            <a:ext cx="841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8AD-C288-447B-961C-6FCA282A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4120" y="190512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4D78-470B-4FF2-88AF-C8087AC6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9B0-1CB4-4713-86B8-68E4537B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44120" y="456840"/>
            <a:ext cx="8417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0F0-6527-4445-808B-4050AEEA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4120" y="190512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4120" y="40546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65E-5008-44DB-81E5-E1EA326A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4120" y="190512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40546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FEE-0EC3-49EF-AC49-A948B3DF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4120" y="190512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90512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4120" y="4054680"/>
            <a:ext cx="8417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F25-4BEC-493B-89A1-E35FCEF6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9904320" cy="6856560"/>
            <a:chOff x="0" y="0"/>
            <a:chExt cx="9904320" cy="68565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935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Decor6Di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9412200" y="0"/>
              <a:ext cx="4921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Decor6Di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 flipH="1" flipV="1" rot="10800000">
              <a:off x="0" y="0"/>
              <a:ext cx="9904320" cy="380880"/>
            </a:xfrm>
            <a:custGeom>
              <a:avLst/>
              <a:gdLst>
                <a:gd name="textAreaLeft" fmla="*/ 1074600 w 9904320"/>
                <a:gd name="textAreaRight" fmla="*/ 8829720 w 9904320"/>
                <a:gd name="textAreaTop" fmla="*/ 41040 h 380880"/>
                <a:gd name="textAreaBottom" fmla="*/ 339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Decor6Di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 flipV="1">
              <a:off x="0" y="6324480"/>
              <a:ext cx="9904320" cy="532080"/>
            </a:xfrm>
            <a:custGeom>
              <a:avLst/>
              <a:gdLst>
                <a:gd name="textAreaLeft" fmla="*/ 1092240 w 9904320"/>
                <a:gd name="textAreaRight" fmla="*/ 8812080 w 9904320"/>
                <a:gd name="textAreaTop" fmla="*/ 58680 h 532080"/>
                <a:gd name="textAreaBottom" fmla="*/ 47340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65" y="21600"/>
                  </a:lnTo>
                  <a:lnTo>
                    <a:pt x="20435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Decor6Di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93560" y="304920"/>
              <a:ext cx="891864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Decor6Di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44120" y="1905120"/>
            <a:ext cx="841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412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Decor6D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382560" y="6400800"/>
            <a:ext cx="3140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Decor6D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0974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A4FB-B44B-4AA9-8E77-E75C3D1F5308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cor6D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6"/>
          <p:cNvGrpSpPr/>
          <p:nvPr/>
        </p:nvGrpSpPr>
        <p:grpSpPr>
          <a:xfrm>
            <a:off x="0" y="0"/>
            <a:ext cx="9904320" cy="6856560"/>
            <a:chOff x="0" y="0"/>
            <a:chExt cx="9904320" cy="685656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4935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Decor6Di"/>
              </a:endParaRPr>
            </a:p>
          </p:txBody>
        </p:sp>
        <p:sp>
          <p:nvSpPr>
            <p:cNvPr id="49" name="Rectangle 3"/>
            <p:cNvSpPr/>
            <p:nvPr/>
          </p:nvSpPr>
          <p:spPr>
            <a:xfrm>
              <a:off x="9412200" y="0"/>
              <a:ext cx="4921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Decor6Di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 flipH="1" flipV="1" rot="10800000">
              <a:off x="0" y="0"/>
              <a:ext cx="9904320" cy="380880"/>
            </a:xfrm>
            <a:custGeom>
              <a:avLst/>
              <a:gdLst>
                <a:gd name="textAreaLeft" fmla="*/ 1074600 w 9904320"/>
                <a:gd name="textAreaRight" fmla="*/ 8829720 w 9904320"/>
                <a:gd name="textAreaTop" fmla="*/ 41040 h 380880"/>
                <a:gd name="textAreaBottom" fmla="*/ 339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Decor6Di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 flipV="1">
              <a:off x="0" y="6324480"/>
              <a:ext cx="9904320" cy="532080"/>
            </a:xfrm>
            <a:custGeom>
              <a:avLst/>
              <a:gdLst>
                <a:gd name="textAreaLeft" fmla="*/ 1077840 w 9904320"/>
                <a:gd name="textAreaRight" fmla="*/ 8826480 w 9904320"/>
                <a:gd name="textAreaTop" fmla="*/ 56880 h 532080"/>
                <a:gd name="textAreaBottom" fmla="*/ 47520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Decor6Di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493560" y="304920"/>
              <a:ext cx="891864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Decor6Di"/>
              </a:endParaRPr>
            </a:p>
          </p:txBody>
        </p:sp>
        <p:grpSp>
          <p:nvGrpSpPr>
            <p:cNvPr id="53" name="Group 15"/>
            <p:cNvGrpSpPr/>
            <p:nvPr/>
          </p:nvGrpSpPr>
          <p:grpSpPr>
            <a:xfrm>
              <a:off x="660240" y="3324240"/>
              <a:ext cx="8668080" cy="374760"/>
              <a:chOff x="660240" y="3324240"/>
              <a:chExt cx="8668080" cy="37476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660240" y="3470400"/>
                <a:ext cx="866808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Decor6Di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666720" y="3324240"/>
                <a:ext cx="8499600" cy="279360"/>
              </a:xfrm>
              <a:prstGeom prst="rect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Decor6Di"/>
                </a:endParaRPr>
              </a:p>
            </p:txBody>
          </p:sp>
          <p:sp>
            <p:nvSpPr>
              <p:cNvPr id="56" name="Line 9"/>
              <p:cNvSpPr/>
              <p:nvPr/>
            </p:nvSpPr>
            <p:spPr>
              <a:xfrm>
                <a:off x="674640" y="3394080"/>
                <a:ext cx="849492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Decor6Di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674640" y="3470400"/>
                <a:ext cx="849492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Decor6Di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674640" y="3546360"/>
                <a:ext cx="849492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Decor6Di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674640" y="3379680"/>
                <a:ext cx="84949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Decor6Di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674640" y="3456000"/>
                <a:ext cx="84949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Decor6Di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674640" y="3532320"/>
                <a:ext cx="849492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Decor6Di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44120" y="1905120"/>
            <a:ext cx="841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74412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Decor6D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382560" y="6400800"/>
            <a:ext cx="3140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Decor6D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70974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B87E-12AC-448A-875F-7DA1C19CCAF2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cor6D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1440" y="836640"/>
            <a:ext cx="8418600" cy="3024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a76b35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 u="sng">
                <a:solidFill>
                  <a:srgbClr val="ffff00"/>
                </a:solidFill>
                <a:uFillTx/>
                <a:latin typeface="Times New Roman"/>
              </a:rPr>
              <a:t>Изобразительное искусство барокко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44120" y="5229360"/>
            <a:ext cx="841716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Лоренцо Бернини. Фонтан Четырех рек на площади Навона. Ганг. 1648-1651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Picture 4" descr="Бернини"/>
          <p:cNvPicPr/>
          <p:nvPr/>
        </p:nvPicPr>
        <p:blipFill>
          <a:blip r:embed="rId1"/>
          <a:stretch/>
        </p:blipFill>
        <p:spPr>
          <a:xfrm>
            <a:off x="1712880" y="333360"/>
            <a:ext cx="655164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673240" y="1988640"/>
            <a:ext cx="3488040" cy="403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Покрывало на голове Нила символизирует таинственность его истока, который в то время еще не открыли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Лоренцо Бернини. Фонтан Четырех рек на площади Навона. Нил. 1648-1651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Picture 4" descr="Бернини Фонтан 4 рек Нил"/>
          <p:cNvPicPr/>
          <p:nvPr/>
        </p:nvPicPr>
        <p:blipFill>
          <a:blip r:embed="rId1"/>
          <a:stretch/>
        </p:blipFill>
        <p:spPr>
          <a:xfrm>
            <a:off x="488880" y="260280"/>
            <a:ext cx="543420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736880" y="1915920"/>
            <a:ext cx="460836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о 2-й половины 1650-х гг. Бернини вновь работает в соборе Святого Петра, создает здесь бронзовую «кафедру св. Петра», украшенную статуями отцов Церкви и ангел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Лоренцо Бернини. Кафедра собора Святого Петра.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(1656-1665 гг.). Рим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488880" y="333360"/>
            <a:ext cx="429408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097600" y="83664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В этих произведениях («кафедра св. Петра» и надгробие папы Александра) — при всей их живописной риторике — усиливаются черты углубленного драматизм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Лоренцо Бернини. Надгробие папы Александра VII (1671-1678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4" descr="Бернини"/>
          <p:cNvPicPr/>
          <p:nvPr/>
        </p:nvPicPr>
        <p:blipFill>
          <a:blip r:embed="rId1"/>
          <a:stretch/>
        </p:blipFill>
        <p:spPr>
          <a:xfrm>
            <a:off x="560520" y="333360"/>
            <a:ext cx="455112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808160" y="333360"/>
            <a:ext cx="4537080" cy="59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Весьма рано (около 1610) он заявляет о себе и как мастер скульптурного портрета. Портрет возлюбленной художника Констанцы Буонарелли принадлежит к непревзойденным шедеврам этого вида искусства, впечатляя живым полнокровием характера и эмоци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Лоренцо Бернини. Портрет Констанцы Буонарелли (около 1635, Национальный музей, Флоренция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Picture 4" descr="Бернини"/>
          <p:cNvPicPr/>
          <p:nvPr/>
        </p:nvPicPr>
        <p:blipFill>
          <a:blip r:embed="rId1"/>
          <a:stretch/>
        </p:blipFill>
        <p:spPr>
          <a:xfrm>
            <a:off x="488880" y="333360"/>
            <a:ext cx="432288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457600" y="333360"/>
            <a:ext cx="3958920" cy="59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Патетического величия полон образ и Людовика XIV, в которых Бернини создал канон придворного скульптурного портрета, вызвавший массу подражани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Лоренцо Бернин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Король Людовик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XIV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. 1665, Национальный музей Версаля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4" descr="Бернини"/>
          <p:cNvPicPr/>
          <p:nvPr/>
        </p:nvPicPr>
        <p:blipFill>
          <a:blip r:embed="rId1"/>
          <a:stretch/>
        </p:blipFill>
        <p:spPr>
          <a:xfrm>
            <a:off x="488880" y="333360"/>
            <a:ext cx="506268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8880" y="260280"/>
            <a:ext cx="8856720" cy="93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aeaea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66"/>
                </a:solidFill>
                <a:latin typeface="Times New Roman"/>
              </a:rPr>
              <a:t>Живопись барокко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8880" y="1268280"/>
            <a:ext cx="8928000" cy="4824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нументальная живопись барокко расширяла границы реального пространства, подчеркивала идею безграничности мира. Главные ее темы – торжество божественной справедливости и прославление на небесах Христа, Богоматери и святых, а также античные аллегорические сюжеты, прославление воинских побед, утверждение новых законов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Живопись барокко получила широкое распространение в западноевропейских странах. Особенно во Франци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88880" y="4797000"/>
            <a:ext cx="885672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Интерьер Версальского дворц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оражали своей парадной пышностью декоративные композиции </a:t>
            </a: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Шарля Лебрена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(1619-1690) в Версале и Лувре. В 1662 г. он стал первым живописцем короля, а затем директором королевской мануфактуры </a:t>
            </a: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гобеленов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(вытканых вручную ковров-картин, или</a:t>
            </a: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 шпалер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) и руководителем всех декоративных работ в Версальском дворц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784520" y="260280"/>
            <a:ext cx="6121080" cy="459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376880" y="333360"/>
            <a:ext cx="504000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Характерные черты барокко нашли отражение в жанре парадного портрета. Художники видели свою главную задачу в передаче противоречивых чувств и переживаний, тончайших психологических оттенков человеческой души. Вот почему среди портретов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XVI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в. нет профильных изображений. Люди в них изображены лицом к зрителю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колько напыщенности и самолюбования в портрете Людовика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XIV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, выполненого французским художником Гиацинтом Риго (1659-1743)! Поразительны театральность и вычурность позы, высокомерность и снисходительный взгляд «короля-солнца», чрезмерная роскошь одеяния, богатство торжественных драпировок и атрибутов королевской власт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Гиацинт Риго. Портрет Людовика </a:t>
            </a: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XIV</a:t>
            </a: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. 1701 г. Лувр, Париж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488880" y="333360"/>
            <a:ext cx="41576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04880" y="333360"/>
            <a:ext cx="8416800" cy="907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66"/>
                </a:solidFill>
                <a:latin typeface="Times New Roman"/>
              </a:rPr>
              <a:t>Рубенс – король живописи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88880" y="1196640"/>
            <a:ext cx="532764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8880" y="1341360"/>
            <a:ext cx="3780000" cy="49611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4305240" y="1197000"/>
            <a:ext cx="496908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Decor6Di"/>
              </a:rPr>
              <a:t>    </a:t>
            </a:r>
            <a:r>
              <a:rPr b="1" lang="ru-RU" sz="1600" spc="-1" strike="noStrike">
                <a:solidFill>
                  <a:srgbClr val="ffff00"/>
                </a:solidFill>
                <a:latin typeface="Decor6Di"/>
              </a:rPr>
              <a:t>Питер Пауэл Рубенс (1577-1640) принадлежт к числу выдающихся художников мира. При упоминании имени Рубенса приходят на память фламандские красавицы с золотистыми волосами, сцены охоты и битв, вакханалии, великолепные пейзажи с клубящимися облаками, стремительно низвергающимися водопадами, могучими тенистыми деревьями, бюезбрежными далями лугов и полей…</a:t>
            </a:r>
            <a:endParaRPr b="0" lang="en-US" sz="1600" spc="-1" strike="noStrike">
              <a:solidFill>
                <a:srgbClr val="eaeaea"/>
              </a:solidFill>
              <a:latin typeface="Decor6D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Decor6Di"/>
              </a:rPr>
              <a:t>   </a:t>
            </a:r>
            <a:r>
              <a:rPr b="1" lang="ru-RU" sz="1600" spc="-1" strike="noStrike">
                <a:solidFill>
                  <a:srgbClr val="ffff00"/>
                </a:solidFill>
                <a:latin typeface="Decor6Di"/>
              </a:rPr>
              <a:t>Рубенса называют крупнейшим мастером торжествующего барокко. Это правда, так как в своем творчестве он унаследовал и развил многие традиции этого стиля. Но его полотна – это не декорации парадных залов, дворцов и музеев. Это подлинные шедевры, в которых ощущается собственный почерк талантливого мастера.</a:t>
            </a:r>
            <a:endParaRPr b="0" lang="en-US" sz="1600" spc="-1" strike="noStrike">
              <a:solidFill>
                <a:srgbClr val="eaeaea"/>
              </a:solidFill>
              <a:latin typeface="Decor6D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Decor6Di"/>
              </a:rPr>
              <a:t>     </a:t>
            </a:r>
            <a:r>
              <a:rPr b="1" i="1" lang="ru-RU" sz="1600" spc="-1" strike="noStrike">
                <a:solidFill>
                  <a:srgbClr val="eaeaea"/>
                </a:solidFill>
                <a:latin typeface="Decor6Di"/>
              </a:rPr>
              <a:t>рубенс. Автопортрет .</a:t>
            </a:r>
            <a:endParaRPr b="0" lang="en-US" sz="1600" spc="-1" strike="noStrike">
              <a:solidFill>
                <a:srgbClr val="eaeaea"/>
              </a:solidFill>
              <a:latin typeface="Decor6D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Скульптурные шедевры Лоренцо Бернини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4160" y="1700280"/>
            <a:ext cx="900108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Определяя главные особенности изобразительного искусства барокко и скульптурного творчества Лоренцо Бернини, исследователь Н.А.Дмитриева отмечала: «Характерно что живопись мыслится как идеал пластики. Не живопись стремиться стать скульптурной, как в искусстве Возрождения, а скульптура хочет быть живописной… Немудрено писать красками воздушные облака или пушистый мех и легкое кружево, а вот превратить мрамор в облака и мех – это триумф художника, для которого нет ничего невозможного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Действительно, Лоренцо Бернини умел подчинять своей творческой фантазии твердый камень, превращая его в послушный и податливый материа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Он мог вручную шлифовать камень по пять – семь часов в день «без передышки». Виртуозно обрабатывая мрамор и бронзу, он добивался удивительных световых эффектов, имитировал блеск и мягкость кожи, фактуру ткани. Но главной заслугой Бернини-скульптора было мастерское воспроизведение тончайших движений человеческой души, в этом искусстве ему не было равных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808160" y="333360"/>
            <a:ext cx="4537080" cy="59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Посмотрите на его замечательный «Автопортрет с Изабеллой Брант», и вы поймете, насколько талантлив был этот начинающий художник. Красивое лицо художника спокойно и преисполнено чувства собственного достоинства. С видом ласкового покровительства он слегка наклонился к жене. Его рука опирается на шпагу. Выразительные глаза обращены прямо к зрителю, их бесконечно добрый взгляд полон тихого и безмятежного счастья. Красноречивый жест соединенных рук символизируют внутреннее согласие и любовь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Да, это был период покоя, труда и тихого счастья в жизни художника. В 1609 г. Рубенс был назначен придворным художником. Это поднимало его престиж в обществе и открывало путь к свободному творчеству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i="1" lang="ru-RU" sz="1400" spc="-1" strike="noStrike">
                <a:solidFill>
                  <a:srgbClr val="eaeaea"/>
                </a:solidFill>
                <a:latin typeface="Times New Roman"/>
              </a:rPr>
              <a:t>Питер Пауэл Рубенс. Автопортрет с Изабеллой Брант. 1609-1610 гг. Старая Пинототека, Мюнхе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488880" y="333360"/>
            <a:ext cx="455292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881600" y="259920"/>
            <a:ext cx="4535280" cy="597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заказах не было недостатка, число поклонников его таланта постоянно росло. Его заказчиками были французская королева Мария Медичи, принцесса Нидерландов Изабелла, генуэзские купцы…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Питер Пауэл Рубенс. Мария Медичи королева Франци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4" descr="Рубенс"/>
          <p:cNvPicPr/>
          <p:nvPr/>
        </p:nvPicPr>
        <p:blipFill>
          <a:blip r:embed="rId1"/>
          <a:stretch/>
        </p:blipFill>
        <p:spPr>
          <a:xfrm>
            <a:off x="488880" y="260280"/>
            <a:ext cx="458640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024520" y="4941360"/>
            <a:ext cx="4137120" cy="10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Питер Пауэл Рубенс. Портрет камеристки инфанты Изабеллы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488880" y="260280"/>
            <a:ext cx="44816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097600" y="333360"/>
            <a:ext cx="4319280" cy="59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Рубенс никогда не замыкался в рамках какого-то одного жанра живописи. Он написал многочисленные картины-аллегории. В аллегорической картине «Союз Земли и Воды» он прославляет союз двух природных стихий, без которых невозможна жизнь человека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Эта картина заключала в себе глубокий смысл, связанный с надеждой Рубенса на скорейшее процветание родины. После раздела Нидерландов Фландрия потеряла выход к морю и, следовательно, лишилась выгодных торговых морских путей. Союз двух природных стихий Земли и Воды – это надежда на установление мира, мечта художника о союзе Фландрии с морем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Питер Пауэл Рубенс. Союз Земли и Воды. 1618 г. Эрмитаж, Санкт-Питербург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488880" y="333360"/>
            <a:ext cx="482616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736880" y="333360"/>
            <a:ext cx="4679640" cy="59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нтичная мифология всегда вдохновляла Рубенса, в ней он анходил радость жизни, единение человека с природой, яркие мужественные образы. Вакханки и нимфы, сатиры и пастушки. Живущие в мире страстей и желаний, становятся главным объектом изображения. В «вакханалиях жизни» Рубенс передает свое восхищение человеческой красотой, умеющей и в мире стихийных чувств сохранить свою глубокую чистоту и праздничное мироощущение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Питер Пауэл Рубенс. Три грации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488880" y="333360"/>
            <a:ext cx="438804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0520" y="5444640"/>
            <a:ext cx="8416800" cy="8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Питер Пауэл Рубенс. Суд Париса. 1638 г. Прадо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88880" y="333360"/>
            <a:ext cx="8928000" cy="50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65600" y="333360"/>
            <a:ext cx="4751280" cy="597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Женитьба Рубенса в 1630 на шестнадцатилетней Елене Фаурмент стала новым этапом его жизни, исполненным безмятежного семейного счастья Мастерство позднего Рубенса с блеском проявляется в сравнительно небольших, собственноручно исполненных произведениях. Образ молодой жены становится лейтмотивом его творчества. Идеал белокурой красавицы с пышным чувственным телом и красивым разрезом больших блестящих глаз сложился в произведениях мастера задолго до того, как Елена вошла в его жизнь, превратившись, наконец, в зримое воплощение этого идеала.. Многочисленны портреты Елены в свадебном наряде, с детьми, со старшим сыном Францем, на прогулке с мужем в саду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Питер Пауэл Рубенс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«Портрет Елены Фаурмент с детьми». Около 1636, Лувр</a:t>
            </a: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Picture 4" descr="C:\Users\Наташа\Desktop\800px-0_Hélène_Fourment_et_deux_de_ses_enfants_-_P.P._Rubens_-_Louvre_(INV_1795)_-_(2).JPG"/>
          <p:cNvPicPr/>
          <p:nvPr/>
        </p:nvPicPr>
        <p:blipFill>
          <a:blip r:embed="rId1"/>
          <a:stretch/>
        </p:blipFill>
        <p:spPr>
          <a:xfrm>
            <a:off x="631800" y="352440"/>
            <a:ext cx="424980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20880" y="5084640"/>
            <a:ext cx="48956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Питер Пауэл Рубенс. «Портрет Елены Фаурмент с сыном Френсисом»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88880" y="333360"/>
            <a:ext cx="413244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657240" y="1905120"/>
            <a:ext cx="550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Художник создает редкий по откровенности личного чувства и пленительности живописи образ обнаженной Елены с накинутой на плечи бархатной, отороченной мехом шубкой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Питер Пауэл Рубенс «Шубка», ок. 1630-40, Музей истории искусств, Вена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3" name="Picture 4" descr="Рубенс"/>
          <p:cNvPicPr/>
          <p:nvPr/>
        </p:nvPicPr>
        <p:blipFill>
          <a:blip r:embed="rId1"/>
          <a:stretch/>
        </p:blipFill>
        <p:spPr>
          <a:xfrm>
            <a:off x="488880" y="260280"/>
            <a:ext cx="302436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44160" y="4941360"/>
            <a:ext cx="907236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Times New Roman"/>
              </a:rPr>
              <a:t>Рубенс. «Пейзаж с радугой». 1636. Старая пинакотека, Мюнхен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Пейзажи позднего Рубенса воспроизводят эпический образ природы Фландрии с ее просторами, далями, дорогами и населяющими ее людьми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В поздний период творчества (1632—1640) Рубенс посвящает много времени пейзажу («Пейзаж с радугой»), где удивительно тонко проявляется его поэтическое видение природы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857240" y="260280"/>
            <a:ext cx="5904000" cy="46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808520" y="333360"/>
            <a:ext cx="4353120" cy="59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же ранние скульптуры Бернини («Давид», 1619; «Похищение Прозерпины», 1621; «Аполлон и Дафна», 1622-1625; — все в Галерее Боргезе, Рим) свидетельствуют об исключительном даровании; стремясь сделать любимый свой материал, мрамор, податливым, «как воск», он добивается беспрецедентной динамики форм, сложных живописных эффект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Лоренцо Бернини. Давид. 1619 г. Галерея Боргезе. Рим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Picture 5" descr="Бернини"/>
          <p:cNvPicPr/>
          <p:nvPr/>
        </p:nvPicPr>
        <p:blipFill>
          <a:blip r:embed="rId1"/>
          <a:stretch/>
        </p:blipFill>
        <p:spPr>
          <a:xfrm>
            <a:off x="488880" y="260280"/>
            <a:ext cx="458640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60160" y="404640"/>
            <a:ext cx="8785080" cy="561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бенс был не только художником, он был блестяще образованным человеком. Разносторонний ученый, дипломат, ведший переговоры с монархами Испании и Англии, полиглот, знавший семь языков. Переписывающийся с выдающимися людьми Европы, архитектор, построивший свой великолепный дом с парком в Антверпене, он снискал себе заслуженную славу при жизни. В 1630 г. после удачной дипломатической миссии английский король Карл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I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пожаловал художника в рыцари, подарил ему шпагу, шнур с королевской шляпы и кольцо, усыпанное бриллиантами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 1640 году художник умер. Из его роскошного дома в Антверпене навсегда уносили на черной бархатной подушечке маленькую золотую корону – почетный титул «короля живописи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952880" y="333360"/>
            <a:ext cx="4392720" cy="59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АН ДЕЙК Антонис (22 марта 1599, Антверпен — 9 декабря 1641, Лондон), фламандский живописец. Работал также в Италии и Англии. Ученик П. П. Рубенса. Виртуозные по живописи, сдержанные по колориту парадные аристократические и интимные портреты («Карл I на охоте»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ортрет Г. Бентивольо,) замечательны тонким психологизмом и благородной одухотворенностью; религиозные и мифологические композиции в духе барокко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многочисленных автопортретах Ван Дейк создает романтизированный образ художника — баловня судьбы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Антонис Ван Дейк. Автопортрет. 1620-е гг. Эрмитаж. Санкт-Петербург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88880" y="333360"/>
            <a:ext cx="481500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24520" y="189000"/>
            <a:ext cx="4680000" cy="59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1632 по приглашению короля Карла I Ван Дейк уезжает в Англию, становится «главным живописцем на службе их величеств», получает дворянский титул и золотую цепь рыцаря. Оригинальностью замысла отличается портрет Карла I (ок. 1635, Лувр): принципы парадного изображения выявлены здесь как бы смягченно, в более интимном истолковании, король изображен на фоне пейзажа в изящно-небрежной позе, позади слуга держит породистого коня. Однако в целом парадный портрет английского периода приобретает черты холодной представительности, внешней декоративности, в нем появляются символические и аллегорические аксессуары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Антонис Ван Дейк. Портрет короля Карла I Стюарта. Около 1635. Лувр. Париж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488880" y="260280"/>
            <a:ext cx="455796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024520" y="5013360"/>
            <a:ext cx="4137120" cy="100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Ван Дейк. Конный портрет Карла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488880" y="333360"/>
            <a:ext cx="422748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65600" y="333360"/>
            <a:ext cx="4751280" cy="59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1621-27 Ван Дейк посетил Италию. Пребывание его в Генуе, Риме, Венеции, Милане, Палермо сопровождалось активным изучением итальянской живописи, особенно Тициана, и стало триумфальным этапом в развитии его портретного искусства. Внешняя представительность сочетается с внутренней одухотворенностью в портрете ученого и дипломата кардинала Гвидо Бентивольо (ок. 1623-24, галерея Питти, Флоренция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Антонис Ван Дейк. Кардинал Бентивольо. Около 1623. Галерея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Питти во Флоренци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488880" y="260280"/>
            <a:ext cx="42800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88880" y="4941360"/>
            <a:ext cx="583272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ctr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Якоб Йорданс. Сатир у крестьянина. 1620 год. Королевский музей изящных искусств. Брюссель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488880" y="260280"/>
            <a:ext cx="5832720" cy="45896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6465960" y="538200"/>
            <a:ext cx="287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Decor6Di"/>
              </a:rPr>
              <a:t>Творчество Якоба Йорданса (1593-1678) развивалось на народной основе. К теме «Сатир в гостях у крестьянина» на сюжет басни Эзопа художник обращался неоднократно, добиваясь пластической осязательности в передаче тел, посуды, мебели.</a:t>
            </a:r>
            <a:endParaRPr b="0" lang="en-US" sz="1800" spc="-1" strike="noStrike">
              <a:solidFill>
                <a:srgbClr val="eaeaea"/>
              </a:solidFill>
              <a:latin typeface="Decor6D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44480" y="4941360"/>
            <a:ext cx="586440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Якоб Йорданс. «Бобовый король». Около 1638. Эрмитаж, Санкт-Петербург</a:t>
            </a: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488880" y="333360"/>
            <a:ext cx="6191280" cy="4602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681960" y="393840"/>
            <a:ext cx="27349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Decor6Di"/>
              </a:rPr>
              <a:t>«Бобовый король» - другой любимый мотив в творчестве Йорданса. Семейный праздник ( в «короли» выбирают того, кому достанется боб, запеченный в пирог) превращается в вакханалию обжорства, когда почти ощущаются запахи кухни, слышится громкий хохот, торжествует плоть. Йорданс мифологизирует бытовую сцену, придавая ей монументальность.</a:t>
            </a:r>
            <a:endParaRPr b="0" lang="en-US" sz="1600" spc="-1" strike="noStrike">
              <a:solidFill>
                <a:srgbClr val="eaeaea"/>
              </a:solidFill>
              <a:latin typeface="Decor6D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21240" y="4581360"/>
            <a:ext cx="4640400" cy="14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Якоб Йорданс. «Бобовый король». Около 1638. Эрмитаж, Санкт-Петербург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488880" y="260280"/>
            <a:ext cx="403704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4120" y="45684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88880" y="4868640"/>
            <a:ext cx="89280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Франс Снейдерс. «Лавка с дичью». 1609. Эрмитаж, Санкт-Петербург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НЕЙДЕРС Франс (1579-1657), фламандский живописец. Сотрудничал с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. П. Рубенсом. Монументальные, декоративно-красочные натюрморты и анималистические картины (серия «Лавки»), проникнутые ощущением изобилия и богатства природы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1208160" y="333360"/>
            <a:ext cx="749124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44120" y="5157360"/>
            <a:ext cx="8417160" cy="8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Франс Снейдерс. Натюрморт с лебеде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496880" y="260280"/>
            <a:ext cx="6840720" cy="49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440160" y="5373720"/>
            <a:ext cx="58975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Лоренцо Бернини. «Аполлон и Дафна». 1621. Галерея Боргезе. Рим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88880" y="260280"/>
            <a:ext cx="3198960" cy="6048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5786280" y="260280"/>
            <a:ext cx="36496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60160" y="4365720"/>
            <a:ext cx="885636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Джованни Тьеполо. «Пир Клеопатры». 1743-1744, Национальный музей Виктории, Мельбурн.</a:t>
            </a:r>
            <a:r>
              <a:rPr b="1" i="1" lang="ru-RU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редставленные в венецианских костюмах 16 в. центральные персонажи дополняют эту картину традиционного венецианского празднества, уподобляясь находящимся на подиуме актерам, привнося в действие атмосферу театральной травестии. Современников Тьеполо восхищало его умение создавать грандиозные фресковые ансамбли, как любая барочная роспись, вовлекающие в действие зрителей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2216160" y="333360"/>
            <a:ext cx="568944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304880" y="333360"/>
            <a:ext cx="5111640" cy="59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одлинным шедевром скульптурного творчества Бернини стала алтарная композиция </a:t>
            </a: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«Экстаз Святой Терезы»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для римского собора Санта Мария делла Витториа. Композиция раскрывает один из эпизодов записок испанской монахини Терезы, жившей в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XVI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в. и позднее причисленной к лику святых. В своих записках она рассказала, как однажды к ней во сне явился ангел и пронзил ей сердце золотой стрелой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«В руке ангела я увидела длинную золотую стрелу с огненным острием; мне показалось, что он вонзил ее несколько раз в мое сердце… Боль была так сильна, что я не могла сдержаться от крика, но в то же время испытала такую бесконечную сладость, что… пусть бы эта боль длилась вечно»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88880" y="333360"/>
            <a:ext cx="3667320" cy="5040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488880" y="5373720"/>
            <a:ext cx="432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Decor6Di"/>
              </a:rPr>
              <a:t>Лоренцо Бернини. Экстаз Святой Терезы. 1645-1653 гг. Санта Мария делла Виттория, Рим.</a:t>
            </a:r>
            <a:endParaRPr b="0" lang="en-US" sz="1600" spc="-1" strike="noStrike">
              <a:solidFill>
                <a:srgbClr val="eaeaea"/>
              </a:solidFill>
              <a:latin typeface="Decor6D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60160" y="515736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Лоренцо Бернини. Экстаз Святой Терезы. 1645-1653 гг. Санта Мария делла Виттория, Рим.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2880" y="333360"/>
            <a:ext cx="4464000" cy="59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ернини изобразил Святую Терезу с запрокинутой головой. Ее веки полузакрыты, она словно не видит представшего перед ней нежного и улыбчивого ангела. Страдание и наслаждение переплетаются в ее болезненно-восторженном облике. Эмоции героини доведены до крайнего предела, до исступления, но при этом у зрителя не создается впечатления неестественности ее чувств. Эффект мистического видения скульптор подкрепил светом, падающим в дневное время сквозь желтое стекло окна собор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488880" y="333360"/>
            <a:ext cx="46656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88880" y="4941360"/>
            <a:ext cx="892800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Лоренцо Бернини. Фонтан Четырех рек на площади Навона. 1648-1651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К лучшим творениям Бернини принадлежат и фонтаны, которыми он украсил Рим. Самые известные из них – фонтан Тритона и Четырех рек – блестящее сочетание экспрессивной барочной пластики с бурлящей и пенящейся водой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784520" y="333360"/>
            <a:ext cx="6408720" cy="46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44120" y="4868640"/>
            <a:ext cx="84171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Лоренцо Бернини. Фонтан Четырех рек на площади Навона. 1648-1651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ллегорические фигуры изображают самые большие реки континентов — Нил, Дунай, Ганг и Рио-де-ла-Плата (Амазонка тогда была неизвестна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641600" y="333360"/>
            <a:ext cx="6769080" cy="44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240160" y="4508640"/>
            <a:ext cx="417672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Лоренцо Бернини. Фонтан Четырех рек на площади Навона. 1648-1651. фрагмен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60520" y="333360"/>
            <a:ext cx="4705200" cy="597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3:30Z</dcterms:created>
  <dc:creator>Рябова Анна Анатольевна</dc:creator>
  <dc:description/>
  <dc:language>en-US</dc:language>
  <cp:lastModifiedBy>Наташа</cp:lastModifiedBy>
  <dcterms:modified xsi:type="dcterms:W3CDTF">2016-10-10T07:45:57Z</dcterms:modified>
  <cp:revision>122</cp:revision>
  <dc:subject/>
  <dc:title>Лучшая десятка</dc:title>
</cp:coreProperties>
</file>