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3D1-35D2-4861-8A2A-74BEC19A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85E-2DE5-4FAE-8273-4E153FE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9F6-A925-484A-903C-E5B06F49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9AA-1959-4B17-8E4A-D39A7E90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D7A-6783-4B22-ABDF-69A691AD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277D-9F7F-4006-8D16-00A05F7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DED6-8599-4593-8F56-B4FD01FE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517-4EEA-4C8A-8CF1-7862402C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690-7F0A-4A00-92A0-328B3E97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080-9C0F-43B4-A0C0-A3DDFF0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D44D-F411-4AF7-8635-847BEC2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D90-D9E4-4EC9-9772-2542043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9128-6225-40D8-8286-820225E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DF87-9C4B-4635-9194-5E3C4F3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9DA-EC63-4631-93A9-23ABC0E2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944-ADB3-484D-ADF7-5E8A3D7C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7A84-E2F5-462C-8F0B-1081EE67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16F-5B00-41D4-A5B1-156006A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206-62AC-4927-96DC-84C690D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8F5-89C6-4589-BE33-A1B88909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DC8-B69C-4E6E-A6A0-1F73EAD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493-1BC4-4291-8296-D968343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5E4-9D24-4EB2-B6F6-FE44734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E5C-9572-4794-92AB-14D53C5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0753-93B8-48FB-AB92-BB36B40E34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59760"/>
              <a:ext cx="3620160" cy="6132600"/>
              <a:chOff x="5410080" y="59760"/>
              <a:chExt cx="362016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1040"/>
                <a:ext cx="38844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20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6280"/>
              <a:ext cx="893160" cy="824760"/>
              <a:chOff x="564948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96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20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59960"/>
              <a:ext cx="1059120" cy="829800"/>
              <a:chOff x="97020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4540-2657-4674-BF95-5E9305484D0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596520"/>
            <a:ext cx="754380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витие речи  и творческих способностей детей старшего дошкольного возраста по средствам театрализованных игр и театральн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352680" y="4495320"/>
            <a:ext cx="5486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илакова А.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стрякова Е.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вободная театральная деятельность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138240" y="1600200"/>
            <a:ext cx="4128840" cy="42670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"/>
          <p:cNvPicPr/>
          <p:nvPr/>
        </p:nvPicPr>
        <p:blipFill>
          <a:blip r:embed="rId2"/>
          <a:stretch/>
        </p:blipFill>
        <p:spPr>
          <a:xfrm>
            <a:off x="4281480" y="1600200"/>
            <a:ext cx="4724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0" y="1417680"/>
            <a:ext cx="4253040" cy="50292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42055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733920" cy="4684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52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нига-театр «Кот в сапогах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442800" y="914400"/>
            <a:ext cx="3824280" cy="49528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узыкальный ансамбль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Рисунок 2" descr=""/>
          <p:cNvPicPr/>
          <p:nvPr/>
        </p:nvPicPr>
        <p:blipFill>
          <a:blip r:embed="rId1"/>
          <a:stretch/>
        </p:blipFill>
        <p:spPr>
          <a:xfrm>
            <a:off x="442800" y="990720"/>
            <a:ext cx="82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228600" y="-4543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еневой теат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Рисунок 4" descr=""/>
          <p:cNvPicPr/>
          <p:nvPr/>
        </p:nvPicPr>
        <p:blipFill>
          <a:blip r:embed="rId1"/>
          <a:srcRect l="5908" t="0" r="19094" b="0"/>
          <a:stretch/>
        </p:blipFill>
        <p:spPr>
          <a:xfrm>
            <a:off x="3200400" y="1009800"/>
            <a:ext cx="5715000" cy="41734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"/>
          <p:cNvPicPr/>
          <p:nvPr/>
        </p:nvPicPr>
        <p:blipFill>
          <a:blip r:embed="rId2"/>
          <a:srcRect l="0" t="22965" r="0" b="14006"/>
          <a:stretch/>
        </p:blipFill>
        <p:spPr>
          <a:xfrm>
            <a:off x="15228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ывод</a:t>
            </a:r>
            <a:br>
              <a:rPr sz="4400"/>
            </a:br>
            <a:br>
              <a:rPr sz="2400"/>
            </a:br>
            <a:r>
              <a:rPr b="1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еатрализованная деятельность обогащает словарь диалогическую и монологическую речь, память, мышление, воображение; учит детей быть творческими личностями, способными к восприятию новизны, умению импровизироват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Это прекрасное средство для интенсивного развития речи детей, обогащение словаря, развития мышления, воображения, творческих способностей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2800" y="228240"/>
            <a:ext cx="75438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еатрализованная деятельность-это не просто игр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бота по речевому развитию в театрализованн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17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осмотр видеоматериа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гры-драматиз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ыгрывание разнообразных сценок, песенок и стих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пражнения по развитию мимики, пантомимики, мотор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гры и ситуации по произведения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движные речевые игры с персонажами сказ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осмотр спектаклей и беседы по ни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-16380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формирование устной речи детей, культуры общения с окружающими, соответствующих возрастному периоду детей посредствам театрализованной деятель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ктивизировать и обогащать словарный запас дошкольник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вивать монологическую и диалогическую формы реч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вивать устойчивый интерес к театрально-игровой деятельности, развивать творческие способ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ами мастерим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457200" y="1927080"/>
            <a:ext cx="822960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зготовление атрибутов к басн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4052880" cy="55227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724280" y="1357200"/>
            <a:ext cx="41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асня «Свинья под дубом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185760" y="838080"/>
            <a:ext cx="4343400" cy="601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2"/>
          <a:stretch/>
        </p:blipFill>
        <p:spPr>
          <a:xfrm>
            <a:off x="4697280" y="838080"/>
            <a:ext cx="4294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304920" y="103320"/>
            <a:ext cx="3962160" cy="67546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"/>
          <p:cNvPicPr/>
          <p:nvPr/>
        </p:nvPicPr>
        <p:blipFill>
          <a:blip r:embed="rId2"/>
          <a:stretch/>
        </p:blipFill>
        <p:spPr>
          <a:xfrm>
            <a:off x="4767120" y="103320"/>
            <a:ext cx="403884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440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разучивании басни  дети познакомились с архаизмами русского языка </a:t>
            </a:r>
            <a:br>
              <a:rPr sz="2400"/>
            </a:b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рхаизм-это устаревшее слово или оборот речи.</a:t>
            </a:r>
            <a:br>
              <a:rPr sz="2400"/>
            </a:b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спользуется как средство художественной выразительности для воссоздания исторического колорита, речи героев, для придания произведению возвышенного характер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5-03-25T00:26:0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