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387-240C-42F6-8FDC-8126C03AB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C734-4130-419D-ADA3-1BB75031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FB40-F55F-4B0E-8C69-4616B172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8399-5990-420F-9F64-4CA6FEA0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C87F4-4A2A-4CED-84DA-CACBC74B8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B73D-9A9A-4483-B1FC-9F24B64A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9B28-1C06-4D0C-BA99-76D0558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2B17-8B65-474E-A132-497BBAAB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8000-A76B-4ABA-AF56-EB30589F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872D-1C36-40D4-A7C7-45671C97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F1F6-C084-4F9C-A4E9-0A98F039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BDC4-A282-4387-A147-0B36C001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4E97-6F08-48FE-8F7D-CAABADFEF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26EA1-869C-4D32-A9AD-09FB2DFF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4764-3EF8-45C0-B70A-4309B0E55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871D-EAA2-4BDD-9B31-2E5C7A38E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97C0-D060-4206-B3F3-D8ED1C1BC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06D-C9C0-44C2-B334-88E057FBD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CF71-3E9C-4C99-8E0A-CF258E8A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16AF-9B99-4161-A61E-8401A76E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8FF8-BCFF-40CA-B0E4-E1A22231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F9C2-E040-4C4F-9401-70DA33D5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D3B-1163-44FA-B4D8-79CDCD01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2C07-E9B9-4807-BEA6-C2D4AE1B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E1B9C-FB44-4A72-A9BB-E707D4DC38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>
                  <a:gd name="textAreaLeft" fmla="*/ 0 w 4469040"/>
                  <a:gd name="textAreaRight" fmla="*/ 4469400 w 4469040"/>
                  <a:gd name="textAreaTop" fmla="*/ 0 h 3349800"/>
                  <a:gd name="textAreaBottom" fmla="*/ 3350160 h 3349800"/>
                </a:gdLst>
                <a:ahLst/>
                <a:rect l="textAreaLeft" t="textAreaTop" r="textAreaRight" b="textAreaBottom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>
                  <a:gd name="textAreaLeft" fmla="*/ 0 w 6296040"/>
                  <a:gd name="textAreaRight" fmla="*/ 6296400 w 6296040"/>
                  <a:gd name="textAreaTop" fmla="*/ 0 h 3756240"/>
                  <a:gd name="textAreaBottom" fmla="*/ 3756600 h 3756240"/>
                </a:gdLst>
                <a:ahLst/>
                <a:rect l="textAreaLeft" t="textAreaTop" r="textAreaRight" b="textAreaBottom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>
                  <a:gd name="textAreaLeft" fmla="*/ 0 w 9099720"/>
                  <a:gd name="textAreaRight" fmla="*/ 9099720 w 9099720"/>
                  <a:gd name="textAreaTop" fmla="*/ 0 h 4932360"/>
                  <a:gd name="textAreaBottom" fmla="*/ 4932720 h 4932360"/>
                </a:gdLst>
                <a:ahLst/>
                <a:rect l="textAreaLeft" t="textAreaTop" r="textAreaRight" b="textAreaBottom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>
                  <a:gd name="textAreaLeft" fmla="*/ 0 w 8750520"/>
                  <a:gd name="textAreaRight" fmla="*/ 8750880 w 8750520"/>
                  <a:gd name="textAreaTop" fmla="*/ 0 h 4381560"/>
                  <a:gd name="textAreaBottom" fmla="*/ 4381920 h 4381560"/>
                </a:gdLst>
                <a:ahLst/>
                <a:rect l="textAreaLeft" t="textAreaTop" r="textAreaRight" b="textAreaBottom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>
                  <a:gd name="textAreaLeft" fmla="*/ 0 w 1254240"/>
                  <a:gd name="textAreaRight" fmla="*/ 1254600 w 1254240"/>
                  <a:gd name="textAreaTop" fmla="*/ 0 h 1887480"/>
                  <a:gd name="textAreaBottom" fmla="*/ 1887840 h 1887480"/>
                </a:gdLst>
                <a:ahLst/>
                <a:rect l="textAreaLeft" t="textAreaTop" r="textAreaRight" b="textAreaBottom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>
                  <a:gd name="textAreaLeft" fmla="*/ 0 w 919440"/>
                  <a:gd name="textAreaRight" fmla="*/ 919800 w 919440"/>
                  <a:gd name="textAreaTop" fmla="*/ 0 h 1773360"/>
                  <a:gd name="textAreaBottom" fmla="*/ 1773720 h 1773360"/>
                </a:gdLst>
                <a:ahLst/>
                <a:rect l="textAreaLeft" t="textAreaTop" r="textAreaRight" b="textAreaBottom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>
                  <a:gd name="textAreaLeft" fmla="*/ 0 w 3922920"/>
                  <a:gd name="textAreaRight" fmla="*/ 3923280 w 3922920"/>
                  <a:gd name="textAreaTop" fmla="*/ 0 h 3803400"/>
                  <a:gd name="textAreaBottom" fmla="*/ 3803760 h 3803400"/>
                </a:gdLst>
                <a:ahLst/>
                <a:rect l="textAreaLeft" t="textAreaTop" r="textAreaRight" b="textAreaBottom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>
                  <a:gd name="textAreaLeft" fmla="*/ 0 w 2221200"/>
                  <a:gd name="textAreaRight" fmla="*/ 2221560 w 2221200"/>
                  <a:gd name="textAreaTop" fmla="*/ 0 h 2141640"/>
                  <a:gd name="textAreaBottom" fmla="*/ 2142000 h 2141640"/>
                </a:gdLst>
                <a:ahLst/>
                <a:rect l="textAreaLeft" t="textAreaTop" r="textAreaRight" b="textAreaBottom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>
                  <a:gd name="textAreaLeft" fmla="*/ 0 w 1993680"/>
                  <a:gd name="textAreaRight" fmla="*/ 1994040 w 1993680"/>
                  <a:gd name="textAreaTop" fmla="*/ 0 h 1285920"/>
                  <a:gd name="textAreaBottom" fmla="*/ 1286280 h 1285920"/>
                </a:gdLst>
                <a:ahLst/>
                <a:rect l="textAreaLeft" t="textAreaTop" r="textAreaRight" b="textAreaBottom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>
                  <a:gd name="textAreaLeft" fmla="*/ 0 w 4521240"/>
                  <a:gd name="textAreaRight" fmla="*/ 4521600 w 4521240"/>
                  <a:gd name="textAreaTop" fmla="*/ 0 h 1251000"/>
                  <a:gd name="textAreaBottom" fmla="*/ 1251000 h 1251000"/>
                </a:gdLst>
                <a:ahLst/>
                <a:rect l="textAreaLeft" t="textAreaTop" r="textAreaRight" b="textAreaBottom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>
                  <a:gd name="textAreaLeft" fmla="*/ 0 w 506520"/>
                  <a:gd name="textAreaRight" fmla="*/ 506880 w 506520"/>
                  <a:gd name="textAreaTop" fmla="*/ 0 h 1355760"/>
                  <a:gd name="textAreaBottom" fmla="*/ 1356120 h 1355760"/>
                </a:gdLst>
                <a:ahLst/>
                <a:rect l="textAreaLeft" t="textAreaTop" r="textAreaRight" b="textAreaBottom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>
                  <a:gd name="textAreaLeft" fmla="*/ 0 w 1025280"/>
                  <a:gd name="textAreaRight" fmla="*/ 1025640 w 1025280"/>
                  <a:gd name="textAreaTop" fmla="*/ 0 h 622440"/>
                  <a:gd name="textAreaBottom" fmla="*/ 622800 h 622440"/>
                </a:gdLst>
                <a:ahLst/>
                <a:rect l="textAreaLeft" t="textAreaTop" r="textAreaRight" b="textAreaBottom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>
                  <a:gd name="textAreaLeft" fmla="*/ 0 w 4343400"/>
                  <a:gd name="textAreaRight" fmla="*/ 4343760 w 4343400"/>
                  <a:gd name="textAreaTop" fmla="*/ 0 h 3048120"/>
                  <a:gd name="textAreaBottom" fmla="*/ 3048480 h 3048120"/>
                </a:gdLst>
                <a:ahLst/>
                <a:rect l="textAreaLeft" t="textAreaTop" r="textAreaRight" b="textAreaBottom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239760"/>
                  <a:gd name="textAreaBottom" fmla="*/ 240120 h 239760"/>
                </a:gdLst>
                <a:ahLst/>
                <a:rect l="textAreaLeft" t="textAreaTop" r="textAreaRight" b="textAreaBottom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>
                  <a:gd name="textAreaLeft" fmla="*/ 0 w 324000"/>
                  <a:gd name="textAreaRight" fmla="*/ 324360 w 32400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>
                  <a:gd name="textAreaLeft" fmla="*/ 0 w 142920"/>
                  <a:gd name="textAreaRight" fmla="*/ 143280 w 142920"/>
                  <a:gd name="textAreaTop" fmla="*/ 0 h 133200"/>
                  <a:gd name="textAreaBottom" fmla="*/ 133560 h 133200"/>
                </a:gdLst>
                <a:ahLst/>
                <a:rect l="textAreaLeft" t="textAreaTop" r="textAreaRight" b="textAreaBottom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>
                  <a:gd name="textAreaLeft" fmla="*/ 0 w 9360"/>
                  <a:gd name="textAreaRight" fmla="*/ 9720 w 93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76320"/>
                  <a:gd name="textAreaBottom" fmla="*/ 76680 h 76320"/>
                </a:gdLst>
                <a:ahLst/>
                <a:rect l="textAreaLeft" t="textAreaTop" r="textAreaRight" b="textAreaBottom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44440"/>
                  <a:gd name="textAreaBottom" fmla="*/ 244800 h 244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>
                  <a:gd name="textAreaLeft" fmla="*/ 0 w 108000"/>
                  <a:gd name="textAreaRight" fmla="*/ 108360 w 10800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>
                  <a:gd name="textAreaLeft" fmla="*/ 0 w 552600"/>
                  <a:gd name="textAreaRight" fmla="*/ 552960 w 552600"/>
                  <a:gd name="textAreaTop" fmla="*/ 0 h 2019240"/>
                  <a:gd name="textAreaBottom" fmla="*/ 2019240 h 2019240"/>
                </a:gdLst>
                <a:ahLst/>
                <a:rect l="textAreaLeft" t="textAreaTop" r="textAreaRight" b="textAreaBottom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3005-2009-49A3-AAEF-64109A4387B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cc"/>
                </a:solidFill>
                <a:latin typeface="Tahoma"/>
              </a:rPr>
              <a:t>Гимнастические упражнения.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ля детей специальной медицинской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ыполнила: Учитель физической культуры Капитан Л.Ф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бщеразвивающие упражнения для предупреждения нарушенний и исправления осанк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И.п- ноги врозь, руки согнуты в локтевых суставах, палка сзади в локтевых сгибах;1-2- наклон вперед, прогнуться; 3-4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И.п.-сед ноги врозь ,скакалка за головой, руки в стороны; 1- пружинящий поворот направо, натягивая скакалку руками; 2- и.п., 3-4- то же в другу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И.п.-стоя на коленях, руки в стороны; 1- наклон в право, правой рукой коснуться левой стопы; 2- и.п.; 3-4- то же в другу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И.п.- упор стоя на коленях; 1-2- прогнуться; 3-4- выгнуть спи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И .п.- лежа на животе, руки согнуты. 1-2-медленно разогнуть руки, упор лежа на бедрах, прогнуться; 3-4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И. п. – лежа на животе, руки вверху; 1-2- прогнуться, отвести ноги ; 3-4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Упражнения при заболеваниях органов дыхания</a:t>
            </a:r>
            <a:br>
              <a:rPr sz="2000"/>
            </a:br>
            <a:r>
              <a:rPr b="0" lang="ru-RU" sz="2000" spc="-1" strike="noStrike">
                <a:solidFill>
                  <a:srgbClr val="ffffcc"/>
                </a:solidFill>
                <a:latin typeface="Tahoma"/>
              </a:rPr>
              <a:t>( хронический бронхит, воспаления легких, бронхиальная астма)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ражнения способствующие усилению вдо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И.п.- о.с. 1-2- шаг левой вперед, правая назад на носок, руки вверх- вдох; 3-4-и.п., выдох, 5-8- то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И.п.- стойка ноги врозь , палка горизонтально вниз, 1-2- с поворотом туловища на вдохе палку вверх; 3-4- и.п., выдох; 5-8- то же в другую сторон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И.п.- стоя на коленях, палка горизонтально вниз. 1-2- прогибаясь, руки вверх- назад, наклон назад, вдох; 3-4- и.п., выдо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И.п.- стоя спиной к гимнастической стенке, руки хватом за рейку на уровне головы; 1-2- выпад правой, прогнуться, вдох; 3-4- и.п., выдох; 5-8- то 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Упражнения при заболеваниях органов дыхания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пражнения , способствующие усилению выдох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И.п.- стойка ноги врозь, руки вверху, пальцы сцеплены, слегка прогнуться; 1- наклон туловища вперед, руки вниз; 2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И.п.- сед, руки в стороны, 1- наклон вперед , ладонями коснуться носков ног; 2- и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И п.- на гимнастической скамейке сед поперек, ноги врозь, руки на поясе; 1- наклон к правой ноге, коснуться носка ноги; 2- и.п.; 3-4- то же к другой ног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И .п.- лежа на левом боку; 1- согнуть правую ногу, обхватить руками колено, прижать к груди; 2- и.п. То же на другом боку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Общеразвивающие упражнения при заболеваниях почек ( нефриты, пиелонефриты ,нефроз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И.п.- на гимнастической скамейке сед поперек, ноги врозь, руки за головой; 1- согнуть правую ногу,  обхватить руками колено, прижать к груди; 2- и.п. ; 3-4 – то 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И .п.- лежа на спине, руки вверху; 1- согнуть правую ногу, поднять туловище, руками обхватить голень; 2- и.п. ; 3-4- то же с другой ног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И, п.- лежа на спине, руки вверху; 1- поднять колени к груди, руками взяться за голени; 2- и.п.;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И.п.- лежа на спине, руки за головой; 1- согнуть правую ногу, поворот туловища вправо, коснуться левым локтем правого колена; 2- и.п.; 3-4 – то же с другой ног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Рекомендаци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1.упражнения для детей , имеющих отклонения со стороны сердечно- сосудистой системы, рекомендуются такие, в которых задействованы все мышечные группы, из различных полож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2.Противопоказано выполнения упражнений с задержкой дыхания, с натуживанием, с большой амплитудой движ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3. При нарушениях нервной системы ограничиваються упражнения вызывающие перенапря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4.С заболеваниями органов зрения противопоказаны упражнения с натуживанием, прыжки, кувырк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 advTm="10000">
    <p:push dir="r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6T19:55:42Z</dcterms:created>
  <dc:creator>user</dc:creator>
  <dc:description/>
  <dc:language>en-US</dc:language>
  <cp:lastModifiedBy>User</cp:lastModifiedBy>
  <dcterms:modified xsi:type="dcterms:W3CDTF">2025-05-21T06:35:46Z</dcterms:modified>
  <cp:revision>4</cp:revision>
  <dc:subject/>
  <dc:title>Гимнастические упражнения.</dc:title>
</cp:coreProperties>
</file>