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4.wmf" ContentType="image/x-wmf"/>
  <Override PartName="/ppt/media/image2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dt" idx="19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0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21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E9C640-7CEE-47C4-8450-6D1FA7697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жилой дом; 2 -цветник; 3 – теплица,4 – баня; 5 - бак с водой; 6 - огород для овощей; 7 - плодово-ягодные кустар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Num" idx="4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E061B9-457D-460F-AE80-02C0456B188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жилой дом; 2 -цветник; 3 –теплица;4 – баня; 5 - бак с водой; 6 - огород для овощей;7 - плодово-ягодные кустарники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6A7800-88C4-44AA-A212-D6EE48F2B4A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59A885-A641-4B3D-A494-61F4FA22F7A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B7D2-7DBA-4257-A69E-AE8F37531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8B6F-F378-4132-963E-0B290B5F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4893-E117-480B-91B2-02EF0C6E8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B194-A605-43AB-8424-0D0A8CF7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5C2F-519C-4F75-9575-DBDD77B3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B153-AF3E-4C8B-8D78-1E55069D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803C-D00B-4F7A-B1A4-8D4D12F7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C45E-A455-4176-8AFF-D2A482C0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BE99-5900-4C58-96BC-D85D7935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1803240"/>
            <a:ext cx="9448560" cy="846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748F-326A-487A-8743-5A668128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002C-EDEC-4E9F-ACDE-0457B5EE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47AF-BB38-4DC8-8969-7E75F47B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F9A5-59AC-45F6-9103-3033DEA7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43E4-C436-4773-B2FC-B6F8221A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916E-9919-4CF5-88B7-BB12F86A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C6D8-F6ED-4044-961A-7EB305AE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2F02-77F4-43EB-9B53-76690D97B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F7ACE-17B7-472B-91FB-30FDFD17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69850-AB4F-4FFE-8961-2A693CEE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B82F4-7F76-4867-B177-15092D67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6D0F6-E761-455F-AF31-6D1DAC0F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4032F-8A87-432A-8955-9C415691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FD8A-B643-4848-BC11-56C1D239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1803240"/>
            <a:ext cx="9448560" cy="846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498A7-3E25-4061-80F2-72987BFB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7E6CE-BFC6-4CD0-ACDA-EE57658F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677D2-3D99-4423-94B2-3D9DFAC3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55473-D5B6-459C-9A78-13646DCF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B93C8-F758-41A7-8DD2-469BA0A4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91299-0E24-42FE-8B29-BAA995CB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094BC-0060-4E49-807F-BD518BF6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13104-93A3-442D-B29D-07AAAB132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A6A67-21C2-4722-853B-C2C45A4F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160D2-6B33-43F7-9C04-6A311EB9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9D9D-A2B5-4618-ACD2-A22827D7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F44FB-E469-48DD-9B00-CB2FCF96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15595-0A3C-4C44-B39F-4A0D53D2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1803240"/>
            <a:ext cx="9448560" cy="846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B3013-039F-4430-98BA-A48FCD9F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34EAE-AF0A-4AFC-AE37-8854BCEF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9627B-A1B3-4254-95B2-D922B16D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DE9B3-8661-43F7-B275-F36F322F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98118-A155-42A5-9129-724DDE2A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D04DD-1551-4E0F-AC69-D7532FDF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5171E-5D62-4C1E-98E9-01DA72A64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CC53A-0943-4044-B03A-7A6C95E74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1575-AF6F-40F8-96B7-1F8D1593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9AD23-8597-49F1-B565-3FD0F334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2452E-6BFA-40F8-8A21-6A96AD55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83913-E29A-4C17-8B02-04F3F147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1DF21-B9C4-4B10-B676-EBD2F140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371600" y="1803240"/>
            <a:ext cx="9448560" cy="846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300D1-BA72-40AF-8A0B-44DD5E48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A4251-6D8B-4C17-9C92-4FC00C26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5593D-F32E-43CF-A667-C7F1E469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A637E-4C45-42BA-ADC3-14992028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4F6E0-E53E-4C3D-A46D-F5E8B36D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47043-DD4C-4922-B347-2D1A242BA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600" y="1803240"/>
            <a:ext cx="9448560" cy="846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D877-7C6C-479E-AA61-797F391B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A90B0-35DC-43BE-9307-46D2B358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8ECDB-DAD4-44A9-B7D8-3DCEEBEA1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887F8-A716-4D7C-9287-676D9D4A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0BA84-08BE-4D4B-9AB8-81AA0AB1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08CC7-D3A4-4A53-B60C-5D94CEF8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57AA8-9103-44B9-A794-FDAEF1EA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371600" y="1803240"/>
            <a:ext cx="9448560" cy="846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9F8D6-4998-49E3-B563-4D8E9266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79DB4-73BF-44C0-938E-D166C8E2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D5CB4-A07B-4B3A-A4B4-726A9558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D7656-44AF-4FF4-8B9D-933949E2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FAEF-ED1D-4983-A2E7-DA2458F7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5EFA3-9543-4828-972F-7B715CBA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F010D-3D15-4703-B621-40AB6FABF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E887F-9E29-4F5A-B7E6-93F0B3A68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9334-568B-4065-80E0-48200A13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E8E4-8DE9-4B9F-8FDC-27B2F0AB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3-HD-TOP.png"/>
          <p:cNvPicPr/>
          <p:nvPr/>
        </p:nvPicPr>
        <p:blipFill>
          <a:blip r:embed="rId2"/>
          <a:stretch/>
        </p:blipFill>
        <p:spPr>
          <a:xfrm>
            <a:off x="0" y="0"/>
            <a:ext cx="12191760" cy="144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120" cy="129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000000"/>
                </a:solidFill>
                <a:latin typeface="Century Gothic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194560"/>
            <a:ext cx="5333760" cy="40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Образец текста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6172200" y="2194560"/>
            <a:ext cx="5333760" cy="40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Образец текста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1"/>
          </p:nvPr>
        </p:nvSpPr>
        <p:spPr>
          <a:xfrm>
            <a:off x="8595360" y="6356520"/>
            <a:ext cx="29106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5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2"/>
          </p:nvPr>
        </p:nvSpPr>
        <p:spPr>
          <a:xfrm>
            <a:off x="685800" y="6355800"/>
            <a:ext cx="7772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6"/>
          <p:cNvSpPr>
            <a:spLocks noGrp="1"/>
          </p:cNvSpPr>
          <p:nvPr>
            <p:ph type="sldNum" idx="3"/>
          </p:nvPr>
        </p:nvSpPr>
        <p:spPr>
          <a:xfrm>
            <a:off x="8763120" y="38088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5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603977-7C6D-479D-8A7F-40EE0EE233E6}" type="slidenum">
              <a:rPr b="0" lang="ru-RU" sz="1050" spc="-1" strike="noStrike">
                <a:solidFill>
                  <a:srgbClr val="8b8b8b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C3-HD-TOP.png"/>
          <p:cNvPicPr/>
          <p:nvPr/>
        </p:nvPicPr>
        <p:blipFill>
          <a:blip r:embed="rId2"/>
          <a:stretch/>
        </p:blipFill>
        <p:spPr>
          <a:xfrm>
            <a:off x="0" y="0"/>
            <a:ext cx="12191760" cy="1441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C3-HD-BTM.png"/>
          <p:cNvPicPr/>
          <p:nvPr/>
        </p:nvPicPr>
        <p:blipFill>
          <a:blip r:embed="rId3"/>
          <a:stretch/>
        </p:blipFill>
        <p:spPr>
          <a:xfrm>
            <a:off x="0" y="4375080"/>
            <a:ext cx="12191760" cy="2482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3480"/>
            <a:ext cx="10820160" cy="280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000000"/>
                </a:solidFill>
                <a:latin typeface="Century Gothic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24560" y="3641760"/>
            <a:ext cx="10489680" cy="95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8b8b8b"/>
                </a:solidFill>
                <a:latin typeface="Century Gothic"/>
              </a:rPr>
              <a:t>Образец текста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814520" y="380880"/>
            <a:ext cx="29106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5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685800" y="380880"/>
            <a:ext cx="699120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10862280" y="380880"/>
            <a:ext cx="643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5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A65B59-BE4C-4458-9365-8AEFD9148E55}" type="slidenum">
              <a:rPr b="0" lang="ru-RU" sz="1050" spc="-1" strike="noStrike">
                <a:solidFill>
                  <a:srgbClr val="8b8b8b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C3-HD-TOP.png"/>
          <p:cNvPicPr/>
          <p:nvPr/>
        </p:nvPicPr>
        <p:blipFill>
          <a:blip r:embed="rId2"/>
          <a:stretch/>
        </p:blipFill>
        <p:spPr>
          <a:xfrm>
            <a:off x="0" y="0"/>
            <a:ext cx="12191760" cy="1441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dt" idx="7"/>
          </p:nvPr>
        </p:nvSpPr>
        <p:spPr>
          <a:xfrm>
            <a:off x="8595360" y="6356520"/>
            <a:ext cx="29106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5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8"/>
          </p:nvPr>
        </p:nvSpPr>
        <p:spPr>
          <a:xfrm>
            <a:off x="685800" y="6355800"/>
            <a:ext cx="7772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9"/>
          </p:nvPr>
        </p:nvSpPr>
        <p:spPr>
          <a:xfrm>
            <a:off x="8763120" y="38088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5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69BE4D-AEFF-484D-84D5-663E6643AB85}" type="slidenum">
              <a:rPr b="0" lang="ru-RU" sz="1050" spc="-1" strike="noStrike">
                <a:solidFill>
                  <a:srgbClr val="8b8b8b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ru-RU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C3-HD-TOP.png"/>
          <p:cNvPicPr/>
          <p:nvPr/>
        </p:nvPicPr>
        <p:blipFill>
          <a:blip r:embed="rId2"/>
          <a:stretch/>
        </p:blipFill>
        <p:spPr>
          <a:xfrm>
            <a:off x="0" y="0"/>
            <a:ext cx="12191760" cy="1441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41144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3200" spc="-1" strike="noStrike" cap="all">
                <a:solidFill>
                  <a:srgbClr val="000000"/>
                </a:solidFill>
                <a:latin typeface="Century Gothic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995720" y="746640"/>
            <a:ext cx="6510240" cy="54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Образец текста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body"/>
          </p:nvPr>
        </p:nvSpPr>
        <p:spPr>
          <a:xfrm>
            <a:off x="685800" y="3124080"/>
            <a:ext cx="4114440" cy="30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Образец текста</a:t>
            </a:r>
            <a:endParaRPr b="0" lang="ru-RU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dt" idx="10"/>
          </p:nvPr>
        </p:nvSpPr>
        <p:spPr>
          <a:xfrm>
            <a:off x="8595360" y="6356520"/>
            <a:ext cx="29106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5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685800" y="6355800"/>
            <a:ext cx="7772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8763120" y="38088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5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36E17A-EC23-4A9D-BBFB-2CB51FADECEE}" type="slidenum">
              <a:rPr b="0" lang="ru-RU" sz="1050" spc="-1" strike="noStrike">
                <a:solidFill>
                  <a:srgbClr val="8b8b8b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7" descr="C3-HD-TOP.png"/>
          <p:cNvPicPr/>
          <p:nvPr/>
        </p:nvPicPr>
        <p:blipFill>
          <a:blip r:embed="rId2"/>
          <a:stretch/>
        </p:blipFill>
        <p:spPr>
          <a:xfrm>
            <a:off x="0" y="0"/>
            <a:ext cx="12191760" cy="1441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120" cy="129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000000"/>
                </a:solidFill>
                <a:latin typeface="Century Gothic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2194560"/>
            <a:ext cx="10820160" cy="40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Образец текста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8595360" y="6356520"/>
            <a:ext cx="29106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5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85800" y="6355800"/>
            <a:ext cx="7772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763120" y="38088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5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761318-E9D9-47B3-8036-B1F316E6C876}" type="slidenum">
              <a:rPr b="0" lang="ru-RU" sz="1050" spc="-1" strike="noStrike">
                <a:solidFill>
                  <a:srgbClr val="8b8b8b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C3-HD-TOP.png"/>
          <p:cNvPicPr/>
          <p:nvPr/>
        </p:nvPicPr>
        <p:blipFill>
          <a:blip r:embed="rId2"/>
          <a:stretch/>
        </p:blipFill>
        <p:spPr>
          <a:xfrm>
            <a:off x="0" y="0"/>
            <a:ext cx="12191760" cy="1441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C3-HD-BTM.png"/>
          <p:cNvPicPr/>
          <p:nvPr/>
        </p:nvPicPr>
        <p:blipFill>
          <a:blip r:embed="rId3"/>
          <a:stretch/>
        </p:blipFill>
        <p:spPr>
          <a:xfrm>
            <a:off x="0" y="4375080"/>
            <a:ext cx="12191760" cy="24825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6000" spc="-1" strike="noStrike" cap="all">
                <a:solidFill>
                  <a:srgbClr val="000000"/>
                </a:solidFill>
                <a:latin typeface="Century Gothic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6"/>
          </p:nvPr>
        </p:nvSpPr>
        <p:spPr>
          <a:xfrm>
            <a:off x="7909560" y="4314240"/>
            <a:ext cx="2910600" cy="37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5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17"/>
          </p:nvPr>
        </p:nvSpPr>
        <p:spPr>
          <a:xfrm>
            <a:off x="1371600" y="4323960"/>
            <a:ext cx="6400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8"/>
          </p:nvPr>
        </p:nvSpPr>
        <p:spPr>
          <a:xfrm>
            <a:off x="8077320" y="143100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5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AB325A-461B-456A-B0CF-9FDA68570EFB}" type="slidenum">
              <a:rPr b="0" lang="ru-RU" sz="1050" spc="-1" strike="noStrike">
                <a:solidFill>
                  <a:srgbClr val="8b8b8b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ru-RU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4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69120" y="982800"/>
            <a:ext cx="10576800" cy="132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000" spc="-1" strike="noStrike" cap="all">
                <a:solidFill>
                  <a:srgbClr val="c00000"/>
                </a:solidFill>
                <a:latin typeface="Century Gothic"/>
              </a:rPr>
              <a:t> </a:t>
            </a:r>
            <a:r>
              <a:rPr b="1" lang="ru-RU" sz="4000" spc="-1" strike="noStrike" cap="all">
                <a:solidFill>
                  <a:srgbClr val="c00000"/>
                </a:solidFill>
                <a:latin typeface="Century Gothic"/>
              </a:rPr>
              <a:t>Контекстные задачи на уроках математики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701040" y="4408200"/>
            <a:ext cx="5008320" cy="136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entury Gothic"/>
              </a:rPr>
              <a:t>Учитель математики </a:t>
            </a:r>
            <a:endParaRPr b="0" lang="ru-RU" sz="2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entury Gothic"/>
              </a:rPr>
              <a:t>БОУ города Омска «СОШ №116»</a:t>
            </a:r>
            <a:endParaRPr b="0" lang="ru-RU" sz="2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entury Gothic"/>
              </a:rPr>
              <a:t>Богданова Е.Г.</a:t>
            </a:r>
            <a:endParaRPr b="0" lang="ru-RU" sz="2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2194560"/>
            <a:ext cx="5333760" cy="40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31520" y="1151640"/>
            <a:ext cx="4114440" cy="174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4000"/>
          </a:bodyPr>
          <a:p>
            <a:pPr indent="0">
              <a:lnSpc>
                <a:spcPct val="90000"/>
              </a:lnSpc>
              <a:buNone/>
            </a:pPr>
            <a:br>
              <a:rPr sz="3200"/>
            </a:br>
            <a:br>
              <a:rPr sz="3200"/>
            </a:br>
            <a:r>
              <a:rPr b="1" lang="ru-RU" sz="2700" spc="-1" strike="noStrike" cap="all">
                <a:solidFill>
                  <a:srgbClr val="000000"/>
                </a:solidFill>
                <a:latin typeface="Times New Roman"/>
              </a:rPr>
              <a:t>Задание 4 / 4</a:t>
            </a:r>
            <a:br>
              <a:rPr sz="2700"/>
            </a:br>
            <a:br>
              <a:rPr sz="2700"/>
            </a:br>
            <a:br>
              <a:rPr sz="3200"/>
            </a:br>
            <a:endParaRPr b="0" lang="ru-RU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35240" y="1815120"/>
            <a:ext cx="4980960" cy="43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= 2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= 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* 3,14*2 =12,56 м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/ 4 = 3,14 м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= 6+6+4+4+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14 = 23,14 м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3,14 &lt; 24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этому, 24 м плинтуса хватит для комнаты Марии.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85" name="Объект 4" descr=""/>
          <p:cNvPicPr/>
          <p:nvPr/>
        </p:nvPicPr>
        <p:blipFill>
          <a:blip r:embed="rId1"/>
          <a:srcRect l="47012" t="17146" r="15882" b="6398"/>
          <a:stretch/>
        </p:blipFill>
        <p:spPr>
          <a:xfrm>
            <a:off x="5581800" y="218520"/>
            <a:ext cx="5786280" cy="65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1419480"/>
            <a:ext cx="11146320" cy="43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200" spc="-1" strike="noStrike" cap="all">
                <a:solidFill>
                  <a:srgbClr val="c00000"/>
                </a:solidFill>
                <a:latin typeface="Century Gothic"/>
              </a:rPr>
              <a:t>Творческое Задание </a:t>
            </a:r>
            <a:r>
              <a:rPr b="1" lang="ru-RU" sz="2800" spc="-1" strike="noStrike" cap="all">
                <a:solidFill>
                  <a:srgbClr val="c00000"/>
                </a:solidFill>
                <a:latin typeface="Century Gothic"/>
              </a:rPr>
              <a:t> </a:t>
            </a:r>
            <a:br>
              <a:rPr sz="2800"/>
            </a:b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2129040"/>
            <a:ext cx="477288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риентировочная основа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  <a:p>
            <a:pPr marL="224640" indent="-224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ча «Ремонт комнаты»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  <a:p>
            <a:pPr marL="224640" indent="-224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ла (потолка) = 35,14 м²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  <a:p>
            <a:pPr marL="224640" indent="-224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жны присутствовать особые условия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  <a:p>
            <a:pPr marL="224640" indent="-224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задаче нужно найти наиболее выгодный (дешевый) вариант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  <a:p>
            <a:pPr marL="224640" indent="-224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формить условие задачи в виде таблицы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288" name="Объект 2"/>
          <p:cNvGraphicFramePr/>
          <p:nvPr/>
        </p:nvGraphicFramePr>
        <p:xfrm>
          <a:off x="6005160" y="2193840"/>
          <a:ext cx="5827320" cy="4024440"/>
        </p:xfrm>
        <a:graphic>
          <a:graphicData uri="http://schemas.openxmlformats.org/drawingml/2006/table">
            <a:tbl>
              <a:tblPr/>
              <a:tblGrid>
                <a:gridCol w="1165320"/>
                <a:gridCol w="1165320"/>
                <a:gridCol w="1165320"/>
                <a:gridCol w="1165320"/>
                <a:gridCol w="1165320"/>
              </a:tblGrid>
              <a:tr h="134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entury Gothic"/>
                        </a:rPr>
                        <a:t>Тов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entury Gothic"/>
                        </a:rPr>
                        <a:t>Особые усло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34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e19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e19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e19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e19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e19f"/>
                    </a:solidFill>
                  </a:tcPr>
                </a:tc>
              </a:tr>
              <a:tr h="134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36920" y="723240"/>
            <a:ext cx="11080440" cy="114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200" spc="-1" strike="noStrike" cap="all">
                <a:solidFill>
                  <a:srgbClr val="c00000"/>
                </a:solidFill>
                <a:latin typeface="Century Gothic"/>
              </a:rPr>
              <a:t>Формы работы на уроке</a:t>
            </a:r>
            <a:br>
              <a:rPr sz="3200"/>
            </a:br>
            <a:r>
              <a:rPr b="1" lang="ru-RU" sz="3200" spc="-1" strike="noStrike" cap="all">
                <a:solidFill>
                  <a:srgbClr val="c00000"/>
                </a:solidFill>
                <a:latin typeface="Century Gothic"/>
              </a:rPr>
              <a:t>при решении контекстных задач </a:t>
            </a: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24560" y="2251800"/>
            <a:ext cx="1048968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Фронтальная с использованием диалога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Индивидуальная 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Дифференцированный подход с дозированной помощью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Парная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Групповая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24560" y="753480"/>
            <a:ext cx="10793160" cy="74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1" lang="ru-RU" sz="3200" spc="-1" strike="noStrike" cap="all">
                <a:solidFill>
                  <a:srgbClr val="c00000"/>
                </a:solidFill>
                <a:latin typeface="Century Gothic"/>
              </a:rPr>
              <a:t>Приемы при решении контекстных задач </a:t>
            </a: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24560" y="2050560"/>
            <a:ext cx="10489680" cy="38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Проблемная ситуация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Решение задач несколькими способами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Яркое пятно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Ориентировочная основа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Алгоритмы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Таблицы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Творческое задание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764280"/>
            <a:ext cx="10820160" cy="129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000" spc="-1" strike="noStrike" cap="all">
                <a:solidFill>
                  <a:srgbClr val="c00000"/>
                </a:solidFill>
                <a:latin typeface="Century Gothic"/>
              </a:rPr>
              <a:t>Особенности контекстных задач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94560"/>
            <a:ext cx="10820160" cy="40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05000" indent="-4050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Условие задачи должно быть сформулировано как сюжет, ситуация или проблема (знакомая ребенку из повседневной жизни), для разрешения которой необходимо использовать знания на которые нет явного указания в тексте задачи. 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marL="405000" indent="-405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опрос задачи должен быть поставлен так, чтобы отсутствовал эталон «правильности», вопрос должен предполагать множественность правильных ответов. 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marL="405000" indent="-405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Условие задачи должно/может содержать избыточные, недостающие или противоречивые данные. 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marL="405000" indent="-405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Задача может иметь несколько способов решения, причем данные способы могут быть неизвестны учащимся, и их потребуется сконструировать. 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marL="405000" indent="-405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Результат, полученный при решении задачи, должен быть значим для ребенка лично или для его ближайшего окружения.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1091880"/>
            <a:ext cx="1059156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2400" spc="-1" strike="noStrike" cap="all">
                <a:solidFill>
                  <a:srgbClr val="c00000"/>
                </a:solidFill>
                <a:latin typeface="Century Gothic"/>
              </a:rPr>
              <a:t>Применение контекстных задач в обучении способствует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10820160" cy="46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1. изменению организационных форм учебного процесса, структуры образовательного процесса в целом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2. формированию навыков продуктивной деятельности: добыванию знаний непосредственно из реальной действительности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3. овладению приемами действий в нестандартных ситуациях, эвристическими методами решения проблем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4. адекватному применению знаний для решения возникающих проблем в повседневной жизни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5. изменению форм и методов оценивания (введению новых критериев оценки, расширению того, что оценивается, и т. д.)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6. формированию способности работать с информационными источниками, навыков работы в группе, умений планировать деятельность по достижению результата, выполнить программу и представить результаты своей деятельности.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96360" y="928080"/>
            <a:ext cx="10209240" cy="91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200" spc="-1" strike="noStrike" cap="all">
                <a:solidFill>
                  <a:srgbClr val="c00000"/>
                </a:solidFill>
                <a:latin typeface="Century Gothic"/>
              </a:rPr>
              <a:t>Алгоритм разработки контекстной задачи</a:t>
            </a: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51560"/>
            <a:ext cx="10820160" cy="468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02320" indent="-202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1. Определив тему предстоящего урока, подумайте, что в этой теме ученикам уже может быть известно. 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marL="202320" indent="-202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2. Определите, что в содержании темы будет для учеников новым. 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marL="202320" indent="-202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3. Подумайте, в чем может заключаться личностная значимость тех новых знаний, которые приобретут ученики на предстоящем уроке? Какой интерес они могут представлять для них? 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marL="202320" indent="-202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4. Сформулируйте ответы на все предыдущие вопросы обобщенно – в виде личностно-значимой проблемы. 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marL="202320" indent="-202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5. Вспомните или придумайте какую-либо жизненную ситуацию, анализируя которую или действуя в которой, ученики сами смогут осознать и сформулировать ту личностно-значимую проблему, которую вы наметили как отправную точку для вхождения в новую тему.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marL="202320" indent="-202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6. Составьте текст - описание данной ситуации, то есть опишите условие контекстной задачи.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marL="202320" indent="-202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7. Сформулируйте задание, требующее анализа ситуации или осуществления соответствующих ситуации действий.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66560" y="764280"/>
            <a:ext cx="8532000" cy="129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1" lang="ru-RU" sz="4000" spc="-1" strike="noStrike" cap="all">
                <a:solidFill>
                  <a:srgbClr val="c00000"/>
                </a:solidFill>
                <a:latin typeface="Century Gothic"/>
              </a:rPr>
              <a:t>КОНТЕКСтНЫЕ ЗАДАЧИ 5 класс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00" name="Объект 4" descr=""/>
          <p:cNvPicPr/>
          <p:nvPr/>
        </p:nvPicPr>
        <p:blipFill>
          <a:blip r:embed="rId1"/>
          <a:stretch/>
        </p:blipFill>
        <p:spPr>
          <a:xfrm>
            <a:off x="2266560" y="2057400"/>
            <a:ext cx="853200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306520" y="764280"/>
            <a:ext cx="9333720" cy="129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000" spc="-1" strike="noStrike" cap="all">
                <a:solidFill>
                  <a:srgbClr val="c00000"/>
                </a:solidFill>
                <a:latin typeface="Century Gothic"/>
              </a:rPr>
              <a:t>Вопросы и задания к задаче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02" name="Объект 3" descr=""/>
          <p:cNvPicPr/>
          <p:nvPr/>
        </p:nvPicPr>
        <p:blipFill>
          <a:blip r:embed="rId1"/>
          <a:stretch/>
        </p:blipFill>
        <p:spPr>
          <a:xfrm>
            <a:off x="2306520" y="1886760"/>
            <a:ext cx="8147520" cy="497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11360" y="764280"/>
            <a:ext cx="8994600" cy="91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000" spc="-1" strike="noStrike" cap="all">
                <a:solidFill>
                  <a:srgbClr val="c00000"/>
                </a:solidFill>
                <a:latin typeface="Century Gothic"/>
              </a:rPr>
              <a:t>КОНТЕКСтНЫЕ ЗАДАЧИ 6 класс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04" name="Объект 3" descr=""/>
          <p:cNvPicPr/>
          <p:nvPr/>
        </p:nvPicPr>
        <p:blipFill>
          <a:blip r:embed="rId1"/>
          <a:stretch/>
        </p:blipFill>
        <p:spPr>
          <a:xfrm>
            <a:off x="2511360" y="1828800"/>
            <a:ext cx="8475840" cy="50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753480"/>
            <a:ext cx="1082016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000" spc="-1" strike="noStrike" cap="all">
                <a:solidFill>
                  <a:srgbClr val="c00000"/>
                </a:solidFill>
                <a:latin typeface="Century Gothic"/>
              </a:rPr>
              <a:t>КОНТЕКСтНЫЕ ЗАДАЧИ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24560" y="2047320"/>
            <a:ext cx="10489680" cy="25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Контекстные задачи это задачи, целью решения которых является разрешение стандартных или нестандартных ситуаций посредством нахождения соответствующего способа решения с обязательным использованием математических знаний</a:t>
            </a:r>
            <a:r>
              <a:rPr b="0" lang="ru-RU" sz="2800" spc="-1" strike="noStrike">
                <a:solidFill>
                  <a:srgbClr val="8b8b8b"/>
                </a:solidFill>
                <a:latin typeface="Century Gothic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743200" y="764280"/>
            <a:ext cx="8762760" cy="129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000" spc="-1" strike="noStrike" cap="all">
                <a:solidFill>
                  <a:srgbClr val="c00000"/>
                </a:solidFill>
                <a:latin typeface="Century Gothic"/>
              </a:rPr>
              <a:t>Вопросы и задания к задаче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06" name="Объект 3" descr=""/>
          <p:cNvPicPr/>
          <p:nvPr/>
        </p:nvPicPr>
        <p:blipFill>
          <a:blip r:embed="rId1"/>
          <a:stretch/>
        </p:blipFill>
        <p:spPr>
          <a:xfrm>
            <a:off x="2743200" y="1901520"/>
            <a:ext cx="7956360" cy="482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09960" y="764280"/>
            <a:ext cx="8557920" cy="129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000" spc="-1" strike="noStrike" cap="all">
                <a:solidFill>
                  <a:srgbClr val="c00000"/>
                </a:solidFill>
                <a:latin typeface="Century Gothic"/>
              </a:rPr>
              <a:t>КОНТЕКСтНЫЕ ЗАДАЧИ 7 класс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08" name="Объект 3" descr=""/>
          <p:cNvPicPr/>
          <p:nvPr/>
        </p:nvPicPr>
        <p:blipFill>
          <a:blip r:embed="rId1"/>
          <a:stretch/>
        </p:blipFill>
        <p:spPr>
          <a:xfrm>
            <a:off x="2293200" y="2057400"/>
            <a:ext cx="837432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Рисунок 1" descr=""/>
          <p:cNvPicPr/>
          <p:nvPr/>
        </p:nvPicPr>
        <p:blipFill>
          <a:blip r:embed="rId1"/>
          <a:stretch/>
        </p:blipFill>
        <p:spPr>
          <a:xfrm>
            <a:off x="2347560" y="1262160"/>
            <a:ext cx="839304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81240" y="764280"/>
            <a:ext cx="8892720" cy="129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000" spc="-1" strike="noStrike" cap="all">
                <a:solidFill>
                  <a:srgbClr val="c00000"/>
                </a:solidFill>
                <a:latin typeface="Century Gothic"/>
              </a:rPr>
              <a:t>Вопросы и задания к задаче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11" name="Объект 3" descr=""/>
          <p:cNvPicPr/>
          <p:nvPr/>
        </p:nvPicPr>
        <p:blipFill>
          <a:blip r:embed="rId1"/>
          <a:stretch/>
        </p:blipFill>
        <p:spPr>
          <a:xfrm>
            <a:off x="2181240" y="2238120"/>
            <a:ext cx="8326800" cy="33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764280"/>
            <a:ext cx="1059156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000" spc="-1" strike="noStrike" cap="all">
                <a:solidFill>
                  <a:srgbClr val="c00000"/>
                </a:solidFill>
                <a:latin typeface="Century Gothic"/>
              </a:rPr>
              <a:t>Примеры контекстных задач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683720"/>
            <a:ext cx="10820160" cy="502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Родители дают Вам 300 р. в день. Эти деньги подразумевают: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траты на питание в столовой (49, 91 р. – завтрак, 107, 22 р. – обед)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проезд на автобусе до школы и обратно. Стоимость проезда 15 рублей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Остальные деньги можно расходовать по своему усмотрению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Вы хотите купить себе с этих денег флешку за 990 р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За какое время можно накопить нужную сумму?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В поселке Малые Озера живут 50 школьников, а в поселке Большие Озера – 100. Расстояние между населенными пунктами равно 5 км. В каком месте следует построить школу, чтобы суммарное расстояние, которое проходят ребята по пути в школу, было наименьшим? (Ответ обосновать).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Плата за парковку машины на автостоянке начисляется следующим образом: за первый час берётся 20 р., а за каждый следующий час (полный или неполный) автовладелец платит 12 р. Сколько должен заплатить автовладелец за парковку, если он оставит автомобиль на стоянке на 20 ч.40 мин.? На 10 суток?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6720" y="955440"/>
            <a:ext cx="10820160" cy="99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000" spc="-1" strike="noStrike" cap="all">
                <a:solidFill>
                  <a:srgbClr val="c00000"/>
                </a:solidFill>
                <a:latin typeface="Century Gothic"/>
              </a:rPr>
              <a:t>Примеры контекстных задач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24560" y="2579400"/>
            <a:ext cx="10489680" cy="305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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Семья из четырёх человек собирается поехать из Сергиева Посада в Ярославль. Добраться до Ярославля можно на поезде или машине. Билет на поезд для одного пассажира стоит 812 рублей. Автомобиль расходует 10 литров бензина на 100 км пути. Цена бензина – 44 рубля 50 копеек за 1 литр. Расстояние от Сергиева Посада до Ярославля – 200 км. Сколько рублей семья потратит на наиболее дешевую поездку?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753480"/>
            <a:ext cx="10820160" cy="99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000" spc="-1" strike="noStrike" cap="all">
                <a:solidFill>
                  <a:srgbClr val="c00000"/>
                </a:solidFill>
                <a:latin typeface="Century Gothic"/>
              </a:rPr>
              <a:t>Примеры контекстных задач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24560" y="1856160"/>
            <a:ext cx="10489680" cy="387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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Семья из четырёх человек приехала в Ярославль и поселилась в гостинице, запланировав посетить планетарий, кафе, цирк, и вернуться в гостиницу. Добираться до объектов можно на такси, а можно на трамвае. Стоимость поездки на трамвае 26 рублей для одного пассажира. Добираясь от гостиницы до планетария на трамвае семья должна сделать одну пересадку, от планетария до кафе - без пересадок, от кафе до цирка - без пересадок, от цирка до гостиницы - одну пересадку. Стоимость поездки на такси от гостиницы до планетария 82 рубля, от планетария до кафе – 78 рублей, от кафе до цирка – 89 рублей, от цирка до гостиницы - 112 рублей. Какой вид транспорта необходимо выбрать семье, чтобы сэкономить? Какую сумму может сэкономить семья?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53480"/>
            <a:ext cx="1082016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000" spc="-1" strike="noStrike" cap="all">
                <a:solidFill>
                  <a:srgbClr val="c00000"/>
                </a:solidFill>
                <a:latin typeface="Century Gothic"/>
              </a:rPr>
              <a:t>Примеры контекстных задач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24560" y="1951560"/>
            <a:ext cx="10489680" cy="387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Семья из трех человек планирует летний отдых. Для того, чтобы оценить куда поехать выгоднее, родители составили таблицу.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20" name="Picture 3" descr=""/>
          <p:cNvPicPr/>
          <p:nvPr/>
        </p:nvPicPr>
        <p:blipFill>
          <a:blip r:embed="rId1"/>
          <a:stretch/>
        </p:blipFill>
        <p:spPr>
          <a:xfrm>
            <a:off x="1596960" y="2743200"/>
            <a:ext cx="9007200" cy="2974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14880" y="764280"/>
            <a:ext cx="9991080" cy="129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000" spc="-1" strike="noStrike" cap="all">
                <a:solidFill>
                  <a:srgbClr val="c00000"/>
                </a:solidFill>
                <a:latin typeface="Century Gothic"/>
              </a:rPr>
              <a:t>Примеры контекстных задач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96360" y="2511360"/>
            <a:ext cx="9921600" cy="37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В пиццерии готовят два вида круглых пицц, имеющих одну толщину, но разные размеры. Маленькая пицца имеет диаметр 30 см и стоит 300 рублей. Большая пицца имеет диаметр 40 см и стоит 400 рублей. 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Какая пицца – большая или маленькая – является лучшим соотношением цены и количества. Представьте свое рассуждение.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764280"/>
            <a:ext cx="10820160" cy="129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000" spc="-1" strike="noStrike" cap="all">
                <a:solidFill>
                  <a:srgbClr val="c00000"/>
                </a:solidFill>
                <a:latin typeface="Century Gothic"/>
              </a:rPr>
              <a:t>Примеры контекстных задач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2194560"/>
            <a:ext cx="10820160" cy="40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2200" spc="-1" strike="noStrike">
                <a:solidFill>
                  <a:srgbClr val="000000"/>
                </a:solidFill>
                <a:latin typeface="Century Gothic"/>
              </a:rPr>
              <a:t>Поездка в зоопарк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Мы решили съездить в зоопарк. Есть 2 способа. Первый – на электричке и метро. Второй – на автобусе и метро. Первый способ: на одного человека в одну сторону стоимость билета на электричке 184 рубля и 50 рублей на метро. Время в пути на электричке 1 ч 25 мин, на метро 11 минут и 20 минут пешком. Второй способ: на одного человека стоимость билета на автобусе 200 рублей. Время в пути: 1 час на автобусе, на метро 15 минут и 15 минут пешком.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Рассчитайте время и стоимость поездки в зоопарк на семью из 3-х человек разными способами. Каким способом можно сэкономить время и деньги?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753480"/>
            <a:ext cx="1082016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000" spc="-1" strike="noStrike" cap="all">
                <a:solidFill>
                  <a:srgbClr val="c00000"/>
                </a:solidFill>
                <a:latin typeface="Century Gothic"/>
              </a:rPr>
              <a:t>КОНТЕКСНЫЕ ЗАДАЧИ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24560" y="1528560"/>
            <a:ext cx="1048968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Контекстная задача – это задача, в условии которой известным, или данным, является описание конкретной жизненной ситуации, связанной с имеющимися у ребят знаниями и опытом.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Требованием, или искомым, задачи является актуализация этого опыта с целью анализа, осмысления и объяснения данной ситуации или для выбора способа действия в ней.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А результатом ее решения становится встреча с учебной проблемой, то есть осознание неполноты, недостаточности своих знаний и одновременно с этим — понимание их ценности для эффективной дальнейшей деятельности.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753480"/>
            <a:ext cx="1082016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000" spc="-1" strike="noStrike" cap="all">
                <a:solidFill>
                  <a:srgbClr val="c00000"/>
                </a:solidFill>
                <a:latin typeface="Century Gothic"/>
              </a:rPr>
              <a:t>Примеры контекстных задач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24560" y="1965240"/>
            <a:ext cx="10489680" cy="376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Успеет ли Маша покачаться на качелях во дворе, если пойдёт длинным путём , проходя мимо детской площадки, если у неё 6 уроков, а дома нужно быть ровно в 15-00?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К задаче должен быть приложен информационный материал: 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План «Безопасный путь в школу» с расчётом времени 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- Расписание звонков в школе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753480"/>
            <a:ext cx="10820160" cy="103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000" spc="-1" strike="noStrike" cap="all">
                <a:solidFill>
                  <a:srgbClr val="c00000"/>
                </a:solidFill>
                <a:latin typeface="Century Gothic"/>
              </a:rPr>
              <a:t>Примеры контекстных задач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24560" y="2183760"/>
            <a:ext cx="104896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Рассчитайте более выгодный способ проезда до школы, учитывая возможность добраться личным транспортом или общественным? 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К задаче должен быть приложен информационный материал: 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План «Безопасный путь в школу» с расчётом времени и расстояния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- Цена на бензин 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- Стоимость проезда в общественном транспорте 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4 класс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21720" y="159372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ru-RU" sz="4000" spc="-1" strike="noStrike" cap="all">
                <a:solidFill>
                  <a:srgbClr val="c00000"/>
                </a:solidFill>
                <a:latin typeface="Arial Black"/>
              </a:rPr>
              <a:t>Задачи о мобильном интернете и тарифе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371600" y="3632040"/>
            <a:ext cx="944856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 Black"/>
              </a:rPr>
              <a:t>(ОГЭ, задачи 1-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2"/>
          </p:nvPr>
        </p:nvSpPr>
        <p:spPr>
          <a:xfrm>
            <a:off x="807732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6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636C86-AF56-43D7-BC3B-89E987F27080}" type="slidenum"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32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81080" y="274680"/>
            <a:ext cx="8229240" cy="82080"/>
          </a:xfrm>
          <a:prstGeom prst="rect">
            <a:avLst/>
          </a:prstGeom>
          <a:noFill/>
          <a:ln w="0">
            <a:noFill/>
          </a:ln>
        </p:spPr>
        <p:txBody>
          <a:bodyPr tIns="41040" bIns="41040" anchor="ctr">
            <a:norm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81080" y="214200"/>
            <a:ext cx="822924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графике точками изображено количество минут, потраченных на исходящие вызовы, и количество гигабайтов мобильного интернета, израсходованных абонентом в процессе пользования смартфоном, за каждый месяц 2018 года. Для удобства точки, соответствующие минутам и гигабайтам, соединены сплошными и пунктирными линиями соответственно.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2023920" y="2143080"/>
            <a:ext cx="8075160" cy="4071600"/>
          </a:xfrm>
          <a:prstGeom prst="rect">
            <a:avLst/>
          </a:prstGeom>
          <a:ln w="9525">
            <a:noFill/>
          </a:ln>
        </p:spPr>
      </p:pic>
      <p:cxnSp>
        <p:nvCxnSpPr>
          <p:cNvPr id="335" name="Прямая соединительная линия 5"/>
          <p:cNvCxnSpPr/>
          <p:nvPr/>
        </p:nvCxnSpPr>
        <p:spPr>
          <a:xfrm>
            <a:off x="2309760" y="2500200"/>
            <a:ext cx="643320" cy="1800"/>
          </a:xfrm>
          <a:prstGeom prst="straightConnector1">
            <a:avLst/>
          </a:prstGeom>
          <a:ln w="38100">
            <a:solidFill>
              <a:srgbClr val="009900"/>
            </a:solidFill>
            <a:round/>
          </a:ln>
        </p:spPr>
      </p:cxnSp>
      <p:cxnSp>
        <p:nvCxnSpPr>
          <p:cNvPr id="336" name="Прямая соединительная линия 7"/>
          <p:cNvCxnSpPr/>
          <p:nvPr/>
        </p:nvCxnSpPr>
        <p:spPr>
          <a:xfrm>
            <a:off x="9167760" y="2500200"/>
            <a:ext cx="786240" cy="71640"/>
          </a:xfrm>
          <a:prstGeom prst="straightConnector1">
            <a:avLst/>
          </a:prstGeom>
          <a:ln w="28575">
            <a:solidFill>
              <a:srgbClr val="009900"/>
            </a:solidFill>
            <a:prstDash val="sysDash"/>
            <a:round/>
          </a:ln>
        </p:spPr>
      </p:cxnSp>
      <p:sp>
        <p:nvSpPr>
          <p:cNvPr id="337" name="PlaceHolder 3"/>
          <p:cNvSpPr>
            <a:spLocks noGrp="1"/>
          </p:cNvSpPr>
          <p:nvPr>
            <p:ph type="sldNum" idx="23"/>
          </p:nvPr>
        </p:nvSpPr>
        <p:spPr>
          <a:xfrm>
            <a:off x="8763120" y="38088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6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39BF46-E4F4-480D-B451-79C3C1806ED9}" type="slidenum"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120" cy="129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23880" y="0"/>
            <a:ext cx="914364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течение года абонент пользовался тарифом "Стандартный", </a:t>
            </a:r>
            <a:r>
              <a:rPr b="1" lang="ru-RU" sz="2400" spc="-1" strike="noStrike" u="sng">
                <a:solidFill>
                  <a:srgbClr val="009900"/>
                </a:solidFill>
                <a:uFillTx/>
                <a:latin typeface="Times New Roman"/>
              </a:rPr>
              <a:t>абонентская плата по которому составляла 400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ублей в месяц. При условии нахождения абонента на территории РФ в абонентскую плату тарифа "Стандартный" входит: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9900"/>
              </a:buClr>
              <a:buFont typeface="Arial"/>
              <a:buChar char="-"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009900"/>
                </a:solidFill>
                <a:uFillTx/>
                <a:latin typeface="Times New Roman"/>
              </a:rPr>
              <a:t>пакет мину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включающий </a:t>
            </a:r>
            <a:r>
              <a:rPr b="1" lang="ru-RU" sz="2400" spc="-1" strike="noStrike" u="sng">
                <a:solidFill>
                  <a:srgbClr val="009900"/>
                </a:solidFill>
                <a:uFillTx/>
                <a:latin typeface="Times New Roman"/>
              </a:rPr>
              <a:t>350 минут исходящих вызово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номера, зарегистрированные на территории РФ;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9900"/>
                </a:solidFill>
                <a:uFillTx/>
                <a:latin typeface="Times New Roman"/>
              </a:rPr>
              <a:t>пакет интерне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включающий </a:t>
            </a:r>
            <a:r>
              <a:rPr b="1" lang="ru-RU" sz="2400" spc="-1" strike="noStrike" u="sng">
                <a:solidFill>
                  <a:srgbClr val="009900"/>
                </a:solidFill>
                <a:uFillTx/>
                <a:latin typeface="Times New Roman"/>
              </a:rPr>
              <a:t>2.8 гигабайт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бильного интернета;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marL="234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400" spc="-1" strike="noStrike" u="sng">
                <a:solidFill>
                  <a:srgbClr val="009900"/>
                </a:solidFill>
                <a:uFillTx/>
                <a:latin typeface="Times New Roman"/>
              </a:rPr>
              <a:t>пакет SM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включающий </a:t>
            </a:r>
            <a:r>
              <a:rPr b="1" lang="ru-RU" sz="2400" spc="-1" strike="noStrike" u="sng">
                <a:solidFill>
                  <a:srgbClr val="009900"/>
                </a:solidFill>
                <a:uFillTx/>
                <a:latin typeface="Times New Roman"/>
              </a:rPr>
              <a:t>150 SMS в месяц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marL="234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400" spc="-1" strike="noStrike" u="sng">
                <a:solidFill>
                  <a:srgbClr val="009900"/>
                </a:solidFill>
                <a:uFillTx/>
                <a:latin typeface="Times New Roman"/>
              </a:rPr>
              <a:t>безлимитны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бесплатные </a:t>
            </a:r>
            <a:r>
              <a:rPr b="1" lang="ru-RU" sz="2400" spc="-1" strike="noStrike" u="sng">
                <a:solidFill>
                  <a:srgbClr val="009900"/>
                </a:solidFill>
                <a:uFillTx/>
                <a:latin typeface="Times New Roman"/>
              </a:rPr>
              <a:t>входящ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ызовы.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marL="234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оимость минут, интернета и SMS сверх пакета указана в таблице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340" name="Таблица 5"/>
          <p:cNvGraphicFramePr/>
          <p:nvPr/>
        </p:nvGraphicFramePr>
        <p:xfrm>
          <a:off x="1809720" y="3786120"/>
          <a:ext cx="8429400" cy="1859760"/>
        </p:xfrm>
        <a:graphic>
          <a:graphicData uri="http://schemas.openxmlformats.org/drawingml/2006/table">
            <a:tbl>
              <a:tblPr/>
              <a:tblGrid>
                <a:gridCol w="5979960"/>
                <a:gridCol w="2449440"/>
              </a:tblGrid>
              <a:tr h="482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ходящие вызов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60000"/>
                        <a:lumOff val="40000"/>
                      </a:scheme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руб./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60000"/>
                        <a:lumOff val="40000"/>
                      </a:schemeClr>
                    </a:solidFill>
                  </a:tcPr>
                </a:tc>
              </a:tr>
              <a:tr h="766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бильный интернет: дополнительные пакеты по 0,4 Г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d5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руб. за пак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d5cd"/>
                    </a:solidFill>
                  </a:tcPr>
                </a:tc>
              </a:tr>
              <a:tr h="608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60000"/>
                        <a:lumOff val="40000"/>
                      </a:scheme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руб./шт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60000"/>
                        <a:lumOff val="4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341" name="Rectangle 4"/>
          <p:cNvSpPr/>
          <p:nvPr/>
        </p:nvSpPr>
        <p:spPr>
          <a:xfrm>
            <a:off x="1537200" y="5663520"/>
            <a:ext cx="8959320" cy="118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нент не пользовался услугами связи в роуминге и не звон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омера, зарегистрированные за рубежом. За весь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нент отправил 140 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24"/>
          </p:nvPr>
        </p:nvSpPr>
        <p:spPr>
          <a:xfrm>
            <a:off x="8763120" y="38088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6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8CE91D-A126-435D-9C6D-6929220F0DF4}" type="slidenum"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981080" y="274680"/>
            <a:ext cx="8229240" cy="45360"/>
          </a:xfrm>
          <a:prstGeom prst="rect">
            <a:avLst/>
          </a:prstGeom>
          <a:noFill/>
          <a:ln w="0">
            <a:noFill/>
          </a:ln>
        </p:spPr>
        <p:txBody>
          <a:bodyPr tIns="22680" bIns="22680" anchor="ctr">
            <a:norm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738440" y="0"/>
            <a:ext cx="8715240" cy="65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Определите, какие месяцы соответствуют указанному в таблице количеству израсходованных гигабайтов.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345" name="Таблица 4"/>
          <p:cNvGraphicFramePr/>
          <p:nvPr/>
        </p:nvGraphicFramePr>
        <p:xfrm>
          <a:off x="1809720" y="1428840"/>
          <a:ext cx="8357760" cy="1134720"/>
        </p:xfrm>
        <a:graphic>
          <a:graphicData uri="http://schemas.openxmlformats.org/drawingml/2006/table">
            <a:tbl>
              <a:tblPr/>
              <a:tblGrid>
                <a:gridCol w="2052720"/>
                <a:gridCol w="1539360"/>
                <a:gridCol w="1539360"/>
                <a:gridCol w="1612800"/>
                <a:gridCol w="1612800"/>
              </a:tblGrid>
              <a:tr h="36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Израсход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ванные мину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4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4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 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4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5 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4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 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4">
                        <a:lumMod val="40000"/>
                        <a:lumOff val="60000"/>
                      </a:schemeClr>
                    </a:solidFill>
                  </a:tcPr>
                </a:tc>
              </a:tr>
              <a:tr h="591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Номера месяце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d5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ru-RU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d5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d5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d5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d5cd"/>
                    </a:solidFill>
                  </a:tcPr>
                </a:tc>
              </a:tr>
            </a:tbl>
          </a:graphicData>
        </a:graphic>
      </p:graphicFrame>
      <p:sp>
        <p:nvSpPr>
          <p:cNvPr id="346" name="Rectangle 3"/>
          <p:cNvSpPr/>
          <p:nvPr/>
        </p:nvSpPr>
        <p:spPr>
          <a:xfrm>
            <a:off x="1884600" y="2364840"/>
            <a:ext cx="8736480" cy="1553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е таблицу, в ответ запишите подряд чис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ющие номерам месяцев, без пробелов, запят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угих дополнительных символов (например, для м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нваря, ноября, августа, в ответ нужно записать число 5111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Содержимое 3"/>
          <p:cNvSpPr/>
          <p:nvPr/>
        </p:nvSpPr>
        <p:spPr>
          <a:xfrm>
            <a:off x="8167680" y="4643280"/>
            <a:ext cx="249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вет :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56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1523880" y="3786120"/>
            <a:ext cx="5837760" cy="307152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57D76-53F5-48FC-978B-3697DCB9171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981080" y="274680"/>
            <a:ext cx="8229240" cy="45360"/>
          </a:xfrm>
          <a:prstGeom prst="rect">
            <a:avLst/>
          </a:prstGeom>
          <a:noFill/>
          <a:ln w="0">
            <a:noFill/>
          </a:ln>
        </p:spPr>
        <p:txBody>
          <a:bodyPr tIns="22680" bIns="22680" anchor="ctr">
            <a:norm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523880" y="3500280"/>
            <a:ext cx="9143640" cy="264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4000"/>
          </a:bodyPr>
          <a:p>
            <a:pPr marL="219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endParaRPr b="0" lang="ru-RU" sz="8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Ноябрь - это 11 месяц. По графику определяем, сколько абонент наговорил минут и использовал гигабайт. Итого: 375 минут и 3,2 Гб.</a:t>
            </a:r>
            <a:endParaRPr b="0" lang="ru-RU" sz="8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8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Тариф стоит 400 рублей</a:t>
            </a: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8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и включает в себя : 350 минут и 2,8 Гб Интернета</a:t>
            </a:r>
            <a:r>
              <a:rPr b="1" lang="ru-RU" sz="8000" spc="-1" strike="noStrike">
                <a:solidFill>
                  <a:srgbClr val="92d050"/>
                </a:solidFill>
                <a:latin typeface="Times New Roman"/>
              </a:rPr>
              <a:t>. </a:t>
            </a:r>
            <a:endParaRPr b="0" lang="ru-RU" sz="8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Значит, оплатит абонент должен : 1)за 375-350 =25 мин, </a:t>
            </a:r>
            <a:endParaRPr b="0" lang="ru-RU" sz="8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25 мин. ∙ 3руб./ мин.=75руб.</a:t>
            </a:r>
            <a:endParaRPr b="0" lang="ru-RU" sz="8000" spc="-1" strike="noStrike">
              <a:solidFill>
                <a:srgbClr val="000000"/>
              </a:solidFill>
              <a:latin typeface="Century Gothic"/>
            </a:endParaRPr>
          </a:p>
          <a:p>
            <a:pPr marL="219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2)3,2 Гб -2,8 Гб = 0,4 Гб - 90руб. (</a:t>
            </a:r>
            <a:r>
              <a:rPr b="1" lang="ru-RU" sz="8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Мобильный интернет: дополнительные пакеты по 0,4 Гб-</a:t>
            </a: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8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90руб. за пакет</a:t>
            </a: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ru-RU" sz="8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Итого за ноябрь: 400руб. + 75руб. + 90 руб. =565 руб.</a:t>
            </a:r>
            <a:endParaRPr b="0" lang="ru-RU" sz="8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marL="219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1" name="Picture 3" descr=""/>
          <p:cNvPicPr/>
          <p:nvPr/>
        </p:nvPicPr>
        <p:blipFill>
          <a:blip r:embed="rId1"/>
          <a:stretch/>
        </p:blipFill>
        <p:spPr>
          <a:xfrm>
            <a:off x="-2691000" y="-1628640"/>
            <a:ext cx="4667040" cy="1628280"/>
          </a:xfrm>
          <a:prstGeom prst="rect">
            <a:avLst/>
          </a:prstGeom>
          <a:ln w="9525">
            <a:noFill/>
          </a:ln>
        </p:spPr>
      </p:pic>
      <p:pic>
        <p:nvPicPr>
          <p:cNvPr id="352" name="Picture 2" descr=""/>
          <p:cNvPicPr/>
          <p:nvPr/>
        </p:nvPicPr>
        <p:blipFill>
          <a:blip r:embed="rId2"/>
          <a:stretch/>
        </p:blipFill>
        <p:spPr>
          <a:xfrm>
            <a:off x="1881000" y="357120"/>
            <a:ext cx="6374880" cy="3214440"/>
          </a:xfrm>
          <a:prstGeom prst="rect">
            <a:avLst/>
          </a:prstGeom>
          <a:ln w="9525">
            <a:noFill/>
          </a:ln>
        </p:spPr>
      </p:pic>
      <p:sp>
        <p:nvSpPr>
          <p:cNvPr id="353" name="Прямоугольник 6"/>
          <p:cNvSpPr/>
          <p:nvPr/>
        </p:nvSpPr>
        <p:spPr>
          <a:xfrm>
            <a:off x="1738440" y="0"/>
            <a:ext cx="8929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Сколько рублей 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потрати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абонент на услуги связи 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в ноябр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Прямая соединительная линия 8"/>
          <p:cNvCxnSpPr/>
          <p:nvPr/>
        </p:nvCxnSpPr>
        <p:spPr>
          <a:xfrm>
            <a:off x="2738160" y="1000080"/>
            <a:ext cx="3929400" cy="1800"/>
          </a:xfrm>
          <a:prstGeom prst="straightConnector1">
            <a:avLst/>
          </a:prstGeom>
          <a:ln w="28575">
            <a:solidFill>
              <a:srgbClr val="ff0000"/>
            </a:solidFill>
            <a:prstDash val="dash"/>
            <a:round/>
          </a:ln>
        </p:spPr>
      </p:cxnSp>
      <p:cxnSp>
        <p:nvCxnSpPr>
          <p:cNvPr id="355" name="Прямая соединительная линия 11"/>
          <p:cNvCxnSpPr/>
          <p:nvPr/>
        </p:nvCxnSpPr>
        <p:spPr>
          <a:xfrm flipH="1">
            <a:off x="6666480" y="857160"/>
            <a:ext cx="1080" cy="2358360"/>
          </a:xfrm>
          <a:prstGeom prst="straightConnector1">
            <a:avLst/>
          </a:prstGeom>
          <a:ln w="28575">
            <a:solidFill>
              <a:srgbClr val="ff0000"/>
            </a:solidFill>
            <a:prstDash val="dash"/>
            <a:round/>
          </a:ln>
        </p:spPr>
      </p:cxnSp>
      <p:sp>
        <p:nvSpPr>
          <p:cNvPr id="356" name="Содержимое 3"/>
          <p:cNvSpPr/>
          <p:nvPr/>
        </p:nvSpPr>
        <p:spPr>
          <a:xfrm>
            <a:off x="7738920" y="6000840"/>
            <a:ext cx="249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вет :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5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Num" idx="25"/>
          </p:nvPr>
        </p:nvSpPr>
        <p:spPr>
          <a:xfrm>
            <a:off x="8763120" y="38088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6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E38C58-1B0C-46BD-96D0-F93E72BA2510}" type="slidenum"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3"/>
          <p:cNvSpPr/>
          <p:nvPr/>
        </p:nvSpPr>
        <p:spPr>
          <a:xfrm>
            <a:off x="2381400" y="17280"/>
            <a:ext cx="7429320" cy="82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месяцев в 2018 году абонент превыш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мит по пакету исходящих мину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2987280" y="1285920"/>
            <a:ext cx="6051600" cy="2999880"/>
          </a:xfrm>
          <a:prstGeom prst="rect">
            <a:avLst/>
          </a:prstGeom>
          <a:ln w="9525">
            <a:noFill/>
          </a:ln>
        </p:spPr>
      </p:pic>
      <p:cxnSp>
        <p:nvCxnSpPr>
          <p:cNvPr id="360" name="Прямая соединительная линия 5"/>
          <p:cNvCxnSpPr/>
          <p:nvPr/>
        </p:nvCxnSpPr>
        <p:spPr>
          <a:xfrm>
            <a:off x="3738240" y="2000160"/>
            <a:ext cx="4429800" cy="1800"/>
          </a:xfrm>
          <a:prstGeom prst="straightConnector1">
            <a:avLst/>
          </a:prstGeom>
          <a:ln w="28575">
            <a:solidFill>
              <a:srgbClr val="ff0000"/>
            </a:solidFill>
            <a:prstDash val="dash"/>
            <a:round/>
          </a:ln>
        </p:spPr>
      </p:cxnSp>
      <p:sp>
        <p:nvSpPr>
          <p:cNvPr id="361" name="Прямоугольник 6"/>
          <p:cNvSpPr/>
          <p:nvPr/>
        </p:nvSpPr>
        <p:spPr>
          <a:xfrm>
            <a:off x="1809720" y="4500720"/>
            <a:ext cx="8857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Тариф стоит 400 рубле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и включает в себя : 350 минут и 2,8 Гб Интерн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Содержимое 3"/>
          <p:cNvSpPr/>
          <p:nvPr/>
        </p:nvSpPr>
        <p:spPr>
          <a:xfrm>
            <a:off x="8953560" y="785880"/>
            <a:ext cx="249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вет :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1768680" y="4933080"/>
            <a:ext cx="8849520" cy="82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колько месяцев в 2018 году абонент превышал лимит ли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акету минут, либо по пакету мобильного интерне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Содержимое 3"/>
          <p:cNvSpPr/>
          <p:nvPr/>
        </p:nvSpPr>
        <p:spPr>
          <a:xfrm>
            <a:off x="7953480" y="5929200"/>
            <a:ext cx="249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вет :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11"/>
          <p:cNvSpPr/>
          <p:nvPr/>
        </p:nvSpPr>
        <p:spPr>
          <a:xfrm>
            <a:off x="2023920" y="857160"/>
            <a:ext cx="357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Решение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сяцы 11 и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113"/>
          <p:cNvSpPr/>
          <p:nvPr/>
        </p:nvSpPr>
        <p:spPr>
          <a:xfrm>
            <a:off x="3738600" y="1428840"/>
            <a:ext cx="4428720" cy="571320"/>
          </a:xfrm>
          <a:custGeom>
            <a:avLst/>
            <a:gdLst>
              <a:gd name="textAreaLeft" fmla="*/ 0 w 4428720"/>
              <a:gd name="textAreaRight" fmla="*/ 4429080 w 442872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5824" h="904">
                <a:moveTo>
                  <a:pt x="32" y="904"/>
                </a:moveTo>
                <a:lnTo>
                  <a:pt x="5824" y="904"/>
                </a:lnTo>
                <a:lnTo>
                  <a:pt x="5816" y="0"/>
                </a:lnTo>
                <a:lnTo>
                  <a:pt x="0" y="0"/>
                </a:lnTo>
              </a:path>
            </a:pathLst>
          </a:custGeom>
          <a:solidFill>
            <a:srgbClr val="ff66ff">
              <a:alpha val="30000"/>
            </a:srgbClr>
          </a:solidFill>
          <a:ln w="9525">
            <a:solidFill>
              <a:srgbClr val="fbee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Прямоугольник 13"/>
          <p:cNvSpPr/>
          <p:nvPr/>
        </p:nvSpPr>
        <p:spPr>
          <a:xfrm>
            <a:off x="1881000" y="5857920"/>
            <a:ext cx="5500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Решение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сяцы  2, 4, 10, 11 и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Num" idx="26"/>
          </p:nvPr>
        </p:nvSpPr>
        <p:spPr>
          <a:xfrm>
            <a:off x="8763120" y="38088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6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15C26D-0552-4ADB-9F79-3BF6CAF87EA2}" type="slidenum"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3"/>
          <p:cNvSpPr/>
          <p:nvPr/>
        </p:nvSpPr>
        <p:spPr>
          <a:xfrm>
            <a:off x="2059920" y="5760"/>
            <a:ext cx="8072280" cy="118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конце 2018 года оператор связи предложил абонен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йти на новый тариф, условия которого приведены в табл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Таблица 3"/>
          <p:cNvGraphicFramePr/>
          <p:nvPr/>
        </p:nvGraphicFramePr>
        <p:xfrm>
          <a:off x="1881000" y="1143000"/>
          <a:ext cx="5071680" cy="5449320"/>
        </p:xfrm>
        <a:graphic>
          <a:graphicData uri="http://schemas.openxmlformats.org/drawingml/2006/table">
            <a:tbl>
              <a:tblPr/>
              <a:tblGrid>
                <a:gridCol w="3597840"/>
                <a:gridCol w="1473840"/>
              </a:tblGrid>
              <a:tr h="351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тоимость перехода на тари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 руб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  <a:tr h="351360">
                <a:tc>
                  <a:txBody>
                    <a:bodyPr lIns="37800" rIns="37800" tIns="37800" bIns="37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Абонентская плата в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5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  <a:tr h="351360"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в абонентскую плату ежемесячно включены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360"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пакет исходящих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0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  <a:tr h="351360"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пакет мобильного интерн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 Г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  <a:tr h="351360"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пакет S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0 S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  <a:tr h="35136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после расходования пакетов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360"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входящие вызов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 руб./ми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  <a:tr h="351360"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исходящие вызовы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 руб./ми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  <a:tr h="351360"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мобильный интернет: дополнительные пакеты по 1 Гб интер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00 руб. за пак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  <a:tr h="351360"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 руб./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371" name="Rectangle 4"/>
          <p:cNvSpPr/>
          <p:nvPr/>
        </p:nvSpPr>
        <p:spPr>
          <a:xfrm>
            <a:off x="1738440" y="5932440"/>
            <a:ext cx="4928760" cy="70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исходящие вызовы на номера, зарегистрированные на территории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7068960" y="1095120"/>
            <a:ext cx="3731760" cy="4969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нент решает, перей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 ему на новый тари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читав, сколько бы 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атил на услуги связ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2018 г., если бы пользовал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. Если получится меньш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он потратил фактиче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2018 г., то абонент прим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сменить тари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йдет ли абонент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й тариф? </a:t>
            </a:r>
            <a:r>
              <a:rPr b="1" lang="ru-RU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В отв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запишите ежемесячн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абонентскую плату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тарифу, который выбер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абонен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019 год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Num" idx="27"/>
          </p:nvPr>
        </p:nvSpPr>
        <p:spPr>
          <a:xfrm>
            <a:off x="8763120" y="38088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5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00821B-4C28-4898-8CE2-A698A4A363F4}" type="slidenum">
              <a:rPr b="0" lang="ru-RU" sz="105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4" descr=""/>
          <p:cNvPicPr/>
          <p:nvPr/>
        </p:nvPicPr>
        <p:blipFill>
          <a:blip r:embed="rId1"/>
          <a:stretch/>
        </p:blipFill>
        <p:spPr>
          <a:xfrm>
            <a:off x="3524400" y="214200"/>
            <a:ext cx="6051600" cy="2999880"/>
          </a:xfrm>
          <a:prstGeom prst="rect">
            <a:avLst/>
          </a:prstGeom>
          <a:ln w="9525">
            <a:noFill/>
          </a:ln>
        </p:spPr>
      </p:pic>
      <p:sp>
        <p:nvSpPr>
          <p:cNvPr id="375" name="Прямоугольник 2"/>
          <p:cNvSpPr/>
          <p:nvPr/>
        </p:nvSpPr>
        <p:spPr>
          <a:xfrm>
            <a:off x="2023920" y="214200"/>
            <a:ext cx="1356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1523880" y="3071880"/>
            <a:ext cx="88578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стоящий тариф </a:t>
            </a: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стоит 400 рубле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включае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 себя : </a:t>
            </a: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350 минут и 2,8 Гб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терн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Сверх пакет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 исходящие вызовы- 3руб./ мин, мобильный интернет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,4 Гб- 90руб. за пак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4"/>
          <p:cNvSpPr/>
          <p:nvPr/>
        </p:nvSpPr>
        <p:spPr>
          <a:xfrm>
            <a:off x="1523880" y="4286160"/>
            <a:ext cx="9143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 год потратил абонент на настоящем тарифе : 400 ∙ 12 = 4800руб. – абонен. плата , всего: 4800+ 45(ф) + 90(а) +45(ок)+165(н) +75(д) =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5220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5"/>
          <p:cNvSpPr/>
          <p:nvPr/>
        </p:nvSpPr>
        <p:spPr>
          <a:xfrm>
            <a:off x="1523880" y="5842440"/>
            <a:ext cx="91436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 год потратит абонент, если 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ерейде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на новый тариф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50 ∙ 12 = 4200руб. абонен. пл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200 +75(мр) +154(ап) + 75(ав) +229(н) +225(д)=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4958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Содержимое 3"/>
          <p:cNvSpPr/>
          <p:nvPr/>
        </p:nvSpPr>
        <p:spPr>
          <a:xfrm>
            <a:off x="8310600" y="6000840"/>
            <a:ext cx="25714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вет :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3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7"/>
          <p:cNvSpPr/>
          <p:nvPr/>
        </p:nvSpPr>
        <p:spPr>
          <a:xfrm>
            <a:off x="1523880" y="4929120"/>
            <a:ext cx="885780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Новый тариф стоит 350 рубле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 включае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себя </a:t>
            </a: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: 300 минут и 3 Гб Интернета. Сверх пакета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ходящие вызовы- 3руб./ мин, мобильный интернет по 1 Гб- 200руб. за пак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Прямая соединительная линия 9"/>
          <p:cNvCxnSpPr/>
          <p:nvPr/>
        </p:nvCxnSpPr>
        <p:spPr>
          <a:xfrm>
            <a:off x="4238280" y="1214280"/>
            <a:ext cx="4501080" cy="1800"/>
          </a:xfrm>
          <a:prstGeom prst="straightConnector1">
            <a:avLst/>
          </a:prstGeom>
          <a:ln w="19050">
            <a:solidFill>
              <a:srgbClr val="ff0000"/>
            </a:solidFill>
            <a:prstDash val="dash"/>
            <a:round/>
          </a:ln>
        </p:spPr>
      </p:cxnSp>
      <p:sp>
        <p:nvSpPr>
          <p:cNvPr id="382" name="Freeform 113"/>
          <p:cNvSpPr/>
          <p:nvPr/>
        </p:nvSpPr>
        <p:spPr>
          <a:xfrm>
            <a:off x="4238640" y="642960"/>
            <a:ext cx="4500360" cy="571320"/>
          </a:xfrm>
          <a:custGeom>
            <a:avLst/>
            <a:gdLst>
              <a:gd name="textAreaLeft" fmla="*/ 0 w 4500360"/>
              <a:gd name="textAreaRight" fmla="*/ 4500720 w 45003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5824" h="904">
                <a:moveTo>
                  <a:pt x="32" y="904"/>
                </a:moveTo>
                <a:lnTo>
                  <a:pt x="5824" y="904"/>
                </a:lnTo>
                <a:lnTo>
                  <a:pt x="5816" y="0"/>
                </a:lnTo>
                <a:lnTo>
                  <a:pt x="0" y="0"/>
                </a:lnTo>
              </a:path>
            </a:pathLst>
          </a:custGeom>
          <a:solidFill>
            <a:srgbClr val="ff66ff">
              <a:alpha val="30000"/>
            </a:srgbClr>
          </a:solidFill>
          <a:ln w="9525">
            <a:solidFill>
              <a:srgbClr val="fbee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Freeform 113"/>
          <p:cNvSpPr/>
          <p:nvPr/>
        </p:nvSpPr>
        <p:spPr>
          <a:xfrm>
            <a:off x="4238640" y="285840"/>
            <a:ext cx="4500360" cy="571320"/>
          </a:xfrm>
          <a:custGeom>
            <a:avLst/>
            <a:gdLst>
              <a:gd name="textAreaLeft" fmla="*/ 0 w 4500360"/>
              <a:gd name="textAreaRight" fmla="*/ 4500720 w 45003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5824" h="904">
                <a:moveTo>
                  <a:pt x="32" y="904"/>
                </a:moveTo>
                <a:lnTo>
                  <a:pt x="5824" y="904"/>
                </a:lnTo>
                <a:lnTo>
                  <a:pt x="5816" y="0"/>
                </a:lnTo>
                <a:lnTo>
                  <a:pt x="0" y="0"/>
                </a:lnTo>
              </a:path>
            </a:pathLst>
          </a:custGeom>
          <a:solidFill>
            <a:schemeClr val="tx2">
              <a:lumMod val="40000"/>
              <a:lumOff val="60000"/>
              <a:alpha val="30000"/>
            </a:schemeClr>
          </a:solidFill>
          <a:ln w="9525">
            <a:solidFill>
              <a:srgbClr val="fbee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Num" idx="28"/>
          </p:nvPr>
        </p:nvSpPr>
        <p:spPr>
          <a:xfrm>
            <a:off x="8534520" y="64929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6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9992EF-6EC4-47A6-8681-887433B0AF97}" type="slidenum"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Рисунок 1" descr=""/>
          <p:cNvPicPr/>
          <p:nvPr/>
        </p:nvPicPr>
        <p:blipFill>
          <a:blip r:embed="rId1"/>
          <a:srcRect l="18773" t="16929" r="16609" b="6388"/>
          <a:stretch/>
        </p:blipFill>
        <p:spPr>
          <a:xfrm>
            <a:off x="805320" y="245520"/>
            <a:ext cx="10549440" cy="65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41760" y="1803240"/>
            <a:ext cx="10249200" cy="182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000" spc="-1" strike="noStrike" cap="all">
                <a:solidFill>
                  <a:srgbClr val="c00000"/>
                </a:solidFill>
                <a:latin typeface="Arial Black"/>
              </a:rPr>
              <a:t>Задачи о дачном участке (ОГЭ, задачи 1-5)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ldNum" idx="29"/>
          </p:nvPr>
        </p:nvSpPr>
        <p:spPr>
          <a:xfrm>
            <a:off x="807732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6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32D246-C358-4B11-A928-1E6B4A9AF317}" type="slidenum"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738440" y="274680"/>
            <a:ext cx="8472240" cy="301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</a:pP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38800" y="0"/>
            <a:ext cx="44287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На плане изображен дачный участок по адресу: СНТ Рассвет, ул. Морская, 7 (сторона каждой клетки на плане равна 2 м). </a:t>
            </a:r>
            <a:r>
              <a:rPr b="1" lang="ru-RU" sz="2600" spc="-1" strike="noStrike" u="sng">
                <a:solidFill>
                  <a:srgbClr val="009900"/>
                </a:solidFill>
                <a:uFillTx/>
                <a:latin typeface="Century Gothic"/>
              </a:rPr>
              <a:t>Участок имеет прямоугольную форму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. Въезд и выезд осуществляется через единственные ворота. </a:t>
            </a:r>
            <a:endParaRPr b="0" lang="ru-RU" sz="2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600" spc="-1" strike="noStrike" u="sng">
                <a:solidFill>
                  <a:srgbClr val="009900"/>
                </a:solidFill>
                <a:uFillTx/>
                <a:latin typeface="Century Gothic"/>
              </a:rPr>
              <a:t>Площадь, занятая жилым домом, равна 64 кв. м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. Помимо жилого дома, </a:t>
            </a:r>
            <a:r>
              <a:rPr b="1" lang="ru-RU" sz="2600" spc="-1" strike="noStrike">
                <a:solidFill>
                  <a:srgbClr val="009900"/>
                </a:solidFill>
                <a:latin typeface="Century Gothic"/>
              </a:rPr>
              <a:t>на участке есть баня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, к которой ведет дорожка, выложенная специальным садовым покрытием. </a:t>
            </a:r>
            <a:r>
              <a:rPr b="1" lang="ru-RU" sz="2600" spc="-1" strike="noStrike" u="sng">
                <a:solidFill>
                  <a:srgbClr val="009900"/>
                </a:solidFill>
                <a:uFillTx/>
                <a:latin typeface="Century Gothic"/>
              </a:rPr>
              <a:t>Между жилым домом и баней находится цветник с теплицей. Теплица отмечена на плане цифрой 3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ru-RU" sz="2600" spc="-1" strike="noStrike">
              <a:solidFill>
                <a:srgbClr val="000000"/>
              </a:solidFill>
              <a:latin typeface="Century Gothic"/>
            </a:endParaRPr>
          </a:p>
          <a:p>
            <a:pPr marL="208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4723560" cy="3357360"/>
          </a:xfrm>
          <a:prstGeom prst="rect">
            <a:avLst/>
          </a:prstGeom>
          <a:ln w="9525">
            <a:noFill/>
          </a:ln>
        </p:spPr>
      </p:pic>
      <p:sp>
        <p:nvSpPr>
          <p:cNvPr id="390" name="Прямоугольник 7"/>
          <p:cNvSpPr/>
          <p:nvPr/>
        </p:nvSpPr>
        <p:spPr>
          <a:xfrm>
            <a:off x="1738440" y="3786120"/>
            <a:ext cx="8715240" cy="33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000" spc="-1" strike="noStrike" u="sng">
                <a:solidFill>
                  <a:srgbClr val="009900"/>
                </a:solidFill>
                <a:uFillTx/>
                <a:latin typeface="Century Gothic"/>
              </a:rPr>
              <a:t>Напротив жилого дома находится бак с водой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для полива растений, за ним плодово-ягодные кустарники. В глубине участка есть </a:t>
            </a:r>
            <a:r>
              <a:rPr b="1" lang="ru-RU" sz="2000" spc="-1" strike="noStrike" u="sng">
                <a:solidFill>
                  <a:srgbClr val="009900"/>
                </a:solidFill>
                <a:uFillTx/>
                <a:latin typeface="Century Gothic"/>
              </a:rPr>
              <a:t>огород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 для выращивания овощей, </a:t>
            </a:r>
            <a:r>
              <a:rPr b="1" lang="ru-RU" sz="2000" spc="-1" strike="noStrike" u="sng">
                <a:solidFill>
                  <a:srgbClr val="009900"/>
                </a:solidFill>
                <a:uFillTx/>
                <a:latin typeface="Century Gothic"/>
              </a:rPr>
              <a:t>отмеченный цифрой 6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Все </a:t>
            </a:r>
            <a:r>
              <a:rPr b="1" lang="ru-RU" sz="2000" spc="-1" strike="noStrike" u="sng">
                <a:solidFill>
                  <a:srgbClr val="009900"/>
                </a:solidFill>
                <a:uFillTx/>
                <a:latin typeface="Century Gothic"/>
              </a:rPr>
              <a:t>дорожки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внутри </a:t>
            </a:r>
            <a:r>
              <a:rPr b="1" lang="ru-RU" sz="2000" spc="-1" strike="noStrike" u="sng">
                <a:solidFill>
                  <a:srgbClr val="009900"/>
                </a:solidFill>
                <a:uFillTx/>
                <a:latin typeface="Century Gothic"/>
              </a:rPr>
              <a:t>участка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 имеют </a:t>
            </a:r>
            <a:r>
              <a:rPr b="1" lang="ru-RU" sz="2000" spc="-1" strike="noStrike" u="sng">
                <a:solidFill>
                  <a:srgbClr val="009900"/>
                </a:solidFill>
                <a:uFillTx/>
                <a:latin typeface="Century Gothic"/>
              </a:rPr>
              <a:t>ширину 1 м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и застелены садовым покрытием, состоящим </a:t>
            </a:r>
            <a:r>
              <a:rPr b="1" lang="ru-RU" sz="2000" spc="-1" strike="noStrike">
                <a:solidFill>
                  <a:srgbClr val="009900"/>
                </a:solidFill>
                <a:latin typeface="Century Gothic"/>
              </a:rPr>
              <a:t>из плит размером 1м х 1м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. </a:t>
            </a:r>
            <a:r>
              <a:rPr b="1" lang="ru-RU" sz="2000" spc="-1" strike="noStrike">
                <a:solidFill>
                  <a:srgbClr val="009900"/>
                </a:solidFill>
                <a:latin typeface="Century Gothic"/>
              </a:rPr>
              <a:t>Площадка вокруг дома выложена плитами такого же размера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, но другой фактуры и ц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К дачному участку проведено электричество. Имеется магистральное газоснабжение.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8763120" y="38088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6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8D1C5B-CCCA-4446-9553-A820D3C4888A}" type="slidenum"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981080" y="274680"/>
            <a:ext cx="8229240" cy="82080"/>
          </a:xfrm>
          <a:prstGeom prst="rect">
            <a:avLst/>
          </a:prstGeom>
          <a:noFill/>
          <a:ln w="0">
            <a:noFill/>
          </a:ln>
        </p:spPr>
        <p:txBody>
          <a:bodyPr tIns="41040" bIns="41040" anchor="ctr">
            <a:norm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952640" y="214200"/>
            <a:ext cx="8500680" cy="178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Для объектов, указанных в таблице, определите, 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какими цифрами они обозначены на план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Заполните таблицу, 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в бланк ответ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еренесите последовательность 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четырех цифр без пробелов, запятых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других дополнительных символо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1952640" y="3571920"/>
            <a:ext cx="214272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твет :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1254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395" name="Таблица 4"/>
          <p:cNvGraphicFramePr/>
          <p:nvPr/>
        </p:nvGraphicFramePr>
        <p:xfrm>
          <a:off x="1809720" y="2214720"/>
          <a:ext cx="8500680" cy="1194480"/>
        </p:xfrm>
        <a:graphic>
          <a:graphicData uri="http://schemas.openxmlformats.org/drawingml/2006/table">
            <a:tbl>
              <a:tblPr/>
              <a:tblGrid>
                <a:gridCol w="2214360"/>
                <a:gridCol w="1500120"/>
                <a:gridCol w="1857240"/>
                <a:gridCol w="1571400"/>
                <a:gridCol w="13572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75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ой д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75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75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к с вод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75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75000"/>
                      </a:schemeClr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иф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d5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d5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d5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d5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d5cd"/>
                    </a:solidFill>
                  </a:tcPr>
                </a:tc>
              </a:tr>
            </a:tbl>
          </a:graphicData>
        </a:graphic>
      </p:graphicFrame>
      <p:sp>
        <p:nvSpPr>
          <p:cNvPr id="396" name="Содержимое 3"/>
          <p:cNvSpPr/>
          <p:nvPr/>
        </p:nvSpPr>
        <p:spPr>
          <a:xfrm>
            <a:off x="1881000" y="4000680"/>
            <a:ext cx="83577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литы для садовых дорожек продаются 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в упаковке по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 6 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шту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Сколько упаковок плит понадобилос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чтобы выложить 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все дорожки и площадку вокруг дом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Содержимое 3"/>
          <p:cNvSpPr/>
          <p:nvPr/>
        </p:nvSpPr>
        <p:spPr>
          <a:xfrm>
            <a:off x="1738440" y="5143680"/>
            <a:ext cx="892944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24000"/>
          </a:bodyPr>
          <a:p>
            <a:pPr marL="329040" indent="-329040">
              <a:lnSpc>
                <a:spcPct val="100000"/>
              </a:lnSpc>
              <a:spcBef>
                <a:spcPts val="1919"/>
              </a:spcBef>
              <a:tabLst>
                <a:tab algn="l" pos="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Решение:   </a:t>
            </a: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дорожка от дома до бани имеет 22 плитки , дорожка от дома кустарников – 8 плиток,  площадка вокруг дома 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14 ∙ 11 – 8∙ 8 = 154-64 = 90 . Итого: 30 + 90 =120 плито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120:6 = 20 упаково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Содержимое 3"/>
          <p:cNvSpPr/>
          <p:nvPr/>
        </p:nvSpPr>
        <p:spPr>
          <a:xfrm>
            <a:off x="8096400" y="6143760"/>
            <a:ext cx="21427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79000"/>
          </a:bodyPr>
          <a:p>
            <a:pPr marL="292680" indent="-2926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вет :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sldNum" idx="31"/>
          </p:nvPr>
        </p:nvSpPr>
        <p:spPr>
          <a:xfrm>
            <a:off x="8763120" y="38088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600" spc="-1" strike="noStrike">
                <a:solidFill>
                  <a:srgbClr val="a6a6a6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9E5F57-6521-4B7D-A035-DCF97331E703}" type="slidenum">
              <a:rPr b="1" lang="ru-RU" sz="1600" spc="-1" strike="noStrike">
                <a:solidFill>
                  <a:srgbClr val="a6a6a6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981080" y="274680"/>
            <a:ext cx="8229240" cy="45360"/>
          </a:xfrm>
          <a:prstGeom prst="rect">
            <a:avLst/>
          </a:prstGeom>
          <a:noFill/>
          <a:ln w="0">
            <a:noFill/>
          </a:ln>
        </p:spPr>
        <p:txBody>
          <a:bodyPr tIns="22680" bIns="22680" anchor="ctr">
            <a:norm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881000" y="1149840"/>
            <a:ext cx="9465480" cy="14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1947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Найдите </a:t>
            </a: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площадь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бани. Ответ дайте в </a:t>
            </a: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квадратных метрах.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marL="1947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Решение: 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</a:rPr>
              <a:t>S</a:t>
            </a:r>
            <a:r>
              <a:rPr b="1" lang="ru-RU" sz="2200" spc="-1" strike="noStrike">
                <a:solidFill>
                  <a:srgbClr val="0070c0"/>
                </a:solidFill>
                <a:latin typeface="Times New Roman"/>
              </a:rPr>
              <a:t> = 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</a:rPr>
              <a:t>a</a:t>
            </a:r>
            <a:r>
              <a:rPr b="1" lang="ru-RU" sz="2200" spc="-1" strike="noStrike" baseline="30000">
                <a:solidFill>
                  <a:srgbClr val="0070c0"/>
                </a:solidFill>
                <a:latin typeface="Times New Roman"/>
              </a:rPr>
              <a:t>2 </a:t>
            </a:r>
            <a:r>
              <a:rPr b="1" lang="ru-RU" sz="2200" spc="-1" strike="noStrike">
                <a:solidFill>
                  <a:srgbClr val="0070c0"/>
                </a:solidFill>
                <a:latin typeface="Times New Roman"/>
              </a:rPr>
              <a:t>= 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</a:rPr>
              <a:t>a </a:t>
            </a:r>
            <a:r>
              <a:rPr b="1" lang="ru-RU" sz="2200" spc="-1" strike="noStrike">
                <a:solidFill>
                  <a:srgbClr val="0070c0"/>
                </a:solidFill>
                <a:latin typeface="Century Gothic"/>
              </a:rPr>
              <a:t>∙</a:t>
            </a:r>
            <a:r>
              <a:rPr b="1" lang="en-US" sz="2200" spc="-1" strike="noStrike">
                <a:solidFill>
                  <a:srgbClr val="0070c0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0070c0"/>
                </a:solidFill>
                <a:latin typeface="Times New Roman"/>
              </a:rPr>
              <a:t>а</a:t>
            </a:r>
            <a:r>
              <a:rPr b="1" lang="ru-RU" sz="2200" spc="-1" strike="noStrike">
                <a:solidFill>
                  <a:srgbClr val="0070c0"/>
                </a:solidFill>
                <a:latin typeface="Century Gothic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entury Gothic"/>
              </a:rPr>
              <a:t>–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площадь квадрата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marL="1947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Times New Roman"/>
              </a:rPr>
              <a:t>1 кл=2м, значит а= 6м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marL="1947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Times New Roman"/>
              </a:rPr>
              <a:t>бани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= 6</a:t>
            </a: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 х 6 =36 м</a:t>
            </a:r>
            <a:r>
              <a:rPr b="1" lang="ru-RU" sz="2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809720" y="2786040"/>
            <a:ext cx="86436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4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йдите </a:t>
            </a: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суммарную площадь плитк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 прямоугольной площадке вокруг дома. </a:t>
            </a: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Ответ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дайте </a:t>
            </a: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в квадратных метрах.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</a:rPr>
              <a:t> S</a:t>
            </a:r>
            <a:r>
              <a:rPr b="1" lang="ru-RU" sz="2200" spc="-1" strike="noStrike">
                <a:solidFill>
                  <a:srgbClr val="0070c0"/>
                </a:solidFill>
                <a:latin typeface="Times New Roman"/>
              </a:rPr>
              <a:t> = 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</a:rPr>
              <a:t>a </a:t>
            </a:r>
            <a:r>
              <a:rPr b="1" lang="ru-RU" sz="2200" spc="-1" strike="noStrike">
                <a:solidFill>
                  <a:srgbClr val="0070c0"/>
                </a:solidFill>
                <a:latin typeface="Century Gothic"/>
              </a:rPr>
              <a:t>∙</a:t>
            </a:r>
            <a:r>
              <a:rPr b="1" lang="en-US" sz="2200" spc="-1" strike="noStrike">
                <a:solidFill>
                  <a:srgbClr val="0070c0"/>
                </a:solidFill>
                <a:latin typeface="Century Gothic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</a:rPr>
              <a:t>b</a:t>
            </a:r>
            <a:r>
              <a:rPr b="1" lang="ru-RU" sz="2200" spc="-1" strike="noStrike">
                <a:solidFill>
                  <a:srgbClr val="0070c0"/>
                </a:solidFill>
                <a:latin typeface="Century Gothic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entury Gothic"/>
              </a:rPr>
              <a:t>–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площадь прямоугольника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marL="246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Times New Roman"/>
              </a:rPr>
              <a:t>1 кл=2м ;1 кл=2плиткам по 1м, значит а= 14м, </a:t>
            </a:r>
            <a:r>
              <a:rPr b="1" i="1" lang="en-US" sz="2400" spc="-1" strike="noStrike">
                <a:solidFill>
                  <a:srgbClr val="00b050"/>
                </a:solidFill>
                <a:latin typeface="Times New Roman"/>
              </a:rPr>
              <a:t>b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</a:rPr>
              <a:t> = 11м, 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marL="246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Times New Roman"/>
              </a:rPr>
              <a:t>дом –квадрат, сторона = 4∙2м=8м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Times New Roman"/>
              </a:rPr>
              <a:t>площадк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= 14 х 11 - 8 х 8 = 90 м</a:t>
            </a:r>
            <a:r>
              <a:rPr b="1" lang="ru-RU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rcRect l="0" t="0" r="75794" b="72332"/>
          <a:stretch/>
        </p:blipFill>
        <p:spPr>
          <a:xfrm>
            <a:off x="9965880" y="757800"/>
            <a:ext cx="1856880" cy="1508760"/>
          </a:xfrm>
          <a:prstGeom prst="rect">
            <a:avLst/>
          </a:prstGeom>
          <a:ln w="9525">
            <a:noFill/>
          </a:ln>
        </p:spPr>
      </p:pic>
      <p:sp>
        <p:nvSpPr>
          <p:cNvPr id="404" name="Содержимое 3"/>
          <p:cNvSpPr/>
          <p:nvPr/>
        </p:nvSpPr>
        <p:spPr>
          <a:xfrm>
            <a:off x="7024680" y="2133720"/>
            <a:ext cx="214272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1000"/>
          </a:bodyPr>
          <a:p>
            <a:pPr marL="300240" indent="-30024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вет :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2"/>
          <a:srcRect l="0" t="57435" r="62186" b="10635"/>
          <a:stretch/>
        </p:blipFill>
        <p:spPr>
          <a:xfrm>
            <a:off x="1551600" y="4539240"/>
            <a:ext cx="2738160" cy="1711080"/>
          </a:xfrm>
          <a:prstGeom prst="rect">
            <a:avLst/>
          </a:prstGeom>
          <a:ln w="9525">
            <a:noFill/>
          </a:ln>
        </p:spPr>
      </p:pic>
      <p:sp>
        <p:nvSpPr>
          <p:cNvPr id="406" name="Содержимое 3"/>
          <p:cNvSpPr/>
          <p:nvPr/>
        </p:nvSpPr>
        <p:spPr>
          <a:xfrm>
            <a:off x="7238880" y="5929200"/>
            <a:ext cx="21427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79000"/>
          </a:bodyPr>
          <a:p>
            <a:pPr marL="292680" indent="-2926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вет :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32"/>
          </p:nvPr>
        </p:nvSpPr>
        <p:spPr>
          <a:xfrm>
            <a:off x="8763120" y="38088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600" spc="-1" strike="noStrike">
                <a:solidFill>
                  <a:srgbClr val="a6a6a6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28645D-60F6-432A-9C8B-B5122C1CAAC1}" type="slidenum">
              <a:rPr b="1" lang="ru-RU" sz="1600" spc="-1" strike="noStrike">
                <a:solidFill>
                  <a:srgbClr val="a6a6a6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981080" y="274680"/>
            <a:ext cx="8229240" cy="82080"/>
          </a:xfrm>
          <a:prstGeom prst="rect">
            <a:avLst/>
          </a:prstGeom>
          <a:noFill/>
          <a:ln w="0">
            <a:noFill/>
          </a:ln>
        </p:spPr>
        <p:txBody>
          <a:bodyPr tIns="41040" bIns="41040" anchor="ctr">
            <a:norm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738440" y="0"/>
            <a:ext cx="8500680" cy="185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5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зяин участка планирует установить в жилом доме 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систему отопле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Он рассматривает два варианта: 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электрическое и газовое отопле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Цены на оборудование  и стоимость его установки, данные о расходе газа, электроэнергии и их стоимости даны в таблице. 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1809720" y="5143680"/>
            <a:ext cx="832932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думав оба варианта, хозяин решил установить газовое оборудование. </a:t>
            </a:r>
            <a:r>
              <a:rPr b="1" lang="ru-RU" sz="2200" spc="-1" strike="noStrike" u="sng">
                <a:solidFill>
                  <a:srgbClr val="009900"/>
                </a:solidFill>
                <a:uFillTx/>
                <a:latin typeface="Times New Roman"/>
              </a:rPr>
              <a:t>Через сколько часов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прерывной работы отопления экономия от использования газа вместо электричества </a:t>
            </a:r>
            <a:r>
              <a:rPr b="1" lang="ru-RU" sz="2200" spc="-1" strike="noStrike" u="sng">
                <a:solidFill>
                  <a:srgbClr val="009900"/>
                </a:solidFill>
                <a:uFillTx/>
                <a:latin typeface="Times New Roman"/>
              </a:rPr>
              <a:t>компенсирует разницу в стоимост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становки газового и электрического оборудования?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411" name="Таблица 7"/>
          <p:cNvGraphicFramePr/>
          <p:nvPr/>
        </p:nvGraphicFramePr>
        <p:xfrm>
          <a:off x="1952640" y="1785960"/>
          <a:ext cx="8500680" cy="3032640"/>
        </p:xfrm>
        <a:graphic>
          <a:graphicData uri="http://schemas.openxmlformats.org/drawingml/2006/table">
            <a:tbl>
              <a:tblPr/>
              <a:tblGrid>
                <a:gridCol w="2000160"/>
                <a:gridCol w="1500120"/>
                <a:gridCol w="1571400"/>
                <a:gridCol w="1571400"/>
                <a:gridCol w="185724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оп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75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гре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котел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75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ее оборуд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монта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75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. расход газа/ средн. потребл. мощ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75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оимость газа/ элект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нер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75000"/>
                      </a:schemeClr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зовое отоп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d5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тыс. 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d5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12 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d5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 куб. м/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d5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4 руб.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б. 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d5cd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кт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оп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4eb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тыс. 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4eb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 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4eb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7 кВ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4eb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2 руб.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кВт ∙ 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4ebe7"/>
                    </a:solidFill>
                  </a:tcPr>
                </a:tc>
              </a:tr>
            </a:tbl>
          </a:graphicData>
        </a:graphic>
      </p:graphicFrame>
      <p:sp>
        <p:nvSpPr>
          <p:cNvPr id="412" name="PlaceHolder 4"/>
          <p:cNvSpPr>
            <a:spLocks noGrp="1"/>
          </p:cNvSpPr>
          <p:nvPr>
            <p:ph type="sldNum" idx="33"/>
          </p:nvPr>
        </p:nvSpPr>
        <p:spPr>
          <a:xfrm>
            <a:off x="8534520" y="62866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6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572C0E-751B-46DB-91F9-8D90FF8F8A35}" type="slidenum"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1738440" y="3571920"/>
            <a:ext cx="892944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03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Решение: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тоимость оборудования и монтажа: 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marL="2203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22000 +16412= 38412 руб. - газ ; 18000 + 12000 = 30000 руб. электр. отоп.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marL="2203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200" spc="-1" strike="noStrike" u="sng">
                <a:solidFill>
                  <a:srgbClr val="00b050"/>
                </a:solidFill>
                <a:uFillTx/>
                <a:latin typeface="Times New Roman"/>
              </a:rPr>
              <a:t>Разница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между стоимостью установки: 38412 – 30000 = </a:t>
            </a:r>
            <a:r>
              <a:rPr b="1" lang="ru-RU" sz="2200" spc="-1" strike="noStrike">
                <a:solidFill>
                  <a:srgbClr val="00b050"/>
                </a:solidFill>
                <a:latin typeface="Times New Roman"/>
              </a:rPr>
              <a:t>8412 руб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marL="2203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200" spc="-1" strike="noStrike" u="sng">
                <a:solidFill>
                  <a:srgbClr val="009900"/>
                </a:solidFill>
                <a:uFillTx/>
                <a:latin typeface="Times New Roman"/>
              </a:rPr>
              <a:t>Расход 1 часа обогрева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: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,3 куб. м/ч ∙ 4,4 руб./ куб. м =5,72 руб./ч –газ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marL="2203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4,7 руб./ куб. м ∙ 4,2 руб./(кВт ∙ ч) = 19,74 руб./ч  - электриче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с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тво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marL="2203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200" spc="-1" strike="noStrike" u="sng">
                <a:solidFill>
                  <a:srgbClr val="00b050"/>
                </a:solidFill>
                <a:uFillTx/>
                <a:latin typeface="Times New Roman"/>
              </a:rPr>
              <a:t>Разница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между стоимостью потребления </a:t>
            </a:r>
            <a:r>
              <a:rPr b="1" lang="ru-RU" sz="2200" spc="-1" strike="noStrike" u="sng">
                <a:solidFill>
                  <a:srgbClr val="009900"/>
                </a:solidFill>
                <a:uFillTx/>
                <a:latin typeface="Times New Roman"/>
              </a:rPr>
              <a:t>за 1 час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: 19,74 - 5,72 = </a:t>
            </a:r>
            <a:r>
              <a:rPr b="1" lang="ru-RU" sz="2200" spc="-1" strike="noStrike">
                <a:solidFill>
                  <a:srgbClr val="00b050"/>
                </a:solidFill>
                <a:latin typeface="Times New Roman"/>
              </a:rPr>
              <a:t>14,02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b050"/>
                </a:solidFill>
                <a:latin typeface="Times New Roman"/>
              </a:rPr>
              <a:t>руб./ч 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marL="2203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Через сколько часов экономия от использования газа компенсирует затраты: 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marL="2203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8412 руб. : 14,02 руб./ч  = 600ч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marL="2203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marL="2203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marL="2203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marL="2203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marL="2203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414" name="Таблица 4"/>
          <p:cNvGraphicFramePr/>
          <p:nvPr/>
        </p:nvGraphicFramePr>
        <p:xfrm>
          <a:off x="1809720" y="285840"/>
          <a:ext cx="8500680" cy="3032640"/>
        </p:xfrm>
        <a:graphic>
          <a:graphicData uri="http://schemas.openxmlformats.org/drawingml/2006/table">
            <a:tbl>
              <a:tblPr/>
              <a:tblGrid>
                <a:gridCol w="2000160"/>
                <a:gridCol w="1500120"/>
                <a:gridCol w="1571400"/>
                <a:gridCol w="1571400"/>
                <a:gridCol w="185724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оп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75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гре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котел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75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ее оборуд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монта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75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. расход газа/ средн. потребл. мощ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75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оимость газа/ элект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нер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75000"/>
                      </a:schemeClr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зовое отоп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d5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тыс. 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d5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12 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d5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 куб. м/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d5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4 руб.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б. 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d5cd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кт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оп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4eb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тыс. 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4eb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 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4eb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7 кВ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4eb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2 руб.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кВт ∙ 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4ebe7"/>
                    </a:solidFill>
                  </a:tcPr>
                </a:tc>
              </a:tr>
            </a:tbl>
          </a:graphicData>
        </a:graphic>
      </p:graphicFrame>
      <p:sp>
        <p:nvSpPr>
          <p:cNvPr id="415" name="Содержимое 3"/>
          <p:cNvSpPr/>
          <p:nvPr/>
        </p:nvSpPr>
        <p:spPr>
          <a:xfrm>
            <a:off x="7810560" y="6215040"/>
            <a:ext cx="21427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79000"/>
          </a:bodyPr>
          <a:p>
            <a:pPr marL="292680" indent="-2926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вет :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ldNum" idx="34"/>
          </p:nvPr>
        </p:nvSpPr>
        <p:spPr>
          <a:xfrm>
            <a:off x="8534520" y="64929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6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58F016-7653-42A7-A6EC-76740EBA8FD7}" type="slidenum"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рямоугольник 1"/>
          <p:cNvSpPr/>
          <p:nvPr/>
        </p:nvSpPr>
        <p:spPr>
          <a:xfrm>
            <a:off x="435960" y="2428920"/>
            <a:ext cx="108738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c00000"/>
                </a:solidFill>
                <a:latin typeface="Arial Black"/>
              </a:rPr>
              <a:t>Задачи про ши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c00000"/>
                </a:solidFill>
                <a:latin typeface="Arial Black"/>
              </a:rPr>
              <a:t>(ОГЭ, задачи 1-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Num" idx="35"/>
          </p:nvPr>
        </p:nvSpPr>
        <p:spPr>
          <a:xfrm>
            <a:off x="8763120" y="38088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05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F0AD1D-5E2E-4E68-AE38-88B3A75CAD36}" type="slidenum">
              <a:rPr b="1" lang="ru-RU" sz="105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Прямоугольник 1"/>
          <p:cNvSpPr/>
          <p:nvPr/>
        </p:nvSpPr>
        <p:spPr>
          <a:xfrm>
            <a:off x="1809720" y="285840"/>
            <a:ext cx="86436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ля маркировки автомобильных шин применяется единая система обозначений (см. рис. 1</a:t>
            </a: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). Первое числ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значает </a:t>
            </a: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ширину 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ины </a:t>
            </a: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(ширину протектор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 в миллиметрах (см. рис.2).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Второе число — 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</a:rPr>
              <a:t>высота боковин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в процентах 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</a:rPr>
              <a:t>к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</a:rPr>
              <a:t>ширине шин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3" descr=""/>
          <p:cNvPicPr/>
          <p:nvPr/>
        </p:nvPicPr>
        <p:blipFill>
          <a:blip r:embed="rId1"/>
          <a:stretch/>
        </p:blipFill>
        <p:spPr>
          <a:xfrm>
            <a:off x="8024760" y="1285920"/>
            <a:ext cx="2285640" cy="3215880"/>
          </a:xfrm>
          <a:prstGeom prst="rect">
            <a:avLst/>
          </a:prstGeom>
          <a:ln w="9525">
            <a:noFill/>
          </a:ln>
        </p:spPr>
      </p:pic>
      <p:sp>
        <p:nvSpPr>
          <p:cNvPr id="421" name="Прямоугольник 4"/>
          <p:cNvSpPr/>
          <p:nvPr/>
        </p:nvSpPr>
        <p:spPr>
          <a:xfrm>
            <a:off x="1809720" y="1502640"/>
            <a:ext cx="857232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ледующая буква означ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нструкцию ши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пример, 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буква  R значи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что шина радиальна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о есть нити каркаса в боковине шины расположе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доль  радиусов колеса. На всех легковых автомобил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меняются шины радиальной конструкции </a:t>
            </a:r>
            <a:r>
              <a:rPr b="1" lang="ru-RU" sz="1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обозначением типа конструкции шины идёт  чис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указывающее диаметр диска колеса в дюйм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1800" spc="-1" strike="noStrike" u="sng">
                <a:solidFill>
                  <a:srgbClr val="009900"/>
                </a:solidFill>
                <a:uFillTx/>
                <a:latin typeface="Times New Roman"/>
              </a:rPr>
              <a:t>в одном дюйме 25,4 м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. По сути, это диаметр  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нутреннего отверстия в шине. Таким образ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щий диаметр колеса D легко найти, зная диаметр диска и  высоту бокови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Последний символ в маркировке — индекс скоро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Возможны дополнительные маркировки, означающие допустимую нагрузку на шину, сезонность использования и тип дорожного покрытия, где рекомендуется использовать ш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вод производит автомобили и устанавливает на них шины с маркировкой: </a:t>
            </a:r>
            <a:r>
              <a:rPr b="1" lang="ru-RU" sz="1800" spc="-1" strike="noStrike" u="sng">
                <a:solidFill>
                  <a:srgbClr val="006600"/>
                </a:solidFill>
                <a:uFillTx/>
                <a:latin typeface="Times New Roman"/>
              </a:rPr>
              <a:t>225/60 R18</a:t>
            </a: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вод допускает установку шин с другими маркировками. В таблице показаны разрешённые размеры ш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Рисунок 5" descr=""/>
          <p:cNvPicPr/>
          <p:nvPr/>
        </p:nvPicPr>
        <p:blipFill>
          <a:blip r:embed="rId2">
            <a:grayscl/>
          </a:blip>
          <a:srcRect l="43419" t="986" r="0" b="82006"/>
          <a:stretch/>
        </p:blipFill>
        <p:spPr>
          <a:xfrm>
            <a:off x="5024520" y="1357200"/>
            <a:ext cx="3114360" cy="818640"/>
          </a:xfrm>
          <a:prstGeom prst="rect">
            <a:avLst/>
          </a:prstGeom>
          <a:ln w="9525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sldNum" idx="36"/>
          </p:nvPr>
        </p:nvSpPr>
        <p:spPr>
          <a:xfrm>
            <a:off x="8534520" y="64929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6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67AA8F-3631-4202-9939-8FAFED527114}" type="slidenum"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3" descr=""/>
          <p:cNvPicPr/>
          <p:nvPr/>
        </p:nvPicPr>
        <p:blipFill>
          <a:blip r:embed="rId1"/>
          <a:stretch/>
        </p:blipFill>
        <p:spPr>
          <a:xfrm>
            <a:off x="1523880" y="0"/>
            <a:ext cx="2285640" cy="321588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425" name="Таблица 5"/>
          <p:cNvGraphicFramePr/>
          <p:nvPr/>
        </p:nvGraphicFramePr>
        <p:xfrm>
          <a:off x="1952640" y="4071960"/>
          <a:ext cx="8357760" cy="2293920"/>
        </p:xfrm>
        <a:graphic>
          <a:graphicData uri="http://schemas.openxmlformats.org/drawingml/2006/table">
            <a:tbl>
              <a:tblPr/>
              <a:tblGrid>
                <a:gridCol w="2052720"/>
                <a:gridCol w="1375920"/>
                <a:gridCol w="2071440"/>
                <a:gridCol w="1428480"/>
                <a:gridCol w="1428480"/>
              </a:tblGrid>
              <a:tr h="8384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аметр ди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дюйм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ны(м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4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4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4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4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4">
                        <a:lumMod val="40000"/>
                        <a:lumOff val="60000"/>
                      </a:schemeClr>
                    </a:solidFill>
                  </a:tcPr>
                </a:tc>
              </a:tr>
              <a:tr h="433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d5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/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d5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/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d5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раз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d5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раз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d5cd"/>
                    </a:solidFill>
                  </a:tcPr>
                </a:tc>
              </a:tr>
              <a:tr h="433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4eb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/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4eb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/55, 225/6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4eb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/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4eb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раз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4ebe7"/>
                    </a:solidFill>
                  </a:tcPr>
                </a:tc>
              </a:tr>
              <a:tr h="433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d5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раз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d5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/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d5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/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d5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/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d5cd"/>
                    </a:solidFill>
                  </a:tcPr>
                </a:tc>
              </a:tr>
            </a:tbl>
          </a:graphicData>
        </a:graphic>
      </p:graphicFrame>
      <p:cxnSp>
        <p:nvCxnSpPr>
          <p:cNvPr id="426" name="Прямая соединительная линия 7"/>
          <p:cNvCxnSpPr/>
          <p:nvPr/>
        </p:nvCxnSpPr>
        <p:spPr>
          <a:xfrm>
            <a:off x="1952280" y="4071600"/>
            <a:ext cx="2072160" cy="1072080"/>
          </a:xfrm>
          <a:prstGeom prst="straightConnector1">
            <a:avLst/>
          </a:prstGeom>
          <a:ln w="19050">
            <a:solidFill>
              <a:srgbClr val="000000"/>
            </a:solidFill>
            <a:round/>
          </a:ln>
        </p:spPr>
      </p:cxnSp>
      <p:pic>
        <p:nvPicPr>
          <p:cNvPr id="427" name="Рисунок 11" descr="https://ds05.infourok.ru/uploads/ex/1199/00020d68-e5b4edce/img6.jpg"/>
          <p:cNvPicPr/>
          <p:nvPr/>
        </p:nvPicPr>
        <p:blipFill>
          <a:blip r:embed="rId2"/>
          <a:srcRect l="0" t="0" r="2484" b="0"/>
          <a:stretch/>
        </p:blipFill>
        <p:spPr>
          <a:xfrm>
            <a:off x="4595760" y="0"/>
            <a:ext cx="6071760" cy="4071600"/>
          </a:xfrm>
          <a:prstGeom prst="rect">
            <a:avLst/>
          </a:prstGeom>
          <a:ln w="9525">
            <a:noFill/>
          </a:ln>
        </p:spPr>
      </p:pic>
      <p:pic>
        <p:nvPicPr>
          <p:cNvPr id="428" name="Рисунок 12" descr=""/>
          <p:cNvPicPr/>
          <p:nvPr/>
        </p:nvPicPr>
        <p:blipFill>
          <a:blip r:embed="rId3">
            <a:grayscl/>
          </a:blip>
          <a:srcRect l="43419" t="986" r="0" b="82006"/>
          <a:stretch/>
        </p:blipFill>
        <p:spPr>
          <a:xfrm>
            <a:off x="1523880" y="3214800"/>
            <a:ext cx="3114360" cy="818640"/>
          </a:xfrm>
          <a:prstGeom prst="rect">
            <a:avLst/>
          </a:prstGeom>
          <a:ln w="9525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9239D-2664-4132-BACE-9DFBFE0C667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Прямоугольник 1"/>
          <p:cNvSpPr/>
          <p:nvPr/>
        </p:nvSpPr>
        <p:spPr>
          <a:xfrm>
            <a:off x="1881000" y="0"/>
            <a:ext cx="85723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Какой </a:t>
            </a:r>
            <a:r>
              <a:rPr b="1" lang="ru-RU" sz="2400" spc="-1" strike="noStrike" u="sng">
                <a:solidFill>
                  <a:srgbClr val="009900"/>
                </a:solidFill>
                <a:uFillTx/>
                <a:latin typeface="Times New Roman"/>
              </a:rPr>
              <a:t>наименьшей ширины шин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жно устанавливать на автомобиль, если </a:t>
            </a:r>
            <a:r>
              <a:rPr b="1" lang="ru-RU" sz="2400" spc="-1" strike="noStrike" u="sng">
                <a:solidFill>
                  <a:srgbClr val="009900"/>
                </a:solidFill>
                <a:uFillTx/>
                <a:latin typeface="Times New Roman"/>
              </a:rPr>
              <a:t>диаметр диска равен 19 дюйма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 Ответ дайте в миллимет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Таблица 3"/>
          <p:cNvGraphicFramePr/>
          <p:nvPr/>
        </p:nvGraphicFramePr>
        <p:xfrm>
          <a:off x="1952640" y="1143000"/>
          <a:ext cx="8357760" cy="2437920"/>
        </p:xfrm>
        <a:graphic>
          <a:graphicData uri="http://schemas.openxmlformats.org/drawingml/2006/table">
            <a:tbl>
              <a:tblPr/>
              <a:tblGrid>
                <a:gridCol w="2052720"/>
                <a:gridCol w="1375920"/>
                <a:gridCol w="2071440"/>
                <a:gridCol w="1428480"/>
                <a:gridCol w="1428480"/>
              </a:tblGrid>
              <a:tr h="8384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аметр ди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дюйм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ны(м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4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4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4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4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4">
                        <a:lumMod val="40000"/>
                        <a:lumOff val="60000"/>
                      </a:schemeClr>
                    </a:solidFill>
                  </a:tcPr>
                </a:tc>
              </a:tr>
              <a:tr h="433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d5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/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d5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/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d5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раз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d5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раз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d5cd"/>
                    </a:solidFill>
                  </a:tcPr>
                </a:tc>
              </a:tr>
              <a:tr h="433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4eb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/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4eb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/55, 225/6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4eb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/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4eb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раз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4ebe7"/>
                    </a:solidFill>
                  </a:tcPr>
                </a:tc>
              </a:tr>
              <a:tr h="433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d5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раз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d5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/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d5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/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d5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/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d5cd"/>
                    </a:solidFill>
                  </a:tcPr>
                </a:tc>
              </a:tr>
            </a:tbl>
          </a:graphicData>
        </a:graphic>
      </p:graphicFrame>
      <p:cxnSp>
        <p:nvCxnSpPr>
          <p:cNvPr id="431" name="Прямая соединительная линия 4"/>
          <p:cNvCxnSpPr/>
          <p:nvPr/>
        </p:nvCxnSpPr>
        <p:spPr>
          <a:xfrm>
            <a:off x="1952280" y="1142640"/>
            <a:ext cx="2072160" cy="1072080"/>
          </a:xfrm>
          <a:prstGeom prst="straightConnector1">
            <a:avLst/>
          </a:prstGeom>
          <a:ln w="19050">
            <a:solidFill>
              <a:srgbClr val="000000"/>
            </a:solidFill>
            <a:round/>
          </a:ln>
        </p:spPr>
      </p:cxnSp>
      <p:cxnSp>
        <p:nvCxnSpPr>
          <p:cNvPr id="432" name="Прямая со стрелкой 6"/>
          <p:cNvCxnSpPr/>
          <p:nvPr/>
        </p:nvCxnSpPr>
        <p:spPr>
          <a:xfrm flipH="1">
            <a:off x="8167680" y="1500120"/>
            <a:ext cx="1800" cy="1500480"/>
          </a:xfrm>
          <a:prstGeom prst="straightConnector1">
            <a:avLst/>
          </a:prstGeom>
          <a:ln w="381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433" name="Прямая со стрелкой 8"/>
          <p:cNvCxnSpPr/>
          <p:nvPr/>
        </p:nvCxnSpPr>
        <p:spPr>
          <a:xfrm flipH="1" flipV="1">
            <a:off x="3666960" y="2857320"/>
            <a:ext cx="4429440" cy="71640"/>
          </a:xfrm>
          <a:prstGeom prst="straightConnector1">
            <a:avLst/>
          </a:prstGeom>
          <a:ln w="2857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434" name="Содержимое 3"/>
          <p:cNvSpPr/>
          <p:nvPr/>
        </p:nvSpPr>
        <p:spPr>
          <a:xfrm>
            <a:off x="2238480" y="3643200"/>
            <a:ext cx="25714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вет :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2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оугольник 11"/>
          <p:cNvSpPr/>
          <p:nvPr/>
        </p:nvSpPr>
        <p:spPr>
          <a:xfrm>
            <a:off x="1738440" y="3929040"/>
            <a:ext cx="89294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9900"/>
                </a:solidFill>
                <a:uFillTx/>
                <a:latin typeface="Times New Roman"/>
              </a:rPr>
              <a:t>На сколько миллиметров радиус колес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маркировкой 215/60 R18  </a:t>
            </a:r>
            <a:r>
              <a:rPr b="1" lang="ru-RU" sz="2400" spc="-1" strike="noStrike" u="sng">
                <a:solidFill>
                  <a:srgbClr val="009900"/>
                </a:solidFill>
                <a:uFillTx/>
                <a:latin typeface="Times New Roman"/>
              </a:rPr>
              <a:t>меньш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чем радиус колеса с маркиров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35/55 R18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Содержимое 3"/>
          <p:cNvSpPr/>
          <p:nvPr/>
        </p:nvSpPr>
        <p:spPr>
          <a:xfrm>
            <a:off x="8096400" y="6000840"/>
            <a:ext cx="25714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вет :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0,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оугольник 18"/>
          <p:cNvSpPr/>
          <p:nvPr/>
        </p:nvSpPr>
        <p:spPr>
          <a:xfrm>
            <a:off x="1738440" y="5000760"/>
            <a:ext cx="8929440" cy="17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Решение.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(d + 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- (d + 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d + 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d -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2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гд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 235∙55/100 = 129,25мм, Н/В∙100%=55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1 = 215∙ 60/100 = 129мм,   тк Н/В∙100%=60%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гд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129,25-129=0,25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Num" idx="37"/>
          </p:nvPr>
        </p:nvSpPr>
        <p:spPr>
          <a:xfrm>
            <a:off x="8534520" y="6494400"/>
            <a:ext cx="213336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6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E47218-AD11-42D4-B1F3-F8610D728AC4}" type="slidenum"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8680" y="1050840"/>
            <a:ext cx="3943800" cy="68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ru-RU" sz="2400" spc="-1" strike="noStrike" cap="all">
                <a:solidFill>
                  <a:srgbClr val="000000"/>
                </a:solidFill>
                <a:latin typeface="Times New Roman"/>
              </a:rPr>
              <a:t>Задание 1 / 4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856160"/>
            <a:ext cx="533376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 Сколько кусков ковролина придётся выложить? 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3 шт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 Какова длина одного такого куска? 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6 м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) Какого наименьшего количества метров ковролина будет достаточно, чтобы полностью застелить пол в комнате Марии? 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6+6+6=18 м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72" name="Объект 4" descr=""/>
          <p:cNvPicPr/>
          <p:nvPr/>
        </p:nvPicPr>
        <p:blipFill>
          <a:blip r:embed="rId1"/>
          <a:srcRect l="47012" t="17146" r="15882" b="6398"/>
          <a:stretch/>
        </p:blipFill>
        <p:spPr>
          <a:xfrm>
            <a:off x="6019920" y="218520"/>
            <a:ext cx="5486040" cy="65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Прямоугольник 2"/>
          <p:cNvSpPr/>
          <p:nvPr/>
        </p:nvSpPr>
        <p:spPr>
          <a:xfrm>
            <a:off x="1738440" y="0"/>
            <a:ext cx="87152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3. </a:t>
            </a:r>
            <a:r>
              <a:rPr b="1" lang="ru-RU" sz="2400" spc="-1" strike="noStrike" u="sng">
                <a:solidFill>
                  <a:srgbClr val="009900"/>
                </a:solidFill>
                <a:uFillTx/>
                <a:latin typeface="Times New Roman"/>
              </a:rPr>
              <a:t>Найдите диаметр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леса автомобиля, выходящего с завода. </a:t>
            </a:r>
            <a:r>
              <a:rPr b="1" lang="ru-RU" sz="2400" spc="-1" strike="noStrike" u="sng">
                <a:solidFill>
                  <a:srgbClr val="009900"/>
                </a:solidFill>
                <a:uFillTx/>
                <a:latin typeface="Times New Roman"/>
              </a:rPr>
              <a:t>Отве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дайте </a:t>
            </a:r>
            <a:r>
              <a:rPr b="1" lang="ru-RU" sz="2400" spc="-1" strike="noStrike" u="sng">
                <a:solidFill>
                  <a:srgbClr val="009900"/>
                </a:solidFill>
                <a:uFillTx/>
                <a:latin typeface="Times New Roman"/>
              </a:rPr>
              <a:t>в сантиметра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Содержимое 3"/>
          <p:cNvSpPr/>
          <p:nvPr/>
        </p:nvSpPr>
        <p:spPr>
          <a:xfrm>
            <a:off x="4238640" y="2643120"/>
            <a:ext cx="25714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вет :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72,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Содержимое 3"/>
          <p:cNvSpPr/>
          <p:nvPr/>
        </p:nvSpPr>
        <p:spPr>
          <a:xfrm>
            <a:off x="1738440" y="857160"/>
            <a:ext cx="3642840" cy="29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41000"/>
          </a:bodyPr>
          <a:p>
            <a:pPr marL="295920" indent="-295920">
              <a:lnSpc>
                <a:spcPct val="100000"/>
              </a:lnSpc>
              <a:spcBef>
                <a:spcPts val="879"/>
              </a:spcBef>
              <a:tabLst>
                <a:tab algn="l" pos="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r>
              <a:rPr b="1" lang="ru-RU" sz="4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5920" indent="-295920">
              <a:lnSpc>
                <a:spcPct val="100000"/>
              </a:lnSpc>
              <a:spcBef>
                <a:spcPts val="879"/>
              </a:spcBef>
              <a:tabLst>
                <a:tab algn="l" pos="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</a:rPr>
              <a:t>Маркировка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5920" indent="-295920">
              <a:lnSpc>
                <a:spcPct val="100000"/>
              </a:lnSpc>
              <a:spcBef>
                <a:spcPts val="879"/>
              </a:spcBef>
              <a:tabLst>
                <a:tab algn="l" pos="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</a:rPr>
              <a:t>225/60 </a:t>
            </a: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R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5920" indent="-295920">
              <a:lnSpc>
                <a:spcPct val="100000"/>
              </a:lnSpc>
              <a:spcBef>
                <a:spcPts val="879"/>
              </a:spcBef>
              <a:tabLst>
                <a:tab algn="l" pos="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=225;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5920" indent="-295920">
              <a:lnSpc>
                <a:spcPct val="100000"/>
              </a:lnSpc>
              <a:spcBef>
                <a:spcPts val="879"/>
              </a:spcBef>
              <a:tabLst>
                <a:tab algn="l" pos="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/В∙100%=60%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5920" indent="-295920">
              <a:lnSpc>
                <a:spcPct val="100000"/>
              </a:lnSpc>
              <a:spcBef>
                <a:spcPts val="879"/>
              </a:spcBef>
              <a:tabLst>
                <a:tab algn="l" pos="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=18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юйм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5920" indent="-295920">
              <a:lnSpc>
                <a:spcPct val="100000"/>
              </a:lnSpc>
              <a:spcBef>
                <a:spcPts val="879"/>
              </a:spcBef>
              <a:tabLst>
                <a:tab algn="l" pos="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=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5920" indent="-29592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920" indent="-29592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920" indent="-29592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920" indent="-29592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Содержимое 3"/>
          <p:cNvSpPr/>
          <p:nvPr/>
        </p:nvSpPr>
        <p:spPr>
          <a:xfrm>
            <a:off x="4381560" y="714240"/>
            <a:ext cx="478584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0000"/>
          </a:bodyPr>
          <a:p>
            <a:pPr marL="322560" indent="-32256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Решение 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lnSpc>
                <a:spcPct val="100000"/>
              </a:lnSpc>
              <a:spcBef>
                <a:spcPts val="519"/>
              </a:spcBef>
              <a:tabLst>
                <a:tab algn="l" pos="0"/>
              </a:tabLst>
            </a:pPr>
            <a:r>
              <a:rPr b="1" lang="en-US" sz="2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D= d + 2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Н = 0,6В = 0,6∙225= 13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lnSpc>
                <a:spcPct val="100000"/>
              </a:lnSpc>
              <a:spcBef>
                <a:spcPts val="519"/>
              </a:spcBef>
              <a:tabLst>
                <a:tab algn="l" pos="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 = 18∙ 25,4 =457,2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м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lnSpc>
                <a:spcPct val="100000"/>
              </a:lnSpc>
              <a:spcBef>
                <a:spcPts val="519"/>
              </a:spcBef>
              <a:tabLst>
                <a:tab algn="l" pos="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 = 457,2 + 2∙ 135 =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lnSpc>
                <a:spcPct val="100000"/>
              </a:lnSpc>
              <a:spcBef>
                <a:spcPts val="519"/>
              </a:spcBef>
              <a:tabLst>
                <a:tab algn="l" pos="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57,2 + 270 = 727,2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мм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72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72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7"/>
          <p:cNvSpPr/>
          <p:nvPr/>
        </p:nvSpPr>
        <p:spPr>
          <a:xfrm>
            <a:off x="1738440" y="3071880"/>
            <a:ext cx="87152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4.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 сколько миллиметров уменьшится диаметр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D колеса, если заменить шины, установленные на заводе, шинами с маркировкой 235/45 R2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9"/>
          <p:cNvSpPr/>
          <p:nvPr/>
        </p:nvSpPr>
        <p:spPr>
          <a:xfrm>
            <a:off x="1738440" y="4143240"/>
            <a:ext cx="892944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Решени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аметр колеса автомобиля, выходящего с завод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1= 727,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аметр колес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 шинами с маркировкой 235/45 R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d + 2H= 20∙ 25,4 + 2∙ 0,45∙ 235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 508 + 211,5 = 719,5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– D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27,2 – 719,5 = 7,7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Содержимое 3"/>
          <p:cNvSpPr/>
          <p:nvPr/>
        </p:nvSpPr>
        <p:spPr>
          <a:xfrm>
            <a:off x="8096400" y="5929200"/>
            <a:ext cx="25714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вет :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7,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3" descr=""/>
          <p:cNvPicPr/>
          <p:nvPr/>
        </p:nvPicPr>
        <p:blipFill>
          <a:blip r:embed="rId1"/>
          <a:stretch/>
        </p:blipFill>
        <p:spPr>
          <a:xfrm>
            <a:off x="9167760" y="642960"/>
            <a:ext cx="1522800" cy="2142720"/>
          </a:xfrm>
          <a:prstGeom prst="rect">
            <a:avLst/>
          </a:prstGeom>
          <a:ln w="9525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sldNum" idx="38"/>
          </p:nvPr>
        </p:nvSpPr>
        <p:spPr>
          <a:xfrm>
            <a:off x="8534520" y="64929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6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8EE8D5-4057-4721-8EA1-2A67A2E0FCCC}" type="slidenum"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Прямоугольник 3"/>
          <p:cNvSpPr/>
          <p:nvPr/>
        </p:nvSpPr>
        <p:spPr>
          <a:xfrm>
            <a:off x="1443240" y="214200"/>
            <a:ext cx="934416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5. </a:t>
            </a:r>
            <a:r>
              <a:rPr b="1" lang="ru-RU" sz="2400" spc="-1" strike="noStrike" u="sng">
                <a:solidFill>
                  <a:srgbClr val="009900"/>
                </a:solidFill>
                <a:uFillTx/>
                <a:latin typeface="Times New Roman"/>
              </a:rPr>
              <a:t>На сколько процентов уменьшится пробег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томобиля </a:t>
            </a:r>
            <a:r>
              <a:rPr b="1" lang="ru-RU" sz="2400" spc="-1" strike="noStrike" u="sng">
                <a:solidFill>
                  <a:srgbClr val="009900"/>
                </a:solidFill>
                <a:uFillTx/>
                <a:latin typeface="Times New Roman"/>
              </a:rPr>
              <a:t>п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009900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9900"/>
                </a:solidFill>
                <a:uFillTx/>
                <a:latin typeface="Times New Roman"/>
              </a:rPr>
              <a:t>одном обороте колес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если заменить шины, установле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заводе, шинами с маркировкой 235/4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2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Округлите результат до десят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4"/>
          <p:cNvSpPr/>
          <p:nvPr/>
        </p:nvSpPr>
        <p:spPr>
          <a:xfrm>
            <a:off x="1738440" y="2000160"/>
            <a:ext cx="8715240" cy="42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Решени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аметр колеса автомобиля, выходящего с за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1= 727,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 оборот =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С = </a:t>
            </a:r>
            <a:r>
              <a:rPr b="1" lang="ru-RU" sz="2400" spc="-1" strike="noStrike">
                <a:solidFill>
                  <a:srgbClr val="0070c0"/>
                </a:solidFill>
                <a:latin typeface="Monotype Corsiva"/>
              </a:rPr>
              <a:t>П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70c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727,2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аметр колес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 шинами с маркировкой 235/45 R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19,5мм, ради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 оборот =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С = </a:t>
            </a:r>
            <a:r>
              <a:rPr b="1" lang="ru-RU" sz="2400" spc="-1" strike="noStrike">
                <a:solidFill>
                  <a:srgbClr val="0070c0"/>
                </a:solidFill>
                <a:latin typeface="Monotype Corsiva"/>
              </a:rPr>
              <a:t>П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D</a:t>
            </a:r>
            <a:r>
              <a:rPr b="1" lang="ru-RU" sz="2400" spc="-1" strike="noStrike" baseline="-25000">
                <a:solidFill>
                  <a:srgbClr val="0070c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7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м≈ 2259,23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уст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27,2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м – 100%, тогд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м – х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% 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7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∙ 100%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27,2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≈ 98,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0% - 98,9% = 1,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Содержимое 3"/>
          <p:cNvSpPr/>
          <p:nvPr/>
        </p:nvSpPr>
        <p:spPr>
          <a:xfrm>
            <a:off x="7810560" y="6000840"/>
            <a:ext cx="25714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вет :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Num" idx="39"/>
          </p:nvPr>
        </p:nvSpPr>
        <p:spPr>
          <a:xfrm>
            <a:off x="8534520" y="64929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6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04E25A-9FEF-406A-B671-2CADE27263F3}" type="slidenum"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337400" y="764280"/>
            <a:ext cx="10168200" cy="129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000" spc="-1" strike="noStrike" cap="all">
                <a:solidFill>
                  <a:srgbClr val="c00000"/>
                </a:solidFill>
                <a:latin typeface="Century Gothic"/>
              </a:rPr>
              <a:t>Примеры контекстных задач ЕГЭ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32920" y="2057400"/>
            <a:ext cx="10030680" cy="40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В июле наша семья планирует взять кредит в банке на некоторую сумму для покупки квартиры. Условия его возврата таковы: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- каждый январь долг возрастает на 20% по сравнению с концом предыдущего года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- с февраля по июнь каждого года необходимо выплатить часть долга, равную 2,16 млн. рублей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Сколько млн. рублей было взято в банке, если известно, что кредит был полностью погашен тремя равными платежами (то есть за 3 года)?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98108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000" spc="-1" strike="noStrike" cap="all">
                <a:solidFill>
                  <a:srgbClr val="c00000"/>
                </a:solidFill>
                <a:latin typeface="Century Gothic"/>
              </a:rPr>
              <a:t>Решение: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405800" y="1173600"/>
            <a:ext cx="9744120" cy="542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31840" indent="-231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усть в банке было взято X млн. руб.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marL="231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1 год: В январе сумма долга будет составлять 1,2 X.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marL="231840" indent="-231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осле 1 платежа сумма долга составит: 1,2 X - 2,16.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marL="231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2 год: В январе сумма долга будет составлять 1,2⋅(1,2X−2,16)=1,44⋅X−2,592.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marL="231840" indent="-231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осле 2 платежа сумма долга составит: 1,44⋅X−1,2⋅2,16−2,16=1,44⋅X−4,752.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marL="231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3 год: В январе сумма долга будет составлять 1,2⋅(1,44⋅X−4,752)=1,728⋅X−5,7024.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marL="231840" indent="-231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осле 3 платежа сумма долга составит: 1,728⋅X−5,7024−2,16=1,728⋅X−7,8624.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marL="231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Так как кредит был погашен 3 равными платежами, то после 3 платежа долга не останется, т.е. станет равным 0.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marL="231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1,728⋅X−7,8624=0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marL="231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X=4,55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marL="231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То есть в банке было взято 4,55 млн. руб.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marL="231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Ответ: 4,55</a:t>
            </a: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764280"/>
            <a:ext cx="10820160" cy="164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ru-RU" sz="2800" spc="-1" strike="noStrike" cap="all">
                <a:solidFill>
                  <a:srgbClr val="c00000"/>
                </a:solidFill>
                <a:latin typeface="Century Gothic"/>
              </a:rPr>
              <a:t>ЕГЭ</a:t>
            </a:r>
            <a:r>
              <a:rPr b="0" lang="ru-RU" sz="2800" spc="-1" strike="noStrike" cap="all">
                <a:solidFill>
                  <a:srgbClr val="c00000"/>
                </a:solidFill>
                <a:latin typeface="Century Gothic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57" name="Picture 4" descr=""/>
          <p:cNvPicPr/>
          <p:nvPr/>
        </p:nvPicPr>
        <p:blipFill>
          <a:blip r:embed="rId1"/>
          <a:stretch/>
        </p:blipFill>
        <p:spPr>
          <a:xfrm>
            <a:off x="2411640" y="900720"/>
            <a:ext cx="8605800" cy="1220760"/>
          </a:xfrm>
          <a:prstGeom prst="rect">
            <a:avLst/>
          </a:prstGeom>
          <a:ln w="9525">
            <a:noFill/>
          </a:ln>
        </p:spPr>
      </p:pic>
      <p:pic>
        <p:nvPicPr>
          <p:cNvPr id="458" name="Picture 5" descr=""/>
          <p:cNvPicPr/>
          <p:nvPr/>
        </p:nvPicPr>
        <p:blipFill>
          <a:blip r:embed="rId2"/>
          <a:stretch/>
        </p:blipFill>
        <p:spPr>
          <a:xfrm>
            <a:off x="2411640" y="2522520"/>
            <a:ext cx="7368480" cy="4007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55440" y="464040"/>
            <a:ext cx="105505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200" spc="-1" strike="noStrike" cap="all">
                <a:solidFill>
                  <a:srgbClr val="c00000"/>
                </a:solidFill>
                <a:latin typeface="Century Gothic"/>
              </a:rPr>
              <a:t>Заключение</a:t>
            </a: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555920"/>
            <a:ext cx="108201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19600" indent="-219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рименение контекстных задач на уроках математики приводит к более прочному усвоению знаний, к успешной сдаче ЕГЭ и ОГЭ, так как возникают аналогии с конкретными действиями и событиями из реальной жизни. Особенность этих заданий вызывает повышенный интерес учащихся, способствует развитию любознательности, творческой активности. Учащихся захватывает сам процесс поиска путей решения таких задач. Они получают возможность развивать логическое и ассоциативное мышление. 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  <a:p>
            <a:pPr marL="219600" indent="-219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Учащиеся применяют математические знания на практике.  Раскрывается роль математики в современном мире. Выпускники школы получают помощь в определении профиля своей дальнейшей деятельности.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560" cy="182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600" spc="-1" strike="noStrike" cap="all">
                <a:solidFill>
                  <a:srgbClr val="c00000"/>
                </a:solidFill>
                <a:latin typeface="Century Gothic"/>
              </a:rPr>
              <a:t>Спасибо за внимание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1371600" y="3632040"/>
            <a:ext cx="944856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Рисунок 1" descr=""/>
          <p:cNvPicPr/>
          <p:nvPr/>
        </p:nvPicPr>
        <p:blipFill>
          <a:blip r:embed="rId1"/>
          <a:srcRect l="18881" t="20472" r="17027" b="8814"/>
          <a:stretch/>
        </p:blipFill>
        <p:spPr>
          <a:xfrm>
            <a:off x="846000" y="272880"/>
            <a:ext cx="10535760" cy="646884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2" descr=""/>
          <p:cNvPicPr/>
          <p:nvPr/>
        </p:nvPicPr>
        <p:blipFill>
          <a:blip r:embed="rId2"/>
          <a:srcRect l="18881" t="20472" r="17027" b="8814"/>
          <a:stretch/>
        </p:blipFill>
        <p:spPr>
          <a:xfrm>
            <a:off x="846000" y="259200"/>
            <a:ext cx="10535760" cy="64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Рисунок 5" descr=""/>
          <p:cNvPicPr/>
          <p:nvPr/>
        </p:nvPicPr>
        <p:blipFill>
          <a:blip r:embed="rId1"/>
          <a:srcRect l="32051" t="42116" r="51074" b="27874"/>
          <a:stretch/>
        </p:blipFill>
        <p:spPr>
          <a:xfrm>
            <a:off x="1888920" y="4363920"/>
            <a:ext cx="1799640" cy="179964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31520" y="1151640"/>
            <a:ext cx="4114440" cy="17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3000"/>
          </a:bodyPr>
          <a:p>
            <a:pPr indent="0">
              <a:lnSpc>
                <a:spcPct val="90000"/>
              </a:lnSpc>
              <a:buNone/>
            </a:pPr>
            <a:br>
              <a:rPr sz="3200"/>
            </a:br>
            <a:br>
              <a:rPr sz="3200"/>
            </a:br>
            <a:r>
              <a:rPr b="1" lang="ru-RU" sz="2700" spc="-1" strike="noStrike" cap="all">
                <a:solidFill>
                  <a:srgbClr val="000000"/>
                </a:solidFill>
                <a:latin typeface="Times New Roman"/>
              </a:rPr>
              <a:t>Задание 2 / 4</a:t>
            </a:r>
            <a:br>
              <a:rPr sz="2700"/>
            </a:br>
            <a:br>
              <a:rPr sz="2700"/>
            </a:br>
            <a:br>
              <a:rPr sz="3200"/>
            </a:br>
            <a:endParaRPr b="0" lang="ru-RU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35240" y="1815120"/>
            <a:ext cx="4559760" cy="43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-за того, что один из углов комнаты − «круглый», ковролин обрезают по форме скругления.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ова площадь остатков ковролина, получившихся в результате скругления?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 помощь!!!!!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95720" y="746640"/>
            <a:ext cx="6510240" cy="54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горитм решения задания № 2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 площадь квадрата со стороной 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 4м по формул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² ;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 площадь круга с радиусо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м по формул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² ;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площади квадрата отнять площадь круга; 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енный ответ поделить на 4 ;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исать ответ, указав единицы измерения (м²)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31520" y="1151640"/>
            <a:ext cx="4114440" cy="17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3000"/>
          </a:bodyPr>
          <a:p>
            <a:pPr indent="0">
              <a:lnSpc>
                <a:spcPct val="90000"/>
              </a:lnSpc>
              <a:buNone/>
            </a:pPr>
            <a:br>
              <a:rPr sz="3200"/>
            </a:br>
            <a:br>
              <a:rPr sz="3200"/>
            </a:br>
            <a:r>
              <a:rPr b="1" lang="ru-RU" sz="2700" spc="-1" strike="noStrike" cap="all">
                <a:solidFill>
                  <a:srgbClr val="000000"/>
                </a:solidFill>
                <a:latin typeface="Times New Roman"/>
              </a:rPr>
              <a:t>Задание 3 / 4</a:t>
            </a:r>
            <a:br>
              <a:rPr sz="2700"/>
            </a:br>
            <a:br>
              <a:rPr sz="2700"/>
            </a:br>
            <a:br>
              <a:rPr sz="3200"/>
            </a:br>
            <a:endParaRPr b="0" lang="ru-RU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35240" y="1815120"/>
            <a:ext cx="4980960" cy="43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му равна площадь комнаты Марии?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Площадь остатка ковролина, получившегося в результате скругления, равна 0,86 м².)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81" name="Объект 4" descr=""/>
          <p:cNvPicPr/>
          <p:nvPr/>
        </p:nvPicPr>
        <p:blipFill>
          <a:blip r:embed="rId1"/>
          <a:srcRect l="47012" t="17146" r="15882" b="6398"/>
          <a:stretch/>
        </p:blipFill>
        <p:spPr>
          <a:xfrm>
            <a:off x="5581800" y="218520"/>
            <a:ext cx="5786280" cy="65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Рисунок 1" descr=""/>
          <p:cNvPicPr/>
          <p:nvPr/>
        </p:nvPicPr>
        <p:blipFill>
          <a:blip r:embed="rId1"/>
          <a:srcRect l="18355" t="18046" r="17132" b="7510"/>
          <a:stretch/>
        </p:blipFill>
        <p:spPr>
          <a:xfrm>
            <a:off x="859680" y="245520"/>
            <a:ext cx="10413000" cy="65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лед самолета">
  <a:themeElements>
    <a:clrScheme name="Желтый и оранжевый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лед самолета">
  <a:themeElements>
    <a:clrScheme name="Желтый и оранжевый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лед самолета">
  <a:themeElements>
    <a:clrScheme name="Желтый и оранжевый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След самолета">
  <a:themeElements>
    <a:clrScheme name="Желтый и оранжевый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След самолета">
  <a:themeElements>
    <a:clrScheme name="Желтый и оранжевый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След самолета">
  <a:themeElements>
    <a:clrScheme name="Желтый и оранжевый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След самолета</Template>
  <TotalTime>2314</TotalTime>
  <Application>LibreOffice/7.4.7.2$Linux_X86_64 LibreOffice_project/40$Build-2</Application>
  <AppVersion>15.0000</AppVersion>
  <Words>3465</Words>
  <Paragraphs>47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9T17:27:55Z</dcterms:created>
  <dc:creator>админ</dc:creator>
  <dc:description/>
  <dc:language>en-US</dc:language>
  <cp:lastModifiedBy>007</cp:lastModifiedBy>
  <dcterms:modified xsi:type="dcterms:W3CDTF">2025-04-16T16:40:38Z</dcterms:modified>
  <cp:revision>19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Широкоэкранный</vt:lpwstr>
  </property>
  <property fmtid="{D5CDD505-2E9C-101B-9397-08002B2CF9AE}" pid="4" name="Slides">
    <vt:r8>56</vt:r8>
  </property>
</Properties>
</file>