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B3C-D889-4FB2-8D44-3B4B2E16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F79-4BB9-424D-97E9-A10B04F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72D-254A-49BA-8A54-1C88A304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5D4-34AF-4640-830F-8F261DB7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ECC-2A14-49C6-B681-0C174260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806-9414-47EE-871B-015CB41A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134-8F5C-4063-A71F-AE727B0A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32F-EDAB-4923-A855-8515D6B0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EE8-6D92-4147-8D22-BE75F697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316-8262-48BD-BA07-28BE2149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DDE-FAF9-4DC8-895A-F917490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B9E-CF36-4217-B482-2379E35F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DDC0-4B9C-4112-A3A5-CB2B840F5F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ире экономики существу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ва вида денег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лич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 безналич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ая система расчетов возможна потому, что она опирается на желание пользоваться ею большого числа граждан и фи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ица плотности банковского обслуж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28760" y="2571840"/>
          <a:ext cx="8229600" cy="3660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еление, млн.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банков- фил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ходится жителей на один филиал ба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вейца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417.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850.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 221. 9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ликобр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 808. 57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 087. 13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. 804. 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 700. 00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02" name="Picture 10" descr="I:\мама\школа\фотошоп\картинки\деньги, экономика\chekovaya_knizhka.jpg"/>
          <p:cNvPicPr/>
          <p:nvPr/>
        </p:nvPicPr>
        <p:blipFill>
          <a:blip r:embed="rId1"/>
          <a:stretch/>
        </p:blipFill>
        <p:spPr>
          <a:xfrm>
            <a:off x="571680" y="1285920"/>
            <a:ext cx="12189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:\мама\школа\фотошоп\картинки\деньги, экономика\forex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02920" y="2852640"/>
            <a:ext cx="6048360" cy="1440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работают безналичные день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1" descr="I:\мама\школа\фотошоп\картинки\деньги, экономика\38.jpg"/>
          <p:cNvPicPr/>
          <p:nvPr/>
        </p:nvPicPr>
        <p:blipFill>
          <a:blip r:embed="rId2"/>
          <a:stretch/>
        </p:blipFill>
        <p:spPr>
          <a:xfrm rot="19947000">
            <a:off x="285840" y="566280"/>
            <a:ext cx="2928960" cy="195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I:\мама\школа\фотошоп\картинки\деньги, экономика\6161_big.jpg"/>
          <p:cNvPicPr/>
          <p:nvPr/>
        </p:nvPicPr>
        <p:blipFill>
          <a:blip r:embed="rId3"/>
          <a:srcRect l="0" t="27753" r="0" b="27661"/>
          <a:stretch/>
        </p:blipFill>
        <p:spPr>
          <a:xfrm rot="1919400">
            <a:off x="6649560" y="4314600"/>
            <a:ext cx="35244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I:\мама\школа\фотошоп\картинки\деньги, экономика\1.bmp"/>
          <p:cNvPicPr/>
          <p:nvPr/>
        </p:nvPicPr>
        <p:blipFill>
          <a:blip r:embed="rId1"/>
          <a:stretch/>
        </p:blipFill>
        <p:spPr>
          <a:xfrm>
            <a:off x="135000" y="500040"/>
            <a:ext cx="8823240" cy="5857920"/>
          </a:xfrm>
          <a:prstGeom prst="rect">
            <a:avLst/>
          </a:prstGeom>
          <a:ln w="0">
            <a:noFill/>
          </a:ln>
        </p:spPr>
      </p:pic>
      <p:grpSp>
        <p:nvGrpSpPr>
          <p:cNvPr id="48" name="Прямоугольник 3"/>
          <p:cNvGrpSpPr/>
          <p:nvPr/>
        </p:nvGrpSpPr>
        <p:grpSpPr>
          <a:xfrm>
            <a:off x="804960" y="1109520"/>
            <a:ext cx="7467480" cy="895320"/>
            <a:chOff x="804960" y="1109520"/>
            <a:chExt cx="7467480" cy="895320"/>
          </a:xfrm>
        </p:grpSpPr>
        <p:pic>
          <p:nvPicPr>
            <p:cNvPr id="4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804960" y="1109520"/>
              <a:ext cx="74674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57160" y="1143000"/>
              <a:ext cx="73580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Бумажные деньги обеспечиваю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Скругленный прямоугольник 4"/>
          <p:cNvGrpSpPr/>
          <p:nvPr/>
        </p:nvGrpSpPr>
        <p:grpSpPr>
          <a:xfrm>
            <a:off x="871560" y="2828880"/>
            <a:ext cx="3114720" cy="895320"/>
            <a:chOff x="871560" y="2828880"/>
            <a:chExt cx="3114720" cy="895320"/>
          </a:xfrm>
        </p:grpSpPr>
        <p:pic>
          <p:nvPicPr>
            <p:cNvPr id="5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871560" y="2828880"/>
              <a:ext cx="311472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66960" y="2895480"/>
              <a:ext cx="29239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рагоценными металл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Скругленный прямоугольник 5"/>
          <p:cNvGrpSpPr/>
          <p:nvPr/>
        </p:nvGrpSpPr>
        <p:grpSpPr>
          <a:xfrm>
            <a:off x="944640" y="4681440"/>
            <a:ext cx="3109680" cy="828720"/>
            <a:chOff x="944640" y="4681440"/>
            <a:chExt cx="3109680" cy="828720"/>
          </a:xfrm>
        </p:grpSpPr>
        <p:pic>
          <p:nvPicPr>
            <p:cNvPr id="55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944640" y="4681440"/>
              <a:ext cx="31096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035000" y="4749840"/>
              <a:ext cx="2930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Металлический стандар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8"/>
          <p:cNvGrpSpPr/>
          <p:nvPr/>
        </p:nvGrpSpPr>
        <p:grpSpPr>
          <a:xfrm>
            <a:off x="5230800" y="4614840"/>
            <a:ext cx="3108240" cy="822240"/>
            <a:chOff x="5230800" y="4614840"/>
            <a:chExt cx="3108240" cy="822240"/>
          </a:xfrm>
        </p:grpSpPr>
        <p:pic>
          <p:nvPicPr>
            <p:cNvPr id="58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5230800" y="4614840"/>
              <a:ext cx="31082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321160" y="4678200"/>
              <a:ext cx="29307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екрет государ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9"/>
          <p:cNvGrpSpPr/>
          <p:nvPr/>
        </p:nvGrpSpPr>
        <p:grpSpPr>
          <a:xfrm>
            <a:off x="5157720" y="2828880"/>
            <a:ext cx="3114720" cy="895320"/>
            <a:chOff x="5157720" y="2828880"/>
            <a:chExt cx="3114720" cy="895320"/>
          </a:xfrm>
        </p:grpSpPr>
        <p:pic>
          <p:nvPicPr>
            <p:cNvPr id="61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5157720" y="2828880"/>
              <a:ext cx="311472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253120" y="2895480"/>
              <a:ext cx="29239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Имуществом государ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10"/>
          <p:cNvSpPr/>
          <p:nvPr/>
        </p:nvSpPr>
        <p:spPr>
          <a:xfrm>
            <a:off x="2928960" y="2286000"/>
            <a:ext cx="1428840" cy="3682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X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5214960" y="2286000"/>
            <a:ext cx="1428840" cy="3682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X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3"/>
          <p:cNvCxnSpPr/>
          <p:nvPr/>
        </p:nvCxnSpPr>
        <p:spPr>
          <a:xfrm flipH="1">
            <a:off x="1784160" y="1928520"/>
            <a:ext cx="2160" cy="857880"/>
          </a:xfrm>
          <a:prstGeom prst="straightConnector1">
            <a:avLst/>
          </a:prstGeom>
          <a:ln w="442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6" name="Прямая со стрелкой 14"/>
          <p:cNvCxnSpPr/>
          <p:nvPr/>
        </p:nvCxnSpPr>
        <p:spPr>
          <a:xfrm flipH="1">
            <a:off x="7357680" y="1928520"/>
            <a:ext cx="2160" cy="857880"/>
          </a:xfrm>
          <a:prstGeom prst="straightConnector1">
            <a:avLst/>
          </a:prstGeom>
          <a:ln w="442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7" name="Прямая со стрелкой 16"/>
          <p:cNvCxnSpPr/>
          <p:nvPr/>
        </p:nvCxnSpPr>
        <p:spPr>
          <a:xfrm flipV="1">
            <a:off x="1784520" y="3715920"/>
            <a:ext cx="2160" cy="1000800"/>
          </a:xfrm>
          <a:prstGeom prst="straightConnector1">
            <a:avLst/>
          </a:prstGeom>
          <a:ln w="442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8" name="Прямая со стрелкой 17"/>
          <p:cNvCxnSpPr/>
          <p:nvPr/>
        </p:nvCxnSpPr>
        <p:spPr>
          <a:xfrm flipV="1">
            <a:off x="7429680" y="3714480"/>
            <a:ext cx="2160" cy="1000800"/>
          </a:xfrm>
          <a:prstGeom prst="straightConnector1">
            <a:avLst/>
          </a:prstGeom>
          <a:ln w="442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714240" y="1000080"/>
            <a:ext cx="271476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осударственный ба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5357880" y="1000080"/>
            <a:ext cx="271440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ный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ба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"/>
          <p:cNvSpPr/>
          <p:nvPr/>
        </p:nvSpPr>
        <p:spPr>
          <a:xfrm>
            <a:off x="642960" y="2857680"/>
            <a:ext cx="307188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зналичные расчеты, э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4"/>
          <p:cNvSpPr/>
          <p:nvPr/>
        </p:nvSpPr>
        <p:spPr>
          <a:xfrm>
            <a:off x="5143680" y="2857680"/>
            <a:ext cx="307152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зналичные рас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Капля 8"/>
          <p:cNvSpPr/>
          <p:nvPr/>
        </p:nvSpPr>
        <p:spPr>
          <a:xfrm>
            <a:off x="357120" y="4143240"/>
            <a:ext cx="1428840" cy="1071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Капля 9"/>
          <p:cNvSpPr/>
          <p:nvPr/>
        </p:nvSpPr>
        <p:spPr>
          <a:xfrm rot="20760000">
            <a:off x="2188800" y="4238280"/>
            <a:ext cx="1836720" cy="10936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мажные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Капля 10"/>
          <p:cNvSpPr/>
          <p:nvPr/>
        </p:nvSpPr>
        <p:spPr>
          <a:xfrm rot="3101400">
            <a:off x="6437520" y="4338360"/>
            <a:ext cx="1485720" cy="1285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ковая кни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12"/>
          <p:cNvCxnSpPr>
            <a:stCxn id="69" idx="2"/>
          </p:cNvCxnSpPr>
          <p:nvPr/>
        </p:nvCxnSpPr>
        <p:spPr>
          <a:xfrm flipH="1">
            <a:off x="2069280" y="1714320"/>
            <a:ext cx="2520" cy="11437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Прямая со стрелкой 13"/>
          <p:cNvCxnSpPr/>
          <p:nvPr/>
        </p:nvCxnSpPr>
        <p:spPr>
          <a:xfrm flipH="1">
            <a:off x="6643440" y="1714320"/>
            <a:ext cx="2160" cy="11437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Прямая со стрелкой 14"/>
          <p:cNvCxnSpPr/>
          <p:nvPr/>
        </p:nvCxnSpPr>
        <p:spPr>
          <a:xfrm flipH="1">
            <a:off x="3214440" y="3571920"/>
            <a:ext cx="2160" cy="6433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214400" y="3571920"/>
            <a:ext cx="2520" cy="7149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Прямая со стрелкой 18"/>
          <p:cNvCxnSpPr/>
          <p:nvPr/>
        </p:nvCxnSpPr>
        <p:spPr>
          <a:xfrm flipH="1">
            <a:off x="1213560" y="3571560"/>
            <a:ext cx="2520" cy="5720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1" name="TextBox 20"/>
          <p:cNvSpPr/>
          <p:nvPr/>
        </p:nvSpPr>
        <p:spPr>
          <a:xfrm>
            <a:off x="3500280" y="21430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I:\мама\школа\фотошоп\картинки\деньги, экономика\109215_1.jpg"/>
          <p:cNvPicPr/>
          <p:nvPr/>
        </p:nvPicPr>
        <p:blipFill>
          <a:blip r:embed="rId1"/>
          <a:stretch/>
        </p:blipFill>
        <p:spPr>
          <a:xfrm>
            <a:off x="3643200" y="4000680"/>
            <a:ext cx="285768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I:\мама\школа\фотошоп\картинки\деньги, экономика\Skola_sovremennyh_aferistov.jpg"/>
          <p:cNvPicPr/>
          <p:nvPr/>
        </p:nvPicPr>
        <p:blipFill>
          <a:blip r:embed="rId1"/>
          <a:stretch/>
        </p:blipFill>
        <p:spPr>
          <a:xfrm rot="20023800">
            <a:off x="860040" y="3749400"/>
            <a:ext cx="2154240" cy="2774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ковый счет. Безналичные расч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ковый счет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это форма хранения денег в банке, при которой их владелец может тратить деньги, выписывая чек, т.е. без участия наличных дене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I:\мама\школа\фотошоп\картинки\деньги, экономика\money1.jpg"/>
          <p:cNvPicPr/>
          <p:nvPr/>
        </p:nvPicPr>
        <p:blipFill>
          <a:blip r:embed="rId2"/>
          <a:stretch/>
        </p:blipFill>
        <p:spPr>
          <a:xfrm>
            <a:off x="4857840" y="3643200"/>
            <a:ext cx="35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:\мама\школа\фотошоп\картинки\деньги, экономика\pos_20_big.jpg"/>
          <p:cNvPicPr/>
          <p:nvPr/>
        </p:nvPicPr>
        <p:blipFill>
          <a:blip r:embed="rId1"/>
          <a:stretch/>
        </p:blipFill>
        <p:spPr>
          <a:xfrm rot="1289400">
            <a:off x="6399000" y="4098600"/>
            <a:ext cx="2387520" cy="2405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наличные расч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такой оборот денег, который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производится при изменении записей в банковских сче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банковском чеке должна содержаться следующая информац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.И.О. владельца сче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омер чекового счета владельц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умма, на которую выписан ч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мя (наименование) того, на кого владелец выписал ч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дпись владельца че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дрес владельца ч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ее 80% семей в США имеют договоры с банками об открытии чековых сч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о выписываются 22 млр чеков для оплаты за товары и услу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создания и использования чекового счета (безналичных дене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хема 4" descr=""/>
          <p:cNvPicPr/>
          <p:nvPr/>
        </p:nvPicPr>
        <p:blipFill>
          <a:blip r:embed="rId1"/>
          <a:stretch/>
        </p:blipFill>
        <p:spPr>
          <a:xfrm>
            <a:off x="-249120" y="1596960"/>
            <a:ext cx="90756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I:\мама\школа\фотошоп\картинки\деньги, экономика\1158062544_enl.jpg"/>
          <p:cNvPicPr/>
          <p:nvPr/>
        </p:nvPicPr>
        <p:blipFill>
          <a:blip r:embed="rId1"/>
          <a:stretch/>
        </p:blipFill>
        <p:spPr>
          <a:xfrm rot="1863600">
            <a:off x="6551280" y="533520"/>
            <a:ext cx="2428920" cy="1311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имущ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зопасны в использовании; уменьшается риск потер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Легко учитывать доходы граждан и фир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Удобно носить с собой не крупные суммы денег, а чековую книжк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Наличные деньги «медленнее стареют», т.к. меньше их наличный обор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доста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езде (не всегда) можно рассчитаться за товар по че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ериоды инфляции чековые расчеты не выгодны продавцу това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линяется время на получение денег у продавца тов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7:15:56Z</dcterms:created>
  <dc:creator>лиля</dc:creator>
  <dc:description/>
  <dc:language>en-US</dc:language>
  <cp:lastModifiedBy>Учитель</cp:lastModifiedBy>
  <dcterms:modified xsi:type="dcterms:W3CDTF">2025-06-13T05:02:25Z</dcterms:modified>
  <cp:revision>14</cp:revision>
  <dc:subject/>
  <dc:title>Невидимые деньги</dc:title>
</cp:coreProperties>
</file>