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DDC9-5C4F-4C6F-B3A7-D58810CC7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книг, которые потрясли мое воображение. Пять книг. Всего пять! Как сложно из всего м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ообразия выбрать именно те книги, впечатлением от которых я хотела бы поделиться с ва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дь каждая книга несет свои эмоции, переживания. Книга заставляет задуматься, вселяет надежду, воспитывает. Каждая книга, как дирижер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гивает струны  души. Заставляет их играть прекрасную мело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B03F-DA45-4C68-9BCC-07E420E60670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Calibri"/>
                <a:ea typeface="Calibri"/>
              </a:rPr>
              <a:t> 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  <a:ea typeface="Calibri"/>
              </a:rPr>
              <a:t>Часто, когда мы читаем произведение, ставим себя на место одного из персонажей, сопереживаем ему. Именно история, описанная Александром Ивановичем Куприным в «Гранатовом браслете», затронула те струны, которые поют о люб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Calibri"/>
                <a:ea typeface="Calibri"/>
              </a:rPr>
              <a:t>«А где же любовь-то? Любовь бескорыстная, самоотверженная, не ждущая награды? Та, про которую сказано - "сильна, как смерть"? Понимаешь, такая любовь, для которой свершить любой подвиг, отдать жизнь, пойти на мучения - вовсе не труд, а одна радость. ... Любовь должна быть трагедией. Величайшей тайной в мире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19EE-6778-4457-99EB-998931859DC1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это неожиданно,  но в одном из самых величайших произведений мира бессмертном романе Льва 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лаевича Толстог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Война и мир» меня привлек парадокс русской души. В современные реалии проникает все более и более иностранного: слова, предметы, профессии, традиции, но несмотря на это, мы остаемся 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нно русскими внутри, в душе. В нас живет русский дух, русская культур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де, как, когда всосала в себя из того русского воздуха, которым она дышала,- эта Графинечка, воспитанная эмигранткой-француженкой,- этот дух. Откуда взяла она эти приёмы, которые танцы с шалью давно бы должны были вытеснить? Но дух и приёмы были те самые, неподражаемые, неизучаемые, русские, которые есть во всяком русском человеке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1A4C-C9D2-4EDE-9AC2-4148D0A67616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spcBef>
                <a:spcPts val="41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Как вы думаете, о чем эта мелодия? Возможно, для каждого она звучит по-своему, но для меня это –память. Память о подвигах, о мужестве,   самоотверженности. Память о том, что заставляет гордиться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а нашу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страну, за наших людей. Именно эта мелодия звучит в стихотворении В.Высоцкого «Братские могилы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41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41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На братских могилах не ставят крестов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 вдовы на них не рыдают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К ним кто-то приносит букеты цветов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И Вечный огонь зажигают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десь раньше вставала земля на дыбы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А нынче - гранитные плиты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Здесь нет ни одной персональной судьбы -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Все судьбы в единую слиты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А в Вечном огне виден вспыхнувший танк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Горящие русские хаты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Горящий Смоленск и горящий рейхстаг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Горящее сердце солдата.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У братских могил нет заплаканных вдов -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Сюда ходят люди покрепче.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На братских могилах не ставят крестов,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Но разве от этого легче?.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41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414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0A60-A8D2-4383-B6B6-09D3E720688C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едениях Федора Михайловича Достоевского всегда поднимается тема, которая заставляет человеческую душу взрослеть. Он как бы касается тех струн,  которые до этого оставались нетронутыми, тех мыслей и переживаний, которые томились глубоко внутри. Прочитав его роман «Преступление и наказание, ты становишься  мудрее, нравственно взрослее, ты учишься оправдывать и понимать каждого человека. Ты начинаешь лучше разбираться в природе человеческих поступ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обно, чтоб у каждого человека было бы хотя бы одно такое место, где бы и его пожал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8B3-7CBC-4E02-B8BF-2A20CA204C6C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самую мощную струну мой души задела драма М.Ю.Лермонтова «Маскарад». Читая ее, я с удивлением находила отражение реальности к словам поэта, написанных столько веков назад, так тонко подмеченные правила жизни остаются актуальными до сих пори поражают своей то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ни толкуй: Вольтер - или Дека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для меня - колода кар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- банк: рок мечет, я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ила игры я к людям применяю.» М.Ю.Лермо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новая прочитанная книга затрагивает новые и новые струны в вашей душе. Чем больше книг вы читаете, тем громче в вашей душе звучит оркестр. Так пусть же этот оркестр всегда звучит фортиссим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A9E0-F84A-4BD6-BDB7-94BBF2DEF3AE}" type="slidenum">
              <a:rPr b="0" lang="ru-RU" sz="1200" spc="-1" strike="noStrike">
                <a:solidFill>
                  <a:srgbClr val="fbef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4C2-BF86-4FE5-8C1D-A1F804AC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A3B-6364-4021-A4D4-F827CB5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659-872F-4C28-B4DC-DDD78A2E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781-42ED-4471-9F04-D0AD004D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F2EB5-29EA-426A-83C9-16DFB581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612EA-E35A-40DD-8242-6ABB2DD5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785D-4310-4E9B-8A95-AC8E5C4E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52757-B794-4DA7-81FD-7124F18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5E334-1B5E-4973-A4B1-22D5D48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11540-74AA-4B2E-AD6E-DD71970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EE787-DE10-4469-8211-3B02FAF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8E6-E74F-4A70-89B6-669EC475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67AE-4B72-4F92-AF01-AD7614AD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D43BE-AAC2-46BA-8F94-7458002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D0DB-BDFE-48C5-850D-72DE519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521D-A735-46D2-AB3E-C8FE1717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5175-79C0-46A0-8EE2-601DB1FF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8AFD9-653F-4D23-A794-29268EE4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B756-933C-4218-A9D5-1868621A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0291-33C7-4DC9-9BD8-D261AEC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9A8C-E4FD-4CBF-BD80-141A3927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57784-7D39-45C8-90B1-90E810D9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625-C747-46ED-8024-36DED333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4BC9-CE1F-40B5-9270-CB4E6BF2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7EBA2-C7F6-41FB-B294-00CD700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3F80D-1145-4F3F-BD42-734609B1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70634-B3F5-4F1F-BAF2-26E20FE5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328D-0302-4A42-B36A-5D495F8E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1DA4-237C-48EF-986B-EF4829D9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6834-5C0B-4CAA-A299-2F77D6F5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C85AC-8A54-48CA-9600-226A38AA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05925-1EFA-4C73-B742-7DDF4FF8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7778C-1158-4B71-A3BA-126738A1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2CE-D03E-4267-A7B3-351E35A0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C66EF-E568-4BB9-B08F-B57A0BF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2A025-3A64-4AA3-9046-393F1A13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787F9-4D0E-41C4-AD2F-5740BF37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547FB-19E4-46C2-8ACB-35BDDA25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A5757-0A36-47BB-ABB4-DB457F9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01F0F-5870-4695-AB8D-0CF3EDD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C5E8A-43C2-4376-99CD-4D1ED26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E352D-07AC-4E76-9AD8-CB1CE532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1295A-9F9E-48BE-AA44-A8B62BD4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FCAB-230E-4EF4-BBF7-7C91C236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4BF-ED12-49C2-9FC6-3E606BDB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AA4-1C07-4CBD-88C0-198E6A1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CE7-D0B5-4EAA-8CBB-C238FE0D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651-CAE3-4CDB-B778-41445FB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207D-2A74-4DCA-8CF1-9537D3000F95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7CA-F131-4D1E-BDFC-910D1274FE9C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D6C-49F6-48B0-A884-1945A32853B6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AA1-9B8B-4135-B2A4-609978B6DC66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yandex.ru/images/search?text=&#1075;&#1088;&#1072;&#1085;&#1072;&#1090;&#1086;&#1074;&#1099;&#1081;+&#1073;&#1088;&#1072;&#1089;&#1083;&#1077;&#1090;" TargetMode="External"/><Relationship Id="rId2" Type="http://schemas.openxmlformats.org/officeDocument/2006/relationships/hyperlink" Target="https://yandex.ru/images/search?text=&#1075;&#1088;&#1072;&#1085;&#1072;&#1090;&#1086;&#1074;&#1099;&#1081;+&#1073;&#1088;&#1072;&#1089;&#1083;&#1077;&#1090;" TargetMode="External"/><Relationship Id="rId3" Type="http://schemas.openxmlformats.org/officeDocument/2006/relationships/hyperlink" Target="https://yandex.ru/images/search?text=&#1074;&#1086;&#1081;&#1085;&#1072;%20&#1080;%20&#1084;&#1080;&#1088;&amp;img_url=https%3A%2F%2Fimg-" TargetMode="External"/><Relationship Id="rId4" Type="http://schemas.openxmlformats.org/officeDocument/2006/relationships/hyperlink" Target="https://yandex.ru/images/search?text=&#1074;&#1086;&#1081;&#1085;&#1072;%20&#1080;%20&#1084;&#1080;&#1088;&amp;img_url=https%3A%2F%2Fimg-" TargetMode="External"/><Relationship Id="rId5" Type="http://schemas.openxmlformats.org/officeDocument/2006/relationships/hyperlink" Target="https://yandex.ru/images/search?text=&#1074;&#1086;&#1081;&#1085;&#1072;%20&#1080;%20&#1084;&#1080;&#1088;&amp;img_url=https%3A%2F%2Fimg-" TargetMode="External"/><Relationship Id="rId6" Type="http://schemas.openxmlformats.org/officeDocument/2006/relationships/hyperlink" Target="https://yandex.ru/images/search?text=&#1074;&#1099;&#1089;&#1086;&#1094;&#1082;&#1080;&#1081;%20&#1073;&#1088;&#1072;&#1090;&#1089;&#1082;&#1080;&#1077;%20&#1084;&#1086;&#1075;&#1080;&#1083;&#1099;" TargetMode="External"/><Relationship Id="rId7" Type="http://schemas.openxmlformats.org/officeDocument/2006/relationships/hyperlink" Target="https://yandex.ru/images/search?text=&#1074;&#1099;&#1089;&#1086;&#1094;&#1082;&#1080;&#1081;%20&#1073;&#1088;&#1072;&#1090;&#1089;&#1082;&#1080;&#1077;%20&#1084;&#1086;&#1075;&#1080;&#1083;&#1099;" TargetMode="External"/><Relationship Id="rId8" Type="http://schemas.openxmlformats.org/officeDocument/2006/relationships/hyperlink" Target="https://yandex.ru/images/search?p=6&amp;text=&#1087;&#1088;&#1077;&#1089;&#1090;&#1091;&#1087;&#1083;&#1077;&#1085;&#1080;&#1077;%20&#1080;%20&#1085;&#1072;&#1082;&#1072;&#1079;&#1072;&#1085;&#1080;&#1077;%20&#1080;&#1083;&#1083;&#1102;&#1089;&#1090;&#1088;&#1072;&#1094;&#1080;&#1080;&amp;img_url=https%3A%2F%2Ffs01" TargetMode="External"/><Relationship Id="rId9" Type="http://schemas.openxmlformats.org/officeDocument/2006/relationships/hyperlink" Target="https://yandex.ru/images/search?p=6&amp;text=&#1087;&#1088;&#1077;&#1089;&#1090;&#1091;&#1087;&#1083;&#1077;&#1085;&#1080;&#1077;%20&#1080;%20&#1085;&#1072;&#1082;&#1072;&#1079;&#1072;&#1085;&#1080;&#1077;%20&#1080;&#1083;&#1083;&#1102;&#1089;&#1090;&#1088;&#1072;&#1094;&#1080;&#1080;&amp;img_url=https%3A%2F%2Ffs01" TargetMode="External"/><Relationship Id="rId10" Type="http://schemas.openxmlformats.org/officeDocument/2006/relationships/hyperlink" Target="https://yandex.ru/images/search?p=6&amp;text=&#1087;&#1088;&#1077;&#1089;&#1090;&#1091;&#1087;&#1083;&#1077;&#1085;&#1080;&#1077;%20&#1080;%20&#1085;&#1072;&#1082;&#1072;&#1079;&#1072;&#1085;&#1080;&#1077;%20&#1080;&#1083;&#1083;&#1102;&#1089;&#1090;&#1088;&#1072;&#1094;&#1080;&#1080;&amp;img_url=https%3A%2F%2Ffs01" TargetMode="External"/><Relationship Id="rId11" Type="http://schemas.openxmlformats.org/officeDocument/2006/relationships/hyperlink" Target="https://yandex.ru/images/search?text=&#1084;&#1072;&#1089;&#1082;&#1072;&#1088;&#1072;&#1076;%20&#1083;&#1077;&#1088;&#1084;&#1086;&#1085;&#1090;&#1086;&#1074;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-47520"/>
            <a:ext cx="9501120" cy="69055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714240" y="714240"/>
            <a:ext cx="8001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9" name="Прямоугольник 7"/>
          <p:cNvSpPr/>
          <p:nvPr/>
        </p:nvSpPr>
        <p:spPr>
          <a:xfrm>
            <a:off x="2179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2071800" y="3714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pic>
        <p:nvPicPr>
          <p:cNvPr id="181" name="Прямоугольник 11" descr=""/>
          <p:cNvPicPr/>
          <p:nvPr/>
        </p:nvPicPr>
        <p:blipFill>
          <a:blip r:embed="rId2"/>
          <a:stretch/>
        </p:blipFill>
        <p:spPr>
          <a:xfrm>
            <a:off x="500040" y="1279440"/>
            <a:ext cx="8643960" cy="4005360"/>
          </a:xfrm>
          <a:prstGeom prst="rect">
            <a:avLst/>
          </a:prstGeom>
          <a:ln w="0">
            <a:noFill/>
          </a:ln>
        </p:spPr>
      </p:pic>
      <p:pic>
        <p:nvPicPr>
          <p:cNvPr id="182" name="!ЛИЗА БЕТХОВЕН.mp3" descr=""/>
          <p:cNvPicPr/>
          <p:nvPr/>
        </p:nvPicPr>
        <p:blipFill>
          <a:blip r:embed="rId3"/>
          <a:stretch/>
        </p:blipFill>
        <p:spPr>
          <a:xfrm>
            <a:off x="883908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"/>
          <p:cNvSpPr/>
          <p:nvPr/>
        </p:nvSpPr>
        <p:spPr>
          <a:xfrm>
            <a:off x="5406840" y="5084640"/>
            <a:ext cx="34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МОУ СОШ №5</a:t>
            </a: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г.Миллерово Ростовской области</a:t>
            </a: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Янель Лидия Николаевна</a:t>
            </a: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-47520"/>
            <a:ext cx="9501120" cy="690552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6"/>
          <p:cNvSpPr/>
          <p:nvPr/>
        </p:nvSpPr>
        <p:spPr>
          <a:xfrm>
            <a:off x="714240" y="714240"/>
            <a:ext cx="8001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2179800" y="296712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2071800" y="3714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pic>
        <p:nvPicPr>
          <p:cNvPr id="188" name="Picture 12" descr="https://1.bp.blogspot.com/-P3uon72-gxs/Vu2NVf7NXgI/AAAAAAAAKT4/cqP52h1mWmUfu1lEsTkTYsez2uz0lt-fQ/w1200-h630-p-nu/illjustracija-Granatovyj-braslet-Zheltkov-Hudozhnik-V-Jakubich.jpg"/>
          <p:cNvPicPr/>
          <p:nvPr/>
        </p:nvPicPr>
        <p:blipFill>
          <a:blip r:embed="rId2"/>
          <a:srcRect l="14590" t="0" r="8537" b="0"/>
          <a:stretch/>
        </p:blipFill>
        <p:spPr>
          <a:xfrm rot="21406800">
            <a:off x="5279760" y="4022640"/>
            <a:ext cx="3240000" cy="2212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s://im0-tub-ru.yandex.net/i?id=34ce2548013e7d6eec6521b324f56b48&amp;n=33&amp;h=215&amp;w=140"/>
          <p:cNvPicPr/>
          <p:nvPr/>
        </p:nvPicPr>
        <p:blipFill>
          <a:blip r:embed="rId3"/>
          <a:srcRect l="0" t="0" r="0" b="7435"/>
          <a:stretch/>
        </p:blipFill>
        <p:spPr>
          <a:xfrm>
            <a:off x="1403280" y="981000"/>
            <a:ext cx="3430800" cy="480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http://newsvo.ru/sites/default/files/styles/large/public/images/38ea9af760c6ace64844976e7b316fbe.jpg?itok=KzoB1hWV"/>
          <p:cNvPicPr/>
          <p:nvPr/>
        </p:nvPicPr>
        <p:blipFill>
          <a:blip r:embed="rId4"/>
          <a:srcRect l="6314" t="0" r="0" b="0"/>
          <a:stretch/>
        </p:blipFill>
        <p:spPr>
          <a:xfrm>
            <a:off x="5292720" y="907920"/>
            <a:ext cx="3468600" cy="277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345040"/>
            <a:ext cx="792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7030a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194" name="Прямоугольник 9" descr=""/>
          <p:cNvPicPr/>
          <p:nvPr/>
        </p:nvPicPr>
        <p:blipFill>
          <a:blip r:embed="rId3"/>
          <a:stretch/>
        </p:blipFill>
        <p:spPr>
          <a:xfrm>
            <a:off x="811080" y="1268280"/>
            <a:ext cx="4499280" cy="3584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ученик\Рабочий стол\3.jpg"/>
          <p:cNvPicPr/>
          <p:nvPr/>
        </p:nvPicPr>
        <p:blipFill>
          <a:blip r:embed="rId4"/>
          <a:srcRect l="0" t="0" r="0" b="6424"/>
          <a:stretch/>
        </p:blipFill>
        <p:spPr>
          <a:xfrm rot="21448800">
            <a:off x="5237280" y="982800"/>
            <a:ext cx="3458880" cy="4105080"/>
          </a:xfrm>
          <a:prstGeom prst="rect">
            <a:avLst/>
          </a:prstGeom>
          <a:ln w="0">
            <a:noFill/>
          </a:ln>
        </p:spPr>
      </p:pic>
      <p:pic>
        <p:nvPicPr>
          <p:cNvPr id="196" name="балалайка.mp3" descr=""/>
          <p:cNvPicPr/>
          <p:nvPr/>
        </p:nvPicPr>
        <p:blipFill>
          <a:blip r:embed="rId5"/>
          <a:stretch/>
        </p:blipFill>
        <p:spPr>
          <a:xfrm>
            <a:off x="88390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https://fs00.infourok.ru/images/doc/145/168816/640/img13.jpg"/>
          <p:cNvPicPr/>
          <p:nvPr/>
        </p:nvPicPr>
        <p:blipFill>
          <a:blip r:embed="rId2"/>
          <a:stretch/>
        </p:blipFill>
        <p:spPr>
          <a:xfrm>
            <a:off x="1332000" y="907920"/>
            <a:ext cx="7056360" cy="529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http://tumen.bezformata.ru/content/image103342228.jpg"/>
          <p:cNvPicPr/>
          <p:nvPr/>
        </p:nvPicPr>
        <p:blipFill>
          <a:blip r:embed="rId3"/>
          <a:srcRect l="8819" t="0" r="10539" b="0"/>
          <a:stretch/>
        </p:blipFill>
        <p:spPr>
          <a:xfrm>
            <a:off x="4643280" y="2781360"/>
            <a:ext cx="3745080" cy="3384360"/>
          </a:xfrm>
          <a:prstGeom prst="rect">
            <a:avLst/>
          </a:prstGeom>
          <a:ln w="0">
            <a:noFill/>
          </a:ln>
        </p:spPr>
      </p:pic>
      <p:pic>
        <p:nvPicPr>
          <p:cNvPr id="200" name="Денис.mp3" descr=""/>
          <p:cNvPicPr/>
          <p:nvPr/>
        </p:nvPicPr>
        <p:blipFill>
          <a:blip r:embed="rId4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:\Documents and Settings\Оля\Рабочий стол\открытая книга.jpg"/>
          <p:cNvPicPr/>
          <p:nvPr/>
        </p:nvPicPr>
        <p:blipFill>
          <a:blip r:embed="rId1"/>
          <a:srcRect l="6299" t="0" r="0" b="0"/>
          <a:stretch/>
        </p:blipFill>
        <p:spPr>
          <a:xfrm>
            <a:off x="0" y="0"/>
            <a:ext cx="9612360" cy="689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img.labirint.ru/images/comments_pic/1552/0_3a295fb741d9cecef66aa8c59a994b1c_1451044196.jpg"/>
          <p:cNvPicPr/>
          <p:nvPr/>
        </p:nvPicPr>
        <p:blipFill>
          <a:blip r:embed="rId2"/>
          <a:srcRect l="12624" t="14178" r="16356" b="14008"/>
          <a:stretch/>
        </p:blipFill>
        <p:spPr>
          <a:xfrm>
            <a:off x="1116000" y="1052640"/>
            <a:ext cx="3384720" cy="5106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https://snoska.ru/images/covers/b3/16/b316855b-c8fd-522d-b8ce-c026230c5202.jpg"/>
          <p:cNvPicPr/>
          <p:nvPr/>
        </p:nvPicPr>
        <p:blipFill>
          <a:blip r:embed="rId3"/>
          <a:srcRect l="17966" t="22586" r="18547" b="0"/>
          <a:stretch/>
        </p:blipFill>
        <p:spPr>
          <a:xfrm rot="21424200">
            <a:off x="5095800" y="1261800"/>
            <a:ext cx="3511800" cy="4262400"/>
          </a:xfrm>
          <a:prstGeom prst="rect">
            <a:avLst/>
          </a:prstGeom>
          <a:ln w="0">
            <a:noFill/>
          </a:ln>
        </p:spPr>
      </p:pic>
      <p:pic>
        <p:nvPicPr>
          <p:cNvPr id="204" name="Даня  вокализ скрипка.mp3" descr=""/>
          <p:cNvPicPr/>
          <p:nvPr/>
        </p:nvPicPr>
        <p:blipFill>
          <a:blip r:embed="rId4"/>
          <a:stretch/>
        </p:blipFill>
        <p:spPr>
          <a:xfrm>
            <a:off x="8991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345040"/>
            <a:ext cx="792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7030a0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208" name="Picture 15" descr="http://img.mp3arhiv.net/exphoto/OjZTU3k9LUFli6HM5ag/roma-plut-nara.jpg"/>
          <p:cNvPicPr/>
          <p:nvPr/>
        </p:nvPicPr>
        <p:blipFill>
          <a:blip r:embed="rId2"/>
          <a:stretch/>
        </p:blipFill>
        <p:spPr>
          <a:xfrm>
            <a:off x="1476360" y="765000"/>
            <a:ext cx="3311640" cy="496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http://img-fotki.yandex.ru/get/5700/owen1141952.65/0_4b9b7_a84e0ec1_XL"/>
          <p:cNvPicPr/>
          <p:nvPr/>
        </p:nvPicPr>
        <p:blipFill>
          <a:blip r:embed="rId3"/>
          <a:stretch/>
        </p:blipFill>
        <p:spPr>
          <a:xfrm>
            <a:off x="5148360" y="1052640"/>
            <a:ext cx="3504960" cy="4767120"/>
          </a:xfrm>
          <a:prstGeom prst="rect">
            <a:avLst/>
          </a:prstGeom>
          <a:ln w="0">
            <a:noFill/>
          </a:ln>
        </p:spPr>
      </p:pic>
      <p:pic>
        <p:nvPicPr>
          <p:cNvPr id="210" name="вальс Маскарад.mp3" descr=""/>
          <p:cNvPicPr/>
          <p:nvPr/>
        </p:nvPicPr>
        <p:blipFill>
          <a:blip r:embed="rId4"/>
          <a:stretch/>
        </p:blipFill>
        <p:spPr>
          <a:xfrm>
            <a:off x="8839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-81000" y="0"/>
            <a:ext cx="943452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http://mediasubs.ru/group/uploads/mi/mir-iskusstva-tvorchestva-i-krasotyi/image/1476627415-969911-455293.jpg"/>
          <p:cNvPicPr/>
          <p:nvPr/>
        </p:nvPicPr>
        <p:blipFill>
          <a:blip r:embed="rId3"/>
          <a:stretch/>
        </p:blipFill>
        <p:spPr>
          <a:xfrm>
            <a:off x="1332000" y="981000"/>
            <a:ext cx="7154640" cy="5200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www.miliydom.com/files/bal9.jpg"/>
          <p:cNvPicPr/>
          <p:nvPr/>
        </p:nvPicPr>
        <p:blipFill>
          <a:blip r:embed="rId4"/>
          <a:stretch/>
        </p:blipFill>
        <p:spPr>
          <a:xfrm>
            <a:off x="1332000" y="907920"/>
            <a:ext cx="7200720" cy="532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http://img-fotki.yandex.ru/get/27/121447594.8c/0_7d4d7_23f6069f_XL.jpg"/>
          <p:cNvPicPr/>
          <p:nvPr/>
        </p:nvPicPr>
        <p:blipFill>
          <a:blip r:embed="rId5"/>
          <a:stretch/>
        </p:blipFill>
        <p:spPr>
          <a:xfrm>
            <a:off x="1332000" y="765000"/>
            <a:ext cx="712764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0" y="6480"/>
            <a:ext cx="9425160" cy="6851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1357200" y="257220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f0000"/>
                </a:solidFill>
                <a:latin typeface="Constantia"/>
                <a:ea typeface="Calibri"/>
              </a:rPr>
              <a:t>        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</p:txBody>
      </p:sp>
      <p:pic>
        <p:nvPicPr>
          <p:cNvPr id="217" name="Picture 9" descr="https://fanart.tv/fanart/music/38712b4c-0fd4-4c65-8c7a-45676fecc973/artistbackground/london-symphony-orchestra-51c7000f86f1a.jpeg"/>
          <p:cNvPicPr/>
          <p:nvPr/>
        </p:nvPicPr>
        <p:blipFill>
          <a:blip r:embed="rId3"/>
          <a:srcRect l="0" t="0" r="0" b="15304"/>
          <a:stretch/>
        </p:blipFill>
        <p:spPr>
          <a:xfrm>
            <a:off x="-757080" y="0"/>
            <a:ext cx="10731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179280" y="620640"/>
            <a:ext cx="84250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печатных источников:</a:t>
            </a:r>
            <a:endParaRPr b="0" lang="en-US" sz="28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https://yandex.ru/images/search?text=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гранатовый+браслет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3"/>
              </a:rPr>
              <a:t>https://yandex.ru/images/search?text=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4"/>
              </a:rPr>
              <a:t>война%20и%20мир&amp;</a:t>
            </a: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5"/>
              </a:rPr>
              <a:t>img_url=https%3A%2F%2Fimg-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6"/>
              </a:rPr>
              <a:t>https://yandex.ru/images/search?text=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7"/>
              </a:rPr>
              <a:t>высоцкий%20братские%20могилы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8"/>
              </a:rPr>
              <a:t>https://yandex.ru/images/search?p=6&amp;text=</a:t>
            </a:r>
            <a:r>
              <a:rPr b="0" lang="ru-RU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9"/>
              </a:rPr>
              <a:t>преступление%20и%20наказание%20иллюстрации&amp;</a:t>
            </a: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0"/>
              </a:rPr>
              <a:t>img_url=https%3A%2F%2Ffs01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1"/>
              </a:rPr>
              <a:t>https://yandex.ru/images/search?text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арад%20лермонтов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/search?p=4&amp;text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ческий%20оркестр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vice</cp:lastModifiedBy>
  <dcterms:modified xsi:type="dcterms:W3CDTF">2017-11-25T16:01:47Z</dcterms:modified>
  <cp:revision>110</cp:revision>
  <dc:subject/>
  <dc:title>Конкурс  знатоков</dc:title>
</cp:coreProperties>
</file>