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72A-3491-48EA-B9A1-290EF688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30280"/>
            <a:ext cx="3733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7436-E436-477F-AA51-DCE51CCC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85000" y="19810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302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285000" y="41302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0EBA-439E-4A5C-962F-903E04A0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120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634120" y="1981080"/>
            <a:ext cx="120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96640" y="1981080"/>
            <a:ext cx="120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30280"/>
            <a:ext cx="120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634120" y="4130280"/>
            <a:ext cx="120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896640" y="4130280"/>
            <a:ext cx="120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3DD-5279-4EEB-B195-FAF81FA0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D21D-6EFA-45CD-8527-1248270C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37335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5892-D986-4DA6-B91B-97D5287E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5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E1C1-45C5-43FE-9436-5852E0F5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1821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85000" y="1981080"/>
            <a:ext cx="1821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88ED-4C21-445C-BC58-00D8C49A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02B9-7172-4261-8BA1-23AB6409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33520"/>
            <a:ext cx="7543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0631-9DA8-4D5B-AEEB-904B972A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85000" y="1981080"/>
            <a:ext cx="1821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1302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915E-79AE-4B1C-B3E5-89D481C8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37335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508-9022-42B9-86C9-BA4589D9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1821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85000" y="19810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85000" y="41302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F6BD-FB02-42FE-AC71-F9ADCB2E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85000" y="19810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130280"/>
            <a:ext cx="3733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627E-831B-4F04-87CB-D9B2871B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130280"/>
            <a:ext cx="3733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C09A-9BA6-4651-8AEC-A10989E3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5000" y="19810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1302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285000" y="41302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2CFA-2628-4AE5-940F-E5B2D472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120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34120" y="1981080"/>
            <a:ext cx="120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96640" y="1981080"/>
            <a:ext cx="120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130280"/>
            <a:ext cx="120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634120" y="4130280"/>
            <a:ext cx="120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3896640" y="4130280"/>
            <a:ext cx="120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EB7E-1DD6-4376-9A5E-240D9C9E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E4F1D-83E7-4CFA-9162-27E8D72C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37335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8DF97-A69C-45D6-B840-C3B7849D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5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B385B-AE2C-415D-9402-57818940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1821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85000" y="1981080"/>
            <a:ext cx="1821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8AB3B-DB80-4314-ACEF-E27C4B79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30EE5-EFCD-4755-8B92-8833BD44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5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447E-1681-4560-9351-91FDB2D9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533520"/>
            <a:ext cx="7543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D9A5F-5DD7-43C2-92F0-793C4414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85000" y="1981080"/>
            <a:ext cx="1821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71600" y="41302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EB38E-0B92-4204-87FF-212D7F44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1821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85000" y="19810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285000" y="41302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A6035-6437-4325-A81F-2BBBCDC8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85000" y="19810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130280"/>
            <a:ext cx="3733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AF21C-0F6A-4D2E-B969-D8395922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371600" y="4130280"/>
            <a:ext cx="3733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C36EF-6B60-437C-AA5B-2DE587A2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85000" y="19810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71600" y="41302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285000" y="41302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61A94-497F-4E32-9C08-CE7D6341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120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634120" y="1981080"/>
            <a:ext cx="120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6640" y="1981080"/>
            <a:ext cx="120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371600" y="4130280"/>
            <a:ext cx="120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634120" y="4130280"/>
            <a:ext cx="120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3896640" y="4130280"/>
            <a:ext cx="120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E4D0A-8021-432E-BAB7-C87523AA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A1C77-1420-468C-B5AD-52B90E44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37335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EBA24-27D9-467E-B05A-4CAB0D75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5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7EFA5-F823-4AD2-B64E-C47AF28F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1821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285000" y="1981080"/>
            <a:ext cx="1821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FE06-30AF-43B5-9A69-949346D0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1821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85000" y="1981080"/>
            <a:ext cx="1821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63F4B-C7F6-4622-8CAD-46651433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76A16-F982-4CA5-9716-BBEF064F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71600" y="533520"/>
            <a:ext cx="7543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6D741-F123-4D9E-9B68-FF19D63F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5000" y="1981080"/>
            <a:ext cx="1821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1302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D2DEC-44D1-49B5-8A2E-F986BF99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1821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85000" y="19810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285000" y="41302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B531C-5E98-4408-9C84-A17324D5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85000" y="19810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371600" y="4130280"/>
            <a:ext cx="3733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35D47-A398-4B27-B65B-D225F42B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371600" y="4130280"/>
            <a:ext cx="3733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0470E-9770-4D18-B466-75FFF905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85000" y="19810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371600" y="41302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285000" y="41302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436B8-F048-425B-AA0C-6386BC23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120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634120" y="1981080"/>
            <a:ext cx="120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896640" y="1981080"/>
            <a:ext cx="120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371600" y="4130280"/>
            <a:ext cx="120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634120" y="4130280"/>
            <a:ext cx="120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3896640" y="4130280"/>
            <a:ext cx="120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32517-A096-4B6F-A0AC-2D5EFD00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3898-637B-4042-A5D3-8FECB2D8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533520"/>
            <a:ext cx="7543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8DB9-8787-4B2C-A278-FBE56AFC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285000" y="1981080"/>
            <a:ext cx="1821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302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E805-BE10-4A91-ACE0-67E4E184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1821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285000" y="19810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85000" y="41302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FBB-F8E9-4B9A-A758-578BBBCA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285000" y="1981080"/>
            <a:ext cx="1821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30280"/>
            <a:ext cx="3733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F2DC-4A82-456A-ADDB-3758EACC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WINNT\Profiles\rebeccal\Personal\pics\strtegic1.jpg"/>
          <p:cNvPicPr/>
          <p:nvPr/>
        </p:nvPicPr>
        <p:blipFill>
          <a:blip r:embed="rId3"/>
          <a:stretch/>
        </p:blipFill>
        <p:spPr>
          <a:xfrm>
            <a:off x="0" y="0"/>
            <a:ext cx="1218960" cy="6857640"/>
          </a:xfrm>
          <a:prstGeom prst="rect">
            <a:avLst/>
          </a:prstGeom>
          <a:ln w="9525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81280" y="685800"/>
            <a:ext cx="5560560" cy="3352320"/>
          </a:xfrm>
          <a:prstGeom prst="rect">
            <a:avLst/>
          </a:prstGeom>
          <a:noFill/>
          <a:ln w="936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86950"/>
                </a:solidFill>
                <a:latin typeface="Times New Roman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fld id="{6E40A913-DCA9-4D05-A365-D2F3FABC533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8960" cy="6857640"/>
          </a:xfrm>
          <a:prstGeom prst="rect">
            <a:avLst/>
          </a:prstGeom>
          <a:ln w="9525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936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3733560" cy="4114440"/>
          </a:xfrm>
          <a:prstGeom prst="rect">
            <a:avLst/>
          </a:prstGeom>
          <a:noFill/>
          <a:ln w="1260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95000"/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5257800" y="1981080"/>
            <a:ext cx="373356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6761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3429000" y="6248520"/>
            <a:ext cx="342864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7238880" y="624852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fld id="{7B8E4438-8C0B-4C4E-96E1-EC4A7E6090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8960" cy="6857640"/>
          </a:xfrm>
          <a:prstGeom prst="rect">
            <a:avLst/>
          </a:prstGeom>
          <a:ln w="9525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936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619760" cy="4114440"/>
          </a:xfrm>
          <a:prstGeom prst="rect">
            <a:avLst/>
          </a:prstGeom>
          <a:noFill/>
          <a:ln w="1260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95000"/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6761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429000" y="6248520"/>
            <a:ext cx="342864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238880" y="624852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fld id="{337984F8-705A-48DF-9D73-D03E06425E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8960" cy="6857640"/>
          </a:xfrm>
          <a:prstGeom prst="rect">
            <a:avLst/>
          </a:prstGeom>
          <a:ln w="9525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936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373356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body"/>
          </p:nvPr>
        </p:nvSpPr>
        <p:spPr>
          <a:xfrm>
            <a:off x="5257800" y="1981080"/>
            <a:ext cx="3733560" cy="4114440"/>
          </a:xfrm>
          <a:prstGeom prst="rect">
            <a:avLst/>
          </a:prstGeom>
          <a:noFill/>
          <a:ln w="1260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95000"/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6761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3429000" y="6248520"/>
            <a:ext cx="342864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7238880" y="624852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fld id="{84D34E3F-A1D0-400A-AD60-9FEE43D63D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81280" y="685800"/>
            <a:ext cx="5560560" cy="3352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786950"/>
                </a:solidFill>
                <a:latin typeface="Times New Roman"/>
              </a:rPr>
              <a:t>Патриотическое воспитание школьник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5" descr="C:\Мои документы\Работа\Прянишникова\Выступление\RUSSIAF.WMF"/>
          <p:cNvPicPr/>
          <p:nvPr/>
        </p:nvPicPr>
        <p:blipFill>
          <a:blip r:embed="rId1"/>
          <a:stretch/>
        </p:blipFill>
        <p:spPr>
          <a:xfrm>
            <a:off x="5353200" y="260280"/>
            <a:ext cx="2303280" cy="1090080"/>
          </a:xfrm>
          <a:prstGeom prst="rect">
            <a:avLst/>
          </a:prstGeom>
          <a:ln w="9525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936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996600"/>
                </a:solidFill>
                <a:latin typeface="Times New Roman"/>
              </a:rPr>
              <a:t>Патриотическое воспитание включает в себя следующие направлен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1413000"/>
            <a:ext cx="7619760" cy="532872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1. Духовно-нравственное направление, включающее в себ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нравственно устойчивой цельной личности, обладающей такими моральными качествами, как добросовестность, честность, коллективизм, соблюдение правил поведения, уважение к старшему поколению, мужество, любовь к Родине и своему народ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ние уважения к семье, родителям, семейным традиция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социальной активности, направленной на служение интересам своего Отечеств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189000"/>
            <a:ext cx="7543440" cy="1152000"/>
          </a:xfrm>
          <a:prstGeom prst="rect">
            <a:avLst/>
          </a:prstGeom>
          <a:noFill/>
          <a:ln w="936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ультурно-историческое направление, предполагающе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1125360"/>
            <a:ext cx="7619760" cy="561636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ние у учащихся любви к своей «малой» Родине. Родному краю, её замечательным людя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влечение учащихся в работу по сохранению культурных и исторических памятников боевой и трудовой слав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чувства национальной гордости, национального самосознания, способности жить с людьми других культур, языков и религ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663120"/>
          </a:xfrm>
          <a:prstGeom prst="rect">
            <a:avLst/>
          </a:prstGeom>
          <a:noFill/>
          <a:ln w="936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3. Гражданско-правовое направление, ориентированное н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1268280"/>
            <a:ext cx="7619760" cy="525600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ение государственной системы РФ, значение её Конституции, гимна, государственной символики, прав и обязанностей гражданина Росс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глубокого понимания гражданского долга, ценностного отношения к национальным интересам России, её суверенитету, независимости и целост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культуры правовых отношений, стремление к соблюдению законодательных нор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реально действующего школьного самоуправ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543440" cy="999720"/>
          </a:xfrm>
          <a:prstGeom prst="rect">
            <a:avLst/>
          </a:prstGeom>
          <a:noFill/>
          <a:ln w="936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996600"/>
                </a:solidFill>
                <a:latin typeface="Times New Roman"/>
              </a:rPr>
              <a:t>Краеведческая работа </a:t>
            </a: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85920" y="907920"/>
            <a:ext cx="7705440" cy="580680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им из важнейших направлений патриотического воспитания является краеведение. Изучение истории родного края способствует росту патриотического самосознания граждан, формированию гордости за тот город, район, в котором человек родился и вырос, где проходят его учеба и трудовая деятельность. Краеведческие экскурсии, встречи с интересными людьми - земляками, посещение музеев, памятных мест расположенных в черте города - все это путь к повышению эффективности патриотического воспит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663120"/>
          </a:xfrm>
          <a:prstGeom prst="rect">
            <a:avLst/>
          </a:prstGeom>
          <a:noFill/>
          <a:ln w="936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. Военно-патриотическое направление, включающее в себ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1600" y="1197000"/>
            <a:ext cx="7619760" cy="554472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учение военной истории России, знание Дней воинской славы, боевых и трудовых подвигов жителей области в годы Великой Отечественной войн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хранение воинских традиций, связи поколений защитников Родины, организация встреч учащихся с ветеранами войны и труда, участниками локальных военных конфликтов и антитеррористических операц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позитивного образа Вооруженных Сил Российской Федерации, готовности к выполнению воинского дол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543440" cy="1142640"/>
          </a:xfrm>
          <a:prstGeom prst="rect">
            <a:avLst/>
          </a:prstGeom>
          <a:noFill/>
          <a:ln w="936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996600"/>
                </a:solidFill>
                <a:latin typeface="Times New Roman"/>
              </a:rPr>
              <a:t>Поисков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9320" y="1500120"/>
            <a:ext cx="7638840" cy="521460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лодое поколение мало знает о событиях и героях воин и локальных конфликтов времен «холодной войны», где участвовали наши военнослужащие. Изучение  военной истории и поисковая работа приведут к осознанию важности подвигов защитников Отечества, уважение к событиям боевой славы нашей страны. Базой для этой работы являются школьные музеи и военно-патриотические организаци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5" descr="Орден Отечественной войны"/>
          <p:cNvPicPr/>
          <p:nvPr/>
        </p:nvPicPr>
        <p:blipFill>
          <a:blip r:embed="rId1"/>
          <a:stretch/>
        </p:blipFill>
        <p:spPr>
          <a:xfrm>
            <a:off x="6948360" y="5445000"/>
            <a:ext cx="1668240" cy="1250640"/>
          </a:xfrm>
          <a:prstGeom prst="rect">
            <a:avLst/>
          </a:prstGeom>
          <a:ln w="9525">
            <a:noFill/>
          </a:ln>
        </p:spPr>
      </p:pic>
      <p:pic>
        <p:nvPicPr>
          <p:cNvPr id="206" name="Picture 6" descr="Орден Красного Знамени"/>
          <p:cNvPicPr/>
          <p:nvPr/>
        </p:nvPicPr>
        <p:blipFill>
          <a:blip r:embed="rId2"/>
          <a:stretch/>
        </p:blipFill>
        <p:spPr>
          <a:xfrm>
            <a:off x="1619280" y="333360"/>
            <a:ext cx="863280" cy="1225080"/>
          </a:xfrm>
          <a:prstGeom prst="rect">
            <a:avLst/>
          </a:prstGeom>
          <a:ln w="9525">
            <a:noFill/>
          </a:ln>
        </p:spPr>
      </p:pic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543440" cy="1007640"/>
          </a:xfrm>
          <a:prstGeom prst="rect">
            <a:avLst/>
          </a:prstGeom>
          <a:noFill/>
          <a:ln w="936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996600"/>
                </a:solidFill>
                <a:latin typeface="Times New Roman"/>
              </a:rPr>
              <a:t>Формы работ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1413000"/>
            <a:ext cx="7619760" cy="504000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исковая и экскурсионная  работа, работа в школьных музея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а  классных час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2" descr="https://sun165-1.userapi.com/impg/EN_ZBvImRbELqjMeaUYkslhpvPg4WjiGhmFJSg/iRODyXhgm88.jpg?size=1620x2160&amp;quality=95&amp;sign=ec2bf00b71f9610ca7f01bbfe091e182&amp;type=album"/>
          <p:cNvPicPr/>
          <p:nvPr/>
        </p:nvPicPr>
        <p:blipFill>
          <a:blip r:embed="rId1"/>
          <a:stretch/>
        </p:blipFill>
        <p:spPr>
          <a:xfrm>
            <a:off x="5724000" y="3132360"/>
            <a:ext cx="2561400" cy="3415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https://sun9-40.userapi.com/impg/lO2Ck5xr7MIwgsq67A4yO_zOnmAreSRyBEp3xw/CreXnlpkpck.jpg?size=1620x2160&amp;quality=95&amp;sign=3cf18c3c713e719018d482eb2806be9e&amp;type=album"/>
          <p:cNvPicPr/>
          <p:nvPr/>
        </p:nvPicPr>
        <p:blipFill>
          <a:blip r:embed="rId2"/>
          <a:stretch/>
        </p:blipFill>
        <p:spPr>
          <a:xfrm>
            <a:off x="1979640" y="3156120"/>
            <a:ext cx="2543400" cy="3391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936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12" name="Picture 2" descr="C:\Users\1\Desktop\0028-028-Patrioticheskoe-vospitanie-uchaschikhsja-cherez-sistemu-klassnykh-chasov.jpg"/>
          <p:cNvPicPr/>
          <p:nvPr/>
        </p:nvPicPr>
        <p:blipFill>
          <a:blip r:embed="rId1"/>
          <a:stretch/>
        </p:blipFill>
        <p:spPr>
          <a:xfrm>
            <a:off x="1476360" y="692280"/>
            <a:ext cx="6948000" cy="5113080"/>
          </a:xfrm>
          <a:prstGeom prst="rect">
            <a:avLst/>
          </a:prstGeom>
          <a:ln w="12700">
            <a:noFill/>
          </a:ln>
        </p:spPr>
      </p:pic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518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 cap="all">
                <a:solidFill>
                  <a:srgbClr val="996600"/>
                </a:solidFill>
                <a:latin typeface="Times New Roman"/>
              </a:rPr>
              <a:t>Работа с ветеранами Великой </a:t>
            </a:r>
            <a:br>
              <a:rPr sz="2800"/>
            </a:br>
            <a:r>
              <a:rPr b="1" lang="ru-RU" sz="2800" spc="-1" strike="noStrike" cap="all">
                <a:solidFill>
                  <a:srgbClr val="996600"/>
                </a:solidFill>
                <a:latin typeface="Times New Roman"/>
              </a:rPr>
              <a:t>Отечественной войны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600" y="981000"/>
            <a:ext cx="7619760" cy="511452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атриотическом воспитании подрастающего поколения велика роль ветеранов Великой Отечественной войны и других войн, военнослужащих, работников правоохранительных органов. Их выступления на уроках мужества, их рассказы о сражениях с врагом, о подвигах боевых друзей часто служат толчком к началу или активизации поисковой работы. При их поддержке и помощи проводятся уроки памяти, классные часы, памятные ак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2" descr="https://sun165-2.userapi.com/impg/8IqSdnE_ipFx6JSWVjyq2QaSWb11uCqyI_LW7w/uwhIoWo5yGM.jpg?size=1620x2160&amp;quality=95&amp;sign=bccba73bd76f353b57be095454332a82&amp;type=album"/>
          <p:cNvPicPr/>
          <p:nvPr/>
        </p:nvPicPr>
        <p:blipFill>
          <a:blip r:embed="rId1"/>
          <a:stretch/>
        </p:blipFill>
        <p:spPr>
          <a:xfrm>
            <a:off x="4140000" y="3520800"/>
            <a:ext cx="2266560" cy="3022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543440" cy="1152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 cap="all">
                <a:solidFill>
                  <a:srgbClr val="996600"/>
                </a:solidFill>
                <a:latin typeface="Times New Roman"/>
              </a:rPr>
              <a:t>Взаимодействие школы и семьи </a:t>
            </a:r>
            <a:br>
              <a:rPr sz="2400"/>
            </a:br>
            <a:r>
              <a:rPr b="1" lang="ru-RU" sz="2400" spc="-1" strike="noStrike" cap="all">
                <a:solidFill>
                  <a:srgbClr val="996600"/>
                </a:solidFill>
                <a:latin typeface="Times New Roman"/>
              </a:rPr>
              <a:t>по формированию и развитию патриотизма</a:t>
            </a:r>
            <a:br>
              <a:rPr sz="2400"/>
            </a:br>
            <a:r>
              <a:rPr b="1" lang="ru-RU" sz="2400" spc="-1" strike="noStrike" cap="all">
                <a:solidFill>
                  <a:srgbClr val="996600"/>
                </a:solidFill>
                <a:latin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600" y="1484280"/>
            <a:ext cx="7619760" cy="129672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ители, род, Родина, народ – не случайно однокоренные слова. Это своеобразная формула гражданского патриотизма, в основе которой лежат чувства Родины, родства, укорененности в ментальной культуре, сопричастности к иному, к миру других, ответственности и солидарности, любв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Рисунок 2" descr=""/>
          <p:cNvPicPr/>
          <p:nvPr/>
        </p:nvPicPr>
        <p:blipFill>
          <a:blip r:embed="rId1"/>
          <a:stretch/>
        </p:blipFill>
        <p:spPr>
          <a:xfrm>
            <a:off x="1405800" y="3141000"/>
            <a:ext cx="2697480" cy="1728000"/>
          </a:xfrm>
          <a:prstGeom prst="rect">
            <a:avLst/>
          </a:prstGeom>
          <a:ln w="9525">
            <a:noFill/>
          </a:ln>
        </p:spPr>
      </p:pic>
      <p:pic>
        <p:nvPicPr>
          <p:cNvPr id="219" name="Picture 4" descr="https://sun9-42.userapi.com/impg/MQTE_cE4M1yDR8LkmsGym-7QIOojOUaw79VxrQ/Uu8VmCY55m4.jpg?size=2560x1920&amp;quality=95&amp;sign=0a8a1263a70a189a9d57faca2075f9dc&amp;type=album"/>
          <p:cNvPicPr/>
          <p:nvPr/>
        </p:nvPicPr>
        <p:blipFill>
          <a:blip r:embed="rId2"/>
          <a:stretch/>
        </p:blipFill>
        <p:spPr>
          <a:xfrm>
            <a:off x="6445080" y="4869000"/>
            <a:ext cx="2462760" cy="1847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https://sun9-76.userapi.com/impg/P3JdizjjJJ-0vMvIs5toG5XpVlur9r4cMR7ZlA/qE0byB1FZrQ.jpg?size=2560x1920&amp;quality=95&amp;sign=1c9873975934f73a788d6c49722b6c02&amp;type=album"/>
          <p:cNvPicPr/>
          <p:nvPr/>
        </p:nvPicPr>
        <p:blipFill>
          <a:blip r:embed="rId3"/>
          <a:stretch/>
        </p:blipFill>
        <p:spPr>
          <a:xfrm>
            <a:off x="3636000" y="4023720"/>
            <a:ext cx="3024000" cy="226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51280" y="189000"/>
            <a:ext cx="5041440" cy="1800000"/>
          </a:xfrm>
          <a:prstGeom prst="rect">
            <a:avLst/>
          </a:prstGeom>
          <a:noFill/>
          <a:ln w="936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Историческое значение кажд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человека измеряется его заслугами Родине, а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человеческое достоинство – силою ег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патриотизма»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.Г. Чернышев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414920" cy="467964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енные преобразования в нашей стране конц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начал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еков, определившие крутой поворот в новейшей истории России, сопровождаются негативными изменениями в социально-экономической, политической, духовной и культурной сферах жизни общест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бщественном сознании получили широкое распространение равнодушие, эгоизм, индивидуализм, цинизм, немотивированная агрессивность, неуважительное отношение к государству и социальным институт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6000" y="152280"/>
            <a:ext cx="7009920" cy="1537920"/>
          </a:xfrm>
          <a:prstGeom prst="rect">
            <a:avLst/>
          </a:prstGeom>
          <a:noFill/>
          <a:ln w="936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996600"/>
                </a:solidFill>
                <a:latin typeface="Times New Roman"/>
              </a:rPr>
              <a:t>Мероприятия военно-  патриотической направл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11290320" y="1637280"/>
            <a:ext cx="1182240" cy="6382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патриотического воспитания имеют большое значение мероприятия, рассчитанные на пропаганду военной службы, прикладных видов спорта, рассчитанные на участие большого количества молодеж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C:\Мои документы\Работа\Прянишникова\Выступление\rusgerb - копия.bmp"/>
          <p:cNvPicPr/>
          <p:nvPr/>
        </p:nvPicPr>
        <p:blipFill>
          <a:blip r:embed="rId1"/>
          <a:stretch/>
        </p:blipFill>
        <p:spPr>
          <a:xfrm>
            <a:off x="7848720" y="152280"/>
            <a:ext cx="1085400" cy="1314000"/>
          </a:xfrm>
          <a:prstGeom prst="rect">
            <a:avLst/>
          </a:prstGeom>
          <a:ln w="9525">
            <a:noFill/>
          </a:ln>
        </p:spPr>
      </p:pic>
      <p:pic>
        <p:nvPicPr>
          <p:cNvPr id="224" name="Picture 2" descr="https://sun9-45.userapi.com/s/v1/ig2/nip4BwBKOIA2PVWxwIQC6c5yFieAPsx0tP73ptS_DUm17FdESyomL3-6B7iR186OZ14DHvcjybSbo_gTpuzmL17B.jpg?quality=95&amp;as=32x24,48x36,72x54,108x81,160x120,240x180,360x270,480x360,540x405,640x480,720x540,1080x810,1280x960,1440x1080,2560x1920&amp;from=bu&amp;u=k_W3dIJRvMudlmGPZJ6E_jE3tV6Uv0uP5cuivp5Zps4&amp;cs=2560x1920"/>
          <p:cNvPicPr/>
          <p:nvPr/>
        </p:nvPicPr>
        <p:blipFill>
          <a:blip r:embed="rId2"/>
          <a:stretch/>
        </p:blipFill>
        <p:spPr>
          <a:xfrm>
            <a:off x="1475640" y="2781000"/>
            <a:ext cx="3840120" cy="2880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https://sun9-38.userapi.com/impg/YCIVib_qD-Z7K0MpG0hmPev31kAlHFrbYBYvzA/52I5Z0oNpUQ.jpg?size=1200x1599&amp;quality=95&amp;sign=0f7ccafbfc3fe242bbd33a70f6e18b86&amp;type=album"/>
          <p:cNvPicPr/>
          <p:nvPr/>
        </p:nvPicPr>
        <p:blipFill>
          <a:blip r:embed="rId3"/>
          <a:stretch/>
        </p:blipFill>
        <p:spPr>
          <a:xfrm>
            <a:off x="5796000" y="2282760"/>
            <a:ext cx="2908800" cy="3876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936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996600"/>
                </a:solidFill>
                <a:latin typeface="Times New Roman"/>
              </a:rPr>
              <a:t>Будущий защитник Отечества должен быть человеком здоровым, физически сильны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560" cy="411444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жна пропаганда ЗОЖ среди учащихся, создание условий для сохранения здоровья школьников – использование здоровьесберегающих технологий на уроках, развитие физических возможностей на уроках физкультуры и через систему спортивных мероприят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2" descr="https://sun9-41.userapi.com/impg/fP8Dfted5m48d30gM8ySUHOuuqPPqLILXd8fmA/nN9-UgUMjJo.jpg?size=2560x1920&amp;quality=95&amp;sign=2a7ae26b8b9142ead11a45e3ab299934&amp;type=album"/>
          <p:cNvPicPr/>
          <p:nvPr/>
        </p:nvPicPr>
        <p:blipFill>
          <a:blip r:embed="rId1"/>
          <a:stretch/>
        </p:blipFill>
        <p:spPr>
          <a:xfrm>
            <a:off x="1371600" y="2490480"/>
            <a:ext cx="4128120" cy="3096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547640" y="260280"/>
            <a:ext cx="7443360" cy="6121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ное вовлечение учащихся  для участия в спортивных соревнованиях, военно-спортивных праздниках, туристических слетах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Текстовое поле 1"/>
          <p:cNvSpPr/>
          <p:nvPr/>
        </p:nvSpPr>
        <p:spPr>
          <a:xfrm>
            <a:off x="10287000" y="5840640"/>
            <a:ext cx="30477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2" descr="https://sun9-72.userapi.com/impg/LbsfhVNZFdNmvFOQoAQMM7hVDDFZW0laxdk9zQ/-0dbkaeC2i4.jpg?size=1620x2160&amp;quality=95&amp;sign=f4c3ebc2edf3664058abc1bb0a165a1d&amp;type=album"/>
          <p:cNvPicPr/>
          <p:nvPr/>
        </p:nvPicPr>
        <p:blipFill>
          <a:blip r:embed="rId1"/>
          <a:stretch/>
        </p:blipFill>
        <p:spPr>
          <a:xfrm>
            <a:off x="3276000" y="1556640"/>
            <a:ext cx="3724920" cy="4966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936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Заповеди, на основе которых строится  работа по патриотическому воспитанию обучающихс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619760" cy="461592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НИ И ОБЕРЕГАЙ СВОЕ ОТЕЧЕСТВО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ВЛАДЕВАЙ, СОВЕРШЕНСТВУЙ И СОХРАНЯЙ ТРАДИЦИИ И КУЛЬТУРУ СВОЕГО НАРОД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РОЖИ ИСТОРИЕЙ СВОЕГО НА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ЯТО ОТНОСИСЬ К СИМВОЛИКЕ СВОЕЙ СТРА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РЕГИ КРАСОТУ СВОЕГО КР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Ь НАСТОЯЩИМ ПАТРИОТОМ СВОЕЙ СТРА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Текстовое поле 1"/>
          <p:cNvSpPr/>
          <p:nvPr/>
        </p:nvSpPr>
        <p:spPr>
          <a:xfrm>
            <a:off x="10287000" y="6480720"/>
            <a:ext cx="30477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936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560" cy="411444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2" descr="C:\Users\1\Desktop\4651_12816.gif"/>
          <p:cNvPicPr/>
          <p:nvPr/>
        </p:nvPicPr>
        <p:blipFill>
          <a:blip r:embed="rId1"/>
          <a:stretch/>
        </p:blipFill>
        <p:spPr>
          <a:xfrm>
            <a:off x="1403280" y="333360"/>
            <a:ext cx="7561080" cy="6119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371600" y="1285920"/>
            <a:ext cx="7414920" cy="480960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временной ситуации, как никогда необходимо возрождение духовности, воспитания населения, особенно молодежи, в духе любви к Отечеству, прекращение пропаганды насилия, жесток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м фактором в данной ситуации выступает патриотическое воспитание молодого поколения, главная цель которого состоит в создании условий духовно-культурного, экономического возрождения России, формирование социальных и личностных качеств человека для наиболее полной их реализации на благо общества, воспитания гражданина, патриота своей Роди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87280" y="260280"/>
            <a:ext cx="7592760" cy="6337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инный патриотизм предполагает формирование и длительное развитие целого комплекса позитивных качеств. Патриотизм выступает в единстве духовности, гражданственности и социальной активности личности, осознающей свою нераздельность, неразрывность с Отечеств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триотизм формируется в процессе обучения, социализации и воспитания школьни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Картинка 3"/>
          <p:cNvSpPr/>
          <p:nvPr/>
        </p:nvSpPr>
        <p:spPr>
          <a:xfrm>
            <a:off x="9901080" y="1628640"/>
            <a:ext cx="3733560" cy="4114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936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996600"/>
                </a:solidFill>
                <a:latin typeface="Times New Roman"/>
              </a:rPr>
              <a:t>Патриотическое воспитание является одной из важнейших составляющих воспитательного процесса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7619760" cy="411444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го задачами являю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 воспитание у детей и подростков любви к Родине и ее историческому прошлому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 формирование у воспитанников представления  о России, как о многонациональном Отечестве, общем дом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 воспитание юного гражданина, здорового нравственно и физически, способного к защите Отечеств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C:\Мои документы\Работа\Прянишникова\Выступление\орден победы.jpg"/>
          <p:cNvPicPr/>
          <p:nvPr/>
        </p:nvPicPr>
        <p:blipFill>
          <a:blip r:embed="rId1"/>
          <a:stretch/>
        </p:blipFill>
        <p:spPr>
          <a:xfrm>
            <a:off x="6553080" y="5105520"/>
            <a:ext cx="2437920" cy="1599840"/>
          </a:xfrm>
          <a:prstGeom prst="rect">
            <a:avLst/>
          </a:prstGeom>
          <a:ln w="9525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543440" cy="1142640"/>
          </a:xfrm>
          <a:prstGeom prst="rect">
            <a:avLst/>
          </a:prstGeom>
          <a:noFill/>
          <a:ln w="936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6600"/>
                </a:solidFill>
                <a:latin typeface="Times New Roman"/>
              </a:rPr>
              <a:t>Блоками воспитывающей деятельности учащихся являютс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1484280"/>
            <a:ext cx="7543440" cy="514476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66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оздание школьных музеев (музейная педагогик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66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оспитание на традициях семьи, родного кра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66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уризм и краеведе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66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дготовка к защите Родин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66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единой общности россиян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66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патриотического воспитания во внеурочное время (открытые уроки, классные часы, диспуты, общешкольные мероприятия, поездки по местам боевых действий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66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экологическое воспитание как элемент патриотического воспита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2" descr="C:\Users\1\Desktop\Пильна\Рисунок1.jpg"/>
          <p:cNvPicPr/>
          <p:nvPr/>
        </p:nvPicPr>
        <p:blipFill>
          <a:blip r:embed="rId1"/>
          <a:stretch/>
        </p:blipFill>
        <p:spPr>
          <a:xfrm>
            <a:off x="5970600" y="5013360"/>
            <a:ext cx="2777760" cy="1679040"/>
          </a:xfrm>
          <a:prstGeom prst="rect">
            <a:avLst/>
          </a:prstGeom>
          <a:ln w="9525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543440" cy="1142640"/>
          </a:xfrm>
          <a:prstGeom prst="rect">
            <a:avLst/>
          </a:prstGeom>
          <a:noFill/>
          <a:ln w="936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996600"/>
                </a:solidFill>
                <a:latin typeface="Times New Roman"/>
              </a:rPr>
              <a:t>Патриотизм включает в себ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3880" y="2057400"/>
            <a:ext cx="7619760" cy="444312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увство привязанности к своей семье и тем местам, где человек родился и вырос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важительное отношение к жителям своего села, города, своему народу, его языку и культур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елание заботится о других людях и об интересах Родин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" descr="C:\Мои документы\Работа\Прянишникова\орд кр звезды.jpg"/>
          <p:cNvPicPr/>
          <p:nvPr/>
        </p:nvPicPr>
        <p:blipFill>
          <a:blip r:embed="rId1"/>
          <a:stretch/>
        </p:blipFill>
        <p:spPr>
          <a:xfrm>
            <a:off x="1143000" y="1000080"/>
            <a:ext cx="1257120" cy="1193400"/>
          </a:xfrm>
          <a:prstGeom prst="rect">
            <a:avLst/>
          </a:prstGeom>
          <a:ln w="9525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543440" cy="1142640"/>
          </a:xfrm>
          <a:prstGeom prst="rect">
            <a:avLst/>
          </a:prstGeom>
          <a:noFill/>
          <a:ln w="936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996600"/>
                </a:solidFill>
                <a:latin typeface="Times New Roman"/>
              </a:rPr>
              <a:t>Патриотизм включает в себ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2057400"/>
            <a:ext cx="7619760" cy="444312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ознание долга перед людьми ближайшего окружения, местом своего проживания, Родиной, отстаивание её чести и достоинства, свободы и независимости, готовность к защите Отечеств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явление гражданских чувств и верности Родин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дость за социальные и культурные достижения своей стран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4" descr="C:\Мои документы\Работа\Прянишникова\орд кр звезды.jpg"/>
          <p:cNvPicPr/>
          <p:nvPr/>
        </p:nvPicPr>
        <p:blipFill>
          <a:blip r:embed="rId1"/>
          <a:stretch/>
        </p:blipFill>
        <p:spPr>
          <a:xfrm>
            <a:off x="1143000" y="1000080"/>
            <a:ext cx="1257120" cy="1193400"/>
          </a:xfrm>
          <a:prstGeom prst="rect">
            <a:avLst/>
          </a:prstGeom>
          <a:ln w="9525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543440" cy="985320"/>
          </a:xfrm>
          <a:prstGeom prst="rect">
            <a:avLst/>
          </a:prstGeom>
          <a:noFill/>
          <a:ln w="936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996600"/>
                </a:solidFill>
                <a:latin typeface="Times New Roman"/>
              </a:rPr>
              <a:t>Патриотизм включает в себя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4280" y="1500120"/>
            <a:ext cx="7929360" cy="505260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дость за своё Отечество, символы государства, за свой народ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ажительное отношение к историческому прошлому своей большой и малой Родины, своего народа, его обычаям и традиция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етственность за судьбу Родины и своего народа, их будущее, выраженное в стремлении посвящать свой труд, способности укреплению могущества и расцвету Родин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96600"/>
              </a:buClr>
              <a:buFont typeface="Wingdings" charset="2"/>
              <a:buChar char="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уманизм, милосердие, общечеловеческие цен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4" descr="C:\Мои документы\Работа\Прянишникова\орд кр звезды.jpg"/>
          <p:cNvPicPr/>
          <p:nvPr/>
        </p:nvPicPr>
        <p:blipFill>
          <a:blip r:embed="rId1"/>
          <a:stretch/>
        </p:blipFill>
        <p:spPr>
          <a:xfrm>
            <a:off x="500040" y="357120"/>
            <a:ext cx="1257120" cy="1193400"/>
          </a:xfrm>
          <a:prstGeom prst="rect">
            <a:avLst/>
          </a:prstGeom>
          <a:ln w="9525">
            <a:noFill/>
          </a:ln>
        </p:spPr>
      </p:pic>
      <p:pic>
        <p:nvPicPr>
          <p:cNvPr id="192" name="Рисунок 6" descr="Герб России.jpg"/>
          <p:cNvPicPr/>
          <p:nvPr/>
        </p:nvPicPr>
        <p:blipFill>
          <a:blip r:embed="rId2"/>
          <a:stretch/>
        </p:blipFill>
        <p:spPr>
          <a:xfrm>
            <a:off x="7715160" y="1285920"/>
            <a:ext cx="964800" cy="1150560"/>
          </a:xfrm>
          <a:prstGeom prst="rect">
            <a:avLst/>
          </a:prstGeom>
          <a:ln w="9525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Стратегия">
  <a:themeElements>
    <a:clrScheme name="Стратегия 2">
      <a:dk1>
        <a:srgbClr val="000000"/>
      </a:dk1>
      <a:lt1>
        <a:srgbClr val="e9e2b6"/>
      </a:lt1>
      <a:dk2>
        <a:srgbClr val="996600"/>
      </a:dk2>
      <a:lt2>
        <a:srgbClr val="786950"/>
      </a:lt2>
      <a:accent1>
        <a:srgbClr val="727de0"/>
      </a:accent1>
      <a:accent2>
        <a:srgbClr val="d54f41"/>
      </a:accent2>
      <a:accent3>
        <a:srgbClr val="f2eed7"/>
      </a:accent3>
      <a:accent4>
        <a:srgbClr val="000000"/>
      </a:accent4>
      <a:accent5>
        <a:srgbClr val="bcbfed"/>
      </a:accent5>
      <a:accent6>
        <a:srgbClr val="c1473a"/>
      </a:accent6>
      <a:hlink>
        <a:srgbClr val="003300"/>
      </a:hlink>
      <a:folHlink>
        <a:srgbClr val="33993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тратегия">
  <a:themeElements>
    <a:clrScheme name="Стратегия 2">
      <a:dk1>
        <a:srgbClr val="000000"/>
      </a:dk1>
      <a:lt1>
        <a:srgbClr val="e9e2b6"/>
      </a:lt1>
      <a:dk2>
        <a:srgbClr val="996600"/>
      </a:dk2>
      <a:lt2>
        <a:srgbClr val="786950"/>
      </a:lt2>
      <a:accent1>
        <a:srgbClr val="727de0"/>
      </a:accent1>
      <a:accent2>
        <a:srgbClr val="d54f41"/>
      </a:accent2>
      <a:accent3>
        <a:srgbClr val="f2eed7"/>
      </a:accent3>
      <a:accent4>
        <a:srgbClr val="000000"/>
      </a:accent4>
      <a:accent5>
        <a:srgbClr val="bcbfed"/>
      </a:accent5>
      <a:accent6>
        <a:srgbClr val="c1473a"/>
      </a:accent6>
      <a:hlink>
        <a:srgbClr val="003300"/>
      </a:hlink>
      <a:folHlink>
        <a:srgbClr val="33993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тратегия">
  <a:themeElements>
    <a:clrScheme name="Стратегия 2">
      <a:dk1>
        <a:srgbClr val="000000"/>
      </a:dk1>
      <a:lt1>
        <a:srgbClr val="e9e2b6"/>
      </a:lt1>
      <a:dk2>
        <a:srgbClr val="996600"/>
      </a:dk2>
      <a:lt2>
        <a:srgbClr val="786950"/>
      </a:lt2>
      <a:accent1>
        <a:srgbClr val="727de0"/>
      </a:accent1>
      <a:accent2>
        <a:srgbClr val="d54f41"/>
      </a:accent2>
      <a:accent3>
        <a:srgbClr val="f2eed7"/>
      </a:accent3>
      <a:accent4>
        <a:srgbClr val="000000"/>
      </a:accent4>
      <a:accent5>
        <a:srgbClr val="bcbfed"/>
      </a:accent5>
      <a:accent6>
        <a:srgbClr val="c1473a"/>
      </a:accent6>
      <a:hlink>
        <a:srgbClr val="003300"/>
      </a:hlink>
      <a:folHlink>
        <a:srgbClr val="33993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Стратегия">
  <a:themeElements>
    <a:clrScheme name="Стратегия 2">
      <a:dk1>
        <a:srgbClr val="000000"/>
      </a:dk1>
      <a:lt1>
        <a:srgbClr val="e9e2b6"/>
      </a:lt1>
      <a:dk2>
        <a:srgbClr val="996600"/>
      </a:dk2>
      <a:lt2>
        <a:srgbClr val="786950"/>
      </a:lt2>
      <a:accent1>
        <a:srgbClr val="727de0"/>
      </a:accent1>
      <a:accent2>
        <a:srgbClr val="d54f41"/>
      </a:accent2>
      <a:accent3>
        <a:srgbClr val="f2eed7"/>
      </a:accent3>
      <a:accent4>
        <a:srgbClr val="000000"/>
      </a:accent4>
      <a:accent5>
        <a:srgbClr val="bcbfed"/>
      </a:accent5>
      <a:accent6>
        <a:srgbClr val="c1473a"/>
      </a:accent6>
      <a:hlink>
        <a:srgbClr val="003300"/>
      </a:hlink>
      <a:folHlink>
        <a:srgbClr val="33993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:\Program Files\Microsoft Office\Templates\Presentation Designs\Стратегия.pot</Template>
  <TotalTime>149</TotalTime>
  <Application>LibreOffice/7.4.7.2$Linux_X86_64 LibreOffice_project/40$Build-2</Application>
  <AppVersion>15.0000</AppVersion>
  <Words>1125</Words>
  <Paragraphs>82</Paragraphs>
  <Company>1099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9:59:00Z</dcterms:created>
  <dc:creator>Main</dc:creator>
  <dc:description/>
  <dc:language>en-US</dc:language>
  <cp:lastModifiedBy>Светлана</cp:lastModifiedBy>
  <dcterms:modified xsi:type="dcterms:W3CDTF">2024-11-29T15:06:12Z</dcterms:modified>
  <cp:revision>144</cp:revision>
  <dc:subject/>
  <dc:title>1. Патриотическое воспитание является одной из важнейших составляющих воспитательного процесс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E8714470879D4FE297CA4DD267283673_12</vt:lpwstr>
  </property>
  <property fmtid="{D5CDD505-2E9C-101B-9397-08002B2CF9AE}" pid="3" name="KSOProductBuildVer">
    <vt:lpwstr>1049-12.2.0.18911</vt:lpwstr>
  </property>
  <property fmtid="{D5CDD505-2E9C-101B-9397-08002B2CF9AE}" pid="4" name="PresentationFormat">
    <vt:lpwstr>Экран (4:3)</vt:lpwstr>
  </property>
  <property fmtid="{D5CDD505-2E9C-101B-9397-08002B2CF9AE}" pid="5" name="Slides">
    <vt:r8>24</vt:r8>
  </property>
</Properties>
</file>