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6184-5F07-408E-8D19-D6830DD8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3DC5-1344-4F61-B12F-02FDCF01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99E3-9C1D-4FAA-8631-B22D4DE9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8347-E243-4249-9C0D-A6BC784F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F135-A69E-4252-AB83-F363E944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DB1-BCBC-45DF-96DC-110E878E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EDC-8B0A-42D4-BC24-3421F6AC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1D34-544F-41BD-BB03-CEA0D065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5802-BE90-498A-989F-C9E2B30C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8C41-D016-4C28-A219-E9392EC3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8EB-DE9B-44DB-A63A-3FBB5869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C19-CA9F-4747-979E-17D6DBAB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C09A-6085-4539-B2DF-70AC48064F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76;&#1077;&#1083;&#1086;&#1074;&#1086;&#1081;%20&#1101;&#1090;&#1080;&#1082;&#1077;&#1090;.ppt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льтура делового об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Коммуникация, или общ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— специфическая форм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заимодействия людей в процессе их познавательно-трудово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C:\Users\саша\Desktop\kisspng-animation-animated-cartoon-communication-video-pub-5b3ca3cc47eef9.3177669115307007482947.jpg"/>
          <p:cNvPicPr/>
          <p:nvPr/>
        </p:nvPicPr>
        <p:blipFill>
          <a:blip r:embed="rId1"/>
          <a:stretch/>
        </p:blipFill>
        <p:spPr>
          <a:xfrm>
            <a:off x="4429080" y="3857760"/>
            <a:ext cx="360684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льтура делов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43240" y="1071360"/>
            <a:ext cx="45720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ют правила, которые могут повысить эффективнос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тной связи в процессе об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 правила необходимо зна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ому, кто в процессе своей деятельност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о общается с люд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:\Users\саша\Desktop\scale_1200 (1).png"/>
          <p:cNvPicPr/>
          <p:nvPr/>
        </p:nvPicPr>
        <p:blipFill>
          <a:blip r:embed="rId1"/>
          <a:stretch/>
        </p:blipFill>
        <p:spPr>
          <a:xfrm>
            <a:off x="214200" y="1785960"/>
            <a:ext cx="42148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льтура делов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143160" y="1052640"/>
            <a:ext cx="5554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ленные регламентом правила и ограничения определяются: типом делового общения, формой, степенью официальности, конкретными целями и задачами, которые стоят перед общающимися, а также национально-культурными традициями и общественными нормами поведе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Users\саша\Desktop\e8da1f9de6e0f5adfeb96a149818ff8a.jpg"/>
          <p:cNvPicPr/>
          <p:nvPr/>
        </p:nvPicPr>
        <p:blipFill>
          <a:blip r:embed="rId1"/>
          <a:stretch/>
        </p:blipFill>
        <p:spPr>
          <a:xfrm>
            <a:off x="281160" y="1455840"/>
            <a:ext cx="314784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ccecff"/>
            </a:gs>
            <a:gs pos="100000">
              <a:srgbClr val="cc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ультура делов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71560" y="999720"/>
            <a:ext cx="5357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евая коммуникация считается эффективной, если передаваемо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бщение правильно интерпретируется и восприним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ым условием эффективности в деловом общении является  умение слушать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Users\саша\Desktop\transparent-people-clip-art-child-cartoon-sharing-5d79b1c89c6596.0229935315682564566406.jpg"/>
          <p:cNvPicPr/>
          <p:nvPr/>
        </p:nvPicPr>
        <p:blipFill>
          <a:blip r:embed="rId1"/>
          <a:stretch/>
        </p:blipFill>
        <p:spPr>
          <a:xfrm>
            <a:off x="214200" y="1500120"/>
            <a:ext cx="36435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туация делов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14520" y="1071720"/>
            <a:ext cx="47149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го официальная (протокольные виды делового общен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ициальная (непротоколируемое деловое общени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фициальная (деловое общение в рабочей и в нерабочей обстановк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:\Users\саша\Desktop\scale_1200.png"/>
          <p:cNvPicPr/>
          <p:nvPr/>
        </p:nvPicPr>
        <p:blipFill>
          <a:blip r:embed="rId1"/>
          <a:stretch/>
        </p:blipFill>
        <p:spPr>
          <a:xfrm>
            <a:off x="376200" y="1500120"/>
            <a:ext cx="37400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ормы деловых отнош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00360" y="1214280"/>
            <a:ext cx="4429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ременный человек должен знать нормы деловых отношений,  уметь устанавливать и поддерживать отношения с людьми, преодолевать противоречия,  разрешать конфликты, брать на себя в случае необходимости роль посредни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Users\саша\Desktop\МЕДИАЦИЯ  КАРТИНКА.jpg"/>
          <p:cNvPicPr/>
          <p:nvPr/>
        </p:nvPicPr>
        <p:blipFill>
          <a:blip r:embed="rId1"/>
          <a:stretch/>
        </p:blipFill>
        <p:spPr>
          <a:xfrm>
            <a:off x="285840" y="1714680"/>
            <a:ext cx="442908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обенностью делового общения явля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29120" y="981000"/>
            <a:ext cx="37576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регламен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рядок, устанавливаемый при проведении заседаний, собр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:\Users\саша\Desktop\vstrecha-i-soveshchanie-animatsionnaya-kartinka-0154.jpg"/>
          <p:cNvPicPr/>
          <p:nvPr/>
        </p:nvPicPr>
        <p:blipFill>
          <a:blip r:embed="rId1"/>
          <a:stretch/>
        </p:blipFill>
        <p:spPr>
          <a:xfrm>
            <a:off x="214200" y="1643040"/>
            <a:ext cx="46674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овой этик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а делового общения фиксируются в виде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делового (дипломатического) этике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ют в виде общепринятых норм поведения, этикетных требований, ограничений временных рамок 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755640" y="4724280"/>
            <a:ext cx="15415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овой русский язык отличается от привычного нам (в обиходе используемого) разговорного стиля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следить за тем, что, как и где вы говорите. Для каждой ситуации характерен свой стиль общения, но главным условием остается по – прежнему вежливое и корректное общени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713880" y="0"/>
            <a:ext cx="735804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61560" indent="-61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саша\Desktop\scale_1200.jpg"/>
          <p:cNvPicPr/>
          <p:nvPr/>
        </p:nvPicPr>
        <p:blipFill>
          <a:blip r:embed="rId1"/>
          <a:stretch/>
        </p:blipFill>
        <p:spPr>
          <a:xfrm>
            <a:off x="1643040" y="1714680"/>
            <a:ext cx="57150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узком смысле слова — это обмен информацией между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убъек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ъек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акция 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х взаимодействие, предполагающее определенную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 организации совмест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еловая коммуни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29040" y="1125000"/>
            <a:ext cx="475776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амый массовый вид взаимодействи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юдей в общест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делового общения не обойтись в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личных сфер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ческ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вы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пломатическ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ерчески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министративных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C:\Users\саша\Desktop\kisspng-problem-based-learning-problem-solving-teamwork-sc-autism-5ac74f74bde3c0.7369304815230114447778.jpg"/>
          <p:cNvPicPr/>
          <p:nvPr/>
        </p:nvPicPr>
        <p:blipFill>
          <a:blip r:embed="rId1"/>
          <a:stretch/>
        </p:blipFill>
        <p:spPr>
          <a:xfrm>
            <a:off x="279360" y="1071720"/>
            <a:ext cx="34797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еловая коммуник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57440" y="1500120"/>
            <a:ext cx="45003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ключает все многообразие функций об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ммуникативную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рактивную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цептивну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саша\Desktop\01757926.jpg"/>
          <p:cNvPicPr/>
          <p:nvPr/>
        </p:nvPicPr>
        <p:blipFill>
          <a:blip r:embed="rId1"/>
          <a:stretch/>
        </p:blipFill>
        <p:spPr>
          <a:xfrm>
            <a:off x="325440" y="1714680"/>
            <a:ext cx="4032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речевой коммуник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14440" y="980640"/>
            <a:ext cx="57150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ются по следующим признак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я общения: прямое общение с активной обратной связью— диалог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е общение с пассивной связью — письменное распоряж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осредованное общение - выступления по радио, телевидени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оличество участников— монолог, диалог, полило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Users\саша\Desktop\original-2048x2048.png"/>
          <p:cNvPicPr/>
          <p:nvPr/>
        </p:nvPicPr>
        <p:blipFill>
          <a:blip r:embed="rId1"/>
          <a:stretch/>
        </p:blipFill>
        <p:spPr>
          <a:xfrm>
            <a:off x="214200" y="1138320"/>
            <a:ext cx="30006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ы речевой коммуник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ределяются по следующим признакам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0" y="1356840"/>
            <a:ext cx="4114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общ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информирование, убеждение, развле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 ситу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деловое общение, бытовое общени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Users\саша\Desktop\IMG_0587.jpg"/>
          <p:cNvPicPr/>
          <p:nvPr/>
        </p:nvPicPr>
        <p:blipFill>
          <a:blip r:embed="rId1"/>
          <a:stretch/>
        </p:blipFill>
        <p:spPr>
          <a:xfrm>
            <a:off x="285840" y="1300320"/>
            <a:ext cx="458784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бщ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плановый процесс развития контактов между людьм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ождаемый потребностями совместн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Он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мен информацией между ее участниками (коммуникативная сторона общ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е, когда в процессе речи происходит обмен не тольк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ами, но и действиями, поступк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риятие общающимися друг  д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Деловое общ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14880" y="1428840"/>
            <a:ext cx="44719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ние с целью решения соответствующих практических проблем, ситуаций, когда необходимо направить или изменить деятельность других людей для выполнения конкретного 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:\Users\саша\Desktop\PM会議中.jpg"/>
          <p:cNvPicPr/>
          <p:nvPr/>
        </p:nvPicPr>
        <p:blipFill>
          <a:blip r:embed="rId1"/>
          <a:stretch/>
        </p:blipFill>
        <p:spPr>
          <a:xfrm>
            <a:off x="247680" y="2143080"/>
            <a:ext cx="41814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ровни об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2880" y="1413000"/>
            <a:ext cx="45435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ние может происходить на манипулятивном, примитивном или высшем уровне. Каждому уровню общения свойственно определенное поведение собесед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нипулятивный уровень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ключается в том, что один из собеседников пытается вызвать сочувствие, жалость партн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итивный уровен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ределяется, когда один партнер по общению подавляет друг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ший уровен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тот уровень общения, когда независимо от статуса партнеры относятся друг к другу как к равно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Users\саша\Desktop\82da94c9b743f2c29666a08e93fea6fc.jpg"/>
          <p:cNvPicPr/>
          <p:nvPr/>
        </p:nvPicPr>
        <p:blipFill>
          <a:blip r:embed="rId1"/>
          <a:stretch/>
        </p:blipFill>
        <p:spPr>
          <a:xfrm>
            <a:off x="285840" y="1500120"/>
            <a:ext cx="38098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8:55:16Z</dcterms:created>
  <dc:creator>Ирина</dc:creator>
  <dc:description/>
  <dc:language>en-US</dc:language>
  <cp:lastModifiedBy>саша</cp:lastModifiedBy>
  <dcterms:modified xsi:type="dcterms:W3CDTF">2021-10-27T08:20:59Z</dcterms:modified>
  <cp:revision>40</cp:revision>
  <dc:subject/>
  <dc:title>Культура делового общения</dc:title>
</cp:coreProperties>
</file>