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D2C-5B3F-439B-95A7-8A524B61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243-7A63-4F0B-8DF0-CE62CA0D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CCA-3340-468F-B883-7349B517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758-35FB-4732-8A05-165FC57D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5A2-A150-42F2-8FF5-608F1450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0A7-8EEC-4402-ABA9-102F93FF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A81-5880-43B7-85D1-2849BD17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657-D8C0-4E32-B70E-6E0C9BE5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0C0-B559-4882-A536-98B39F66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0C0-9BC7-451F-918F-13305C9B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468-574F-4CA6-9394-45437FC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0D3-5E44-426F-AC88-D63F0498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6E70-020E-4027-A205-FBACC6761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S VTCorona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_01"/>
          <p:cNvPicPr/>
          <p:nvPr/>
        </p:nvPicPr>
        <p:blipFill>
          <a:blip r:embed="rId1"/>
          <a:stretch/>
        </p:blipFill>
        <p:spPr>
          <a:xfrm rot="975000">
            <a:off x="4878000" y="684360"/>
            <a:ext cx="3618000" cy="3097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539640" y="4005360"/>
            <a:ext cx="835344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00"/>
                </a:solidFill>
                <a:latin typeface="DS VTCorona Cyr"/>
              </a:rPr>
              <a:t>БОЛЬШОЙ ВОЙНЫ</a:t>
            </a:r>
            <a:endParaRPr b="0" lang="en-US" sz="54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DS VTCorona Cyr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55640" y="1700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DS VTCorona Cyr"/>
              </a:rPr>
              <a:t>МАЛЕНЬКИЕ ГЕРОИ</a:t>
            </a:r>
            <a:endParaRPr b="0" lang="en-US" sz="4000" spc="-1" strike="noStrike">
              <a:solidFill>
                <a:srgbClr val="000000"/>
              </a:solidFill>
              <a:latin typeface="DS VTCorona Cyr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020120" y="5516640"/>
            <a:ext cx="468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DS VTCorona Cyr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DS VTCorona Cyr"/>
              </a:rPr>
              <a:t>воспитатель МБДОУ д/с №36 «Золушка»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DS VTCorona Cyr"/>
              </a:rPr>
              <a:t>Собка Юлия Александровна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533920" y="189000"/>
            <a:ext cx="3502080" cy="482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79280" y="404640"/>
            <a:ext cx="5472360" cy="27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DS VTCorona Cyr"/>
              </a:rPr>
              <a:t>ЛЁНЯ ГОЛИКОВ</a:t>
            </a:r>
            <a:endParaRPr b="0" lang="en-US" sz="32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ликов Леонид Александрович</a:t>
            </a:r>
            <a:r>
              <a:rPr b="1" lang="ru-RU" sz="2000" spc="-1" strike="noStrike">
                <a:solidFill>
                  <a:srgbClr val="000000"/>
                </a:solidFill>
                <a:latin typeface="DS VTCorona Cy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(17 июня 1926 – 24 января 1943)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 в деревне Лукино, на берегу реки Полы, что впадает в легендарное Ильмень-озеро. Когда его родную деревню захватил враг, мальчик ушел к партизанам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395280" y="3357720"/>
            <a:ext cx="4752720" cy="3093840"/>
            <a:chOff x="395280" y="3357720"/>
            <a:chExt cx="4752720" cy="3093840"/>
          </a:xfrm>
        </p:grpSpPr>
        <p:pic>
          <p:nvPicPr>
            <p:cNvPr id="76" name="Picture 6" descr=""/>
            <p:cNvPicPr/>
            <p:nvPr/>
          </p:nvPicPr>
          <p:blipFill>
            <a:blip r:embed="rId2"/>
            <a:stretch/>
          </p:blipFill>
          <p:spPr>
            <a:xfrm>
              <a:off x="554040" y="3357720"/>
              <a:ext cx="3982320" cy="27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/>
            <p:cNvSpPr/>
            <p:nvPr/>
          </p:nvSpPr>
          <p:spPr>
            <a:xfrm>
              <a:off x="395280" y="608328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DS VTCorona Cyr"/>
                </a:rPr>
                <a:t>д. Лукино (Новгородская область</a:t>
              </a:r>
              <a:r>
                <a:rPr b="1" lang="ru-RU" sz="1800" spc="-1" strike="noStrike">
                  <a:solidFill>
                    <a:srgbClr val="000000"/>
                  </a:solidFill>
                  <a:latin typeface="DS VTCorona Cyr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sp>
        <p:nvSpPr>
          <p:cNvPr id="78" name="Text Box 9"/>
          <p:cNvSpPr/>
          <p:nvPr/>
        </p:nvSpPr>
        <p:spPr>
          <a:xfrm>
            <a:off x="5580000" y="5229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ёня Голиков участвовал в 27 боевых операциях на территориях Псковской и Новгородской областей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79280" y="333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DS VTCorona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спасение раненого товарища награждён медалью «За отвагу».</a:t>
            </a:r>
            <a:endParaRPr b="0" lang="en-US" sz="2400" spc="-1" strike="noStrike">
              <a:solidFill>
                <a:srgbClr val="000000"/>
              </a:solidFill>
              <a:latin typeface="DS VTCorona Cyr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79280" y="1413000"/>
            <a:ext cx="489744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 августа 1942 года, возвращаясь из разведки партизан Голиков подорвал легковую машину, в которой находился немецкий генерал-майор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иков в перестрелке застрелил из автомата генерала, сопровождавшего его офицера и шофёра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штаб бригады разведчик вернулся в немецком генеральском кителе, неся с собой портфель с документами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х числе были чертежи и описание новых образцов немецких мин и другие важные бумаги военного характера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этот подвиг представлен к звани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ой Советского Союза.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3692520" cy="5256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10"/>
          <p:cNvGrpSpPr/>
          <p:nvPr/>
        </p:nvGrpSpPr>
        <p:grpSpPr>
          <a:xfrm>
            <a:off x="4932360" y="1076400"/>
            <a:ext cx="4032360" cy="5227200"/>
            <a:chOff x="4932360" y="1076400"/>
            <a:chExt cx="4032360" cy="5227200"/>
          </a:xfrm>
        </p:grpSpPr>
        <p:pic>
          <p:nvPicPr>
            <p:cNvPr id="83" name="Picture 8" descr=""/>
            <p:cNvPicPr/>
            <p:nvPr/>
          </p:nvPicPr>
          <p:blipFill>
            <a:blip r:embed="rId2"/>
            <a:stretch/>
          </p:blipFill>
          <p:spPr>
            <a:xfrm>
              <a:off x="4938840" y="1076400"/>
              <a:ext cx="402588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4932360" y="5661000"/>
              <a:ext cx="40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DS VTCorona Cyr"/>
                </a:rPr>
                <a:t>Мемориальная доска на месте подвига Л.Голикова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1"/>
          <p:cNvGrpSpPr/>
          <p:nvPr/>
        </p:nvGrpSpPr>
        <p:grpSpPr>
          <a:xfrm>
            <a:off x="4179600" y="1457280"/>
            <a:ext cx="5056560" cy="4333320"/>
            <a:chOff x="4179600" y="1457280"/>
            <a:chExt cx="5056560" cy="4333320"/>
          </a:xfrm>
        </p:grpSpPr>
        <p:pic>
          <p:nvPicPr>
            <p:cNvPr id="86" name="Picture 8" descr=""/>
            <p:cNvPicPr/>
            <p:nvPr/>
          </p:nvPicPr>
          <p:blipFill>
            <a:blip r:embed="rId1"/>
            <a:stretch/>
          </p:blipFill>
          <p:spPr>
            <a:xfrm rot="370800">
              <a:off x="4355640" y="1699920"/>
              <a:ext cx="4703760" cy="35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 rot="412800">
              <a:off x="5076360" y="522936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DS VTCorona Cyr"/>
                </a:rPr>
                <a:t>Памятник в д. Лукино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sp>
        <p:nvSpPr>
          <p:cNvPr id="88" name="Text Box 4"/>
          <p:cNvSpPr/>
          <p:nvPr/>
        </p:nvSpPr>
        <p:spPr>
          <a:xfrm>
            <a:off x="108000" y="40464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4 января 194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года в неравном бою в селе Острая Лука Псковской области Леонид Голиков погиб.</a:t>
            </a: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108000" y="1449360"/>
            <a:ext cx="5111640" cy="5433480"/>
            <a:chOff x="108000" y="1449360"/>
            <a:chExt cx="5111640" cy="5433480"/>
          </a:xfrm>
        </p:grpSpPr>
        <p:pic>
          <p:nvPicPr>
            <p:cNvPr id="90" name="Picture 5" descr=""/>
            <p:cNvPicPr/>
            <p:nvPr/>
          </p:nvPicPr>
          <p:blipFill>
            <a:blip r:embed="rId2"/>
            <a:stretch/>
          </p:blipFill>
          <p:spPr>
            <a:xfrm>
              <a:off x="755640" y="1449360"/>
              <a:ext cx="3637080" cy="47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6"/>
            <p:cNvSpPr/>
            <p:nvPr/>
          </p:nvSpPr>
          <p:spPr>
            <a:xfrm>
              <a:off x="108000" y="6302160"/>
              <a:ext cx="511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DS VTCorona Cyr"/>
                </a:rPr>
                <a:t>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DS VTCorona Cyr"/>
                </a:rPr>
                <a:t>Памятник на месте гибели Лёни Голикова</a:t>
              </a:r>
              <a:endParaRPr b="0" lang="en-US" sz="16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sp>
        <p:nvSpPr>
          <p:cNvPr id="92" name="Text Box 9"/>
          <p:cNvSpPr/>
          <p:nvPr/>
        </p:nvSpPr>
        <p:spPr>
          <a:xfrm>
            <a:off x="4572000" y="522936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rcRect l="9763" t="0" r="8734" b="0"/>
          <a:stretch/>
        </p:blipFill>
        <p:spPr>
          <a:xfrm>
            <a:off x="5796000" y="404640"/>
            <a:ext cx="3024000" cy="5112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2360" y="792000"/>
            <a:ext cx="525636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DS VTCorona Cyr"/>
              </a:rPr>
              <a:t>2 апреля 1944 г.</a:t>
            </a:r>
            <a:endParaRPr b="0" lang="en-US" sz="4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S VTCorona Cyr"/>
              </a:rPr>
              <a:t>Леониду Голикову</a:t>
            </a:r>
            <a:r>
              <a:rPr b="0" lang="ru-RU" sz="4000" spc="-1" strike="noStrike">
                <a:solidFill>
                  <a:srgbClr val="000000"/>
                </a:solidFill>
                <a:latin typeface="DS VTCorona Cyr"/>
              </a:rPr>
              <a:t> было присвоено звание </a:t>
            </a:r>
            <a:r>
              <a:rPr b="0" lang="ru-RU" sz="4000" spc="-1" strike="noStrike">
                <a:solidFill>
                  <a:srgbClr val="ff0000"/>
                </a:solidFill>
                <a:latin typeface="DS VTCorona Cyr"/>
              </a:rPr>
              <a:t>Героя Советского Союза.</a:t>
            </a:r>
            <a:endParaRPr b="0" lang="en-US" sz="4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DS VTCorona Cyr"/>
              </a:rPr>
              <a:t>Посмертно.</a:t>
            </a:r>
            <a:endParaRPr b="0" lang="en-US" sz="4400" spc="-1" strike="noStrike">
              <a:solidFill>
                <a:srgbClr val="000000"/>
              </a:solidFill>
              <a:latin typeface="DS VTCorona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332320" y="260280"/>
            <a:ext cx="3560760" cy="453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539640" y="620640"/>
            <a:ext cx="475308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DS VTCorona Cyr"/>
              </a:rPr>
              <a:t>МОИСЕЙ ПИНКЕНЗОН</a:t>
            </a:r>
            <a:endParaRPr b="0" lang="en-US" sz="28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нкензон Моисей Владимиро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(5 декабря 1930 – ноябрь 1942)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лся в г. Бельцы, в Румынии, сын врача Владимира Борисовича Пинкензона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детства учился играть на скрипке, и когда ему было пять лет, местная газета уже писала о нем как о скрипаче-вундеркинде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41 Владимир Борисович Пинкензон получил направление в военный госпиталь в Усть-Лабинск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нт приблизился к станице Усть-Лабинской. Немецкие войска вошли в станицу настолько неожиданно, что многие не успели никуда выехать. Вскоре семью Мусика арестовали как евреев. Их ожидал расстрел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51280" cy="2936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24000" y="360684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шистский офицер оцепенел от ярости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стань! — орал он, потрясая перед скрипачом пистолетом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Муся не обращал на него внимания, он торопился. Надо еще успеть, еще немного..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ался выстрел, за ним второй..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ся опустился на колени, все еще держа в руках скрипку, смычок выскользнул из рук, и скрипка замолчала навсегда вместе с прерванной жизнью маленького героя. Но стоявшие перед фашистскими палачами люди подхватили песню, и она продолжала звучать над рекой, пока последний из певших не упал, пробитый пулей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716360" y="476280"/>
            <a:ext cx="3743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DS VTCorona Cyr"/>
              </a:rPr>
              <a:t>Он не закрыл грудью амбразуру дзота. Не бросился со связкой гранат под гусеницы вражеского танка. У него в руках была только скрипка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DS VTCorona Cyr"/>
              </a:rPr>
              <a:t>Муся прижал голову к скрипке. Сначала неуверенно, но вот мелодия «Интернационала» вырвалась и поплыла над Кубанью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9"/>
          <p:cNvGrpSpPr/>
          <p:nvPr/>
        </p:nvGrpSpPr>
        <p:grpSpPr>
          <a:xfrm>
            <a:off x="-181080" y="260280"/>
            <a:ext cx="4248360" cy="5842080"/>
            <a:chOff x="-181080" y="260280"/>
            <a:chExt cx="4248360" cy="5842080"/>
          </a:xfrm>
        </p:grpSpPr>
        <p:pic>
          <p:nvPicPr>
            <p:cNvPr id="101" name="Picture 4" descr="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3600720" cy="54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-181080" y="5734080"/>
              <a:ext cx="42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DS VTCorona Cyr"/>
                </a:rPr>
                <a:t>Памятник на месте расстрела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pic>
        <p:nvPicPr>
          <p:cNvPr id="103" name="Picture 7" descr="Musik-1"/>
          <p:cNvPicPr/>
          <p:nvPr/>
        </p:nvPicPr>
        <p:blipFill>
          <a:blip r:embed="rId2"/>
          <a:stretch/>
        </p:blipFill>
        <p:spPr>
          <a:xfrm>
            <a:off x="4573440" y="333360"/>
            <a:ext cx="4319640" cy="3887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427640" y="4581360"/>
            <a:ext cx="44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вший переулок Пушкина в Бельцах с 2007 года носит имя Муси Пинкензона.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395280" y="333360"/>
            <a:ext cx="2109960" cy="2887560"/>
            <a:chOff x="395280" y="333360"/>
            <a:chExt cx="2109960" cy="2887560"/>
          </a:xfrm>
        </p:grpSpPr>
        <p:pic>
          <p:nvPicPr>
            <p:cNvPr id="106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210996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"/>
            <p:cNvSpPr/>
            <p:nvPr/>
          </p:nvSpPr>
          <p:spPr>
            <a:xfrm>
              <a:off x="395280" y="285264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ВАЛЯ КОТИК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grpSp>
        <p:nvGrpSpPr>
          <p:cNvPr id="108" name="Group 17"/>
          <p:cNvGrpSpPr/>
          <p:nvPr/>
        </p:nvGrpSpPr>
        <p:grpSpPr>
          <a:xfrm>
            <a:off x="2843280" y="333360"/>
            <a:ext cx="2736720" cy="2887560"/>
            <a:chOff x="2843280" y="333360"/>
            <a:chExt cx="2736720" cy="2887560"/>
          </a:xfrm>
        </p:grpSpPr>
        <p:pic>
          <p:nvPicPr>
            <p:cNvPr id="109" name="Picture 6" descr=""/>
            <p:cNvPicPr/>
            <p:nvPr/>
          </p:nvPicPr>
          <p:blipFill>
            <a:blip r:embed="rId2"/>
            <a:stretch/>
          </p:blipFill>
          <p:spPr>
            <a:xfrm>
              <a:off x="3203640" y="333360"/>
              <a:ext cx="19447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/>
            <p:cNvSpPr/>
            <p:nvPr/>
          </p:nvSpPr>
          <p:spPr>
            <a:xfrm>
              <a:off x="2843280" y="28526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ВОЛОДЯ ЧЕРИНОВ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5869080" y="1413000"/>
            <a:ext cx="3311280" cy="3511440"/>
            <a:chOff x="5869080" y="1413000"/>
            <a:chExt cx="3311280" cy="351144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6156360" y="1413000"/>
              <a:ext cx="25923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9"/>
            <p:cNvSpPr/>
            <p:nvPr/>
          </p:nvSpPr>
          <p:spPr>
            <a:xfrm>
              <a:off x="5869080" y="4556160"/>
              <a:ext cx="33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ЛЮСЯ ГЕРАСИМЕНКО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987640" y="3789360"/>
            <a:ext cx="2592360" cy="2709720"/>
            <a:chOff x="2987640" y="3789360"/>
            <a:chExt cx="2592360" cy="2709720"/>
          </a:xfrm>
        </p:grpSpPr>
        <p:pic>
          <p:nvPicPr>
            <p:cNvPr id="115" name="Picture 11" descr="pioner1"/>
            <p:cNvPicPr/>
            <p:nvPr/>
          </p:nvPicPr>
          <p:blipFill>
            <a:blip r:embed="rId4"/>
            <a:stretch/>
          </p:blipFill>
          <p:spPr>
            <a:xfrm>
              <a:off x="2987640" y="3789360"/>
              <a:ext cx="252108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2"/>
            <p:cNvSpPr/>
            <p:nvPr/>
          </p:nvSpPr>
          <p:spPr>
            <a:xfrm>
              <a:off x="2987640" y="61308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ГАЛЯ КОМЛЕВА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grpSp>
        <p:nvGrpSpPr>
          <p:cNvPr id="117" name="Group 19"/>
          <p:cNvGrpSpPr/>
          <p:nvPr/>
        </p:nvGrpSpPr>
        <p:grpSpPr>
          <a:xfrm>
            <a:off x="324000" y="3573360"/>
            <a:ext cx="2447640" cy="2827080"/>
            <a:chOff x="324000" y="3573360"/>
            <a:chExt cx="2447640" cy="2827080"/>
          </a:xfrm>
        </p:grpSpPr>
        <p:pic>
          <p:nvPicPr>
            <p:cNvPr id="118" name="Picture 13" descr="22_01_11"/>
            <p:cNvPicPr/>
            <p:nvPr/>
          </p:nvPicPr>
          <p:blipFill>
            <a:blip r:embed="rId5"/>
            <a:stretch/>
          </p:blipFill>
          <p:spPr>
            <a:xfrm>
              <a:off x="395280" y="3573360"/>
              <a:ext cx="2160720" cy="24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4"/>
            <p:cNvSpPr/>
            <p:nvPr/>
          </p:nvSpPr>
          <p:spPr>
            <a:xfrm>
              <a:off x="324000" y="60321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САША КОВАЛЕВ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pic>
        <p:nvPicPr>
          <p:cNvPr id="120" name="10.Tak-pust-zhe-budet-zhizn-blagoslovenna.mp3" descr=""/>
          <p:cNvPicPr/>
          <p:nvPr/>
        </p:nvPicPr>
        <p:blipFill>
          <a:blip r:embed="rId6"/>
          <a:stretch/>
        </p:blipFill>
        <p:spPr>
          <a:xfrm>
            <a:off x="867564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3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7"/>
          <p:cNvGrpSpPr/>
          <p:nvPr/>
        </p:nvGrpSpPr>
        <p:grpSpPr>
          <a:xfrm>
            <a:off x="324000" y="333360"/>
            <a:ext cx="2232000" cy="3032280"/>
            <a:chOff x="324000" y="333360"/>
            <a:chExt cx="2232000" cy="3032280"/>
          </a:xfrm>
        </p:grpSpPr>
        <p:pic>
          <p:nvPicPr>
            <p:cNvPr id="122" name="Picture 4" descr="22_01_15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201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/>
            <p:cNvSpPr/>
            <p:nvPr/>
          </p:nvSpPr>
          <p:spPr>
            <a:xfrm>
              <a:off x="324000" y="2997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ЛАРА МИХЕЕНКО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grpSp>
        <p:nvGrpSpPr>
          <p:cNvPr id="124" name="Group 18"/>
          <p:cNvGrpSpPr/>
          <p:nvPr/>
        </p:nvGrpSpPr>
        <p:grpSpPr>
          <a:xfrm>
            <a:off x="3419640" y="333360"/>
            <a:ext cx="2089080" cy="3032280"/>
            <a:chOff x="3419640" y="333360"/>
            <a:chExt cx="2089080" cy="3032280"/>
          </a:xfrm>
        </p:grpSpPr>
        <p:pic>
          <p:nvPicPr>
            <p:cNvPr id="125" name="Picture 7" descr="22_01_07"/>
            <p:cNvPicPr/>
            <p:nvPr/>
          </p:nvPicPr>
          <p:blipFill>
            <a:blip r:embed="rId2"/>
            <a:stretch/>
          </p:blipFill>
          <p:spPr>
            <a:xfrm>
              <a:off x="3419640" y="333360"/>
              <a:ext cx="201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/>
            <p:cNvSpPr/>
            <p:nvPr/>
          </p:nvSpPr>
          <p:spPr>
            <a:xfrm>
              <a:off x="3419640" y="299736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ВИТЯ ХОМЕНКО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6300720" y="333360"/>
            <a:ext cx="2521080" cy="3032280"/>
            <a:chOff x="6300720" y="333360"/>
            <a:chExt cx="2521080" cy="3032280"/>
          </a:xfrm>
        </p:grpSpPr>
        <p:pic>
          <p:nvPicPr>
            <p:cNvPr id="128" name="Picture 9" descr="22_01_10"/>
            <p:cNvPicPr/>
            <p:nvPr/>
          </p:nvPicPr>
          <p:blipFill>
            <a:blip r:embed="rId3"/>
            <a:stretch/>
          </p:blipFill>
          <p:spPr>
            <a:xfrm>
              <a:off x="6445080" y="333360"/>
              <a:ext cx="208764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0"/>
            <p:cNvSpPr/>
            <p:nvPr/>
          </p:nvSpPr>
          <p:spPr>
            <a:xfrm>
              <a:off x="6300720" y="2997360"/>
              <a:ext cx="25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ВОЛОДЯ ДУБИНИН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3130560" y="3573360"/>
            <a:ext cx="2736720" cy="3103560"/>
            <a:chOff x="3130560" y="3573360"/>
            <a:chExt cx="2736720" cy="3103560"/>
          </a:xfrm>
        </p:grpSpPr>
        <p:pic>
          <p:nvPicPr>
            <p:cNvPr id="131" name="Picture 11" descr="22_01_09"/>
            <p:cNvPicPr/>
            <p:nvPr/>
          </p:nvPicPr>
          <p:blipFill>
            <a:blip r:embed="rId4"/>
            <a:stretch/>
          </p:blipFill>
          <p:spPr>
            <a:xfrm>
              <a:off x="3492360" y="3573360"/>
              <a:ext cx="194328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2"/>
            <p:cNvSpPr/>
            <p:nvPr/>
          </p:nvSpPr>
          <p:spPr>
            <a:xfrm>
              <a:off x="3130560" y="63086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ЮТА БОНДАРОВСКАЯ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6443640" y="3573360"/>
            <a:ext cx="2160720" cy="3103560"/>
            <a:chOff x="6443640" y="3573360"/>
            <a:chExt cx="2160720" cy="3103560"/>
          </a:xfrm>
        </p:grpSpPr>
        <p:pic>
          <p:nvPicPr>
            <p:cNvPr id="134" name="Picture 13" descr="22_01_18"/>
            <p:cNvPicPr/>
            <p:nvPr/>
          </p:nvPicPr>
          <p:blipFill>
            <a:blip r:embed="rId5"/>
            <a:stretch/>
          </p:blipFill>
          <p:spPr>
            <a:xfrm>
              <a:off x="6443640" y="3573360"/>
              <a:ext cx="208908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4"/>
            <p:cNvSpPr/>
            <p:nvPr/>
          </p:nvSpPr>
          <p:spPr>
            <a:xfrm>
              <a:off x="6443640" y="6308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ВИТЯ КОРОБКОВ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250920" y="3573360"/>
            <a:ext cx="2448000" cy="3377880"/>
            <a:chOff x="250920" y="3573360"/>
            <a:chExt cx="2448000" cy="3377880"/>
          </a:xfrm>
        </p:grpSpPr>
        <p:pic>
          <p:nvPicPr>
            <p:cNvPr id="137" name="Picture 15" descr="22_01_06"/>
            <p:cNvPicPr/>
            <p:nvPr/>
          </p:nvPicPr>
          <p:blipFill>
            <a:blip r:embed="rId6"/>
            <a:stretch/>
          </p:blipFill>
          <p:spPr>
            <a:xfrm>
              <a:off x="468360" y="3573360"/>
              <a:ext cx="19429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6"/>
            <p:cNvSpPr/>
            <p:nvPr/>
          </p:nvSpPr>
          <p:spPr>
            <a:xfrm>
              <a:off x="250920" y="6308640"/>
              <a:ext cx="244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ВАСИЛИЙ КОРОБКО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116000" y="2565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DS VTCorona Cyr"/>
              </a:rPr>
              <a:t>Вечная память героям!!!</a:t>
            </a:r>
            <a:endParaRPr b="0" lang="en-US" sz="4800" spc="-1" strike="noStrike">
              <a:solidFill>
                <a:srgbClr val="000000"/>
              </a:solidFill>
              <a:latin typeface="DS VTCorona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684360" y="1052640"/>
            <a:ext cx="76327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Monotype Corsiva"/>
              </a:rPr>
              <a:t>Война обрушилась на детей так же, как на взрослых, - бомбами, голодом, холодом, разлуками.</a:t>
            </a: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Monotype Corsiva"/>
              </a:rPr>
              <a:t>Но дети в ту суровую пору были не только жертвами – они становились и войнами. За особые заслуги, мужество и героизм, проявленные в борьбе с захватчиками, звание Героя Советского Союза было присвоено многим из них.</a:t>
            </a: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Monotype Corsiva"/>
              </a:rPr>
              <a:t>И вот что поразительно: в документах об их награждении никогда не упоминалось, что речь идет о детях. </a:t>
            </a: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3300"/>
                </a:solidFill>
                <a:latin typeface="Monotype Corsiva"/>
              </a:rPr>
              <a:t>Потому, что поступки , совершенные ими стояли в одном строю, плечом к плечу с мужеством взрослых.</a:t>
            </a: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</p:txBody>
      </p:sp>
      <p:pic>
        <p:nvPicPr>
          <p:cNvPr id="46" name="9,Левитан - сообщение о начале войны 22 июня 1941г, 1,25.mp3" descr=""/>
          <p:cNvPicPr/>
          <p:nvPr/>
        </p:nvPicPr>
        <p:blipFill>
          <a:blip r:embed="rId1"/>
          <a:stretch/>
        </p:blipFill>
        <p:spPr>
          <a:xfrm>
            <a:off x="874872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333360"/>
            <a:ext cx="9396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DS VTCorona Cyr"/>
              </a:rPr>
              <a:t>До войны в Сталинграде была установлена скульптурная группа – танцующие ребята.</a:t>
            </a: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S VTCorona Cyr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50920" y="5375160"/>
            <a:ext cx="878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DS VTCorona Cyr"/>
              </a:rPr>
              <a:t>Кадр фронтовой кинохроники: дети так и не разомкнули рук, хотя скульптура изрешечена снарядами и пулями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pic>
        <p:nvPicPr>
          <p:cNvPr id="49" name="Picture 6" descr="fountain3"/>
          <p:cNvPicPr/>
          <p:nvPr/>
        </p:nvPicPr>
        <p:blipFill>
          <a:blip r:embed="rId1"/>
          <a:stretch/>
        </p:blipFill>
        <p:spPr>
          <a:xfrm>
            <a:off x="1547640" y="1268280"/>
            <a:ext cx="5977080" cy="41054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"/>
          <p:cNvGrpSpPr/>
          <p:nvPr/>
        </p:nvGrpSpPr>
        <p:grpSpPr>
          <a:xfrm>
            <a:off x="34920" y="1341360"/>
            <a:ext cx="9074160" cy="3998880"/>
            <a:chOff x="34920" y="1341360"/>
            <a:chExt cx="9074160" cy="3998880"/>
          </a:xfrm>
        </p:grpSpPr>
        <p:pic>
          <p:nvPicPr>
            <p:cNvPr id="51" name="Picture 8" descr="Barmaleï_fountain"/>
            <p:cNvPicPr/>
            <p:nvPr/>
          </p:nvPicPr>
          <p:blipFill>
            <a:blip r:embed="rId2"/>
            <a:stretch/>
          </p:blipFill>
          <p:spPr>
            <a:xfrm>
              <a:off x="34920" y="2852640"/>
              <a:ext cx="4876920" cy="24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2108104113978633400"/>
            <p:cNvPicPr/>
            <p:nvPr/>
          </p:nvPicPr>
          <p:blipFill>
            <a:blip r:embed="rId3"/>
            <a:stretch/>
          </p:blipFill>
          <p:spPr>
            <a:xfrm>
              <a:off x="4299120" y="1341360"/>
              <a:ext cx="4809960" cy="352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ortnova_Zina"/>
          <p:cNvPicPr/>
          <p:nvPr/>
        </p:nvPicPr>
        <p:blipFill>
          <a:blip r:embed="rId1"/>
          <a:stretch/>
        </p:blipFill>
        <p:spPr>
          <a:xfrm>
            <a:off x="5227560" y="260280"/>
            <a:ext cx="3759120" cy="511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0920" y="260280"/>
            <a:ext cx="4825800" cy="31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DS VTCorona Cyr"/>
              </a:rPr>
              <a:t>ЗИНА ПОРТНОВА</a:t>
            </a:r>
            <a:endParaRPr b="0" lang="en-US" sz="28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нова Зинаида Мартыновна 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20 февраля 1926 — 10 января 1944 )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а застала ленинградскую пионерку Зину Портнову в деревне Зуя, куда она приехала на каникулы. Зина вступила в  организацию «Юные мстители» в городе Оболи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0" y="3284640"/>
            <a:ext cx="5076720" cy="3290040"/>
            <a:chOff x="0" y="3284640"/>
            <a:chExt cx="5076720" cy="3290040"/>
          </a:xfrm>
        </p:grpSpPr>
        <p:pic>
          <p:nvPicPr>
            <p:cNvPr id="56" name="Picture 6" descr=""/>
            <p:cNvPicPr/>
            <p:nvPr/>
          </p:nvPicPr>
          <p:blipFill>
            <a:blip r:embed="rId2"/>
            <a:stretch/>
          </p:blipFill>
          <p:spPr>
            <a:xfrm>
              <a:off x="431640" y="3284640"/>
              <a:ext cx="403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/>
            <p:cNvSpPr/>
            <p:nvPr/>
          </p:nvSpPr>
          <p:spPr>
            <a:xfrm>
              <a:off x="0" y="6237360"/>
              <a:ext cx="50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DS VTCorona Cyr"/>
                </a:rPr>
                <a:t>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DS VTCorona Cyr"/>
                </a:rPr>
                <a:t>Дом Портновых в д. Зуя (Витебская обл.)</a:t>
              </a:r>
              <a:endParaRPr b="0" lang="en-US" sz="16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9640" y="476280"/>
            <a:ext cx="496908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я в столовой для немецких офицеров,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указанию подполья отравила пищу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разбирательств, желая доказать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мцам свою непричастность,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ъела отравленный суп. Чудом осталась жива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..Стоял декабрь 1943 года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ина возвращалась с задания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еревне Мостище ее выдал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атель. Фашисты схватили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ную партизанку, пытали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Зина молчала, не желая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давать товарищей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одного из допросов,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рав момент, Зина схватила со стола пистолет и в упор выстрелила в гестаповца. Застрелила его и ещё двух гитлеровцев, пыталась бежать, была схвачена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верски замучена и расстреляна в тюрьме г. Витебска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pic>
        <p:nvPicPr>
          <p:cNvPr id="59" name="Picture 5" descr="c23"/>
          <p:cNvPicPr/>
          <p:nvPr/>
        </p:nvPicPr>
        <p:blipFill>
          <a:blip r:embed="rId1"/>
          <a:stretch/>
        </p:blipFill>
        <p:spPr>
          <a:xfrm>
            <a:off x="5508720" y="620640"/>
            <a:ext cx="33890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4920" y="836640"/>
            <a:ext cx="518472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DS VTCorona Cyr"/>
              </a:rPr>
              <a:t>1 июля 1958 г.</a:t>
            </a:r>
            <a:r>
              <a:rPr b="0" lang="ru-RU" sz="4000" spc="-1" strike="noStrike">
                <a:solidFill>
                  <a:srgbClr val="000000"/>
                </a:solidFill>
                <a:latin typeface="DS VTCorona Cy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DS VTCorona Cyr"/>
              </a:rPr>
              <a:t>Зинаиде Портновой</a:t>
            </a: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S VTCorona Cyr"/>
              </a:rPr>
              <a:t>было присвоено</a:t>
            </a:r>
            <a:endParaRPr b="0" lang="en-US" sz="24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S VTCorona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DS VTCorona Cyr"/>
              </a:rPr>
              <a:t>звание </a:t>
            </a:r>
            <a:endParaRPr b="0" lang="en-US" sz="24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DS VTCorona Cyr"/>
              </a:rPr>
              <a:t>Героя Советского Союза</a:t>
            </a:r>
            <a:r>
              <a:rPr b="1" lang="ru-RU" sz="2800" spc="-1" strike="noStrike">
                <a:solidFill>
                  <a:srgbClr val="000000"/>
                </a:solidFill>
                <a:latin typeface="DS VTCorona Cy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DS VTCorona Cyr"/>
              </a:rPr>
              <a:t>Посмертно.</a:t>
            </a:r>
            <a:endParaRPr b="0" lang="en-US" sz="24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S VTCorona Cyr"/>
            </a:endParaRPr>
          </a:p>
        </p:txBody>
      </p:sp>
      <p:pic>
        <p:nvPicPr>
          <p:cNvPr id="61" name="Picture 5" descr="Portnova_Zina"/>
          <p:cNvPicPr/>
          <p:nvPr/>
        </p:nvPicPr>
        <p:blipFill>
          <a:blip r:embed="rId1"/>
          <a:stretch/>
        </p:blipFill>
        <p:spPr>
          <a:xfrm>
            <a:off x="4932360" y="620640"/>
            <a:ext cx="39178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796000" y="115920"/>
            <a:ext cx="3240000" cy="468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08000" y="260280"/>
            <a:ext cx="55436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DS VTCorona Cyr"/>
              </a:rPr>
              <a:t>МАРАТ КАЗЕЙ</a:t>
            </a:r>
            <a:endParaRPr b="0" lang="en-US" sz="32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зей Марат Иванович 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(29 октября 1929 — 11 мая 1944)</a:t>
            </a:r>
            <a:endParaRPr b="0" lang="en-US" sz="20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еревню, где жил Марат с мамой, Анной Александровной  и сестрой Ариадной, ворвались фашисты. Осенью Марату уже не пришлось идти в школу в пятый класс. Школьное здание фашисты превратили в свою казарму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связь с партизанами была схвачена Анна Александровна Казей, и вскоре Марат узнал, что маму повесили в Минске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179280" y="4451400"/>
            <a:ext cx="7417080" cy="2362320"/>
            <a:chOff x="179280" y="4451400"/>
            <a:chExt cx="7417080" cy="2362320"/>
          </a:xfrm>
        </p:grpSpPr>
        <p:pic>
          <p:nvPicPr>
            <p:cNvPr id="65" name="Picture 6" descr=""/>
            <p:cNvPicPr/>
            <p:nvPr/>
          </p:nvPicPr>
          <p:blipFill>
            <a:blip r:embed="rId2"/>
            <a:stretch/>
          </p:blipFill>
          <p:spPr>
            <a:xfrm>
              <a:off x="179280" y="4451400"/>
              <a:ext cx="28576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2987640" y="6416640"/>
              <a:ext cx="46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DS VTCorona Cyr"/>
                </a:rPr>
                <a:t>Марат и Ариадна Казей</a:t>
              </a:r>
              <a:endParaRPr b="0" lang="en-US" sz="1800" spc="-1" strike="noStrike">
                <a:solidFill>
                  <a:srgbClr val="000000"/>
                </a:solidFill>
                <a:latin typeface="DS VTCorona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00000" y="549360"/>
            <a:ext cx="40323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месте с сестрой Марат Казей ушел к партизанам в Станьковский лес. Он стал разведчиком в штабе партизанской бригады. Проникал во вражеские гарнизоны и доставлял командованию ценные сведения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ат участвовал в боях и неизменно проявлял отвагу, бесстрашие, вместе с опытными подрывниками минировал железную дорогу. 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4083120" cy="302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6229440" y="189000"/>
            <a:ext cx="2735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179280" y="476280"/>
            <a:ext cx="525636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DS VTCorona Cyr"/>
              </a:rPr>
              <a:t>9 мая 1965 г.</a:t>
            </a:r>
            <a:endParaRPr b="0" lang="en-US" sz="4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S VTCorona Cyr"/>
              </a:rPr>
              <a:t>Марату Казею</a:t>
            </a:r>
            <a:endParaRPr b="0" lang="en-US" sz="44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DS VTCorona Cy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DS VTCorona Cyr"/>
              </a:rPr>
              <a:t>было присвоено звание </a:t>
            </a:r>
            <a:r>
              <a:rPr b="0" lang="ru-RU" sz="4000" spc="-1" strike="noStrike">
                <a:solidFill>
                  <a:srgbClr val="ff0000"/>
                </a:solidFill>
                <a:latin typeface="DS VTCorona Cyr"/>
              </a:rPr>
              <a:t>Героя Советского Союза.</a:t>
            </a:r>
            <a:endParaRPr b="0" lang="en-US" sz="40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S VTCorona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DS VTCorona Cyr"/>
              </a:rPr>
              <a:t>Посмертно.</a:t>
            </a:r>
            <a:endParaRPr b="0" lang="en-US" sz="4400" spc="-1" strike="noStrike">
              <a:solidFill>
                <a:srgbClr val="000000"/>
              </a:solidFill>
              <a:latin typeface="DS VTCorona Cyr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95280" y="59500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DS VTCorona Cyr"/>
              </a:rPr>
              <a:t>В Минске установлен 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DS VTCorona Cyr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5773680" y="404640"/>
            <a:ext cx="3176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3:51:20Z</dcterms:created>
  <dc:creator>1</dc:creator>
  <dc:description/>
  <dc:language>en-US</dc:language>
  <cp:lastModifiedBy>User</cp:lastModifiedBy>
  <dcterms:modified xsi:type="dcterms:W3CDTF">2025-08-04T20:39:57Z</dcterms:modified>
  <cp:revision>17</cp:revision>
  <dc:subject/>
  <dc:title>Слайд 1</dc:title>
</cp:coreProperties>
</file>