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A03-197F-4E45-9B7A-11AA2E7B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BBEC-7FC4-45D5-93D5-9F307BB3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03A-425B-406B-B474-62E452D8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142-443F-4BA7-A2D3-FCA13984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011E-5951-4E1C-96DD-741530DD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F4EC-E76F-4049-871E-FA8FD7B1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FD56-7259-45A6-84D7-0DF2B147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2819-AE8B-4C94-A6AD-301F60A2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A5ED-A9B1-417C-A034-A10998CB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9CD0-3503-4482-BBFE-B0779541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E99F-4242-45E3-BAE7-7043E5B2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78BA-3688-4201-AF58-D129206A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81FD-C9EB-499A-858F-BFAA8EEA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0CA8-F927-4072-A37D-3FF8F6D4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1BD0-775F-43B6-9D40-FD196CF5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B714-FB55-453E-8EA4-5AD862C4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9C50-8302-4773-936D-57C1A543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CD6-D2A2-4AA9-9FA9-2CAAFBBB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E98-966E-437D-901A-651E4333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C0C-174D-456B-A8BA-D015FB10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288-DA45-4A56-9775-4D06734E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093-86B0-4300-B101-4BC294F9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336-2C4E-4A40-965D-688D4297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748-A724-414B-A808-E05A979E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FD56-FAE6-406F-A852-92EC789106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225D-7B82-4FBB-B281-2783088310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79640" y="1142640"/>
            <a:ext cx="64771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411280" y="1000080"/>
            <a:ext cx="644688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блемы и пути их реш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уроках математики в 5 клас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условиях реализации ФГ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"/>
          <p:cNvPicPr/>
          <p:nvPr/>
        </p:nvPicPr>
        <p:blipFill>
          <a:blip r:embed="rId1"/>
          <a:stretch/>
        </p:blipFill>
        <p:spPr>
          <a:xfrm>
            <a:off x="6443640" y="69840"/>
            <a:ext cx="2111400" cy="5745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3924360" y="400536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</a:rPr>
              <a:t>Захарова Елена Владимировна, учитель математики высшей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</a:rPr>
              <a:t>МБОУ СОШ №1 с.Арзгир Ставрополь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Cj04234770000[1]"/>
          <p:cNvPicPr/>
          <p:nvPr/>
        </p:nvPicPr>
        <p:blipFill>
          <a:blip r:embed="rId2"/>
          <a:srcRect l="0" t="0" r="0" b="18584"/>
          <a:stretch/>
        </p:blipFill>
        <p:spPr>
          <a:xfrm>
            <a:off x="324000" y="3429000"/>
            <a:ext cx="3571560" cy="27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1042920" y="1626840"/>
            <a:ext cx="77295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5a84d8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84d8"/>
                </a:solidFill>
                <a:latin typeface="Arial"/>
              </a:rPr>
              <a:t>Включение в систему знаний и повторени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являются границы применимости нового знания и выполняются задания, в которых новый способ действий предусматривается как промежуточный ша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a84d8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84d8"/>
                </a:solidFill>
                <a:latin typeface="Arial"/>
              </a:rPr>
              <a:t>Рефлексия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87280" y="3500280"/>
          <a:ext cx="7272360" cy="3079800"/>
        </p:xfrm>
        <a:graphic>
          <a:graphicData uri="http://schemas.openxmlformats.org/drawingml/2006/table">
            <a:tbl>
              <a:tblPr/>
              <a:tblGrid>
                <a:gridCol w="4032360"/>
                <a:gridCol w="3240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роке я рабо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тивно / пассив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й работой на уроке 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волен / не дово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для меня показал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ротким / длинн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урок 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 устал / ус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е на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ло лучше / стало ху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 урока мне бы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есен / скуче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ятен / не понятен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езен / бесполез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0" name="Picture 16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82760" cy="6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player.myshared.ru/1087740/data/images/img0.jpg"/>
          <p:cNvPicPr/>
          <p:nvPr/>
        </p:nvPicPr>
        <p:blipFill>
          <a:blip r:embed="rId1"/>
          <a:stretch/>
        </p:blipFill>
        <p:spPr>
          <a:xfrm>
            <a:off x="7215120" y="428760"/>
            <a:ext cx="1581120" cy="42840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2"/>
          <p:cNvSpPr/>
          <p:nvPr/>
        </p:nvSpPr>
        <p:spPr>
          <a:xfrm>
            <a:off x="684360" y="2858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Характеристика изменений в деятельности педагога, работающего по 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00000" y="1916280"/>
          <a:ext cx="7743960" cy="4184640"/>
        </p:xfrm>
        <a:graphic>
          <a:graphicData uri="http://schemas.openxmlformats.org/drawingml/2006/table">
            <a:tbl>
              <a:tblPr/>
              <a:tblGrid>
                <a:gridCol w="1407240"/>
                <a:gridCol w="2496960"/>
                <a:gridCol w="3839760"/>
              </a:tblGrid>
              <a:tr h="9460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едмет изменений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радиционная деятельность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ятельность учителя, работающего по ФГОС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 row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 к уро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пользуется жестко структурированным конспектом уро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пользуется сценарным планом урока, предоставляющим ему свободу в выборе форм, способов и приемов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подготовке к уроку учитель использует учебник и методические рекомендации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подготовке к уроку учитель использует учебник и методические рекомендации, интернет- ресурсы, материалы коллег. Обменивается конспектами с коллег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http://player.myshared.ru/1087740/data/images/img0.jpg"/>
          <p:cNvPicPr/>
          <p:nvPr/>
        </p:nvPicPr>
        <p:blipFill>
          <a:blip r:embed="rId1"/>
          <a:stretch/>
        </p:blipFill>
        <p:spPr>
          <a:xfrm>
            <a:off x="7215120" y="428760"/>
            <a:ext cx="1581120" cy="42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755640" y="1844640"/>
          <a:ext cx="8143920" cy="4349520"/>
        </p:xfrm>
        <a:graphic>
          <a:graphicData uri="http://schemas.openxmlformats.org/drawingml/2006/table">
            <a:tbl>
              <a:tblPr/>
              <a:tblGrid>
                <a:gridCol w="1780920"/>
                <a:gridCol w="3648240"/>
                <a:gridCol w="2714760"/>
              </a:tblGrid>
              <a:tr h="94608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едмет изменений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радиционная деятельность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ятельность учителя, работающего по ФГОС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этапы урока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ение и закрепление учебного материала. Большое количество времени занимает речь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 обучающихся (более половины времени урока) 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ая цель учителя на уроке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ть выполнить все, что запланировано 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овать деятельность детей: по поиску и обработке информации; обобщению способов действия; постановке учебной задачи и т.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Прямоугольник 5"/>
          <p:cNvSpPr/>
          <p:nvPr/>
        </p:nvSpPr>
        <p:spPr>
          <a:xfrm>
            <a:off x="971640" y="28584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Характеристика изменений в деятельности педагога, работающего по 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player.myshared.ru/1087740/data/images/img0.jpg"/>
          <p:cNvPicPr/>
          <p:nvPr/>
        </p:nvPicPr>
        <p:blipFill>
          <a:blip r:embed="rId1"/>
          <a:stretch/>
        </p:blipFill>
        <p:spPr>
          <a:xfrm>
            <a:off x="7215120" y="428760"/>
            <a:ext cx="1581120" cy="42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755640" y="1916280"/>
          <a:ext cx="8064360" cy="4465080"/>
        </p:xfrm>
        <a:graphic>
          <a:graphicData uri="http://schemas.openxmlformats.org/drawingml/2006/table">
            <a:tbl>
              <a:tblPr/>
              <a:tblGrid>
                <a:gridCol w="1893240"/>
                <a:gridCol w="2723760"/>
                <a:gridCol w="3447360"/>
              </a:tblGrid>
              <a:tr h="611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Предмет изменений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Традиционная деятельность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Деятельность учителя, работающего по ФГОС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9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ирование заданий для обучающихся (определение деятельности детей)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ировки: решите, спишите, сравните, найдите, выпишите, выполните и т. 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ировки: проанализируйте, докажите (объясните), сравните, выразите символом, создайте схему или модель, продолжите, обобщите (сделайте вывод), выберите решение или способ решения, исследуйте, оцените, измените, придумайте и т. 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а урока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имущественно фронтальная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имущественно групповая и/или 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Прямоугольник 5"/>
          <p:cNvSpPr/>
          <p:nvPr/>
        </p:nvSpPr>
        <p:spPr>
          <a:xfrm>
            <a:off x="826920" y="26028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Характеристика изменений в деятельности педагога, работающего по 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10920" y="2205000"/>
            <a:ext cx="48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стижение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результа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бразования обеспечивается через методический аппарат учебников и учебно-методических пособий комплект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ша школа работает в 5 классе по математике по линии УМК Аркадия Григорьевича Мерзля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http://player.myshared.ru/1087740/data/images/img0.jpg"/>
          <p:cNvPicPr/>
          <p:nvPr/>
        </p:nvPicPr>
        <p:blipFill>
          <a:blip r:embed="rId1"/>
          <a:stretch/>
        </p:blipFill>
        <p:spPr>
          <a:xfrm>
            <a:off x="7358040" y="285840"/>
            <a:ext cx="1581120" cy="428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" descr=""/>
          <p:cNvPicPr/>
          <p:nvPr/>
        </p:nvPicPr>
        <p:blipFill>
          <a:blip r:embed="rId2"/>
          <a:stretch/>
        </p:blipFill>
        <p:spPr>
          <a:xfrm>
            <a:off x="5724360" y="1989000"/>
            <a:ext cx="3132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900000" y="1989000"/>
            <a:ext cx="7813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3a3a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733a3a"/>
                </a:solidFill>
                <a:latin typeface="Trebuchet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ение через откры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определение обучаемого к выполнению той или иной образо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дискуссий, характеризующихся различными точками зрения по изучаемым вопросам, сопоставлением их, поиском за счет обсуждения истинной точки з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 ученика проектировать предстоящую деятельность, быть ее субъек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мократичность, открыт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714240" y="285840"/>
            <a:ext cx="59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Критерии эффектив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овременного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http://player.myshared.ru/1087740/data/images/img0.jpg"/>
          <p:cNvPicPr/>
          <p:nvPr/>
        </p:nvPicPr>
        <p:blipFill>
          <a:blip r:embed="rId1"/>
          <a:stretch/>
        </p:blipFill>
        <p:spPr>
          <a:xfrm>
            <a:off x="7358040" y="285840"/>
            <a:ext cx="158112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900000" y="1773360"/>
            <a:ext cx="806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3a3a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733a3a"/>
                </a:solidFill>
                <a:latin typeface="Trebuchet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знание учеником деятельности: того как, каким способом получен результат, какие при этом встречались затруднения, как они были устранены, и что чувствовал ученик при э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елирование жизненно важных профессиональных затруднений в образовательном пространстве и поиск путей их решения позволяет ученикам в коллективном поиске приходить к откры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ник испытывает радость от преодоленной трудности учения, будь то: задача, пример, правило, закон, теорема или  выведенное самостоятельно поня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 ведет учащегося по пути субъективного открытия, он управляет проблемно – поисковой или исследовательской деятельностью учащего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714240" y="285840"/>
            <a:ext cx="59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Критерии эффектив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овременного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http://player.myshared.ru/1087740/data/images/img0.jpg"/>
          <p:cNvPicPr/>
          <p:nvPr/>
        </p:nvPicPr>
        <p:blipFill>
          <a:blip r:embed="rId1"/>
          <a:stretch/>
        </p:blipFill>
        <p:spPr>
          <a:xfrm>
            <a:off x="7358040" y="285840"/>
            <a:ext cx="158112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6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2210040" cy="6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971640" y="1844640"/>
          <a:ext cx="7416720" cy="4687920"/>
        </p:xfrm>
        <a:graphic>
          <a:graphicData uri="http://schemas.openxmlformats.org/drawingml/2006/table">
            <a:tbl>
              <a:tblPr/>
              <a:tblGrid>
                <a:gridCol w="2473200"/>
                <a:gridCol w="2470320"/>
                <a:gridCol w="247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9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9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917e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Как выглядит треуголь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c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Какие ещё бывают треуголь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Где можно встретить их в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c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оугольный, тупоугольный, прямоугольный треугольни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cd8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Могу посчитать периме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Интересные задачи с треугольни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Бермудский треуголь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носторонний, разносторонний треугольни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ec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Равнобедренный треуголь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c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Треугольник – элемент для констру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Как построить треугольник по заданным элемент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c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метр равностороннего треуголь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cd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Алгоритм оценивания заданий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чём заключалос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алось получи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ностью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ь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ли с ошиб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ностью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ли с помощ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каким признакам м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лича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тмет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ую сам выставляешь себ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мет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13880"/>
            <a:ext cx="54435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текстом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6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82760" cy="621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826560" y="2235960"/>
            <a:ext cx="7705800" cy="32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Чтение с остановками»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ет возможности целостного видения поставленной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ассоциации вызывают у вас процессы и действия задач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 знаете, прочитав эту часть. Какие выводы у вас возник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аши ожидания подтвердилис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сколько способов решения задачи? Какую похожую задачу придумали бы вы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817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6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82760" cy="621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6715080" y="4000680"/>
            <a:ext cx="2071800" cy="2428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826560" y="1916280"/>
            <a:ext cx="7929720" cy="22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Урок – это зеркало общей и педагогической культуры учителя, мерило его интеллектуального богатства, показатель его кругозора, эруди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.А.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hape 578"/>
          <p:cNvSpPr/>
          <p:nvPr/>
        </p:nvSpPr>
        <p:spPr>
          <a:xfrm>
            <a:off x="571680" y="214200"/>
            <a:ext cx="7143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marL="447840" indent="-44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трудности при подготовке урока в условиях ФГ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1187280" y="1628640"/>
            <a:ext cx="7242480" cy="41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ложившаяся за предыдущие  годы устойчивая методика проведения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еобходимость дать возможность ученику самому искать информацию и исследовать её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еобходимость создавать учебные ситуации как особые структурные единицы учебной деятельности, а также уметь переводить учебные задачи в учебную ситу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радиционный подход  к анализу урока и стремление придерживаться старых подходов к оценке деятельности уч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мена известных планов-конспектов технологическими картами урока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ибольшие затруднения вызывает декомпозиция целей урока на задачи этапов,  конкретизация содержания этапов своей деятельности и деятельности  обучающихся на каждом эта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нтрольно-оценоч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player.myshared.ru/1087740/data/images/img0.jpg"/>
          <p:cNvPicPr/>
          <p:nvPr/>
        </p:nvPicPr>
        <p:blipFill>
          <a:blip r:embed="rId1"/>
          <a:stretch/>
        </p:blipFill>
        <p:spPr>
          <a:xfrm>
            <a:off x="7562880" y="189000"/>
            <a:ext cx="158112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588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облемы по внедрению ФГО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14400" y="1599840"/>
            <a:ext cx="80503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части материально-технического обеспечени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чное финансирование не позволяет приобрести необходим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лектронные учебные пособия для эффективной организации УВП в классах в соответствии с требованиями нового ФГ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части информационно-методического обеспечени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ебуется совершенствование ресурсного потенциала: кадрового, программно-методическ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части оценочной деятельности и диагност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лияние внешних оценок (оценочный опыт, привнесенный из начальной школы; личный оценочный опыт родителей мешает эффективному введению самооценки в оценочную деятельность обучаю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сутствие диагностических материалов для оценки освоения метапредметных действий осложняет деятельность учите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ведение комплексной диагностики и анализ результатов вручную требуют достаточно много времени, что не может не сказываться на качестве деятельности педаго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тодическая помощь по созданию жизненно ориентированных проблем на уроках матема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6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2209680" cy="60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2"/>
          <p:cNvSpPr/>
          <p:nvPr/>
        </p:nvSpPr>
        <p:spPr>
          <a:xfrm>
            <a:off x="1923480" y="428760"/>
            <a:ext cx="45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 главное в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"/>
          <p:cNvSpPr/>
          <p:nvPr/>
        </p:nvSpPr>
        <p:spPr>
          <a:xfrm>
            <a:off x="1116000" y="1916280"/>
            <a:ext cx="7207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одних успех обеспечивается эффектным началом, буквально захватывающим учеников сразу с появлением уч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других, наоборот, гораздо важнее подведение итогов, обсуждение достигнут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третьих – объяснение, для четвертых – опрос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ена, когда учителя заставляли придерживаться жестких и однозначных требований по организации урока минов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http://player.myshared.ru/1087740/data/images/img0.jpg"/>
          <p:cNvPicPr/>
          <p:nvPr/>
        </p:nvPicPr>
        <p:blipFill>
          <a:blip r:embed="rId1"/>
          <a:stretch/>
        </p:blipFill>
        <p:spPr>
          <a:xfrm>
            <a:off x="7358040" y="285840"/>
            <a:ext cx="158112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81280" y="57492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3"/>
          <p:cNvSpPr/>
          <p:nvPr/>
        </p:nvSpPr>
        <p:spPr>
          <a:xfrm>
            <a:off x="1476360" y="1700280"/>
            <a:ext cx="692928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изна современного российского образования требует личностного начала учителя, которое позволяет ему либо «урочить», наполняя учеников знаниями умениями и навыками, либо давать урок, развивая понимание этих знаний, умений, навыков, создавая условия для порождения  их ценностей и смы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жно долго спорить о том, каким должен быть 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я «готовых» уроков постепенно отходи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споримо одно: он должен быть одушевленным личностью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1923480" y="428760"/>
            <a:ext cx="45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 главное в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http://player.myshared.ru/1087740/data/images/img0.jpg"/>
          <p:cNvPicPr/>
          <p:nvPr/>
        </p:nvPicPr>
        <p:blipFill>
          <a:blip r:embed="rId1"/>
          <a:stretch/>
        </p:blipFill>
        <p:spPr>
          <a:xfrm>
            <a:off x="7358040" y="285840"/>
            <a:ext cx="158112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«Если мы будем учить сегодня та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как мы учили вчера, мы украдем у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завтр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player.myshared.ru/1087740/data/images/img0.jpg"/>
          <p:cNvPicPr/>
          <p:nvPr/>
        </p:nvPicPr>
        <p:blipFill>
          <a:blip r:embed="rId1"/>
          <a:stretch/>
        </p:blipFill>
        <p:spPr>
          <a:xfrm>
            <a:off x="7308720" y="260280"/>
            <a:ext cx="1581120" cy="42876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"/>
          <p:cNvSpPr/>
          <p:nvPr/>
        </p:nvSpPr>
        <p:spPr>
          <a:xfrm>
            <a:off x="5869440" y="35002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жон  Дью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817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6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82760" cy="621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Documents and Settings\Admin\Рабочий стол\картинки\8.jpeg"/>
          <p:cNvPicPr/>
          <p:nvPr/>
        </p:nvPicPr>
        <p:blipFill>
          <a:blip r:embed="rId2"/>
          <a:stretch/>
        </p:blipFill>
        <p:spPr>
          <a:xfrm>
            <a:off x="3429000" y="4429080"/>
            <a:ext cx="3143160" cy="185760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5" descr=""/>
          <p:cNvPicPr/>
          <p:nvPr/>
        </p:nvPicPr>
        <p:blipFill>
          <a:blip r:embed="rId3"/>
          <a:stretch/>
        </p:blipFill>
        <p:spPr>
          <a:xfrm>
            <a:off x="920880" y="1987560"/>
            <a:ext cx="7802280" cy="2346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:\Documents and Settings\Admin\Рабочий стол\картинки\9.jpeg"/>
          <p:cNvPicPr/>
          <p:nvPr/>
        </p:nvPicPr>
        <p:blipFill>
          <a:blip r:embed="rId4"/>
          <a:stretch/>
        </p:blipFill>
        <p:spPr>
          <a:xfrm>
            <a:off x="642960" y="0"/>
            <a:ext cx="11905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3880" y="713880"/>
            <a:ext cx="59295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вые стандарты -  усиление мотивации ребенка к познанию на уроках математики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6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82760" cy="621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755280" y="1516680"/>
            <a:ext cx="8064360" cy="17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рок  – это не получение отвлеченных от жизни знаний, а необходимая подготовка к жизни, её узнавание, поиск полезной информации и навыки ее применения в реальной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менение схемы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826920" y="3068640"/>
            <a:ext cx="3643560" cy="192888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 объяснительно-иллюстративного метода работы (учитель, стоя перед классом, объясняет тему, а потом проводит выборочный опро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5076720" y="3068640"/>
            <a:ext cx="3214800" cy="192888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 взаимодействию учащихся и учителя, а также взаимодействию самих уче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468360" y="5300640"/>
            <a:ext cx="49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Ученик - живой участник образователь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11"/>
          <p:cNvCxnSpPr>
            <a:stCxn id="109" idx="3"/>
            <a:endCxn id="110" idx="1"/>
          </p:cNvCxnSpPr>
          <p:nvPr/>
        </p:nvCxnSpPr>
        <p:spPr>
          <a:xfrm>
            <a:off x="4483080" y="4033440"/>
            <a:ext cx="581400" cy="1080"/>
          </a:xfrm>
          <a:prstGeom prst="straightConnector1">
            <a:avLst/>
          </a:prstGeom>
          <a:ln w="9360">
            <a:solidFill>
              <a:srgbClr val="4b8f7c"/>
            </a:solidFill>
            <a:miter/>
            <a:tailEnd len="med" type="arrow" w="med"/>
          </a:ln>
        </p:spPr>
      </p:cxnSp>
      <p:pic>
        <p:nvPicPr>
          <p:cNvPr id="113" name="Рисунок 13" descr=""/>
          <p:cNvPicPr/>
          <p:nvPr/>
        </p:nvPicPr>
        <p:blipFill>
          <a:blip r:embed="rId2"/>
          <a:stretch/>
        </p:blipFill>
        <p:spPr>
          <a:xfrm>
            <a:off x="6227640" y="5084640"/>
            <a:ext cx="235440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565776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ременный урок математики в условиях введения ФГОС: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378576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6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82760" cy="621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785880" y="1643040"/>
            <a:ext cx="2428920" cy="200016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d3c"/>
                </a:solidFill>
                <a:latin typeface="Times New Roman"/>
              </a:rPr>
              <a:t>1.Мобилизация</a:t>
            </a:r>
            <a:r>
              <a:rPr b="0" lang="en-US" sz="1800" spc="-1" strike="noStrike">
                <a:solidFill>
                  <a:srgbClr val="ffcd3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0c2"/>
                </a:solidFill>
                <a:latin typeface="Times New Roman"/>
              </a:rPr>
              <a:t>(предполагает включение учащихся в активную интеллектуальную деятель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3492360" y="1700280"/>
            <a:ext cx="2357640" cy="242892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2. Целеполагани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0c2"/>
                </a:solidFill>
                <a:latin typeface="Times New Roman"/>
              </a:rPr>
              <a:t>(учащиеся самостоятельно формулируют цели урока по схеме «вспомнить →  узнать → научиться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6084720" y="1628640"/>
            <a:ext cx="3059280" cy="345600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d3c"/>
                </a:solidFill>
                <a:latin typeface="Times New Roman"/>
              </a:rPr>
              <a:t>3.Осознание недостаточности имеющихся знаний</a:t>
            </a:r>
            <a:r>
              <a:rPr b="0" lang="en-US" sz="1800" spc="-1" strike="noStrike">
                <a:solidFill>
                  <a:srgbClr val="ffcd3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0c2"/>
                </a:solidFill>
                <a:latin typeface="Times New Roman"/>
              </a:rPr>
              <a:t>(учитель способствует возникновению на уроке проблемной ситуации, в ходе анализа которой учащиеся понимают, что имеющихся знаний для ее решения недостаточн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6300720" y="5300640"/>
            <a:ext cx="2571840" cy="114300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d3c"/>
                </a:solidFill>
                <a:latin typeface="Times New Roman"/>
              </a:rPr>
              <a:t>4.Коммуникац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0c2"/>
                </a:solidFill>
                <a:latin typeface="Times New Roman"/>
              </a:rPr>
              <a:t>(поиск  новых знаний  в паре, в групп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3492360" y="4437000"/>
            <a:ext cx="2365560" cy="150012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d3c"/>
                </a:solidFill>
                <a:latin typeface="Times New Roman"/>
              </a:rPr>
              <a:t>5.Взаимопроверка, взаимоконтро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755640" y="3933720"/>
            <a:ext cx="2357280" cy="257184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d3c"/>
                </a:solidFill>
                <a:latin typeface="Times New Roman"/>
              </a:rPr>
              <a:t>6. Рефлексия</a:t>
            </a:r>
            <a:r>
              <a:rPr b="0" lang="en-US" sz="1800" spc="-1" strike="noStrike">
                <a:solidFill>
                  <a:srgbClr val="ffcd3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0c2"/>
                </a:solidFill>
                <a:latin typeface="Times New Roman"/>
              </a:rPr>
              <a:t>(осознание учеником и воспроизведение в речи того, что нового он узнал и чему научился на урок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6072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бования, предъявляемые к современному уроку математики в условиях введения ФГОС: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6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82760" cy="621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 rot="10800000">
            <a:off x="642240" y="356400"/>
            <a:ext cx="2142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9"/>
          <p:cNvSpPr/>
          <p:nvPr/>
        </p:nvSpPr>
        <p:spPr>
          <a:xfrm>
            <a:off x="7380360" y="3357720"/>
            <a:ext cx="1571400" cy="78552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центре внимания урока — д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1"/>
          <p:cNvSpPr/>
          <p:nvPr/>
        </p:nvSpPr>
        <p:spPr>
          <a:xfrm>
            <a:off x="4211640" y="5877000"/>
            <a:ext cx="1954080" cy="62712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ирование обратн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3"/>
          <p:cNvSpPr/>
          <p:nvPr/>
        </p:nvSpPr>
        <p:spPr>
          <a:xfrm>
            <a:off x="900000" y="4149720"/>
            <a:ext cx="1571760" cy="128592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мум репродукции и максимум творчества и со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4"/>
          <p:cNvSpPr/>
          <p:nvPr/>
        </p:nvSpPr>
        <p:spPr>
          <a:xfrm>
            <a:off x="5508720" y="3284640"/>
            <a:ext cx="1571400" cy="200016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организует проблемные и поисковые ситуации, активизирует деятельность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5"/>
          <p:cNvSpPr/>
          <p:nvPr/>
        </p:nvSpPr>
        <p:spPr>
          <a:xfrm>
            <a:off x="2857680" y="1714680"/>
            <a:ext cx="2286000" cy="278604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должен быть проблемным и развивающим: учитель сам нацеливается на сотрудничество с учениками и умеет направлять учеников на сотрудничество с учителем и одноклассник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6"/>
          <p:cNvSpPr/>
          <p:nvPr/>
        </p:nvSpPr>
        <p:spPr>
          <a:xfrm>
            <a:off x="714240" y="1714680"/>
            <a:ext cx="1928880" cy="221436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должен спланировать свою деятельность и деятельность учащихся, четко сформулировать тему, цель, задачи ур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7"/>
          <p:cNvSpPr/>
          <p:nvPr/>
        </p:nvSpPr>
        <p:spPr>
          <a:xfrm>
            <a:off x="5500800" y="1714680"/>
            <a:ext cx="3500280" cy="121428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ошо организованный урок  в хорошо оборудованном кабинете должен име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ошее начало и хорошее оконч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9"/>
          <p:cNvSpPr/>
          <p:nvPr/>
        </p:nvSpPr>
        <p:spPr>
          <a:xfrm>
            <a:off x="7308720" y="4365720"/>
            <a:ext cx="1571760" cy="78588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должен быть добр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6588000" y="5445000"/>
            <a:ext cx="1954440" cy="62712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 делают сами учащие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1"/>
          <p:cNvSpPr/>
          <p:nvPr/>
        </p:nvSpPr>
        <p:spPr>
          <a:xfrm>
            <a:off x="2916360" y="4653000"/>
            <a:ext cx="2303280" cy="91584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демонстрировать методическое искусство уч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1"/>
          <p:cNvSpPr/>
          <p:nvPr/>
        </p:nvSpPr>
        <p:spPr>
          <a:xfrm>
            <a:off x="395280" y="5661000"/>
            <a:ext cx="2879640" cy="91584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т уровня возможностей учащихся , стремление учащихся, настроение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6" descr=""/>
          <p:cNvPicPr/>
          <p:nvPr/>
        </p:nvPicPr>
        <p:blipFill>
          <a:blip r:embed="rId1"/>
          <a:stretch/>
        </p:blipFill>
        <p:spPr>
          <a:xfrm>
            <a:off x="6659640" y="476280"/>
            <a:ext cx="2282760" cy="620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684360" y="1628280"/>
            <a:ext cx="5256000" cy="540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Определение нового.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ь четко определяет, какое новое знание должно быть открыто на уроке. Это может быть правило, алгоритм, закономерность, поня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Конструирование проблемной ситуации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блемная ситуация на уроке может, конечно, возникнуть сама  собой, но для достижения поставленной цели, учитель должен четко представлять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какой момент пробле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лжна возникнуть, как ее лучше обыграть, чтобы в дальнейшем ее разрешение привело к задуманному результ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549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Этапы подготовки к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5" descr=""/>
          <p:cNvPicPr/>
          <p:nvPr/>
        </p:nvPicPr>
        <p:blipFill>
          <a:blip r:embed="rId2"/>
          <a:stretch/>
        </p:blipFill>
        <p:spPr>
          <a:xfrm>
            <a:off x="5867280" y="3933720"/>
            <a:ext cx="3067200" cy="22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10920" y="1557360"/>
            <a:ext cx="5182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Планирование действий.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гда проблема урока будет сформулирована, начнется основная его часть - коммуникация. На этом этапе предполагается самостоятельная работа учащихс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Планирование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Сформулировать свой вывод по проблеме (форму правила, алгоритма, описание закономерности, поня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Выбрать такие источники  получения учениками необходимых новых сведений для решения проблемы, в которых не будет содержаться готового ответа, вывода, формулировки нового 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6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82760" cy="621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C:\Documents and Settings\comp\Рабочий стол\з.jpg"/>
          <p:cNvPicPr/>
          <p:nvPr/>
        </p:nvPicPr>
        <p:blipFill>
          <a:blip r:embed="rId2"/>
          <a:stretch/>
        </p:blipFill>
        <p:spPr>
          <a:xfrm>
            <a:off x="5796000" y="2781360"/>
            <a:ext cx="307656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6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82760" cy="621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914040" y="2048400"/>
            <a:ext cx="7729560" cy="36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>
              <a:buClr>
                <a:srgbClr val="0070c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Планирование результа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ценарий урока предполагает, что учитель должен продум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можное выражение решения проблемы. Например, это может быть ответ на вопрос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Так как же мы решили проблему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Планирование заданий для применения нового зна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ет помни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адания  должны  носить  проблемный характер,  нацеливать ученика на  поисковую или  исследовательскую деятельность, предполагать индивидуальную или групповую работ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1042920" y="1948680"/>
            <a:ext cx="77295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5a84d8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84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5a84d8"/>
                </a:solidFill>
                <a:latin typeface="Arial"/>
              </a:rPr>
              <a:t>Первичное закрепление с проговариванием во внешней речи</a:t>
            </a:r>
            <a:r>
              <a:rPr b="1" lang="en-US" sz="2000" spc="-1" strike="noStrike" u="sng">
                <a:solidFill>
                  <a:srgbClr val="5a84d8"/>
                </a:solidFill>
                <a:uFillTx/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щиеся в форме коммуникативного взаимодействия (фронтально, в группах, в парах) решают типовые задания на новый способ действий с проговариванием алгорит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a84d8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84d8"/>
                </a:solidFill>
                <a:latin typeface="Arial"/>
              </a:rPr>
              <a:t>Самостоятельная работа с самопроверкой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щиеся самостоятельно выполняют задания нового типа, осуществляют их самопроверку, пошагово сравнивая с эталоном, выявляют и корректируют возможные ошибки, определяют способы действий, которые им предстоит дорабо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6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82760" cy="621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0:15:45Z</dcterms:created>
  <dc:creator>Мама</dc:creator>
  <dc:description/>
  <dc:language>en-US</dc:language>
  <cp:lastModifiedBy>Admin</cp:lastModifiedBy>
  <dcterms:modified xsi:type="dcterms:W3CDTF">2016-11-01T17:02:52Z</dcterms:modified>
  <cp:revision>194</cp:revision>
  <dc:subject/>
  <dc:title>Родительское собрание в 1 классе</dc:title>
</cp:coreProperties>
</file>