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3B7-ADE0-491C-9F5E-20FE4C6D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E4D-C4B1-4E27-B1A1-A066B61D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FD5-0E28-4107-992C-6D6FF403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916-7FC8-4A6A-BA23-BBBFFC6A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A1F-540C-428D-9026-24EDB87D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44DC-0608-463F-A187-0DB307D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E22-E431-4F01-896F-D6B8DA0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CD9-EE80-4E84-946A-D6CCDF6C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028-3046-4580-AAAD-43C83BB1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89F9-14A2-4AC0-960E-763823C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C2E1-27FA-41C3-A4E7-DC4C14C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242-FC3B-4347-BACD-8B511C23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4722-11B8-4713-9497-4C4E7A2A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620-8463-4620-8798-0897F99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43A4-2E81-4ED8-8F0B-4DE7C3E4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BA1E-4872-4BF7-B388-F62D2FD1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AFD-58CE-47C5-BC60-CF00CE8D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A3BE-496C-4DF5-98DA-6B4E1F86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ADEF-3ED7-418F-8090-A93CD3A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B77F-28FF-42CC-87D5-72A8880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505D-3A7F-4610-82C4-477CB8F6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E4AF-42D7-4CC5-8022-ADD6BDD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F98-7A70-4B03-8459-7F01C9F4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B915-BC0C-4C8A-9A67-0FD600E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7FE4-9D01-4E64-ABC3-008D8D7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3965-AC88-4A8A-8F7F-AA5EE09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A301-3E73-482F-B7CD-852A7DA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0A5F-179C-426B-9EBC-651B4532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2F29-F486-4237-9211-1F59C29D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2485-5148-4BF9-9905-EFE82E83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81DB-E947-4B95-AB17-1B99A24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23E2-A09B-4F0F-88FE-D05B043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1001-7B57-42D4-B956-25E8270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DCA-2657-4061-BAAA-7080D37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95C8-8A07-477B-BBF1-6D6667DE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1059-2441-47A8-B761-CB86E1DE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C8DA-AB49-460B-8022-7275EB2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2495-76E0-4CA5-9618-AF011A0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266B-E409-498B-951F-5E7B9A4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A471-5F21-4379-9DA9-9612776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C154-0631-4160-8039-2EF7499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322A-9505-44B8-B8E6-61A8623C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9132-87F0-4A74-B85E-F2C9113D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C3432-B164-42DB-AE89-51E78919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51C-D055-4DBF-8469-70EA389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845E-A719-4232-A3B7-1268609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D0BA-E607-4BF7-9B60-6455BCC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F9BF-9630-4D1C-B4B3-72E38B6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336F-E793-4F54-9CD7-29D0DAB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6A2B6-BAD7-4F8F-928F-E701384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8798-1C4A-4DC6-B537-0F286CD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2E1A-7232-4C3A-8005-DDD22B8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C2D5-EBB5-4DCE-BA49-852C7E9F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CF9C-DC9E-4248-8591-4027D834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D55D-181E-4478-9676-671D819B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18A-B9F7-4A0F-BB89-0A47331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8FF3-9DC5-4F28-A437-DA45A0FF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FF8-2C5A-4944-9C6D-1B65D33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B41-9D21-4F44-8B6F-1A5DD33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BAF-61EB-44F5-8B49-B146860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E1D-5AFB-4B5C-87E9-AF5A12267D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BEA-84D3-49E5-807C-2FC8648A7B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89D-ADD3-4AA7-9678-11E3C2802B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D9A-E628-4842-8135-32601CE4A5C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8F5C-EC7C-4590-B9D6-856526A75B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7 КЛАСС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499920" y="4552920"/>
            <a:ext cx="4994280" cy="18763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Подготовила: Кирсанова М.А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и литератур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МАОУ «Лицей № 62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766f"/>
                </a:solidFill>
                <a:latin typeface="Verdana"/>
              </a:rPr>
              <a:t>Г. Сарат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;маргарита</dc:creator>
  <dc:description/>
  <dc:language>en-US</dc:language>
  <cp:lastModifiedBy>Василий Кирсанов</cp:lastModifiedBy>
  <dcterms:modified xsi:type="dcterms:W3CDTF">2025-08-19T07:19:38Z</dcterms:modified>
  <cp:revision>110</cp:revision>
  <dc:subject/>
  <dc:title>Союзы</dc:title>
</cp:coreProperties>
</file>