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B37B-1FC2-4FFE-80FF-A88163C35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073-EB4D-4E49-B20D-CA8EE728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D92E-1183-4CB7-97A6-90A09EDB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642-143D-42E9-B0F4-B6168610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E6F-A3BA-40F4-8FD3-877B7360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A15D-2A9D-4044-AE34-60CA54A9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813B-2C01-4B85-ACB3-53449216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29BC-A6CD-49F9-943C-BEF905D5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3049-16B0-4FB2-91B2-D8441493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1110-E6B3-4EDB-8EE8-EF1E8E98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A574-F7FD-4244-A0A4-A7DC154B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E87B-3ECE-4365-938B-17DF08B2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332F-FB98-48F2-9218-8A1E2519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9B26-07A8-46C1-BE3F-59491971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89DC-72F5-415F-BBC2-822656F7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66DE-AC20-4D97-B5DA-AF56A6C5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3541-1631-4731-ABA3-867AB8E3E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E0F7-D49D-447F-A740-A8356FD1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32ED-23E6-4C18-9A09-AFBC304E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5442-E818-4742-B588-ECAE4512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BB9B6-4576-4EE6-B681-C7E7EDD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8F311-E005-49E0-AAE6-81B5E9E0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0B7-A6FC-4277-898C-EC77700F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076E5-F197-44D5-BCCF-FB7F9026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EC05-9832-4F8F-B761-250932E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4B2B4-01E1-434E-8205-325618CB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E283B-CBC1-46E9-8977-900F8A42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DF98-989D-4496-B8BF-C5A45B5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F47A5-76E1-4302-A46D-3FCF1B94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9024D-0332-4898-A6E1-1CC38E48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09BD-2B10-4010-A940-F3E27E92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0F34-FE4F-42B9-809B-580A2F6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ABE4E-47D3-4E74-BDE4-9CC75094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184-6189-4457-8A06-F4EF11C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82F4F-FA85-42FE-912F-E37994DB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44CF-6723-4A3C-87B7-FA97BFA6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373BA-17DF-4F38-83D9-019A13C7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F445-9C31-4858-A0FA-4B798EA7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3C66F-7BDC-4DEB-BD94-4AC82E72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39115-A389-4B73-9DE9-0FACC179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FE9D9-4305-4C35-9083-11B6CB3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33DC8-BC2D-44D1-B09B-F36AA76B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6170-CFDA-490A-B6CD-D565D93F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4E58D-086F-422E-8130-542E94158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4563-7AA1-4F0A-BCC5-EAD1A862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FC67C-A92C-4709-BBC6-9485AEB8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78BA2-755F-4E3E-B239-CD8296D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DB05C-59D5-4DFE-9F52-5B663863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D2765-C8CC-4021-8348-A787FBA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FEA6D-9A43-4CEF-83A5-6ECF6A89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3719-5470-4F32-8269-58747BC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B5031-F0ED-4819-A2F1-5932F3D3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7197-1E9E-4693-8DC1-BDEFD593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2D78-BD07-4983-8C14-70859281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91032-F2D7-4653-A7A0-05C453A1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28CF-5968-4AFE-9E4F-F4BF8EFA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BF87-2B1B-43FB-A4AE-CAC213858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88CA0-C765-4F24-A792-C4C872F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06339-C1C8-4CCA-95A5-945DF06A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2E9C7-742C-4A70-82A0-DBB3574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31138-7E6A-4C18-A0F7-1DABD90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3DAA-D722-4470-ABB7-59E6D153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6C19E-0AD4-49AB-BEA7-DC55A737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3B380-D17F-4089-9107-20C2C72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4F893-3453-4BF9-8327-036CC239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1EDA3-ADE1-4714-916C-66D32B92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0C9-C08A-47A7-BAEF-11CD3A47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77D4-4DBB-4DDE-A621-21D01D01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47F36-E99B-4819-8A96-CC8B2820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F6EBF-1BFD-4C2E-8748-8257D6C8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B6C5A-588C-4967-A6BD-F18BE243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AB49F-2718-4F09-B42B-C591CB99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60B65-AD88-4329-9F88-06F7615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A353-31D7-435B-BD18-B68EF88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A41F9-4B60-4BC3-AD6C-2E4D8B0D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38AD-BED8-4CC0-B94A-B7E8E43B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F6A10-BA67-4281-A3C9-83217BF4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31D-F5C5-40F6-9D02-E56220B2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DFA57-2A82-4B5D-A4BB-71A7CB39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18C6-1170-442C-9732-C058A41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0B17-1BF1-4740-925E-6A1D6087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60F6-A329-4726-BF38-CF9D68F8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C9786-DBCC-4C3C-8928-EB199348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3BF-453A-478F-A48F-CDD35666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0B73-27D2-4619-B84E-2A213DF957F7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664-EBC0-4383-A30C-4C7C8741572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8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107C-7DDD-4F53-AEE0-C939BB21C23E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97BB-78B8-47BE-A5A5-EC03DE5B657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CA51-0F3B-48F2-869E-40331B824308}" type="slidenum">
              <a:rPr b="0" lang="en-US" sz="1000" spc="-1" strike="noStrike">
                <a:solidFill>
                  <a:srgbClr val="637052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0EBB-1D9B-4C58-B6B6-358B45133174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72BB-EE19-42DE-A232-44D37C29AF8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11120" y="884160"/>
            <a:ext cx="9144000" cy="23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ов функционального чтения у младших школьников на уроках и во внеурочной деятельности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Заголовок 1"/>
          <p:cNvSpPr/>
          <p:nvPr/>
        </p:nvSpPr>
        <p:spPr>
          <a:xfrm>
            <a:off x="1527120" y="3635280"/>
            <a:ext cx="9144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Заголовок 1"/>
          <p:cNvSpPr/>
          <p:nvPr/>
        </p:nvSpPr>
        <p:spPr>
          <a:xfrm>
            <a:off x="1989000" y="4260960"/>
            <a:ext cx="9144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МБОУ"СОШ №2 города Шатуры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 Light"/>
              </a:rPr>
              <a:t>Константинова Светла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9" descr=""/>
          <p:cNvPicPr/>
          <p:nvPr/>
        </p:nvPicPr>
        <p:blipFill>
          <a:blip r:embed="rId1"/>
          <a:stretch/>
        </p:blipFill>
        <p:spPr>
          <a:xfrm>
            <a:off x="152280" y="343224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96920" y="417240"/>
            <a:ext cx="1005840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я текст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036800" y="2036880"/>
            <a:ext cx="10058400" cy="402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в тексте и допиши предложение, чтобы оно имело смысл: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ягушонок стал …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предели основную мысль текста.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100584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74440" y="2242800"/>
            <a:ext cx="1049004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бы ты поступил на месте Лягушонка?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бы ты посоветовал Лягушонку?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сказка называется "Кораблик"?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3" descr="50ccd13481.jpg"/>
          <p:cNvPicPr/>
          <p:nvPr/>
        </p:nvPicPr>
        <p:blipFill>
          <a:blip r:embed="rId1"/>
          <a:stretch/>
        </p:blipFill>
        <p:spPr>
          <a:xfrm>
            <a:off x="392040" y="349200"/>
            <a:ext cx="5542200" cy="34466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5" descr="53663_html_m72b5710f (1).gif"/>
          <p:cNvPicPr/>
          <p:nvPr/>
        </p:nvPicPr>
        <p:blipFill>
          <a:blip r:embed="rId2"/>
          <a:stretch/>
        </p:blipFill>
        <p:spPr>
          <a:xfrm>
            <a:off x="5264280" y="2411280"/>
            <a:ext cx="6507000" cy="23050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6" descr="image033_1.png"/>
          <p:cNvPicPr/>
          <p:nvPr/>
        </p:nvPicPr>
        <p:blipFill>
          <a:blip r:embed="rId3"/>
          <a:stretch/>
        </p:blipFill>
        <p:spPr>
          <a:xfrm>
            <a:off x="1347840" y="4676760"/>
            <a:ext cx="9435960" cy="8380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0" descr="baner.png"/>
          <p:cNvPicPr/>
          <p:nvPr/>
        </p:nvPicPr>
        <p:blipFill>
          <a:blip r:embed="rId4"/>
          <a:stretch/>
        </p:blipFill>
        <p:spPr>
          <a:xfrm>
            <a:off x="5956200" y="469800"/>
            <a:ext cx="476100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Рисунок 1" descr="chitajka.jpg"/>
          <p:cNvPicPr/>
          <p:nvPr/>
        </p:nvPicPr>
        <p:blipFill>
          <a:blip r:embed="rId1"/>
          <a:stretch/>
        </p:blipFill>
        <p:spPr>
          <a:xfrm>
            <a:off x="0" y="622440"/>
            <a:ext cx="121921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Рисунок 4" descr="1349195806-1004468-old_parchment_02.jpg"/>
          <p:cNvPicPr/>
          <p:nvPr/>
        </p:nvPicPr>
        <p:blipFill>
          <a:blip r:embed="rId1"/>
          <a:stretch/>
        </p:blipFill>
        <p:spPr>
          <a:xfrm>
            <a:off x="246240" y="0"/>
            <a:ext cx="11613960" cy="5718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277920" y="1009440"/>
            <a:ext cx="100584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Если вы мне расскаж</a:t>
            </a: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, 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это быстро забуду, 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и вы мне напишите, 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прочитаю, но тоже забуду,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если вы вовлечете меня в дело, 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буду это знать и запомню</a:t>
            </a:r>
            <a:r>
              <a:rPr b="1" i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r>
              <a:rPr b="1" i="1" lang="en-US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"</a:t>
            </a:r>
            <a:endParaRPr b="0" lang="en-US" sz="33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Times New Roman"/>
                <a:ea typeface="Calibri"/>
              </a:rPr>
              <a:t>                                                                        </a:t>
            </a: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Calibri"/>
              </a:rPr>
              <a:t>      </a:t>
            </a:r>
            <a:r>
              <a:rPr b="0" lang="en-US" sz="3000" spc="-1" strike="noStrike">
                <a:solidFill>
                  <a:srgbClr val="404040"/>
                </a:solidFill>
                <a:latin typeface="Times New Roman"/>
                <a:ea typeface="Calibri"/>
              </a:rPr>
              <a:t>(Ж.Ж.Руссо)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44" name="Рисунок 1" descr=""/>
          <p:cNvPicPr/>
          <p:nvPr/>
        </p:nvPicPr>
        <p:blipFill>
          <a:blip r:embed="rId2"/>
          <a:stretch/>
        </p:blipFill>
        <p:spPr>
          <a:xfrm>
            <a:off x="4437000" y="3948120"/>
            <a:ext cx="29764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12" descr="q6p7ONu-OUM.jpg"/>
          <p:cNvPicPr/>
          <p:nvPr/>
        </p:nvPicPr>
        <p:blipFill>
          <a:blip r:embed="rId1"/>
          <a:stretch/>
        </p:blipFill>
        <p:spPr>
          <a:xfrm>
            <a:off x="1405080" y="1000080"/>
            <a:ext cx="9582120" cy="53006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84360" y="0"/>
            <a:ext cx="5057640" cy="96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шка Блум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Содержимое 4" descr="img6.jpg"/>
          <p:cNvPicPr/>
          <p:nvPr/>
        </p:nvPicPr>
        <p:blipFill>
          <a:blip r:embed="rId1"/>
          <a:stretch/>
        </p:blipFill>
        <p:spPr>
          <a:xfrm>
            <a:off x="585720" y="1554120"/>
            <a:ext cx="5850000" cy="4383000"/>
          </a:xfrm>
          <a:prstGeom prst="rect">
            <a:avLst/>
          </a:prstGeom>
          <a:ln w="0">
            <a:noFill/>
          </a:ln>
        </p:spPr>
      </p:pic>
      <p:sp>
        <p:nvSpPr>
          <p:cNvPr id="348" name="TextBox 5"/>
          <p:cNvSpPr/>
          <p:nvPr/>
        </p:nvSpPr>
        <p:spPr>
          <a:xfrm>
            <a:off x="3957480" y="395280"/>
            <a:ext cx="664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бик Блум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Рисунок 6" descr="hello_html_me54d180.jpg"/>
          <p:cNvPicPr/>
          <p:nvPr/>
        </p:nvPicPr>
        <p:blipFill>
          <a:blip r:embed="rId2"/>
          <a:stretch/>
        </p:blipFill>
        <p:spPr>
          <a:xfrm>
            <a:off x="5492880" y="1535040"/>
            <a:ext cx="6699240" cy="44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1600" y="-272880"/>
            <a:ext cx="1086948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и Бьюзен "Метод интеллект-карт"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504800" y="1195560"/>
            <a:ext cx="92948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4076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-карты по текстам из окружающего мир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3" name="Picture 4" descr=""/>
          <p:cNvPicPr/>
          <p:nvPr/>
        </p:nvPicPr>
        <p:blipFill>
          <a:blip r:embed="rId1"/>
          <a:stretch/>
        </p:blipFill>
        <p:spPr>
          <a:xfrm>
            <a:off x="2104920" y="1882800"/>
            <a:ext cx="805500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46320" y="20484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-карты по определениям и правилам русского язык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2292480" y="1712880"/>
            <a:ext cx="800100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79440" y="3290400"/>
            <a:ext cx="10058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53000"/>
          </a:bodyPr>
          <a:p>
            <a:pPr marL="47880" indent="-47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казать методы формирования навыков функционального чтения</a:t>
            </a:r>
            <a:endParaRPr b="0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9" name="Picture 9" descr=""/>
          <p:cNvPicPr/>
          <p:nvPr/>
        </p:nvPicPr>
        <p:blipFill>
          <a:blip r:embed="rId1"/>
          <a:stretch/>
        </p:blipFill>
        <p:spPr>
          <a:xfrm>
            <a:off x="9448920" y="3613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10" name="Content Placeholder 2"/>
          <p:cNvSpPr/>
          <p:nvPr/>
        </p:nvSpPr>
        <p:spPr>
          <a:xfrm>
            <a:off x="485640" y="809640"/>
            <a:ext cx="100584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навыков функционального чтения на уроках и во внеурочной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221440" y="965160"/>
            <a:ext cx="5999040" cy="492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Rectangle 14"/>
          <p:cNvSpPr/>
          <p:nvPr/>
        </p:nvSpPr>
        <p:spPr>
          <a:xfrm>
            <a:off x="0" y="0"/>
            <a:ext cx="45846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6"/>
          <p:cNvSpPr/>
          <p:nvPr/>
        </p:nvSpPr>
        <p:spPr>
          <a:xfrm>
            <a:off x="4584600" y="0"/>
            <a:ext cx="637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66760" y="-360"/>
            <a:ext cx="94932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ое чтение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160" y="1479600"/>
            <a:ext cx="11658600" cy="396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6000"/>
          </a:bodyPr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ог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максимально точно и полно понять содержание текста, уловить все детали и осмыслить извлеченную информацию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цели чтения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цели чтения, выбирать вид чтения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текст, интерпретировать его (для себя....)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разовывать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77400" indent="-7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для решения задач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9" descr=""/>
          <p:cNvPicPr/>
          <p:nvPr/>
        </p:nvPicPr>
        <p:blipFill>
          <a:blip r:embed="rId1"/>
          <a:stretch/>
        </p:blipFill>
        <p:spPr>
          <a:xfrm>
            <a:off x="9933120" y="4218120"/>
            <a:ext cx="22557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96920" y="0"/>
            <a:ext cx="100584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смыслового чтения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овое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ительное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ющее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ое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вное</a:t>
            </a:r>
            <a:endParaRPr b="0" lang="en-US" sz="4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6" name="Picture 9" descr=""/>
          <p:cNvPicPr/>
          <p:nvPr/>
        </p:nvPicPr>
        <p:blipFill>
          <a:blip r:embed="rId1"/>
          <a:stretch/>
        </p:blipFill>
        <p:spPr>
          <a:xfrm>
            <a:off x="9437760" y="3595680"/>
            <a:ext cx="250668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06480" y="2620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екстов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Arrow: Left 7"/>
          <p:cNvSpPr/>
          <p:nvPr/>
        </p:nvSpPr>
        <p:spPr>
          <a:xfrm rot="19980000">
            <a:off x="3632040" y="1949400"/>
            <a:ext cx="1360800" cy="16344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itle 1"/>
          <p:cNvSpPr/>
          <p:nvPr/>
        </p:nvSpPr>
        <p:spPr>
          <a:xfrm>
            <a:off x="992160" y="3635280"/>
            <a:ext cx="417528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ш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ствование описание расс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6861240" y="4194000"/>
            <a:ext cx="438624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плош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rrow: Left 7"/>
          <p:cNvSpPr/>
          <p:nvPr/>
        </p:nvSpPr>
        <p:spPr>
          <a:xfrm rot="12428400">
            <a:off x="7087680" y="1945800"/>
            <a:ext cx="1362240" cy="16200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e48312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ы: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22120" y="1846440"/>
            <a:ext cx="109332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нимание текста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ужной информации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я текста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относительно содержания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 относительно формы подачи текста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4" name="Picture 7" descr=""/>
          <p:cNvPicPr/>
          <p:nvPr/>
        </p:nvPicPr>
        <p:blipFill>
          <a:blip r:embed="rId1"/>
          <a:stretch/>
        </p:blipFill>
        <p:spPr>
          <a:xfrm>
            <a:off x="7873920" y="231840"/>
            <a:ext cx="4092480" cy="3948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9560" y="0"/>
            <a:ext cx="10058400" cy="14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понимание текста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34520" y="1846440"/>
            <a:ext cx="11682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а тема текста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и ли герои сказки друзьями?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троили герои истории? Отметь верный вариант ответо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ик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ик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амидку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9480" y="157320"/>
            <a:ext cx="10058400" cy="114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ужной информаци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троительные материалы использовали герои сказки? Соедини стрелочкой</a:t>
            </a:r>
            <a:r>
              <a:rPr b="1" i="1" lang="en-US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2592360" y="2913120"/>
          <a:ext cx="6838920" cy="3240000"/>
        </p:xfrm>
        <a:graphic>
          <a:graphicData uri="http://schemas.openxmlformats.org/drawingml/2006/table">
            <a:tbl>
              <a:tblPr/>
              <a:tblGrid>
                <a:gridCol w="2924280"/>
                <a:gridCol w="3914640"/>
              </a:tblGrid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рав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еховая ск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луп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ыпле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ломин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уч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ч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о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оч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42920" y="355320"/>
            <a:ext cx="10058400" cy="91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ие нужной информации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23840" y="182880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полни таблицу недостающими данными: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55680" y="2660760"/>
          <a:ext cx="11504520" cy="2931840"/>
        </p:xfrm>
        <a:graphic>
          <a:graphicData uri="http://schemas.openxmlformats.org/drawingml/2006/table">
            <a:tbl>
              <a:tblPr/>
              <a:tblGrid>
                <a:gridCol w="2398680"/>
                <a:gridCol w="3078000"/>
                <a:gridCol w="2657520"/>
                <a:gridCol w="3370320"/>
              </a:tblGrid>
              <a:tr h="9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тиц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еком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мноводные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ышон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30T18:37:30Z</dcterms:created>
  <dc:creator/>
  <dc:description/>
  <dc:language>en-US</dc:language>
  <cp:lastModifiedBy>Светлана</cp:lastModifiedBy>
  <dcterms:modified xsi:type="dcterms:W3CDTF">2025-08-22T05:35:49Z</dcterms:modified>
  <cp:revision>826</cp:revision>
  <dc:subject/>
  <dc:title>PowerPoint Presentation</dc:title>
</cp:coreProperties>
</file>