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429-DDC1-413D-B013-A1DF3112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9F2-A435-46D8-BF40-57E1E16A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4B5-AA37-49DE-A455-D4C7B0CF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15B-D971-4BF8-A2B9-4FC9BA94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CDDC-C90E-49DD-83D7-1836F8C7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753D-4835-421E-B489-B4805F5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8073-0593-496F-9E1C-BE65B54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A22-C6B8-4514-835F-DAEAE9E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75C7-B6E5-4A9E-ACA3-A2AE393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679-9781-4268-8F5A-B779AE51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879-E10D-4478-BA6F-350115A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5F2-D49A-4587-9FD5-30286D46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2EA5-A9DB-41B8-ACB2-ED15719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25C-1C7D-4ABF-81F3-3FB5B7A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1BE-6427-4B5E-BC66-F8CF71B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94DD-D244-423F-8956-BFD6435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215F-E8CB-42C1-8530-10FE5D0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B52-0005-4F64-9F12-3BD145E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C49-0BBA-44D9-81E6-38609E0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7D0-0C39-4EC8-93AA-5F99595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2DE-159C-4DCA-92F7-AD26299F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EE8-1616-4E9C-B946-4D46340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31A-A5A5-4B62-A6D1-AF25066D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21E-29AC-4422-B769-E1C505B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367E9A-4E94-4CA1-81CD-4BA0E68280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0F11F5-D33C-469F-B838-D4786B0AE5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C:/Users/KM/Desktop/&#1040;&#1093;&#1084;&#1072;&#1090;&#1086;&#1074;&#1072;/&#1042;&#1083;&#1072;&#1076;&#1080;&#1084;&#1080;&#1088;%20&#1044;&#1072;&#1096;&#1082;&#1077;&#1074;&#1080;&#1095;%20-%20&#1056;&#1077;&#1082;&#1074;&#1080;&#1077;&#1084;%20%20(audiopoisk.com).mp3" TargetMode="External"/><Relationship Id="rId3" Type="http://schemas.microsoft.com/office/2007/relationships/media" Target="file:///C:/Users/KM/Desktop/&#1040;&#1093;&#1084;&#1072;&#1090;&#1086;&#1074;&#1072;/&#1042;&#1083;&#1072;&#1076;&#1080;&#1084;&#1080;&#1088;%20&#1044;&#1072;&#1096;&#1082;&#1077;&#1074;&#1080;&#1095;%20-%20&#1056;&#1077;&#1082;&#1074;&#1080;&#1077;&#1084;%20%20(audiopoisk.com)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57560" cy="185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Урок литературы,</a:t>
            </a:r>
            <a:br>
              <a:rPr sz="4400"/>
            </a:b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посвященный памяти </a:t>
            </a:r>
            <a:br>
              <a:rPr sz="4400"/>
            </a:br>
            <a:r>
              <a:rPr b="0" i="1" lang="ru-RU" sz="4400" spc="-1" strike="noStrike">
                <a:solidFill>
                  <a:srgbClr val="642f04"/>
                </a:solidFill>
                <a:latin typeface="Impact"/>
              </a:rPr>
              <a:t>Анны Ахматово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14840" y="3571920"/>
            <a:ext cx="54288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Шин Елена Филипп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500040"/>
            <a:ext cx="713880" cy="7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одержимое 5"/>
          <p:cNvSpPr/>
          <p:nvPr/>
        </p:nvSpPr>
        <p:spPr>
          <a:xfrm>
            <a:off x="1285920" y="500040"/>
            <a:ext cx="6786360" cy="58575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«Кресты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'Кресты'.JPG"/>
          <p:cNvPicPr/>
          <p:nvPr/>
        </p:nvPicPr>
        <p:blipFill>
          <a:blip r:embed="rId1"/>
          <a:stretch/>
        </p:blipFill>
        <p:spPr>
          <a:xfrm>
            <a:off x="714240" y="428760"/>
            <a:ext cx="7572240" cy="5000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1101143.jpg"/>
          <p:cNvPicPr/>
          <p:nvPr/>
        </p:nvPicPr>
        <p:blipFill>
          <a:blip r:embed="rId1"/>
          <a:stretch/>
        </p:blipFill>
        <p:spPr>
          <a:xfrm>
            <a:off x="1357200" y="428760"/>
            <a:ext cx="5714640" cy="5643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800px-Комарово_будка_Ахматовой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1360077550_url-2.jpg"/>
          <p:cNvPicPr/>
          <p:nvPr/>
        </p:nvPicPr>
        <p:blipFill>
          <a:blip r:embed="rId1"/>
          <a:stretch/>
        </p:blipFill>
        <p:spPr>
          <a:xfrm>
            <a:off x="1571760" y="500040"/>
            <a:ext cx="5500440" cy="5697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1962-Фото-И.-Бродского-580x495.jpg"/>
          <p:cNvPicPr/>
          <p:nvPr/>
        </p:nvPicPr>
        <p:blipFill>
          <a:blip r:embed="rId1"/>
          <a:stretch/>
        </p:blipFill>
        <p:spPr>
          <a:xfrm>
            <a:off x="1785960" y="1000080"/>
            <a:ext cx="5714640" cy="4857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6" descr="Anna_Ahmatova's_grave.jpg"/>
          <p:cNvPicPr/>
          <p:nvPr/>
        </p:nvPicPr>
        <p:blipFill>
          <a:blip r:embed="rId1"/>
          <a:stretch/>
        </p:blipFill>
        <p:spPr>
          <a:xfrm>
            <a:off x="1643040" y="1071720"/>
            <a:ext cx="5928840" cy="45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Наград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аль «За оборону Ленинграда»(1943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инирована на Нобелевскую премию по литературе (1962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мия Этно-Таормина (Италия, 1964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плом почетного доктора Оксфордского университета (Виликобритания, 1965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85880" y="1571760"/>
            <a:ext cx="62146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чер (191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ки (1914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ая стая (1917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рожник (1921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 domini (192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стник (1923-1940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чет (1946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г времени (1964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28800" y="571320"/>
            <a:ext cx="7329240" cy="63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Impact"/>
              </a:rPr>
              <a:t>Сборники стихотворений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оэм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самого моря (1914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ем (1935-1940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тём всея земли (1940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а без героя (1942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Горенко Андрей Антонович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5" descr="_02.jpg"/>
          <p:cNvPicPr/>
          <p:nvPr/>
        </p:nvPicPr>
        <p:blipFill>
          <a:blip r:embed="rId1"/>
          <a:stretch/>
        </p:blipFill>
        <p:spPr>
          <a:xfrm>
            <a:off x="2500200" y="285840"/>
            <a:ext cx="4285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180px-Ukfyuhkiyui.jpg"/>
          <p:cNvPicPr/>
          <p:nvPr/>
        </p:nvPicPr>
        <p:blipFill>
          <a:blip r:embed="rId1"/>
          <a:stretch/>
        </p:blipFill>
        <p:spPr>
          <a:xfrm>
            <a:off x="5143680" y="214200"/>
            <a:ext cx="3785760" cy="6357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4f6c65cabdd28.jpg"/>
          <p:cNvPicPr/>
          <p:nvPr/>
        </p:nvPicPr>
        <p:blipFill>
          <a:blip r:embed="rId2"/>
          <a:stretch/>
        </p:blipFill>
        <p:spPr>
          <a:xfrm>
            <a:off x="214200" y="214200"/>
            <a:ext cx="471456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Горенко Инна Эразмовн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_02 - копия.jpg"/>
          <p:cNvPicPr/>
          <p:nvPr/>
        </p:nvPicPr>
        <p:blipFill>
          <a:blip r:embed="rId1"/>
          <a:stretch/>
        </p:blipFill>
        <p:spPr>
          <a:xfrm>
            <a:off x="2643120" y="285840"/>
            <a:ext cx="4000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b_1646_i_006.jpg"/>
          <p:cNvPicPr/>
          <p:nvPr/>
        </p:nvPicPr>
        <p:blipFill>
          <a:blip r:embed="rId1"/>
          <a:stretch/>
        </p:blipFill>
        <p:spPr>
          <a:xfrm>
            <a:off x="214200" y="642960"/>
            <a:ext cx="3750840" cy="5643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Анна и Ольга Ахматовы.jpg"/>
          <p:cNvPicPr/>
          <p:nvPr/>
        </p:nvPicPr>
        <p:blipFill>
          <a:blip r:embed="rId2"/>
          <a:stretch/>
        </p:blipFill>
        <p:spPr>
          <a:xfrm>
            <a:off x="5357880" y="1071720"/>
            <a:ext cx="3285720" cy="4000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image025.jpg"/>
          <p:cNvPicPr/>
          <p:nvPr/>
        </p:nvPicPr>
        <p:blipFill>
          <a:blip r:embed="rId3"/>
          <a:stretch/>
        </p:blipFill>
        <p:spPr>
          <a:xfrm>
            <a:off x="3571920" y="2357280"/>
            <a:ext cx="2571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Первая страница из сборника А.А.Ахматовой 'Вечер'.jpg"/>
          <p:cNvPicPr/>
          <p:nvPr/>
        </p:nvPicPr>
        <p:blipFill>
          <a:blip r:embed="rId1"/>
          <a:stretch/>
        </p:blipFill>
        <p:spPr>
          <a:xfrm>
            <a:off x="1643040" y="357120"/>
            <a:ext cx="5500440" cy="578628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5500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Гумилёв Николай Степанович(1886-1921) – поэт, переводчик, критик, один из основателей поэтического направления «Акмеизм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Николай Гумилёв.jpg"/>
          <p:cNvPicPr/>
          <p:nvPr/>
        </p:nvPicPr>
        <p:blipFill>
          <a:blip r:embed="rId1"/>
          <a:stretch/>
        </p:blipFill>
        <p:spPr>
          <a:xfrm>
            <a:off x="2571840" y="214200"/>
            <a:ext cx="392868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Ахматова_Н.Гумилев_Л.Гумилев.jpg"/>
          <p:cNvPicPr/>
          <p:nvPr/>
        </p:nvPicPr>
        <p:blipFill>
          <a:blip r:embed="rId1"/>
          <a:stretch/>
        </p:blipFill>
        <p:spPr>
          <a:xfrm>
            <a:off x="285840" y="1214280"/>
            <a:ext cx="5000400" cy="4500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041.jpg"/>
          <p:cNvPicPr/>
          <p:nvPr/>
        </p:nvPicPr>
        <p:blipFill>
          <a:blip r:embed="rId2"/>
          <a:stretch/>
        </p:blipFill>
        <p:spPr>
          <a:xfrm>
            <a:off x="5500800" y="571320"/>
            <a:ext cx="3428640" cy="2356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022.jpg"/>
          <p:cNvPicPr/>
          <p:nvPr/>
        </p:nvPicPr>
        <p:blipFill>
          <a:blip r:embed="rId3"/>
          <a:stretch/>
        </p:blipFill>
        <p:spPr>
          <a:xfrm>
            <a:off x="5500800" y="3143160"/>
            <a:ext cx="342864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то из следственного дел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Фото Льва Гумилёва из следственного дела.jpg"/>
          <p:cNvPicPr/>
          <p:nvPr/>
        </p:nvPicPr>
        <p:blipFill>
          <a:blip r:embed="rId1"/>
          <a:stretch/>
        </p:blipFill>
        <p:spPr>
          <a:xfrm>
            <a:off x="1643040" y="857160"/>
            <a:ext cx="596736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5429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Осип Мандельштам (1891-1938) – поэт 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лучший друг Анны Ахматовой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5" descr="Осип Мандельштам.jpg"/>
          <p:cNvPicPr/>
          <p:nvPr/>
        </p:nvPicPr>
        <p:blipFill>
          <a:blip r:embed="rId1"/>
          <a:stretch/>
        </p:blipFill>
        <p:spPr>
          <a:xfrm>
            <a:off x="2357280" y="285840"/>
            <a:ext cx="3928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163</Words>
  <Paragraphs>2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2:43:55Z</dcterms:created>
  <dc:creator>KM</dc:creator>
  <dc:description/>
  <dc:language>en-US</dc:language>
  <cp:lastModifiedBy>Владимир Остапченко</cp:lastModifiedBy>
  <dcterms:modified xsi:type="dcterms:W3CDTF">2025-08-29T08:28:50Z</dcterms:modified>
  <cp:revision>11</cp:revision>
  <dc:subject/>
  <dc:title>Литературный вечер, посвященный памяти  Анны Ахматов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