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10.gif" ContentType="image/gif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32.jpeg" ContentType="image/jpeg"/>
  <Override PartName="/ppt/media/image26.jpeg" ContentType="image/jpeg"/>
  <Override PartName="/ppt/media/image33.jpeg" ContentType="image/jpeg"/>
  <Override PartName="/ppt/media/image11.gif" ContentType="image/gif"/>
  <Override PartName="/ppt/media/image35.gif" ContentType="image/gif"/>
  <Override PartName="/ppt/media/image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077-36A8-4B5B-8C8B-25A3665D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992-221A-42E3-952C-14F1FD6D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0F9-2D5B-4E56-8DE0-2DDDF467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070-5BA2-4425-8A83-8D5B765F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BAB8-9E3B-4333-855E-D082D57B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3E27-049F-4365-A7FC-B028D4C5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26FA-506A-4351-BBE6-80457C82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3682-FB47-42E6-A11B-35DE6E4B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0AA7-51A0-429D-B914-2A8FA70E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E8C5-B100-4690-912A-646C2B41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5C6C-1445-44F7-9328-6072EC30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2EE-47E7-44D9-A693-0A04A6E4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542D-295D-4771-935D-31CA870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643E-76B0-42CA-9A9D-A0B03754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CBFF-49B3-4608-9BF3-9A02907D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DF62-3CD8-47E5-929E-C75F225D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0EE5-E10D-47B6-B5D7-62085E78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5977-6170-425E-B53C-06B60EB1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FF20-38C5-4262-B216-D21B4390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ACD2-4F4A-47DD-B36C-D6E620AB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9631-C2AC-46AA-A42C-E219150D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1C02-F3C4-47DC-8BAE-0CECA2E7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072-D891-41B5-8317-7089016C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C308-91A2-42C9-A953-3F85BAE6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A4AD-A3C3-4684-8D25-A56A29BF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11D1-4915-4E2C-AC4E-9E57D04A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213F-BD60-4787-9960-E0343EB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040AB-AE7A-4714-99B1-7DBF4209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5F97-47D4-4B98-AAC7-D834826A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838EE-2FA6-44AE-A50E-DDEF237F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F338-B2AB-4910-9A14-51492761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28FB-3FAA-4CFE-A90B-F4525A05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FA72-2527-421E-9F74-940897DA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15F-41DC-45FF-9B93-83DB5CC7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1A2D-F3C5-45A5-B44B-0D9810C1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6F48B-9C82-4C2C-82DD-C8C0584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3966B-7303-4218-8D3C-769C37E3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78C3-DE37-436F-90AC-C5B09224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3814-7A98-4956-88F9-6DB509C3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73D05-AB90-437C-9070-23B8F2FE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3C1BE-ED85-4A15-B503-86AB85B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7775-378A-43DF-B2CB-693C588D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99A5-5AED-40EC-82B7-B53413DA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04D-EC1B-4220-BBB6-08119DA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DDF-0730-42DD-B649-C974FA3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BF4-0C0E-46DD-80C6-2309E5FC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9B5-CE73-4C50-9B4B-F361BC86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269-7EF4-4921-B49E-EBC6C03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42E2-04D4-4DC4-8B6F-EA8D48E655B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69D1-8857-4B3F-BD8D-59B3616A3AF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2C99-39A4-46DB-A748-2DA5CCEB5B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339-005E-46B2-9369-E1BE4D7A2A7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hyperlink" Target="http://supercook.ru/slav/slov-mif-13.html" TargetMode="External"/><Relationship Id="rId4" Type="http://schemas.openxmlformats.org/officeDocument/2006/relationships/hyperlink" Target="http://www.severgrad.com/dedmoroz.html" TargetMode="External"/><Relationship Id="rId5" Type="http://schemas.openxmlformats.org/officeDocument/2006/relationships/hyperlink" Target="http://www.dobroman.ru/pomoshniki-deda-moroza-ili-kto-pomogaet-dedu-moroz.html" TargetMode="External"/><Relationship Id="rId6" Type="http://schemas.openxmlformats.org/officeDocument/2006/relationships/hyperlink" Target="http://www.bestpeopleofrussia.ru/persona/1430/bio" TargetMode="External"/><Relationship Id="rId7" Type="http://schemas.openxmlformats.org/officeDocument/2006/relationships/hyperlink" Target="http://www.razumniki.ru/stihi_ro_deda_moroza.html" TargetMode="External"/><Relationship Id="rId8" Type="http://schemas.openxmlformats.org/officeDocument/2006/relationships/hyperlink" Target="http://pbs.twimg.com/media/B2tvplYIgAAFWQ_.jpg:large" TargetMode="External"/><Relationship Id="rId9" Type="http://schemas.openxmlformats.org/officeDocument/2006/relationships/hyperlink" Target="http://www.resimsi.com/wp-content/uploads/2015/07/red-christmas-background.jpg" TargetMode="External"/><Relationship Id="rId10" Type="http://schemas.openxmlformats.org/officeDocument/2006/relationships/hyperlink" Target="https://im0-tub-ru.yandex.net/i?id=dded548f97eb37edbfb964eb1bf72c42&amp;n=33&amp;h=190&amp;w=304" TargetMode="External"/><Relationship Id="rId11" Type="http://schemas.openxmlformats.org/officeDocument/2006/relationships/hyperlink" Target="http://www.hcenter-irk.info/sites/default/files/Ded%20moroz.jpg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067200" y="1352520"/>
            <a:ext cx="5491080" cy="356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Администратор\Рабочий стол\noviy-god-24.gif"/>
          <p:cNvPicPr/>
          <p:nvPr/>
        </p:nvPicPr>
        <p:blipFill>
          <a:blip r:embed="rId2"/>
          <a:stretch/>
        </p:blipFill>
        <p:spPr>
          <a:xfrm>
            <a:off x="6500880" y="3338640"/>
            <a:ext cx="2643120" cy="3500280"/>
          </a:xfrm>
          <a:prstGeom prst="rect">
            <a:avLst/>
          </a:prstGeom>
          <a:ln w="0">
            <a:noFill/>
          </a:ln>
        </p:spPr>
      </p:pic>
      <p:pic>
        <p:nvPicPr>
          <p:cNvPr id="197" name="new_year_mix.mp3" descr=""/>
          <p:cNvPicPr/>
          <p:nvPr/>
        </p:nvPicPr>
        <p:blipFill>
          <a:blip r:embed="rId3"/>
          <a:stretch/>
        </p:blipFill>
        <p:spPr>
          <a:xfrm>
            <a:off x="77407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ttps://sun1-93.userapi.com/c854120/v854120538/18a805/nlpwcMSwCS0.jpg"/>
          <p:cNvPicPr/>
          <p:nvPr/>
        </p:nvPicPr>
        <p:blipFill>
          <a:blip r:embed="rId4"/>
          <a:stretch/>
        </p:blipFill>
        <p:spPr>
          <a:xfrm>
            <a:off x="179280" y="1270080"/>
            <a:ext cx="316224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4361040" y="6380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457560" y="196920"/>
            <a:ext cx="81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У ВО «Грязовецкая школа-интернат для обучающихся с ОВЗ по слух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11280" y="5937120"/>
            <a:ext cx="569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: педагог-библиотекарь Блохина Елена Фридрих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4" descr="kak-narisovat-novogodnyu-elku-1.jpg"/>
          <p:cNvPicPr/>
          <p:nvPr/>
        </p:nvPicPr>
        <p:blipFill>
          <a:blip r:embed="rId1"/>
          <a:srcRect l="17441" t="19944" r="22574" b="24581"/>
          <a:stretch/>
        </p:blipFill>
        <p:spPr>
          <a:xfrm>
            <a:off x="1116000" y="960480"/>
            <a:ext cx="5256360" cy="5683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Documents and Settings\Администратор\Рабочий стол\noviy-god-24.gif"/>
          <p:cNvPicPr/>
          <p:nvPr/>
        </p:nvPicPr>
        <p:blipFill>
          <a:blip r:embed="rId2"/>
          <a:stretch/>
        </p:blipFill>
        <p:spPr>
          <a:xfrm>
            <a:off x="6499080" y="3143160"/>
            <a:ext cx="2643480" cy="35006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696960" y="404640"/>
            <a:ext cx="83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сейчас мы с вами нарисуем Новогоднюю ёлочку – красавиц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Содержимое 4" descr="kak-narisovat-novogodnyu-elku-2.jpg"/>
          <p:cNvPicPr/>
          <p:nvPr/>
        </p:nvPicPr>
        <p:blipFill>
          <a:blip r:embed="rId1"/>
          <a:srcRect l="15235" t="18683" r="20015" b="15395"/>
          <a:stretch/>
        </p:blipFill>
        <p:spPr>
          <a:xfrm>
            <a:off x="1258920" y="782640"/>
            <a:ext cx="4968720" cy="591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Documents and Settings\Администратор\Рабочий стол\noviy-god-24.gif"/>
          <p:cNvPicPr/>
          <p:nvPr/>
        </p:nvPicPr>
        <p:blipFill>
          <a:blip r:embed="rId2"/>
          <a:stretch/>
        </p:blipFill>
        <p:spPr>
          <a:xfrm>
            <a:off x="6215040" y="3143160"/>
            <a:ext cx="2643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Содержимое 4" descr="kak-narisovat-novogodnyu-elku-3.jpg"/>
          <p:cNvPicPr/>
          <p:nvPr/>
        </p:nvPicPr>
        <p:blipFill>
          <a:blip r:embed="rId1"/>
          <a:srcRect l="15848" t="18173" r="19251" b="16220"/>
          <a:stretch/>
        </p:blipFill>
        <p:spPr>
          <a:xfrm>
            <a:off x="971640" y="836640"/>
            <a:ext cx="4673520" cy="5565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Documents and Settings\Администратор\Рабочий стол\noviy-god-24.gif"/>
          <p:cNvPicPr/>
          <p:nvPr/>
        </p:nvPicPr>
        <p:blipFill>
          <a:blip r:embed="rId2"/>
          <a:stretch/>
        </p:blipFill>
        <p:spPr>
          <a:xfrm>
            <a:off x="6215040" y="3143160"/>
            <a:ext cx="2643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4" descr="kak-narisovat-novogodnyu-elku-4.jpg"/>
          <p:cNvPicPr/>
          <p:nvPr/>
        </p:nvPicPr>
        <p:blipFill>
          <a:blip r:embed="rId1"/>
          <a:srcRect l="11368" t="10287" r="14066" b="10746"/>
          <a:stretch/>
        </p:blipFill>
        <p:spPr>
          <a:xfrm>
            <a:off x="971640" y="760320"/>
            <a:ext cx="4713120" cy="583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Администратор\Рабочий стол\noviy-god-24.gif"/>
          <p:cNvPicPr/>
          <p:nvPr/>
        </p:nvPicPr>
        <p:blipFill>
          <a:blip r:embed="rId2"/>
          <a:stretch/>
        </p:blipFill>
        <p:spPr>
          <a:xfrm>
            <a:off x="6215040" y="3143160"/>
            <a:ext cx="2643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4" descr="kak-narisovat-novogodnyu-elku-5.jpg"/>
          <p:cNvPicPr/>
          <p:nvPr/>
        </p:nvPicPr>
        <p:blipFill>
          <a:blip r:embed="rId1"/>
          <a:srcRect l="323" t="9669" r="0" b="10292"/>
          <a:stretch/>
        </p:blipFill>
        <p:spPr>
          <a:xfrm>
            <a:off x="250920" y="836640"/>
            <a:ext cx="6243480" cy="568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Documents and Settings\Администратор\Рабочий стол\noviy-god-24.gif"/>
          <p:cNvPicPr/>
          <p:nvPr/>
        </p:nvPicPr>
        <p:blipFill>
          <a:blip r:embed="rId2"/>
          <a:stretch/>
        </p:blipFill>
        <p:spPr>
          <a:xfrm>
            <a:off x="6215040" y="3143160"/>
            <a:ext cx="2643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4" descr="kak-narisovat-novogodnyu-elku-6.jpg"/>
          <p:cNvPicPr/>
          <p:nvPr/>
        </p:nvPicPr>
        <p:blipFill>
          <a:blip r:embed="rId1"/>
          <a:srcRect l="11050" t="8876" r="14390" b="11456"/>
          <a:stretch/>
        </p:blipFill>
        <p:spPr>
          <a:xfrm>
            <a:off x="1403280" y="765000"/>
            <a:ext cx="4784760" cy="5977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Documents and Settings\Администратор\Рабочий стол\noviy-god-24.gif"/>
          <p:cNvPicPr/>
          <p:nvPr/>
        </p:nvPicPr>
        <p:blipFill>
          <a:blip r:embed="rId2"/>
          <a:stretch/>
        </p:blipFill>
        <p:spPr>
          <a:xfrm>
            <a:off x="6215040" y="3143160"/>
            <a:ext cx="2643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Содержимое 4" descr="kak-narisovat-novogodnyu-elku-8.jpg"/>
          <p:cNvPicPr/>
          <p:nvPr/>
        </p:nvPicPr>
        <p:blipFill>
          <a:blip r:embed="rId1"/>
          <a:srcRect l="10617" t="11515" r="14197" b="10692"/>
          <a:stretch/>
        </p:blipFill>
        <p:spPr>
          <a:xfrm>
            <a:off x="2098800" y="930240"/>
            <a:ext cx="47415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6" descr="novogodnie-oboi.jpg"/>
          <p:cNvPicPr/>
          <p:nvPr/>
        </p:nvPicPr>
        <p:blipFill>
          <a:blip r:embed="rId1"/>
          <a:stretch/>
        </p:blipFill>
        <p:spPr>
          <a:xfrm>
            <a:off x="50760" y="-7920"/>
            <a:ext cx="91458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7030a0"/>
                </a:solidFill>
                <a:latin typeface="Calibri"/>
              </a:rPr>
              <a:t>Новогодняя ёл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69840" y="3402000"/>
            <a:ext cx="8066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хороша новогодняя ёл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нарядилась она – погляд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тье на ёлке зелёного цв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ркие бусы блестят на гр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Ёлка у нас высока и строй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чером вся засверкает 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еском огней, и снежинок, и звёз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вно павлина раскрывшийся хвос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рева лучше нигде не найдёш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ёлкой хорошей и праздник хорош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Рисунок 3" descr="37602194_NY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1287225666_10395628_aeeaafbf2a7c.gif"/>
          <p:cNvPicPr/>
          <p:nvPr/>
        </p:nvPicPr>
        <p:blipFill>
          <a:blip r:embed="rId2"/>
          <a:stretch/>
        </p:blipFill>
        <p:spPr>
          <a:xfrm>
            <a:off x="5940360" y="260280"/>
            <a:ext cx="2982960" cy="3529080"/>
          </a:xfrm>
          <a:prstGeom prst="rect">
            <a:avLst/>
          </a:prstGeom>
          <a:ln w="0">
            <a:noFill/>
          </a:ln>
        </p:spPr>
      </p:pic>
      <p:sp>
        <p:nvSpPr>
          <p:cNvPr id="253" name="Заголовок 3"/>
          <p:cNvSpPr/>
          <p:nvPr/>
        </p:nvSpPr>
        <p:spPr>
          <a:xfrm>
            <a:off x="395280" y="365040"/>
            <a:ext cx="77058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сок использованных источ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"/>
          <p:cNvSpPr/>
          <p:nvPr/>
        </p:nvSpPr>
        <p:spPr>
          <a:xfrm>
            <a:off x="324000" y="125100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http://supercook.ru/slav/slov-mif-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http://www.severgrad.com/dedmoroz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http://www.dobroman.ru/pomoshniki-deda-moroza-ili-kto-pomogaet-dedu-moroz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6"/>
              </a:rPr>
              <a:t>http://www.bestpeopleofrussia.ru/persona/1430/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7"/>
              </a:rPr>
              <a:t>http://www.razumniki.ru/stihi_ro_deda_moroz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8"/>
              </a:rPr>
              <a:t>http://pbs.twimg.com/media/B2tvplYIgAAFWQ_.jpg: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9"/>
              </a:rPr>
              <a:t>http://www.resimsi.com/wp-content/uploads/2015/07/red-christmas-backgroun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10"/>
              </a:rPr>
              <a:t>https://im0-tub-ru.yandex.net/i?id=dded548f97eb37edbfb964eb1bf72c42&amp;n=33&amp;h=190&amp;w=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11"/>
              </a:rPr>
              <a:t>http://www.hcenter-irk.info/sites/default/files/Ded%20moroz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s00.yaplakal.com/pics/pics_original/7/8/9/678698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0.liveinternet.ru/images/attach/b/3/13/178/13178852_dedmoroz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2009.academ.org/files/image/ded_moroz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voprosy-kak-i-pochemu.ru/wp-content/uploads/2014/06/nytree2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223-223.ru/media/user_files/flatpages/1998/1451026925_7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cs630417.vk.me/v630417703/a916/kpOtatnR3Z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Новогодняя ёлка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еотъемлемый атрибут празднования Нового Года России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5338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onstantia"/>
              </a:rPr>
              <a:t>Новогодняя  ёлка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ожет обозначать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раздничное мероприятие – концерт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(чаще всего для детей), на котором празднуется Новый Год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 вступлением в эру телевидения</a:t>
            </a:r>
            <a:r>
              <a:rPr b="0" lang="ru-RU" sz="1400" spc="-1" strike="noStrike">
                <a:solidFill>
                  <a:srgbClr val="00b050"/>
                </a:solidFill>
                <a:latin typeface="Constantia"/>
              </a:rPr>
              <a:t> Новогодней ёлкой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али называться некоторые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раздничные телепрограммы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, идущие во время празднования Нового Год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большинстве стран мира </a:t>
            </a:r>
            <a:r>
              <a:rPr b="0" lang="ru-RU" sz="1400" spc="-1" strike="noStrike">
                <a:solidFill>
                  <a:srgbClr val="55a839"/>
                </a:solidFill>
                <a:latin typeface="Constantia"/>
              </a:rPr>
              <a:t>ёлка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– это атрибут празднования Рождеств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onstantia"/>
              </a:rPr>
              <a:t>Новогодняя ёлка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едставляет собой хвойное дерево, украшенное гирляндами, стеклянными и пластмассовыми игрушками, свечами и сластям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станавливается на время проведения праздника </a:t>
            </a:r>
            <a:r>
              <a:rPr b="0" lang="ru-RU" sz="1400" spc="-1" strike="noStrike">
                <a:solidFill>
                  <a:srgbClr val="00b050"/>
                </a:solidFill>
                <a:latin typeface="Constantia"/>
              </a:rPr>
              <a:t>Новый Год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домах или на улиц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C:\Documents and Settings\Администратор\Рабочий стол\51216322_58aac0342a04.gif"/>
          <p:cNvPicPr/>
          <p:nvPr/>
        </p:nvPicPr>
        <p:blipFill>
          <a:blip r:embed="rId1"/>
          <a:stretch/>
        </p:blipFill>
        <p:spPr>
          <a:xfrm>
            <a:off x="5292720" y="1038240"/>
            <a:ext cx="3570120" cy="5230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Администратор\Рабочий стол\newyear4.gif"/>
          <p:cNvPicPr/>
          <p:nvPr/>
        </p:nvPicPr>
        <p:blipFill>
          <a:blip r:embed="rId2"/>
          <a:stretch/>
        </p:blipFill>
        <p:spPr>
          <a:xfrm>
            <a:off x="1835280" y="5013360"/>
            <a:ext cx="165708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325116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Немного из истории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9640" y="1052640"/>
            <a:ext cx="360072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Россию обычай отмечать Новый год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ривез из Германии Пётр I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; первые в России новогодние праздники были устроены, согласно царскому указу, в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1700 году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ернувшись из первой поездки за границу, 20 декабря 1699 года молодой царь повелел считать началом нового года 1 января (до этого в России он начинался 1 сентября) и предписал вешать на домах «украшения от древ и ветвей сосновых, еловых и можжевеловых». О том, чтобы ставить ёлки внутри дома, речи не было. Усерднее всех царский указ стали исполнять содержатели ресторанов: по прикреплённым к фасадам и крышам елям их было видно издалека, и их стали называть — «ёлки». 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https://avatars.mds.yandex.net/get-pdb/1566941/28b126c9-3ad9-4a91-b02f-655ae91e3eec/s1200"/>
          <p:cNvPicPr/>
          <p:nvPr/>
        </p:nvPicPr>
        <p:blipFill>
          <a:blip r:embed="rId1"/>
          <a:stretch/>
        </p:blipFill>
        <p:spPr>
          <a:xfrm>
            <a:off x="4316400" y="3500280"/>
            <a:ext cx="4424400" cy="2990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https://b1.culture.ru/c/266398.jpg"/>
          <p:cNvPicPr/>
          <p:nvPr/>
        </p:nvPicPr>
        <p:blipFill>
          <a:blip r:embed="rId2"/>
          <a:srcRect l="26751" t="0" r="0" b="0"/>
          <a:stretch/>
        </p:blipFill>
        <p:spPr>
          <a:xfrm>
            <a:off x="4500720" y="260280"/>
            <a:ext cx="405576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38988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Обычай  наряжать ёлк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267920"/>
            <a:ext cx="388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Первые фигур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лакомства из фруктов, золочёные орехи, бусы из  леденцов, фрукты, завёрнутые в цветную фольгу, пряники и выпечка из сладкого и солёного теста, покрытой разноцветной глазурью - ангелы, ягнята, ослики, к которым в России стали добавляться «русские» животные — свиньи, гуси, коровы. </a:t>
            </a:r>
            <a:r>
              <a:rPr b="0" lang="ru-RU" sz="1600" spc="-1" strike="noStrike">
                <a:solidFill>
                  <a:srgbClr val="0bd0d9"/>
                </a:solidFill>
                <a:latin typeface="Constantia"/>
              </a:rPr>
              <a:t>Потом началось соперничество — чья ёлка украшена богаче и наряднее. 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Стали использовать дорогие ткан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шёлк, муслин, кашемир, а также украшения — бусы, серьги, кольца. Затем добавились игрушки, которые прежде просто дарили к празднику: куклы и солдатики, лошадки, барабаны.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Иллюстрация из Торгового словаря 1957 г."/>
          <p:cNvPicPr/>
          <p:nvPr/>
        </p:nvPicPr>
        <p:blipFill>
          <a:blip r:embed="rId1"/>
          <a:stretch/>
        </p:blipFill>
        <p:spPr>
          <a:xfrm>
            <a:off x="4572000" y="230040"/>
            <a:ext cx="4321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560520"/>
            <a:ext cx="35388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Немного из истори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125000"/>
            <a:ext cx="28800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Затем в России елку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запретил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Впервые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аздники для детей с таким названием стали проводить в Кремле на Новый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1935 год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ервоначально эти праздники проводились для небольшого круга детей. Но со временем по всей России в преддверии праздника </a:t>
            </a:r>
            <a:r>
              <a:rPr b="0" lang="ru-RU" sz="1400" spc="-1" strike="noStrike">
                <a:solidFill>
                  <a:srgbClr val="00b050"/>
                </a:solidFill>
                <a:latin typeface="Constantia"/>
              </a:rPr>
              <a:t>Новый Год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некоторое время после начали проводить множество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раздничных концертов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ля детей с неизменными персонажами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Дедом Морозом и Снегурочкой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C:\Documents and Settings\Администратор\Рабочий стол\clip_image002.jpg"/>
          <p:cNvPicPr/>
          <p:nvPr/>
        </p:nvPicPr>
        <p:blipFill>
          <a:blip r:embed="rId1"/>
          <a:stretch/>
        </p:blipFill>
        <p:spPr>
          <a:xfrm>
            <a:off x="3059280" y="981000"/>
            <a:ext cx="58593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40435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Обычай наряжать ёлк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934640"/>
            <a:ext cx="4259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 фантазия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немецких стеклодув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ережала всех: птички, деды морозы, кувшинчики, шишки, хрупкие амфоры и дудочки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Женщины раскрашивали изделия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золотой и серебряной пыль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ркая, вся в игрушках, </a:t>
            </a:r>
            <a:r>
              <a:rPr b="0" lang="ru-RU" sz="1800" spc="-1" strike="noStrike">
                <a:solidFill>
                  <a:srgbClr val="00b050"/>
                </a:solidFill>
                <a:latin typeface="Constantia"/>
              </a:rPr>
              <a:t>новогодняя ёлк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столь популярная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до 1900 го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на рубеже столетий  стала считаться признаком дурного тона,  её вытеснила </a:t>
            </a:r>
            <a:r>
              <a:rPr b="0" lang="ru-RU" sz="1800" spc="-1" strike="noStrike">
                <a:solidFill>
                  <a:srgbClr val="00b050"/>
                </a:solidFill>
                <a:latin typeface="Constantia"/>
              </a:rPr>
              <a:t>строгая, стильная ёлк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b050"/>
                </a:solidFill>
                <a:latin typeface="Constantia"/>
              </a:rPr>
              <a:t>в серебристо-белых тон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Documents and Settings\Администратор\Рабочий стол\clip_image002.jpg"/>
          <p:cNvPicPr/>
          <p:nvPr/>
        </p:nvPicPr>
        <p:blipFill>
          <a:blip r:embed="rId1"/>
          <a:stretch/>
        </p:blipFill>
        <p:spPr>
          <a:xfrm>
            <a:off x="4859280" y="744480"/>
            <a:ext cx="406548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6" descr="i.jpeg"/>
          <p:cNvPicPr/>
          <p:nvPr/>
        </p:nvPicPr>
        <p:blipFill>
          <a:blip r:embed="rId1"/>
          <a:stretch/>
        </p:blipFill>
        <p:spPr>
          <a:xfrm>
            <a:off x="0" y="0"/>
            <a:ext cx="2390760" cy="2087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31640" y="333360"/>
            <a:ext cx="446436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Интересные  факт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3898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нтересен тот факт, что 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ёлочные игрушки, история, политика и искусство связаны между соб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 игрушкам можно «прочесть»  историю стран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К юбилею Пушкин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пущены были наборы игрушек с изображением героев из произведений поэ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Во время Великой Отечественной войны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амыми популярными игрушками были парашютист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Во времена Сталин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ёлочные хоккеисты и цирковые персонаж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В эпоху Хрущёв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овощи и фрукт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В 60-х года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часы, космонавты, кукуруза, Чиполлин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В 80-х года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спортсмен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C:\Documents and Settings\Администратор\Рабочий стол\xmastree.gif"/>
          <p:cNvPicPr/>
          <p:nvPr/>
        </p:nvPicPr>
        <p:blipFill>
          <a:blip r:embed="rId2"/>
          <a:stretch/>
        </p:blipFill>
        <p:spPr>
          <a:xfrm>
            <a:off x="4284720" y="957240"/>
            <a:ext cx="4641840" cy="54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одержимое 6" descr="1293530169_new_year_wallpapers_new_years_table_in_2011_025507_.jpg"/>
          <p:cNvPicPr/>
          <p:nvPr/>
        </p:nvPicPr>
        <p:blipFill>
          <a:blip r:embed="rId1"/>
          <a:stretch/>
        </p:blipFill>
        <p:spPr>
          <a:xfrm>
            <a:off x="3276720" y="2639880"/>
            <a:ext cx="3016080" cy="1881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7030a0"/>
                </a:solidFill>
                <a:latin typeface="Calibri"/>
              </a:rPr>
              <a:t>Обычай  наряжать ёл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1052280"/>
            <a:ext cx="8229600" cy="51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Ёлку украшали обычно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шар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з тонкого стекла и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мишурой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декоративным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фигурк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гирлянд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ные цвета украшений — </a:t>
            </a:r>
            <a:r>
              <a:rPr b="0" i="1" lang="ru-RU" sz="1800" spc="-1" strike="noStrike">
                <a:solidFill>
                  <a:srgbClr val="ff0000"/>
                </a:solidFill>
                <a:latin typeface="Constantia"/>
              </a:rPr>
              <a:t>красный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цвет костюма Санта Клауса или Деда Мороза), </a:t>
            </a:r>
            <a:r>
              <a:rPr b="0" i="1" lang="ru-RU" sz="1800" spc="-1" strike="noStrike">
                <a:solidFill>
                  <a:srgbClr val="ff0000"/>
                </a:solidFill>
                <a:latin typeface="Constantia"/>
              </a:rPr>
              <a:t>золотисты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Constantia"/>
              </a:rPr>
              <a:t>серебристы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i="1" lang="ru-RU" sz="1800" spc="-1" strike="noStrike">
                <a:solidFill>
                  <a:srgbClr val="ff0000"/>
                </a:solidFill>
                <a:latin typeface="Constantia"/>
              </a:rPr>
              <a:t>белый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цвет снег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Содержимое 4" descr="1add1dff74_192008.jpg"/>
          <p:cNvPicPr/>
          <p:nvPr/>
        </p:nvPicPr>
        <p:blipFill>
          <a:blip r:embed="rId2"/>
          <a:stretch/>
        </p:blipFill>
        <p:spPr>
          <a:xfrm>
            <a:off x="5940360" y="4005360"/>
            <a:ext cx="2789280" cy="2092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Akatava\Рабочий стол\New_Year_2011_Christmas_toys_and_gifts_025870_.jpg"/>
          <p:cNvPicPr/>
          <p:nvPr/>
        </p:nvPicPr>
        <p:blipFill>
          <a:blip r:embed="rId3"/>
          <a:stretch/>
        </p:blipFill>
        <p:spPr>
          <a:xfrm>
            <a:off x="468360" y="398304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егодня в мод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устаревающая классика: украшение ели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овогодними шарам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ух цветов, сочетающихся между собой (синий и серебряный, красный и золотой, игрушки цвета топлёного молока) и одинакового размера. В моде разные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бантики, повязанные на ветки е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которые любят модные, покупны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рашения, а где-то сохранилас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адиция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делать игрушки своим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рук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C:\Documents and Settings\Администратор\Рабочий стол\476fcac5-9df5-5f14-c253-da005fc83f55.gif"/>
          <p:cNvPicPr/>
          <p:nvPr/>
        </p:nvPicPr>
        <p:blipFill>
          <a:blip r:embed="rId1"/>
          <a:stretch/>
        </p:blipFill>
        <p:spPr>
          <a:xfrm>
            <a:off x="6643800" y="4005360"/>
            <a:ext cx="2227320" cy="26384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178_1230720940.jpg"/>
          <p:cNvPicPr/>
          <p:nvPr/>
        </p:nvPicPr>
        <p:blipFill>
          <a:blip r:embed="rId2"/>
          <a:stretch/>
        </p:blipFill>
        <p:spPr>
          <a:xfrm>
            <a:off x="317520" y="262080"/>
            <a:ext cx="2316240" cy="17380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ny6.jpg"/>
          <p:cNvPicPr/>
          <p:nvPr/>
        </p:nvPicPr>
        <p:blipFill>
          <a:blip r:embed="rId3"/>
          <a:stretch/>
        </p:blipFill>
        <p:spPr>
          <a:xfrm>
            <a:off x="6724800" y="476280"/>
            <a:ext cx="2127240" cy="15904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7" descr="впав.jpeg"/>
          <p:cNvPicPr/>
          <p:nvPr/>
        </p:nvPicPr>
        <p:blipFill>
          <a:blip r:embed="rId4"/>
          <a:stretch/>
        </p:blipFill>
        <p:spPr>
          <a:xfrm>
            <a:off x="3627360" y="334800"/>
            <a:ext cx="2322720" cy="173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05:11:42Z</dcterms:created>
  <dc:creator>Школа</dc:creator>
  <dc:description/>
  <dc:language>en-US</dc:language>
  <cp:lastModifiedBy>Библиотека</cp:lastModifiedBy>
  <dcterms:modified xsi:type="dcterms:W3CDTF">2025-05-26T12:31:16Z</dcterms:modified>
  <cp:revision>40</cp:revision>
  <dc:subject/>
  <dc:title>Творческий  проект  «Новогодняя  ёлочка»</dc:title>
</cp:coreProperties>
</file>