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8906-7AAC-4BBE-85CA-9E8F84AF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DE3D-00C9-4B81-AD2C-F7C41045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B1C0-0889-424B-9EBE-F2CACF7F4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4F3E-3358-4D53-B31E-8DF0BD795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777A6-23C7-4EFC-AA2C-40BE48478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9798-AAA7-436A-8340-31DC91E6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B4C1D-2786-4DBA-9732-EA94E8B2B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07E68-8DAF-4130-AC42-202D590F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C5CB-9A0D-4223-8594-4DF86A48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45AD-C87E-4ED0-B0D7-BB04E5E9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ADA2-843C-4A51-88D9-7CE6147D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0393-EF3C-4807-A5B4-6B8E8B047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AE01B-F146-4524-AC3C-92A67B4F7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11938-0767-4E5F-B00E-7D8F5C13F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F62B-0938-4B2B-85AB-891ACA171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6EFE-E77D-4EC3-AC37-70AD57C1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2BD70-0037-4775-B555-61DD8305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8BEC-C8E1-4050-9662-03E0A926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FE7-52F7-4412-99AF-25AD45C6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ED2F-7965-4C4A-82F3-8BC6F400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BF43-0203-4277-8B9A-12DADF079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F1D-5175-48F6-B93B-84B920F23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6E17-9EA3-4144-98D6-CC9A5445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F22-C6A2-4F1D-80A3-1488D287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E717-9BAE-4C87-B796-5295F75EDBD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C709-9E0A-4E56-8952-7D615A57B462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678168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етско-родительский клуб  «Мастерим вместе». Старшая группа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оспитатель : Антонюк Е.Н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024-2025 г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2" name="Picture 6" descr="907584b37a23e650110762c0da981b60"/>
          <p:cNvPicPr/>
          <p:nvPr/>
        </p:nvPicPr>
        <p:blipFill>
          <a:blip r:embed="rId1"/>
          <a:stretch/>
        </p:blipFill>
        <p:spPr>
          <a:xfrm>
            <a:off x="457200" y="2057400"/>
            <a:ext cx="8153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стер-класс «Мы отправляемся в путешествие на лодочках по реке Енисей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технике оригам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май провела Пустомолотова В.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Picture 9" descr="0-02-05-257ecb818b14dfcfb6c8d4a7d27fb51293792700c2d28894ca0cf72e1ceb648e_4e51d8d41fd3e74e"/>
          <p:cNvPicPr/>
          <p:nvPr/>
        </p:nvPicPr>
        <p:blipFill>
          <a:blip r:embed="rId1"/>
          <a:stretch/>
        </p:blipFill>
        <p:spPr>
          <a:xfrm>
            <a:off x="685800" y="1828800"/>
            <a:ext cx="3705120" cy="3657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3" descr="20241122_092757"/>
          <p:cNvPicPr/>
          <p:nvPr/>
        </p:nvPicPr>
        <p:blipFill>
          <a:blip r:embed="rId2"/>
          <a:stretch/>
        </p:blipFill>
        <p:spPr>
          <a:xfrm>
            <a:off x="4676760" y="1828800"/>
            <a:ext cx="3633840" cy="17668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20241122_092802"/>
          <p:cNvPicPr/>
          <p:nvPr/>
        </p:nvPicPr>
        <p:blipFill>
          <a:blip r:embed="rId3"/>
          <a:stretch/>
        </p:blipFill>
        <p:spPr>
          <a:xfrm>
            <a:off x="4675320" y="3718080"/>
            <a:ext cx="3636720" cy="17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"/>
          <p:cNvGraphicFramePr/>
          <p:nvPr/>
        </p:nvGraphicFramePr>
        <p:xfrm>
          <a:off x="152280" y="152280"/>
          <a:ext cx="8991720" cy="6288120"/>
        </p:xfrm>
        <a:graphic>
          <a:graphicData uri="http://schemas.openxmlformats.org/drawingml/2006/table">
            <a:tbl>
              <a:tblPr/>
              <a:tblGrid>
                <a:gridCol w="2414880"/>
                <a:gridCol w="6576840"/>
              </a:tblGrid>
              <a:tr h="212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Прямоугольник 1"/>
          <p:cNvSpPr/>
          <p:nvPr/>
        </p:nvSpPr>
        <p:spPr>
          <a:xfrm>
            <a:off x="1905120" y="30492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ложение о детско-родительском клубе «Мастерим вместе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Прямоугольник 4"/>
          <p:cNvSpPr/>
          <p:nvPr/>
        </p:nvSpPr>
        <p:spPr>
          <a:xfrm>
            <a:off x="457200" y="1295280"/>
            <a:ext cx="3200400" cy="30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луб организован для детей, посещающих среднюю группу «Клубничку», и их семе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новными принципами деятельности Клуба являются сотрудничество с семьёй, добровольность, компетентность, соблюдение педагогической этик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рок данного Положения рассчитан на 3 года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о долгосрочный проект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Прямоугольник 5"/>
          <p:cNvSpPr/>
          <p:nvPr/>
        </p:nvSpPr>
        <p:spPr>
          <a:xfrm>
            <a:off x="4114800" y="1274760"/>
            <a:ext cx="4267080" cy="47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 создание оптимальных условий для вовлечения семей воспитанников в образовательную деятельность и гармонизация детско-родительских отношений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укреплять внутрисемейные и меж семейные связ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вать положительную эмоциональную среду общения между детьми, родителями, педагогами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ктивизировать и обогащать педагогические знания и умения родителей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ать психолого-педагогическую культуру родителей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вать креативные способности детей и родителей в совместной деятельности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838080" y="1397160"/>
          <a:ext cx="7391520" cy="4917960"/>
        </p:xfrm>
        <a:graphic>
          <a:graphicData uri="http://schemas.openxmlformats.org/drawingml/2006/table">
            <a:tbl>
              <a:tblPr/>
              <a:tblGrid>
                <a:gridCol w="4872240"/>
                <a:gridCol w="2519280"/>
              </a:tblGrid>
              <a:tr h="444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ата/ ответственны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.Заседание клуба, составление плана работы на год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ентябрь. Воспитатель и родител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тер-класс. «Осенний букет» Аппликация, конструир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ктябрь. Борисова 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тер-класс «Весёлая Аэробика «Зверобика»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оябр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Нартова 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8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. Мастер- класс «Снегири на ветках» Объём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аппликация из салфеток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кабр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Генжималиева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. Развлечение «Фестиваль карнавальных костюмов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Январ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Савченко Е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тер-класс «Сердечко для мамы»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Феврал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авыдова 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тер-класс «Птица счастья». ориг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арт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Винтоняк. 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.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стер-класс «Мы отправляемся в путешествие на лодочках по реке Енисей»   в технике оригам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Ма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устомолотова 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71"/>
          <p:cNvSpPr/>
          <p:nvPr/>
        </p:nvSpPr>
        <p:spPr>
          <a:xfrm>
            <a:off x="1143000" y="380880"/>
            <a:ext cx="698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лан работы Детско-родительского клуба «Мастерим вместе»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стер-класс. «Осенний букет» Аппликация, конструирование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октябрь- провела Борисова Н.Ю.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9" name="Picture 8" descr="20241105_101550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1766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20241105_104018"/>
          <p:cNvPicPr/>
          <p:nvPr/>
        </p:nvPicPr>
        <p:blipFill>
          <a:blip r:embed="rId2"/>
          <a:stretch/>
        </p:blipFill>
        <p:spPr>
          <a:xfrm>
            <a:off x="609480" y="1828800"/>
            <a:ext cx="3657600" cy="42670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20241105_101642"/>
          <p:cNvPicPr/>
          <p:nvPr/>
        </p:nvPicPr>
        <p:blipFill>
          <a:blip r:embed="rId3"/>
          <a:stretch/>
        </p:blipFill>
        <p:spPr>
          <a:xfrm>
            <a:off x="4722840" y="3962520"/>
            <a:ext cx="388944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стер-класс «Весёлая Аэробика «Зверобика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ноябрь. Провела Нартова Е.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3" name="Picture 8" descr="20250122_090744"/>
          <p:cNvPicPr/>
          <p:nvPr/>
        </p:nvPicPr>
        <p:blipFill>
          <a:blip r:embed="rId1"/>
          <a:stretch/>
        </p:blipFill>
        <p:spPr>
          <a:xfrm>
            <a:off x="457200" y="1828800"/>
            <a:ext cx="4038480" cy="4221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20250122_090957"/>
          <p:cNvPicPr/>
          <p:nvPr/>
        </p:nvPicPr>
        <p:blipFill>
          <a:blip r:embed="rId2"/>
          <a:stretch/>
        </p:blipFill>
        <p:spPr>
          <a:xfrm>
            <a:off x="4724280" y="1828800"/>
            <a:ext cx="3633840" cy="1981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5" descr="20250122_091039"/>
          <p:cNvPicPr/>
          <p:nvPr/>
        </p:nvPicPr>
        <p:blipFill>
          <a:blip r:embed="rId3"/>
          <a:stretch/>
        </p:blipFill>
        <p:spPr>
          <a:xfrm>
            <a:off x="4724280" y="4038480"/>
            <a:ext cx="3637080" cy="19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Мастер- класс «Снегири на ветках» Объёмная аппликация из салфеток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Декабрь. Генжималиева А.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Picture 13" descr="IMG-20250115-WA0028"/>
          <p:cNvPicPr/>
          <p:nvPr/>
        </p:nvPicPr>
        <p:blipFill>
          <a:blip r:embed="rId1"/>
          <a:stretch/>
        </p:blipFill>
        <p:spPr>
          <a:xfrm>
            <a:off x="380880" y="1828800"/>
            <a:ext cx="5029200" cy="4648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4" descr="IMG-20250115-WA0073"/>
          <p:cNvPicPr/>
          <p:nvPr/>
        </p:nvPicPr>
        <p:blipFill>
          <a:blip r:embed="rId2"/>
          <a:stretch/>
        </p:blipFill>
        <p:spPr>
          <a:xfrm>
            <a:off x="5638680" y="18288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IMG-20250115-WA0077"/>
          <p:cNvPicPr/>
          <p:nvPr/>
        </p:nvPicPr>
        <p:blipFill>
          <a:blip r:embed="rId3"/>
          <a:stretch/>
        </p:blipFill>
        <p:spPr>
          <a:xfrm>
            <a:off x="5638680" y="4191120"/>
            <a:ext cx="3089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Развлечение «Фестиваль карнавальных костюмов»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(январь. Савченко Е.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9" descr="20250228_091805"/>
          <p:cNvPicPr/>
          <p:nvPr/>
        </p:nvPicPr>
        <p:blipFill>
          <a:blip r:embed="rId1"/>
          <a:stretch/>
        </p:blipFill>
        <p:spPr>
          <a:xfrm>
            <a:off x="4676760" y="1828800"/>
            <a:ext cx="3633840" cy="1766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20250228_092551"/>
          <p:cNvPicPr/>
          <p:nvPr/>
        </p:nvPicPr>
        <p:blipFill>
          <a:blip r:embed="rId2"/>
          <a:stretch/>
        </p:blipFill>
        <p:spPr>
          <a:xfrm>
            <a:off x="762120" y="3733920"/>
            <a:ext cx="3636720" cy="17683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3" descr="20250228_102031"/>
          <p:cNvPicPr/>
          <p:nvPr/>
        </p:nvPicPr>
        <p:blipFill>
          <a:blip r:embed="rId3"/>
          <a:stretch/>
        </p:blipFill>
        <p:spPr>
          <a:xfrm>
            <a:off x="4675320" y="3718080"/>
            <a:ext cx="3636720" cy="17683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7" descr="20250228_091903"/>
          <p:cNvPicPr/>
          <p:nvPr/>
        </p:nvPicPr>
        <p:blipFill>
          <a:blip r:embed="rId4"/>
          <a:stretch/>
        </p:blipFill>
        <p:spPr>
          <a:xfrm>
            <a:off x="757080" y="1828800"/>
            <a:ext cx="363384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стер-класс «Сердечко для мамы»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(Февраль. Давыдова Т.С.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6" name="Picture 9" descr="20250213_093044"/>
          <p:cNvPicPr/>
          <p:nvPr/>
        </p:nvPicPr>
        <p:blipFill>
          <a:blip r:embed="rId1"/>
          <a:stretch/>
        </p:blipFill>
        <p:spPr>
          <a:xfrm>
            <a:off x="4675320" y="3718080"/>
            <a:ext cx="3636720" cy="1768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20250213_090059"/>
          <p:cNvPicPr/>
          <p:nvPr/>
        </p:nvPicPr>
        <p:blipFill>
          <a:blip r:embed="rId2"/>
          <a:stretch/>
        </p:blipFill>
        <p:spPr>
          <a:xfrm>
            <a:off x="4676760" y="1828800"/>
            <a:ext cx="3633840" cy="1766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20250213_085143"/>
          <p:cNvPicPr/>
          <p:nvPr/>
        </p:nvPicPr>
        <p:blipFill>
          <a:blip r:embed="rId3"/>
          <a:stretch/>
        </p:blipFill>
        <p:spPr>
          <a:xfrm>
            <a:off x="685800" y="1828800"/>
            <a:ext cx="3776760" cy="36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стер-класс «Птица счастья». оригами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арт. Винтоняк А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Picture 8" descr="20210408_103436"/>
          <p:cNvPicPr/>
          <p:nvPr/>
        </p:nvPicPr>
        <p:blipFill>
          <a:blip r:embed="rId1"/>
          <a:stretch/>
        </p:blipFill>
        <p:spPr>
          <a:xfrm>
            <a:off x="685800" y="2438280"/>
            <a:ext cx="3776760" cy="2448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9" descr="20210330_160732"/>
          <p:cNvPicPr/>
          <p:nvPr/>
        </p:nvPicPr>
        <p:blipFill>
          <a:blip r:embed="rId2"/>
          <a:stretch/>
        </p:blipFill>
        <p:spPr>
          <a:xfrm>
            <a:off x="4605480" y="2433600"/>
            <a:ext cx="37764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3-03T06:53:04Z</dcterms:created>
  <dc:creator>Nikolai</dc:creator>
  <dc:description/>
  <dc:language>en-US</dc:language>
  <cp:lastModifiedBy>user</cp:lastModifiedBy>
  <dcterms:modified xsi:type="dcterms:W3CDTF">2025-09-07T09:25:37Z</dcterms:modified>
  <cp:revision>3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