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8DE6C-CB1E-435D-B8C4-8DB91B93DF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C10AA-D0D7-423E-AAE6-CCBD76DD63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29C21-AB2D-42CF-AD29-1E900ACAB3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735-951C-4627-A8C8-EE61AD15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05C-BC18-4081-A052-4F6A4B9A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48D4A-ED88-44DB-AA5B-3A25E302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B5687-BFEC-468E-8857-99462870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4D6D3-D66A-4C04-844C-88D91D16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F1C66-F4C7-44D6-92AC-7BB39643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B51ED-BB73-4A61-AD39-B0521A0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309AB-623F-4147-AACA-FE106340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96991-C2D8-4C71-8573-4E1FD37E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54AA3-44E8-41EF-AF46-ED1EA1A1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80A5F-CEA3-4D6F-BE9C-02EF655E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62B67-C5E3-486A-ABBB-3AC6BD65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06A-03DB-4C23-B4DA-A27E12D5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CB61A-1330-4167-9A68-D6FD0A52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47CD0-718E-46CF-8C30-6676C6BA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50419-0AB8-49A0-8ECA-487B7A81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B8B2D-BD2A-49E3-B6A9-0F1EF52A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3507F-9F33-4242-83B1-A3C487D6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D6B15-16FD-49CE-9BF1-ACD6340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9544B-5A59-411B-80C6-0A1BBEA2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F168A-F222-486E-AE04-E3D1255C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FBF47-AA96-40F9-B8F7-CD6F951E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60B13-3504-4841-8403-B382D21D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26D-AE94-42F6-8FCA-9454B552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19A38-F0E1-468C-86B0-B9824103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A2E5D-E969-4781-B602-CE52F5E1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F6665-4A60-4CD2-9B04-89BA3B42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B1B29-2830-486F-A1B5-7BBFA16E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14D28-9605-4392-8874-E2057F0A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E8426-601A-4738-871D-43C4A77F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DA1FB-F0BC-422A-B361-268052E8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806BF-63EE-4282-BD89-5C2281C5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10CDC-D667-4750-A96B-69207E5E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93157-72E2-41E5-876B-83FDEA11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A284-F9E9-4102-9DC4-EEDAA18B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A02F9-BBF3-46B5-9F57-6522279F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1578B-9F37-4FFB-9EA4-3487960C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074A4-CA76-4222-97DA-886529B2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D7BCC-752F-425E-BAAC-1F5C09E0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6DAE7-E37E-4390-A25C-663A7111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AC007-8202-4781-A527-CA4748B7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EBCFC-B488-47E6-9B4C-ABBC1199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2AC81-DA0E-459D-B5D8-C355F16D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33C0C-3A2F-4E87-86F9-AD2A8297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F278E-40A6-4DA2-A4A6-7B39CC04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C55A-0F44-4BB4-863F-FD391BFB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45D9B-BF63-4DBF-A048-DD359DBD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BF1AA-9196-4B9A-AE3C-E802A4B4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2E2C6-D7E3-4771-AC76-B9CA85D1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C984B-5EB1-432C-AEC3-E202D22E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F56FE-1C45-4175-9F8A-9C0B7B31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AB525-2583-4F24-A860-CB19857C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28971-4E08-4B6C-B272-0967DD1F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11409-B15E-4B14-A56B-2C60A000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61BD4-11B0-4BA1-8098-A8861ED6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87CD3-5435-4778-BF8E-D790F2A6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1B1A-D54D-4633-BCE7-34391883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136D7-642B-4413-A071-4A65702C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8251C-908E-4BBE-A3BF-2278A3B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7F43D-3DDC-4F5C-A046-FA4F659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194D5-7DD9-40E5-A27B-C45826E3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C73C8-62F3-4B3C-A6D9-09609AB9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DF846-11A3-4D50-84B8-F297EF57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B8C03-156D-4207-89BD-0A43735F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65B8A-1726-4A9E-A6AF-76B4C0D3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D7D4D-973A-4D06-912C-2C4D48AA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60819-E3A0-4A60-B3F3-78980CF6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50D7-A0B4-4132-B007-37D42054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003ED-FCCC-4CF3-8451-716F0040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5E9C2-F6A9-492A-9FBC-6A36EAC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F3486-770D-41BB-B84F-38F36581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1CA7B-07D3-4186-9F52-5B9A57D8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D2BC0-4521-4706-8764-2DF4E72C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2926C-9125-41BD-8597-31C392E8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06B9B-60DB-4471-B151-818F242E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1730B-7239-4DAD-8F3E-1A711C77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7CCE3-9CCF-4BF4-8746-F17F5063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1EB10-18CD-4A77-82FB-51514BAB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8B52-1299-43AE-907B-67EFDB5C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B32845-ACF4-43B3-91E1-06DF47D6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31199-5EC7-40D9-AC37-1E64DBE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FC9AE-889E-4A0A-8C0C-0D7360DC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852C9-1615-474B-AE82-EA82F573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1759E-076D-4A9A-BD2A-0F57B6ED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CDBA9A-5120-4D1C-8786-826A3498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7A57B-9025-4396-8E80-51C580AF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D1CBB-D60B-46F4-8FEC-9BA5585B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156D96-C3D3-48F7-ADD3-538009D5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DD59E-E6CB-4167-91DC-D0EFC7DB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A0E0-3497-4AD8-A1CA-5102C9AD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9D77E-71AB-4EA1-AF76-BF8D8FA1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1A4BD-7F59-41E5-B04C-AF12601B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1D23A-D136-4F15-8151-B6DD75A4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2A87E-7817-463C-8D70-78DBB19B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0E2D70-5794-4221-A4A5-E573B550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929CEC-BEB8-45D5-9912-9A1300E5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47BAF-D340-4063-BD49-4635A039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CB17C-3ADD-40C5-9670-ADE2D4E1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7B65AA-847D-44FB-8197-00913866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57055-369B-43AB-B23F-988AA7ED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FAC5-9D36-40DF-8398-E7F4255B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DF4C85-BC7E-475A-8A14-DF34DD10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2C930E-0006-4098-B0EB-41727398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E63A1-8390-480F-80BB-5156ACCF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7FB59-E55D-47CA-84E0-43246328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8FE802-BA8F-485B-8EBA-34387AB3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CBE31-0561-4C91-A805-1D70F167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066430-0329-4106-B311-FF8F929D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9FC65-75FF-4FB0-B2A2-8449C1F1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EAF91-A700-44C6-A140-B9E66F40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34FF8-991F-4171-9464-7B74084E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3DC-DB0E-4EA2-A27B-D6E86B34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8C5E-F74E-4D0B-9CAE-42C45E9E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1FB5CD-467F-4CFD-9200-581A1184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1B8AD-4C5B-458B-99B1-39597E36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35FEF-9C80-4CFB-ACF6-B9B501CE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1AF82A-BFF2-466F-8822-07404B20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6728D-A3C7-4D7F-8069-B9A4DFD7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C40F-FB4A-42CF-B6F4-49FD6CD1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CFD5-60B0-449B-9BAA-FABC19C5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6AF8-26C6-4FAF-9A19-457090A7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6211-9740-4FFC-931C-ACCD182D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CA2C-A501-43AB-9919-584C9283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79DC-F68D-4339-BBEE-B16C5A29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3E05-F453-4524-A5F9-074AF98D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6270-0B58-4C4F-ACA8-748D507C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D2F6-6A6F-45BE-B655-5398DE14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9DF-FB43-4E2A-97C1-86AD6D8F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3231-8ADB-4148-9389-7D1C846A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8B54-29CB-45F0-AF9D-60A530B8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BD40-C144-4BB4-8AC1-F459EB00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546B-BCB0-4EE5-A221-A7D1ADCC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F4B1-65AD-4E80-856A-51102F1A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76196-4479-40CF-BA47-11E793BC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560D-5359-4FF0-B449-70036D6A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6C8A4-29FE-41D7-B137-4390B1B0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6EAC-BF00-460E-8A94-91721689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14595-8B17-4C8B-B436-A59E7DAF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AC3-6279-4C4A-850D-8BCD6A81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FBE0-1F61-4093-8F73-B12E4E94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42657-6A87-4624-BAD8-C7ABE807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EA5C1-C88B-489E-9C06-6192EC91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6233-2D41-4629-96B1-B6AFF49E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22E15-65D6-4FAC-9EB1-C3C3E3E9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1724C-394D-4215-9DFB-56314C2A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88D6-2F73-4E0B-B45C-4E5576BB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A72C9-6980-4109-994B-46CC20AA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188C-F89D-41F9-BE6F-734E9D81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9B599-0776-4DF6-B761-04C9FF89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DFE-E23A-433B-A4E5-8A6E9C48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46C54-C65C-483D-8EF7-5034AA0B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3B45D-E2DA-4448-9C1A-9A2366C9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5C36E-BDAE-4610-8205-791B8298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A0EC3-A451-42B4-A7D0-2E84C379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F5963-C28A-494C-B9A8-05DD910F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32864-D6BE-475F-89BF-974BBE30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85C78-2490-49A9-98D0-5B6A147E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7066F-06BC-48B1-978B-C399B0BE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963D2-E386-4D3F-AC6F-B1B80B40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E69A9-1DFB-4C9E-948D-18C3F2DC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511-9288-4C2D-A70D-29084B58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219C-70CF-4669-8701-DA0ECFBC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9907-E405-4789-9F5F-BC3ECED2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7B3E5-4C0F-4B21-88D1-8D363F09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74F26-3F7F-46FD-98DB-00AD7477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0AAF7-1CAA-440E-B5A4-8E3D2394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8EF8-C8BB-4898-AA02-2ED9DB17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0B821-7573-4DEB-98BA-8B53DAF1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6807C-518D-4F86-99A0-C5F3C94E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1BF5A-C771-4D8D-A6C6-DBE5DBF7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421BC-64C4-483B-A794-81F51AA8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FCA-B093-49A5-9198-A5428BF2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19E86-47E7-4CBB-BCC2-0F5896AE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92BB4-3D72-4A2A-93A4-2A1585E2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50FF8-DF39-40FB-93A9-4BA1D041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BC59A-8586-4560-9DED-9564EB7F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D3C1C-9D55-4A4E-B975-F2088EAF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D2EC6-4F77-4795-9C74-F4CF5275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C473-75C6-4165-85AD-72F3285D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43E28-A436-4723-97F4-DC5C5FF3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6CB40-B28A-481C-A893-52BAE2D6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37FE7-6A61-46DC-842F-200B47EF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51D-D0A2-4463-B6DF-FD6C7B6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1CA52-557F-4D7D-85C7-9928FFF7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EADAE-D70F-4141-B6DE-08DD36B3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FB5BB-395A-41FD-8546-FDD26248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B549B-4D70-4F05-A803-A056C5FD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8A626-5E30-444D-9C31-22F32E93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8F1D9-575B-4E81-9DE9-38D95884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28168-D812-404F-8768-41EE987A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09846-E1AD-4AD7-88DD-569890A9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2417F-534D-4819-BD34-C23B83A9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FDCDF-9A15-45B5-BC0E-FE29BE43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052-A425-4A2E-8304-FBA42C6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9315A-22B5-45F1-AE57-FCA96C54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5F62F-9A21-4E30-800D-35757FA0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779DF-8A2E-4604-AAC4-2DC89951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70C06-7875-4B08-97E1-08F3CFEA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E7D43-6713-49A8-AA9C-17A41F6A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16202-FBE7-4C3C-AC6A-90037A13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D0A19-690F-412F-918C-F44FA9FB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8384C-71BB-48FC-AA63-D163AA26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9F849-4621-4F89-94F7-4C1520D8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498D5-C162-4B62-ACCA-2F3FA810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108B9-BCA1-42D6-82D0-76B74DE0A04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053D0-56F9-48D8-A70F-186A28AB0CD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257ED-9341-4A42-AD91-D66178F127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941EB-9918-4712-A3BC-F20151D78D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7AB75-4DEF-44F8-A243-0682CEEBB6D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DB19E-020B-4EB7-BC9E-97307C7C42D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58F62-03F9-4181-BE03-8F97395D885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29E41-5D18-42C1-8320-CBAC5F4331F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C7958-530A-4976-9E4B-5A1ABBEB5CF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1A94D-F36E-4BA4-A812-25C023C04EC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6A101-39A1-4051-93E8-29F953FC2B3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0511A-F2EE-4E5B-BB97-513C0C0204B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D7E54-3596-4CDD-93AD-6D7524C057A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AE703-F1D5-4D17-B489-A67BC28B39B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C2F42-174A-4BA1-B916-597DCD61B7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08AAD-FE60-480D-B650-29E0C7C796A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53151-C042-4FE2-9E5B-CDECD8F59D5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Box 1"/>
          <p:cNvSpPr/>
          <p:nvPr/>
        </p:nvSpPr>
        <p:spPr>
          <a:xfrm>
            <a:off x="2858400" y="5013360"/>
            <a:ext cx="518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истема оценивани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 соответствии с ФГОС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 1 классе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4" name="Рисунок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6840720" cy="45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Box 1"/>
          <p:cNvSpPr/>
          <p:nvPr/>
        </p:nvSpPr>
        <p:spPr>
          <a:xfrm>
            <a:off x="1763640" y="189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Текущая проверка в 1-ом класс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6" name="TextBox 2"/>
          <p:cNvSpPr/>
          <p:nvPr/>
        </p:nvSpPr>
        <p:spPr>
          <a:xfrm>
            <a:off x="468360" y="692280"/>
            <a:ext cx="817236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Для проверки сформированности учебных навыков в конце темы (раздела, этапа) следует проводить устный опрос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- текущей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- тематической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- итоговой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Gothic"/>
                <a:ea typeface="Arial"/>
              </a:rPr>
              <a:t>Формы контроля в 1-ом классе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устный опрос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- письменный опрос (самостоятельные  работы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Gothic"/>
                <a:ea typeface="Arial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Century Gothic"/>
                <a:ea typeface="Arial"/>
              </a:rPr>
              <a:t>В 1-ом классе в течение учебного года 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Century Gothic"/>
                <a:ea typeface="Arial"/>
              </a:rPr>
              <a:t>не проводятся контрольные работы</a:t>
            </a:r>
            <a:r>
              <a:rPr b="1" lang="ru-RU" sz="2000" spc="-1" strike="noStrike">
                <a:solidFill>
                  <a:srgbClr val="7030a0"/>
                </a:solidFill>
                <a:latin typeface="Century Gothic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Проводится стартовая диагностика в начале учебного год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Проводится итоговая диагностика в конце учебного год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TextBox 1"/>
          <p:cNvSpPr/>
          <p:nvPr/>
        </p:nvSpPr>
        <p:spPr>
          <a:xfrm>
            <a:off x="1692360" y="620640"/>
            <a:ext cx="68770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сьм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лиграфически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фограф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ъ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-9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-2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и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ошен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-5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списыва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чатны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пис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тны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писны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рифт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лиграф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Box 1"/>
          <p:cNvSpPr/>
          <p:nvPr/>
        </p:nvSpPr>
        <p:spPr>
          <a:xfrm>
            <a:off x="217440" y="26028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сьм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TextBox 2"/>
          <p:cNvSpPr/>
          <p:nvPr/>
        </p:nvSpPr>
        <p:spPr>
          <a:xfrm>
            <a:off x="324000" y="692280"/>
            <a:ext cx="824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окому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лиграф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-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руб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ч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нем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ен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ч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о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р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-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руб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ч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зком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лигра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реж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зборчив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арк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ислу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грубых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четов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ся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частич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ж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несоблюд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р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ч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лав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налич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жающи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вы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исы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круп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 отдель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о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Box 1"/>
          <p:cNvSpPr/>
          <p:nvPr/>
        </p:nvSpPr>
        <p:spPr>
          <a:xfrm>
            <a:off x="2050920" y="620640"/>
            <a:ext cx="6697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стная реч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ериями оценки  сформированности устной речи являются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лнота и правильность ответа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епень осознанности усвоения излагаемых знаний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последовательность изложе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культура реч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сокому уровн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ют полные, правильные, связанные, последовательные ответы ученика без недочетов или допускается не более 1 неточности в реч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реднему уровн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ют ответы, близкие к требованиям, удовлетворяющим для оценки высокого уровня, но ученик допускает неточности в речевом оформлении ответов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изкому уровн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ют ответы, если ученик в целом обнаруживает понимание  излагаемого материала, но отвечает неполно, по наводящим вопросам, затрудняется самостоятельно подтвердить правило примерам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TextBox 5"/>
          <p:cNvSpPr/>
          <p:nvPr/>
        </p:nvSpPr>
        <p:spPr>
          <a:xfrm>
            <a:off x="395280" y="907920"/>
            <a:ext cx="820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При определении уровня развития умений и  навыков по  чтению необходимо учитывать: понимание прочитанного текста, а также способ чтения, правильность, беглость, выразительность, владение речевыми навыками и умениями работать с тексто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entury Gothic"/>
                <a:ea typeface="Calibri"/>
              </a:rPr>
              <a:t>Нормы  техники  чтения. 1 класс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Calibri"/>
              </a:rPr>
              <a:t>(Оценка  не  ставится. Ученик  «справился»  или  «не  справился»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2" name="TextBox 6"/>
          <p:cNvSpPr/>
          <p:nvPr/>
        </p:nvSpPr>
        <p:spPr>
          <a:xfrm flipH="1">
            <a:off x="3635280" y="33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тени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2124000" y="2997360"/>
          <a:ext cx="6480360" cy="2808000"/>
        </p:xfrm>
        <a:graphic>
          <a:graphicData uri="http://schemas.openxmlformats.org/drawingml/2006/table">
            <a:tbl>
              <a:tblPr/>
              <a:tblGrid>
                <a:gridCol w="839880"/>
                <a:gridCol w="1409760"/>
                <a:gridCol w="1411200"/>
                <a:gridCol w="1409760"/>
                <a:gridCol w="140976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цен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ходно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триме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триме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II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риме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«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ьше 20 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ьше  35 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льше  40 с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«4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 – 20 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 – 35 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1 – 40 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«3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 – 15 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 – 25 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 – 30 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«2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ьше 10 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ьше 20 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еньше 25 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db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TextBox 1"/>
          <p:cNvSpPr/>
          <p:nvPr/>
        </p:nvSpPr>
        <p:spPr>
          <a:xfrm>
            <a:off x="2124000" y="549360"/>
            <a:ext cx="64087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тение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Высокий уровен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 навыка чтения: плавный слоговой способ чтения при темпе не менее 30-40 слов в минуту (на конец учебного года); понимание значения отдельных слов и предложений, умение выделить главную мысль прочитанного и нахождение в тексте слов и выражений, подтверждающих эту мысль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Среднему уровн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вития навыка чтения соответствует слоговой способ чтения, если при чтении допускается от 2 до 4 ошибок, темп чтения 20-30 слов. Учащийся не может понять отдельные слова при общем понимании прочитанного; умеет выделить главную мысль, но не может найти в тексте слова и выражения, подтверждающие эту мысль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зкому уровн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 навыка чтения соответствует чтение по буквам при темпе ниже 20 слов в минуту, без смысловых пауз и четкости произношения, непонимание общего смысла  прочитанного  текста, неправильные ответы на вопросы по содержанию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Прямоугольник 1"/>
          <p:cNvSpPr/>
          <p:nvPr/>
        </p:nvSpPr>
        <p:spPr>
          <a:xfrm>
            <a:off x="1979640" y="333360"/>
            <a:ext cx="676908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диный орфографический режим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рядок ведения тетрадей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      В тетрадях писать аккуратно, разборчиво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     Единообразно выполнять надписи на обложках тетради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ь                                                              Тетрадь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для  работ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а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 класса                                      ученицы 1 Б класса 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                                        средней школы №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                   Ивановой Варвар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  В 1-классах тетради подписываются учителе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Прямоугольник 1"/>
          <p:cNvSpPr/>
          <p:nvPr/>
        </p:nvSpPr>
        <p:spPr>
          <a:xfrm>
            <a:off x="1979640" y="333360"/>
            <a:ext cx="676260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6880"/>
                <a:tab algn="l" pos="3429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Математик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6880"/>
                <a:tab algn="l" pos="3429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полугод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кла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записывае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да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чис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арабс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цифр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наз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меся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пропись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6880"/>
                <a:tab algn="l" pos="3429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25 января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6880"/>
                <a:tab algn="l" pos="3429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я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датой и заголовком рабо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6880"/>
                <a:tab algn="l" pos="3429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бик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6880"/>
                <a:tab algn="l" pos="3429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заголовком работы и заданием, а также отдельными заданиями в ходе работы – 2 клетки вниз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6880"/>
                <a:tab algn="l" pos="3429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классной и домашней работами – 4 клетки вниз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6880"/>
                <a:tab algn="l" pos="3429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Исправля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нн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ркнуть простым карандашо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ркнут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ы или зна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б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6880"/>
                <a:tab algn="l" pos="3429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Все записи в тетради по математике ведутся ручкой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6880"/>
                <a:tab algn="l" pos="3429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тежи выполняются простым карандашом строго по линейк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6880"/>
                <a:tab algn="l" pos="3429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изображения схем к задачам могут использоваться цветные карандаш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6880"/>
                <a:tab algn="l" pos="34290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4:12:33Z</dcterms:created>
  <dc:creator>админи</dc:creator>
  <dc:description/>
  <dc:language>en-US</dc:language>
  <cp:lastModifiedBy>Admin</cp:lastModifiedBy>
  <dcterms:modified xsi:type="dcterms:W3CDTF">2025-09-09T11:23:27Z</dcterms:modified>
  <cp:revision>126</cp:revision>
  <dc:subject/>
  <dc:title>Слайд 1</dc:title>
</cp:coreProperties>
</file>