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4000" y="692280"/>
            <a:ext cx="77389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000" y="2026800"/>
            <a:ext cx="773892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4000" y="4226040"/>
            <a:ext cx="773892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692280"/>
            <a:ext cx="77389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026800"/>
            <a:ext cx="37764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49760" y="2026800"/>
            <a:ext cx="37764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4000" y="4226040"/>
            <a:ext cx="37764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49760" y="4226040"/>
            <a:ext cx="37764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000" y="692280"/>
            <a:ext cx="77389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000" y="2026800"/>
            <a:ext cx="2491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00480" y="2026800"/>
            <a:ext cx="2491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16960" y="2026800"/>
            <a:ext cx="2491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4000" y="4226040"/>
            <a:ext cx="2491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00480" y="4226040"/>
            <a:ext cx="2491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16960" y="4226040"/>
            <a:ext cx="2491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4000" y="692280"/>
            <a:ext cx="77389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4000" y="2026800"/>
            <a:ext cx="773892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4000" y="692280"/>
            <a:ext cx="77389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4000" y="2026800"/>
            <a:ext cx="773892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4000" y="692280"/>
            <a:ext cx="77389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4000" y="2026800"/>
            <a:ext cx="377640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49760" y="2026800"/>
            <a:ext cx="377640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692280"/>
            <a:ext cx="77389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375e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4000" y="692280"/>
            <a:ext cx="773892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000" y="692280"/>
            <a:ext cx="77389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000" y="2026800"/>
            <a:ext cx="37764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9760" y="2026800"/>
            <a:ext cx="377640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4000" y="4226040"/>
            <a:ext cx="37764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000" y="692280"/>
            <a:ext cx="77389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000" y="2026800"/>
            <a:ext cx="377640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9760" y="2026800"/>
            <a:ext cx="37764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49760" y="4226040"/>
            <a:ext cx="37764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4000" y="692280"/>
            <a:ext cx="77389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000" y="2026800"/>
            <a:ext cx="37764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9760" y="2026800"/>
            <a:ext cx="37764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4000" y="4226040"/>
            <a:ext cx="773892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692280"/>
            <a:ext cx="77389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7375e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026800"/>
            <a:ext cx="773892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375e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375e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7375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375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375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375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375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375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4000" y="856800"/>
            <a:ext cx="773892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000" spc="-1" strike="noStrike">
                <a:solidFill>
                  <a:srgbClr val="17375e"/>
                </a:solidFill>
                <a:latin typeface="Times New Roman"/>
                <a:ea typeface="Calibri"/>
              </a:rPr>
              <a:t>Муниципальное автономное дошкольное образовательное учреждение</a:t>
            </a:r>
            <a:br>
              <a:rPr sz="1800"/>
            </a:br>
            <a:r>
              <a:rPr b="0" lang="ru-RU" sz="2000" spc="-1" strike="noStrike">
                <a:solidFill>
                  <a:srgbClr val="17375e"/>
                </a:solidFill>
                <a:latin typeface="Times New Roman"/>
                <a:ea typeface="Calibri"/>
              </a:rPr>
              <a:t>«Детский сад №32 «Белоснежка».</a:t>
            </a:r>
            <a:br>
              <a:rPr sz="2400"/>
            </a:br>
            <a:endParaRPr b="0" lang="en-US" sz="20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indent="0" algn="ctr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Times New Roman"/>
                <a:ea typeface="Calibri"/>
              </a:rPr>
              <a:t>Методическая школа.</a:t>
            </a: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  <a:p>
            <a:pPr marL="108000" indent="0" algn="ctr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Times New Roman"/>
                <a:ea typeface="Calibri"/>
              </a:rPr>
              <a:t>«Трудовое воспитание в детском саду. Организация труда детей».</a:t>
            </a: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  <a:p>
            <a:pPr marL="108000" indent="0" algn="r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  <a:p>
            <a:pPr marL="108000" indent="0" algn="r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  <a:p>
            <a:pPr marL="108000" indent="0" algn="r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Bookman Old Style"/>
                <a:ea typeface="Calibri"/>
              </a:rPr>
              <a:t> </a:t>
            </a: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  <a:p>
            <a:pPr marL="1080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75e"/>
              </a:solidFill>
              <a:latin typeface="Arial"/>
            </a:endParaRPr>
          </a:p>
          <a:p>
            <a:pPr marL="108000" indent="0" algn="ctr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Times New Roman"/>
                <a:ea typeface="Calibri"/>
              </a:rPr>
              <a:t>г. Нефтеюганск </a:t>
            </a:r>
            <a:endParaRPr b="0" lang="en-US" sz="1800" spc="-1" strike="noStrike">
              <a:solidFill>
                <a:srgbClr val="17375e"/>
              </a:solidFill>
              <a:latin typeface="Arial"/>
            </a:endParaRPr>
          </a:p>
          <a:p>
            <a:pPr marL="1080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75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000" y="1916280"/>
            <a:ext cx="773892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7375e"/>
                </a:solidFill>
                <a:latin typeface="Times New Roman"/>
                <a:ea typeface="Calibri"/>
              </a:rPr>
              <a:t>За хороший поступок, совершенный ребенком в </a:t>
            </a:r>
            <a:r>
              <a:rPr b="1" lang="ru-RU" sz="3000" spc="-1" strike="noStrike">
                <a:solidFill>
                  <a:srgbClr val="17375e"/>
                </a:solidFill>
                <a:latin typeface="Times New Roman"/>
                <a:ea typeface="Calibri"/>
              </a:rPr>
              <a:t>первый раз</a:t>
            </a:r>
            <a:r>
              <a:rPr b="0" lang="ru-RU" sz="3000" spc="-1" strike="noStrike">
                <a:solidFill>
                  <a:srgbClr val="17375e"/>
                </a:solidFill>
                <a:latin typeface="Times New Roman"/>
                <a:ea typeface="Calibri"/>
              </a:rPr>
              <a:t>, оценка дается в </a:t>
            </a:r>
            <a:r>
              <a:rPr b="1" lang="ru-RU" sz="3000" spc="-1" strike="noStrike">
                <a:solidFill>
                  <a:srgbClr val="17375e"/>
                </a:solidFill>
                <a:latin typeface="Times New Roman"/>
                <a:ea typeface="Calibri"/>
              </a:rPr>
              <a:t>ярко выраженной эмоциональной форме</a:t>
            </a:r>
            <a:r>
              <a:rPr b="0" lang="ru-RU" sz="3000" spc="-1" strike="noStrike">
                <a:solidFill>
                  <a:srgbClr val="17375e"/>
                </a:solidFill>
                <a:latin typeface="Times New Roman"/>
                <a:ea typeface="Calibri"/>
              </a:rPr>
              <a:t>, в </a:t>
            </a:r>
            <a:r>
              <a:rPr b="1" lang="ru-RU" sz="3000" spc="-1" strike="noStrike">
                <a:solidFill>
                  <a:srgbClr val="17375e"/>
                </a:solidFill>
                <a:latin typeface="Times New Roman"/>
                <a:ea typeface="Calibri"/>
              </a:rPr>
              <a:t>следующий раз-более сдержано</a:t>
            </a:r>
            <a:r>
              <a:rPr b="0" lang="ru-RU" sz="3000" spc="-1" strike="noStrike">
                <a:solidFill>
                  <a:srgbClr val="17375e"/>
                </a:solidFill>
                <a:latin typeface="Times New Roman"/>
                <a:ea typeface="Calibri"/>
              </a:rPr>
              <a:t>, чтобы ребенок не привык делать хорошее только ради похвалы и у него формировалось мнение, что так поступать должен каждый.</a:t>
            </a:r>
            <a:endParaRPr b="0" lang="en-US" sz="3000" spc="-1" strike="noStrike">
              <a:solidFill>
                <a:srgbClr val="17375e"/>
              </a:solidFill>
              <a:latin typeface="Arial"/>
            </a:endParaRPr>
          </a:p>
        </p:txBody>
      </p:sp>
      <p:pic>
        <p:nvPicPr>
          <p:cNvPr id="59" name="Объект 3" descr=""/>
          <p:cNvPicPr/>
          <p:nvPr/>
        </p:nvPicPr>
        <p:blipFill>
          <a:blip r:embed="rId1"/>
          <a:stretch/>
        </p:blipFill>
        <p:spPr>
          <a:xfrm>
            <a:off x="6300720" y="4149720"/>
            <a:ext cx="192564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000" y="1484280"/>
            <a:ext cx="773892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7375e"/>
                </a:solidFill>
                <a:latin typeface="Times New Roman"/>
                <a:ea typeface="Calibri"/>
              </a:rPr>
              <a:t>К </a:t>
            </a:r>
            <a:r>
              <a:rPr b="0" lang="ru-RU" sz="4000" spc="-1" strike="noStrike" u="sng">
                <a:solidFill>
                  <a:srgbClr val="17375e"/>
                </a:solidFill>
                <a:uFillTx/>
                <a:latin typeface="Times New Roman"/>
                <a:ea typeface="Calibri"/>
              </a:rPr>
              <a:t>5 годам </a:t>
            </a:r>
            <a:r>
              <a:rPr b="0" lang="ru-RU" sz="4000" spc="-1" strike="noStrike">
                <a:solidFill>
                  <a:srgbClr val="17375e"/>
                </a:solidFill>
                <a:latin typeface="Times New Roman"/>
                <a:ea typeface="Calibri"/>
              </a:rPr>
              <a:t>у большинства детей начинает явно проявляться желание трудится </a:t>
            </a:r>
            <a:r>
              <a:rPr b="1" lang="ru-RU" sz="4000" spc="-1" strike="noStrike">
                <a:solidFill>
                  <a:srgbClr val="17375e"/>
                </a:solidFill>
                <a:latin typeface="Times New Roman"/>
                <a:ea typeface="Calibri"/>
              </a:rPr>
              <a:t>по собственной инициативе</a:t>
            </a:r>
            <a:endParaRPr b="0" lang="en-US" sz="4000" spc="-1" strike="noStrike">
              <a:solidFill>
                <a:srgbClr val="17375e"/>
              </a:solidFill>
              <a:latin typeface="Arial"/>
            </a:endParaRPr>
          </a:p>
        </p:txBody>
      </p:sp>
      <p:pic>
        <p:nvPicPr>
          <p:cNvPr id="61" name="Объект 3" descr=""/>
          <p:cNvPicPr/>
          <p:nvPr/>
        </p:nvPicPr>
        <p:blipFill>
          <a:blip r:embed="rId1"/>
          <a:stretch/>
        </p:blipFill>
        <p:spPr>
          <a:xfrm>
            <a:off x="2484360" y="3213000"/>
            <a:ext cx="444492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000" y="1484280"/>
            <a:ext cx="773892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Times New Roman"/>
                <a:ea typeface="Calibri"/>
              </a:rPr>
              <a:t>Регулярная и методически правильно организованная работа по трудовому воспитанию к концу пребывания детей в детском саду должна дать следующие </a:t>
            </a: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Calibri"/>
              </a:rPr>
              <a:t>результаты</a:t>
            </a:r>
            <a:r>
              <a:rPr b="0" lang="ru-RU" sz="2800" spc="-1" strike="noStrike">
                <a:solidFill>
                  <a:srgbClr val="17375e"/>
                </a:solidFill>
                <a:latin typeface="Times New Roman"/>
                <a:ea typeface="Calibri"/>
              </a:rPr>
              <a:t>:</a:t>
            </a:r>
            <a:br>
              <a:rPr sz="2000"/>
            </a:b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4360" y="2781360"/>
            <a:ext cx="77040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17375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Times New Roman"/>
                <a:ea typeface="Calibri"/>
              </a:rPr>
              <a:t>повысится интерес дошкольников к труду;</a:t>
            </a: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17375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Times New Roman"/>
                <a:ea typeface="Calibri"/>
              </a:rPr>
              <a:t>сформируются навыки совместной деятельности;</a:t>
            </a: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17375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Times New Roman"/>
                <a:ea typeface="Calibri"/>
              </a:rPr>
              <a:t>сложится коллектив детей и групповое самоуправление, благодаря сотрудничеству между подгруппами;</a:t>
            </a: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000" y="692280"/>
            <a:ext cx="77389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7704000" cy="424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17375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Times New Roman"/>
                <a:ea typeface="Calibri"/>
              </a:rPr>
              <a:t>расширятся представления детей об окружающем;</a:t>
            </a: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17375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Times New Roman"/>
                <a:ea typeface="Calibri"/>
              </a:rPr>
              <a:t>создастся благоприятная атмосфера для проявления личности каждого ребенка и ее становления;</a:t>
            </a: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17375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Times New Roman"/>
                <a:ea typeface="Calibri"/>
              </a:rPr>
              <a:t>ярче раскроются склонности, умения, стремления и активность каждого ребенка;</a:t>
            </a: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000" y="692280"/>
            <a:ext cx="77389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7704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15000"/>
              </a:lnSpc>
              <a:spcBef>
                <a:spcPts val="700"/>
              </a:spcBef>
              <a:buClr>
                <a:srgbClr val="17375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Times New Roman"/>
                <a:ea typeface="Calibri"/>
              </a:rPr>
              <a:t>возрастет значимость положительного влияния коллектива на личность; укрепятся товарищеские связи; установятся тесные дружеские контакты, взаимопонимание, взаимоконтроль, взаимопомощь, взаимообучение; сотрудничество и поддержка станут нормой поведения;</a:t>
            </a: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  <a:p>
            <a:pPr marL="325800" indent="-325800">
              <a:lnSpc>
                <a:spcPct val="115000"/>
              </a:lnSpc>
              <a:spcBef>
                <a:spcPts val="700"/>
              </a:spcBef>
              <a:buClr>
                <a:srgbClr val="17375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Times New Roman"/>
                <a:ea typeface="Calibri"/>
              </a:rPr>
              <a:t>сформируется чувство общественного долга;</a:t>
            </a: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  <a:p>
            <a:pPr marL="325800" indent="-325800">
              <a:lnSpc>
                <a:spcPct val="115000"/>
              </a:lnSpc>
              <a:spcBef>
                <a:spcPts val="700"/>
              </a:spcBef>
              <a:buClr>
                <a:srgbClr val="17375e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Times New Roman"/>
                <a:ea typeface="Calibri"/>
              </a:rPr>
              <a:t>труд станет для детей потребностью.</a:t>
            </a: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000" y="692280"/>
            <a:ext cx="77389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375e"/>
              </a:solidFill>
              <a:latin typeface="Arial"/>
            </a:endParaRPr>
          </a:p>
        </p:txBody>
      </p:sp>
      <p:pic>
        <p:nvPicPr>
          <p:cNvPr id="69" name="Объект 3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272360" cy="54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000" y="1773360"/>
            <a:ext cx="773892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Times New Roman"/>
                <a:ea typeface="Calibri"/>
              </a:rPr>
              <a:t>В каждой возрастной группе в начале года воспитатель распределяет детей на подгруппы, учитывая при этом их склонности, способности, психологические особенности, симпатии, уровень навыков и умений. </a:t>
            </a: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</p:txBody>
      </p:sp>
      <p:pic>
        <p:nvPicPr>
          <p:cNvPr id="41" name="Объект 3" descr=""/>
          <p:cNvPicPr/>
          <p:nvPr/>
        </p:nvPicPr>
        <p:blipFill>
          <a:blip r:embed="rId1"/>
          <a:stretch/>
        </p:blipFill>
        <p:spPr>
          <a:xfrm>
            <a:off x="2195640" y="3213000"/>
            <a:ext cx="478944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000" y="692280"/>
            <a:ext cx="77389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826560" y="764640"/>
            <a:ext cx="4249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Calibri"/>
              </a:rPr>
              <a:t>Во </a:t>
            </a:r>
            <a:r>
              <a:rPr b="0" lang="ru-RU" sz="3200" spc="-1" strike="noStrike" u="sng">
                <a:solidFill>
                  <a:srgbClr val="17375e"/>
                </a:solidFill>
                <a:uFillTx/>
                <a:latin typeface="Times New Roman"/>
                <a:ea typeface="Calibri"/>
              </a:rPr>
              <a:t>второй младшей 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Calibri"/>
              </a:rPr>
              <a:t>группе детей распределяют на </a:t>
            </a: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Calibri"/>
              </a:rPr>
              <a:t>4 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Calibri"/>
              </a:rPr>
              <a:t>подгруппы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Calibri"/>
              </a:rPr>
              <a:t>В </a:t>
            </a:r>
            <a:r>
              <a:rPr b="0" lang="ru-RU" sz="3200" spc="-1" strike="noStrike" u="sng">
                <a:solidFill>
                  <a:srgbClr val="17375e"/>
                </a:solidFill>
                <a:uFillTx/>
                <a:latin typeface="Times New Roman"/>
                <a:ea typeface="Calibri"/>
              </a:rPr>
              <a:t>средней, старшей 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Calibri"/>
              </a:rPr>
              <a:t>и </a:t>
            </a:r>
            <a:r>
              <a:rPr b="0" lang="ru-RU" sz="3200" spc="-1" strike="noStrike" u="sng">
                <a:solidFill>
                  <a:srgbClr val="17375e"/>
                </a:solidFill>
                <a:uFillTx/>
                <a:latin typeface="Times New Roman"/>
                <a:ea typeface="Calibri"/>
              </a:rPr>
              <a:t>подготовительной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Calibri"/>
              </a:rPr>
              <a:t>  группах на </a:t>
            </a: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Calibri"/>
              </a:rPr>
              <a:t>5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Calibri"/>
              </a:rPr>
              <a:t> подгрупп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pic>
        <p:nvPicPr>
          <p:cNvPr id="44" name="Объект 4" descr=""/>
          <p:cNvPicPr/>
          <p:nvPr/>
        </p:nvPicPr>
        <p:blipFill>
          <a:blip r:embed="rId1"/>
          <a:stretch/>
        </p:blipFill>
        <p:spPr>
          <a:xfrm>
            <a:off x="4716360" y="4292640"/>
            <a:ext cx="360072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000" y="1773360"/>
            <a:ext cx="773892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7375e"/>
                </a:solidFill>
                <a:latin typeface="Times New Roman"/>
                <a:ea typeface="Calibri"/>
              </a:rPr>
              <a:t>Во второй младшей группе малыши начинают дежурить по столовой со второй половины учебного года</a:t>
            </a:r>
            <a:endParaRPr b="0" lang="en-US" sz="4000" spc="-1" strike="noStrike">
              <a:solidFill>
                <a:srgbClr val="17375e"/>
              </a:solidFill>
              <a:latin typeface="Arial"/>
            </a:endParaRPr>
          </a:p>
        </p:txBody>
      </p:sp>
      <p:pic>
        <p:nvPicPr>
          <p:cNvPr id="46" name="Объект 3" descr=""/>
          <p:cNvPicPr/>
          <p:nvPr/>
        </p:nvPicPr>
        <p:blipFill>
          <a:blip r:embed="rId1"/>
          <a:stretch/>
        </p:blipFill>
        <p:spPr>
          <a:xfrm>
            <a:off x="2987640" y="3645000"/>
            <a:ext cx="35560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000" y="692280"/>
            <a:ext cx="77389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4360" y="1197000"/>
            <a:ext cx="35985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Times New Roman"/>
                <a:ea typeface="Calibri"/>
              </a:rPr>
              <a:t>В средней группе в первую половину года обычно вводят дежурство по столовой всей подгруппой. </a:t>
            </a: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787640" y="1125000"/>
            <a:ext cx="3600360" cy="424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5000"/>
              </a:lnSpc>
              <a:spcBef>
                <a:spcPts val="700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Times New Roman"/>
                <a:ea typeface="Calibri"/>
              </a:rPr>
              <a:t>Со второй половины года детей начинают обучать дежурству по подготовке материалов к занятиям, поэтому трое ребят дежурят по столовой и трое-по занятиям.</a:t>
            </a: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75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000" y="1267920"/>
            <a:ext cx="7738920" cy="9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7375e"/>
                </a:solidFill>
                <a:latin typeface="Times New Roman"/>
                <a:ea typeface="Calibri"/>
              </a:rPr>
              <a:t>В старших группах вводится дежурство по природному уголку. </a:t>
            </a:r>
            <a:endParaRPr b="0" lang="en-US" sz="4000" spc="-1" strike="noStrike">
              <a:solidFill>
                <a:srgbClr val="17375e"/>
              </a:solidFill>
              <a:latin typeface="Arial"/>
            </a:endParaRPr>
          </a:p>
        </p:txBody>
      </p:sp>
      <p:pic>
        <p:nvPicPr>
          <p:cNvPr id="51" name="Объект 3" descr=""/>
          <p:cNvPicPr/>
          <p:nvPr/>
        </p:nvPicPr>
        <p:blipFill>
          <a:blip r:embed="rId1"/>
          <a:stretch/>
        </p:blipFill>
        <p:spPr>
          <a:xfrm>
            <a:off x="1979640" y="2492280"/>
            <a:ext cx="5389560" cy="33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000" y="1413000"/>
            <a:ext cx="773892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Times New Roman"/>
                <a:ea typeface="Calibri"/>
              </a:rPr>
              <a:t>Работа по воспитанию </a:t>
            </a:r>
            <a:r>
              <a:rPr b="1" lang="ru-RU" sz="3600" spc="-1" strike="noStrike">
                <a:solidFill>
                  <a:srgbClr val="17375e"/>
                </a:solidFill>
                <a:latin typeface="Times New Roman"/>
                <a:ea typeface="Calibri"/>
              </a:rPr>
              <a:t>навыков самообслуживания</a:t>
            </a:r>
            <a:r>
              <a:rPr b="0" lang="ru-RU" sz="3600" spc="-1" strike="noStrike">
                <a:solidFill>
                  <a:srgbClr val="17375e"/>
                </a:solidFill>
                <a:latin typeface="Times New Roman"/>
                <a:ea typeface="Calibri"/>
              </a:rPr>
              <a:t> во второй младшей группе проводится часто-1 раз в неделю с каждой подгруппой</a:t>
            </a:r>
            <a:endParaRPr b="0" lang="en-US" sz="3600" spc="-1" strike="noStrike">
              <a:solidFill>
                <a:srgbClr val="17375e"/>
              </a:solidFill>
              <a:latin typeface="Arial"/>
            </a:endParaRPr>
          </a:p>
        </p:txBody>
      </p:sp>
      <p:pic>
        <p:nvPicPr>
          <p:cNvPr id="53" name="Объект 3" descr=""/>
          <p:cNvPicPr/>
          <p:nvPr/>
        </p:nvPicPr>
        <p:blipFill>
          <a:blip r:embed="rId1"/>
          <a:stretch/>
        </p:blipFill>
        <p:spPr>
          <a:xfrm>
            <a:off x="2771640" y="3105000"/>
            <a:ext cx="345600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000" y="1267920"/>
            <a:ext cx="7738920" cy="9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7375e"/>
                </a:solidFill>
                <a:latin typeface="Times New Roman"/>
                <a:ea typeface="Calibri"/>
              </a:rPr>
              <a:t>В средней, старшей и подготовительной группах до 2 раз в месяц с каждой подгруппой</a:t>
            </a:r>
            <a:endParaRPr b="0" lang="en-US" sz="4000" spc="-1" strike="noStrike">
              <a:solidFill>
                <a:srgbClr val="17375e"/>
              </a:solidFill>
              <a:latin typeface="Arial"/>
            </a:endParaRPr>
          </a:p>
        </p:txBody>
      </p:sp>
      <p:pic>
        <p:nvPicPr>
          <p:cNvPr id="55" name="Объект 3" descr=""/>
          <p:cNvPicPr/>
          <p:nvPr/>
        </p:nvPicPr>
        <p:blipFill>
          <a:blip r:embed="rId1"/>
          <a:stretch/>
        </p:blipFill>
        <p:spPr>
          <a:xfrm>
            <a:off x="1908000" y="2637000"/>
            <a:ext cx="5259600" cy="35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000" y="980640"/>
            <a:ext cx="7738920" cy="9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7375e"/>
                </a:solidFill>
                <a:latin typeface="Arial"/>
              </a:rPr>
              <a:t>Виды совместного труда детей и взрослых </a:t>
            </a:r>
            <a:endParaRPr b="0" lang="en-US" sz="40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4000" y="1988640"/>
            <a:ext cx="77389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Times New Roman"/>
                <a:ea typeface="Calibri"/>
              </a:rPr>
              <a:t>коллективный (фронтальный) труд</a:t>
            </a:r>
            <a:endParaRPr b="0" lang="en-US" sz="3600" spc="-1" strike="noStrike">
              <a:solidFill>
                <a:srgbClr val="17375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Times New Roman"/>
                <a:ea typeface="Calibri"/>
              </a:rPr>
              <a:t>хозяйственно-бытовой труд</a:t>
            </a:r>
            <a:endParaRPr b="0" lang="en-US" sz="3600" spc="-1" strike="noStrike">
              <a:solidFill>
                <a:srgbClr val="17375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Times New Roman"/>
                <a:ea typeface="Calibri"/>
              </a:rPr>
              <a:t>труд в природе</a:t>
            </a:r>
            <a:endParaRPr b="0" lang="en-US" sz="3600" spc="-1" strike="noStrike">
              <a:solidFill>
                <a:srgbClr val="17375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Times New Roman"/>
                <a:ea typeface="Calibri"/>
              </a:rPr>
              <a:t>ручной труд</a:t>
            </a:r>
            <a:endParaRPr b="0" lang="en-US" sz="3600" spc="-1" strike="noStrike">
              <a:solidFill>
                <a:srgbClr val="17375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7:21:00Z</dcterms:created>
  <dc:creator>Home</dc:creator>
  <dc:description/>
  <dc:language>en-US</dc:language>
  <cp:lastModifiedBy>yliastasuk.1978@mail.ru</cp:lastModifiedBy>
  <dcterms:modified xsi:type="dcterms:W3CDTF">2025-09-10T10:00:46Z</dcterms:modified>
  <cp:revision>58</cp:revision>
  <dc:subject/>
  <dc:title>Слайд 1</dc:title>
</cp:coreProperties>
</file>