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7.gif" ContentType="image/gif"/>
  <Override PartName="/ppt/media/image6.gif" ContentType="image/gif"/>
  <Override PartName="/ppt/media/image9.png" ContentType="image/png"/>
  <Override PartName="/ppt/media/image5.gif" ContentType="image/gif"/>
  <Override PartName="/ppt/media/image14.jpeg" ContentType="image/jpeg"/>
  <Override PartName="/ppt/media/image1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3.gif" ContentType="image/gif"/>
  <Override PartName="/ppt/media/image17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2.png" ContentType="image/png"/>
  <Override PartName="/ppt/media/image4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65F98-214D-4C36-A14F-3A2C7104A2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CB8FF-02C0-4C13-A981-A65A252DD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C4A6D-B59A-4B68-9A49-D9A02FF745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CA353-A6A2-4764-B535-21F0F68F54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1759A-4E12-4126-8CE6-C090EDA89D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C70AC-4532-453F-89CE-640E9103A5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3598D-1760-4A22-9567-01DFBE930D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9403E-7737-4E9A-ACDB-EB3106FB41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DEC9B-BFCA-4234-B47A-94621E7BFA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816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0BD3A-181C-49F7-AAAA-31B73E72D8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879CA-4451-4EB3-A17D-46A77CA66E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AFC99-8A67-4962-AB53-D0BF582653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DDF06-E3D9-417E-A4F6-1B50479F7D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DEF45-2F10-42E8-AF1C-55E2B49B79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3252A-7DE7-4A99-8785-E95B9EFE11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8DF72-03F9-4A7B-90CE-8E760460ED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05DAE-E075-49F5-A005-AC29AE0EAF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9D379-7461-4F37-A7C4-0AA5CAF641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731F2-7CC4-430D-B07E-174A4CDDD9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B6A08-1E7C-4AD6-8EE4-0F24025E65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816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F0F00-2B8D-4CF6-B0D7-CC662DE4AF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2B638-89AE-4711-825E-30B4003672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419D6-5B94-4AF3-8D32-10D4331A00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spcAft>
                <a:spcPts val="1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588E7-32D3-4FA7-88BD-56D89AD709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2BAE85D-EECB-4EFE-BB7B-FF36BEF2B373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CCC9018-9AE6-4AC1-A819-C6AB020CD2BB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остые механизм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4786200" y="4214880"/>
            <a:ext cx="328608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тор: учитель физик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БОУ гимназия №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.В.Горюш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5689800" cy="26560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"/>
          <p:cNvSpPr/>
          <p:nvPr/>
        </p:nvSpPr>
        <p:spPr>
          <a:xfrm>
            <a:off x="2031120" y="4404960"/>
            <a:ext cx="542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F1, F2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силы, действующие на рычаг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L1 L2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лечи сил, действующих на рыча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2268360" y="692280"/>
            <a:ext cx="496764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838080" y="1413000"/>
            <a:ext cx="2881440" cy="3456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813200" y="1413000"/>
            <a:ext cx="3149640" cy="3456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1209600" y="5443560"/>
            <a:ext cx="68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Рычаг первого рода                    Рычаг второго ро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0" y="790560"/>
            <a:ext cx="9144000" cy="30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-78480" y="907560"/>
            <a:ext cx="9359640" cy="205236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ило Архимеда: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Рычаг находится в равновесии, когда силы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действующие на него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обратно пропорциональны плечам этих си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3419640" y="3760920"/>
            <a:ext cx="1657080" cy="141120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675640" cy="30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13800" cy="31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640080" y="1048680"/>
            <a:ext cx="801576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Tahoma"/>
              </a:rPr>
              <a:t>Момент силы – физическая величин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cc00"/>
                </a:solidFill>
                <a:latin typeface="Tahoma"/>
              </a:rPr>
              <a:t>равная произведению сил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Tahoma"/>
              </a:rPr>
              <a:t>на её плечо: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2987640" y="4006800"/>
            <a:ext cx="2808360" cy="64260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cc00"/>
                </a:solidFill>
                <a:latin typeface="Tahoma"/>
              </a:rPr>
              <a:t>     </a:t>
            </a:r>
            <a:r>
              <a:rPr b="1" i="1" lang="ru-RU" sz="3600" spc="-1" strike="noStrike">
                <a:solidFill>
                  <a:srgbClr val="ffcc00"/>
                </a:solidFill>
                <a:latin typeface="Tahoma"/>
              </a:rPr>
              <a:t>М= </a:t>
            </a:r>
            <a:r>
              <a:rPr b="1" i="1" lang="en-US" sz="3600" spc="-1" strike="noStrike">
                <a:solidFill>
                  <a:srgbClr val="ffcc00"/>
                </a:solidFill>
                <a:latin typeface="Tahoma"/>
              </a:rPr>
              <a:t>Fl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"/>
          <p:cNvSpPr/>
          <p:nvPr/>
        </p:nvSpPr>
        <p:spPr>
          <a:xfrm>
            <a:off x="0" y="32050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2"/>
              <p:cNvSpPr txBox="1"/>
              <p:nvPr/>
            </p:nvSpPr>
            <p:spPr>
              <a:xfrm>
                <a:off x="1292400" y="638280"/>
                <a:ext cx="1371600" cy="11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AutoShape 3"/>
          <p:cNvSpPr/>
          <p:nvPr/>
        </p:nvSpPr>
        <p:spPr>
          <a:xfrm>
            <a:off x="3276720" y="907920"/>
            <a:ext cx="660240" cy="373320"/>
          </a:xfrm>
          <a:prstGeom prst="rightArrow">
            <a:avLst>
              <a:gd name="adj1" fmla="val 50000"/>
              <a:gd name="adj2" fmla="val 442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33195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5"/>
              <p:cNvSpPr txBox="1"/>
              <p:nvPr/>
            </p:nvSpPr>
            <p:spPr>
              <a:xfrm>
                <a:off x="4356000" y="762120"/>
                <a:ext cx="230364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9" name="AutoShape 6"/>
          <p:cNvSpPr/>
          <p:nvPr/>
        </p:nvSpPr>
        <p:spPr>
          <a:xfrm>
            <a:off x="5508720" y="1773360"/>
            <a:ext cx="431640" cy="647640"/>
          </a:xfrm>
          <a:prstGeom prst="downArrow">
            <a:avLst>
              <a:gd name="adj1" fmla="val 50000"/>
              <a:gd name="adj2" fmla="val 375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0" y="33195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4500720" y="2778120"/>
            <a:ext cx="23763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M1 = M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179280" y="1336680"/>
            <a:ext cx="860904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Tahoma"/>
              </a:rPr>
              <a:t>Правило моментов: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Tahoma"/>
              </a:rPr>
              <a:t>рычаг находится в равновесии под действием двух сил, если момент силы, вращающей его по часовой стрелке, равен моменту силы, вращающей его против часовой стрел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971640" y="1217520"/>
            <a:ext cx="684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Тело, используемое для совершения работы, превращения силы или её направления, называют орудием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"/>
          <p:cNvSpPr/>
          <p:nvPr/>
        </p:nvSpPr>
        <p:spPr>
          <a:xfrm>
            <a:off x="0" y="33195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2"/>
              <p:cNvSpPr txBox="1"/>
              <p:nvPr/>
            </p:nvSpPr>
            <p:spPr>
              <a:xfrm>
                <a:off x="2174760" y="2421000"/>
                <a:ext cx="608976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М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Н</m:t>
                        </m:r>
                        <m:r>
                          <m:t xml:space="preserve">⋅</m:t>
                        </m:r>
                        <m:r>
                          <m:t xml:space="preserve">м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9999"/>
                </a:solidFill>
                <a:latin typeface="Tahoma"/>
              </a:rPr>
              <a:t>Выделите рычаг и действующие на него силы в следующих ситуациях.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b5481"/>
                </a:solidFill>
                <a:latin typeface="Tahoma"/>
              </a:rPr>
              <a:t>а) Турист снимает котелок с огня, действуя на пал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2268360" y="2781360"/>
            <a:ext cx="3959280" cy="162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95280" y="1628640"/>
          <a:ext cx="8231040" cy="4996080"/>
        </p:xfrm>
        <a:graphic>
          <a:graphicData uri="http://schemas.openxmlformats.org/drawingml/2006/table">
            <a:tbl>
              <a:tblPr/>
              <a:tblGrid>
                <a:gridCol w="4116240"/>
                <a:gridCol w="4114800"/>
              </a:tblGrid>
              <a:tr h="83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61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следовательность действ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64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64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61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нали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6480">
                      <a:solidFill>
                        <a:srgbClr val="ffffff"/>
                      </a:solidFill>
                    </a:lnR>
                    <a:lnT w="64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6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1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Выделите тело, которое может поворачиваться вокруг какой – либо точк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1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Изобразите это тело в виде отрезка прямой и укажите точку О вокруг которой возможен поворот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1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Выделите тела, под действием которых рассматриваемое тело может поворачиваться вокруг точки О по и против часовой стрелк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1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 Постройте силы, которые описывают эти воздейств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64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64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алка может поворачиваться вокруг опоры. 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1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1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           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1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1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алка может поворачиваться под действием усилия человека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и веса котелка (Р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1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1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1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1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64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64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Rectangle 18"/>
          <p:cNvSpPr/>
          <p:nvPr/>
        </p:nvSpPr>
        <p:spPr>
          <a:xfrm>
            <a:off x="2771640" y="82260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РЕШЕНИЕ СИТУАЦИИ №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4788000" y="3429000"/>
            <a:ext cx="30970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AutoShape 20"/>
          <p:cNvSpPr/>
          <p:nvPr/>
        </p:nvSpPr>
        <p:spPr>
          <a:xfrm>
            <a:off x="7667640" y="3429000"/>
            <a:ext cx="360360" cy="28728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Line 21"/>
          <p:cNvSpPr/>
          <p:nvPr/>
        </p:nvSpPr>
        <p:spPr>
          <a:xfrm>
            <a:off x="5148360" y="5516640"/>
            <a:ext cx="25923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Line 22"/>
          <p:cNvSpPr/>
          <p:nvPr/>
        </p:nvSpPr>
        <p:spPr>
          <a:xfrm flipV="1">
            <a:off x="5148360" y="5302080"/>
            <a:ext cx="144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6443640" y="5516640"/>
            <a:ext cx="144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"/>
          <p:cNvSpPr/>
          <p:nvPr/>
        </p:nvSpPr>
        <p:spPr>
          <a:xfrm>
            <a:off x="65160" y="560520"/>
            <a:ext cx="809640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б)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  <a:ea typeface="Times New Roman"/>
              </a:rPr>
              <a:t>Слесарь отвинчивает гайку 1  гаечным ключом 2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  <a:ea typeface="Times New Roman"/>
              </a:rPr>
              <a:t>преодолевая трение между гайкой и винтом 3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5580000" y="1557360"/>
            <a:ext cx="2879640" cy="12952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"/>
          <p:cNvSpPr/>
          <p:nvPr/>
        </p:nvSpPr>
        <p:spPr>
          <a:xfrm>
            <a:off x="33840" y="3208320"/>
            <a:ext cx="88794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В гидравлической тормозной системе автомобиля усил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от педали 1 при  её повороте вокруг шарнира 2 передает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поршню 3 и далее тормозным колодк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5148360" y="4724280"/>
            <a:ext cx="3492360" cy="153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102240" y="535320"/>
            <a:ext cx="606636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г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) Женщина несет ведра на коромысл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поддерживая коромысло рук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4643280" y="1484280"/>
            <a:ext cx="3421080" cy="15130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160920" y="3427560"/>
            <a:ext cx="63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д) Садовник удерживает тележку с песк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4716360" y="4149720"/>
            <a:ext cx="331164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687240" y="620640"/>
            <a:ext cx="1636920" cy="2592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3276720" y="863640"/>
            <a:ext cx="2374920" cy="1754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3"/>
          <a:stretch/>
        </p:blipFill>
        <p:spPr>
          <a:xfrm>
            <a:off x="6443640" y="685800"/>
            <a:ext cx="2305080" cy="1967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4"/>
          <a:stretch/>
        </p:blipFill>
        <p:spPr>
          <a:xfrm>
            <a:off x="900000" y="3807000"/>
            <a:ext cx="1727280" cy="1726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5"/>
          <a:stretch/>
        </p:blipFill>
        <p:spPr>
          <a:xfrm>
            <a:off x="3276720" y="3440160"/>
            <a:ext cx="2374920" cy="1782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6"/>
          <a:stretch/>
        </p:blipFill>
        <p:spPr>
          <a:xfrm>
            <a:off x="6588000" y="3429000"/>
            <a:ext cx="1727280" cy="17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9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26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325080" y="1362240"/>
            <a:ext cx="8224200" cy="17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ffcc00"/>
                </a:solidFill>
                <a:latin typeface="Tahoma"/>
              </a:rPr>
              <a:t>Приспособления, служащие дл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ffcc00"/>
                </a:solidFill>
                <a:latin typeface="Tahoma"/>
              </a:rPr>
              <a:t>преобразования силы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ffcc00"/>
                </a:solidFill>
                <a:latin typeface="Tahoma"/>
              </a:rPr>
              <a:t>называют простыми механизмами.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"/>
          <p:cNvGrpSpPr/>
          <p:nvPr/>
        </p:nvGrpSpPr>
        <p:grpSpPr>
          <a:xfrm>
            <a:off x="324000" y="1125360"/>
            <a:ext cx="8388360" cy="3948120"/>
            <a:chOff x="324000" y="1125360"/>
            <a:chExt cx="8388360" cy="3948120"/>
          </a:xfrm>
        </p:grpSpPr>
        <p:sp>
          <p:nvSpPr>
            <p:cNvPr id="94" name="Rectangle 2"/>
            <p:cNvSpPr/>
            <p:nvPr/>
          </p:nvSpPr>
          <p:spPr>
            <a:xfrm>
              <a:off x="324000" y="1125360"/>
              <a:ext cx="8388360" cy="39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Text Box 3"/>
            <p:cNvSpPr/>
            <p:nvPr/>
          </p:nvSpPr>
          <p:spPr>
            <a:xfrm>
              <a:off x="3121200" y="1312920"/>
              <a:ext cx="3452760" cy="561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         </a:t>
              </a:r>
              <a:r>
                <a:rPr b="0" lang="ru-RU" sz="2000" spc="-1" strike="noStrike">
                  <a:solidFill>
                    <a:srgbClr val="003366"/>
                  </a:solidFill>
                  <a:latin typeface="Tahoma"/>
                </a:rPr>
                <a:t>Простые механизмы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Rectangle 4"/>
            <p:cNvSpPr/>
            <p:nvPr/>
          </p:nvSpPr>
          <p:spPr>
            <a:xfrm>
              <a:off x="1474920" y="2630520"/>
              <a:ext cx="1807920" cy="561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3366"/>
                  </a:solidFill>
                  <a:latin typeface="Tahoma"/>
                </a:rPr>
                <a:t>Рычаг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Rectangle 5"/>
            <p:cNvSpPr/>
            <p:nvPr/>
          </p:nvSpPr>
          <p:spPr>
            <a:xfrm>
              <a:off x="5753160" y="2630520"/>
              <a:ext cx="2300400" cy="749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3366"/>
                  </a:solidFill>
                  <a:latin typeface="Tahoma"/>
                </a:rPr>
                <a:t>Наклонная плоскость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Line 6"/>
            <p:cNvSpPr/>
            <p:nvPr/>
          </p:nvSpPr>
          <p:spPr>
            <a:xfrm flipH="1">
              <a:off x="2627280" y="1876320"/>
              <a:ext cx="65736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Line 7"/>
            <p:cNvSpPr/>
            <p:nvPr/>
          </p:nvSpPr>
          <p:spPr>
            <a:xfrm>
              <a:off x="6245280" y="1876320"/>
              <a:ext cx="65700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982800" y="3946680"/>
              <a:ext cx="985680" cy="561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3366"/>
                  </a:solidFill>
                  <a:latin typeface="Tahoma"/>
                </a:rPr>
                <a:t>Блок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Rectangle 9"/>
            <p:cNvSpPr/>
            <p:nvPr/>
          </p:nvSpPr>
          <p:spPr>
            <a:xfrm>
              <a:off x="2625840" y="3946680"/>
              <a:ext cx="1150920" cy="561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3366"/>
                  </a:solidFill>
                  <a:latin typeface="Tahoma"/>
                </a:rPr>
                <a:t>Ворот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Rectangle 10"/>
            <p:cNvSpPr/>
            <p:nvPr/>
          </p:nvSpPr>
          <p:spPr>
            <a:xfrm>
              <a:off x="5587920" y="3946680"/>
              <a:ext cx="986040" cy="561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3366"/>
                  </a:solidFill>
                  <a:latin typeface="Tahoma"/>
                </a:rPr>
                <a:t>Клин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Rectangle 11"/>
            <p:cNvSpPr/>
            <p:nvPr/>
          </p:nvSpPr>
          <p:spPr>
            <a:xfrm>
              <a:off x="7397640" y="3946680"/>
              <a:ext cx="986040" cy="561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3366"/>
                  </a:solidFill>
                  <a:latin typeface="Tahoma"/>
                </a:rPr>
                <a:t>Винт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Line 12"/>
            <p:cNvSpPr/>
            <p:nvPr/>
          </p:nvSpPr>
          <p:spPr>
            <a:xfrm flipH="1">
              <a:off x="1477440" y="3193920"/>
              <a:ext cx="327240" cy="74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Line 13"/>
            <p:cNvSpPr/>
            <p:nvPr/>
          </p:nvSpPr>
          <p:spPr>
            <a:xfrm>
              <a:off x="2792520" y="3193920"/>
              <a:ext cx="326880" cy="74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Line 14"/>
            <p:cNvSpPr/>
            <p:nvPr/>
          </p:nvSpPr>
          <p:spPr>
            <a:xfrm flipH="1">
              <a:off x="6081840" y="3382920"/>
              <a:ext cx="32832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Line 15"/>
            <p:cNvSpPr/>
            <p:nvPr/>
          </p:nvSpPr>
          <p:spPr>
            <a:xfrm>
              <a:off x="7562880" y="3382920"/>
              <a:ext cx="32688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1908000" y="1279440"/>
            <a:ext cx="525636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826920" y="1146240"/>
            <a:ext cx="8070840" cy="284004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Рычаг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 - </a:t>
            </a:r>
            <a:r>
              <a:rPr b="0" i="1" lang="ru-RU" sz="3600" spc="-1" strike="noStrike">
                <a:solidFill>
                  <a:srgbClr val="ffcc00"/>
                </a:solidFill>
                <a:latin typeface="Tahoma"/>
              </a:rPr>
              <a:t>твёрдое тело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ffcc00"/>
                </a:solidFill>
                <a:latin typeface="Tahoma"/>
              </a:rPr>
              <a:t>которое может вращаться вокруг неподвижной опоры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131400" y="1263960"/>
            <a:ext cx="9154080" cy="34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ffcc00"/>
                </a:solidFill>
                <a:latin typeface="Tahoma"/>
              </a:rPr>
              <a:t>Кратчайшее расстояние между точкой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ffcc00"/>
                </a:solidFill>
                <a:latin typeface="Tahoma"/>
              </a:rPr>
              <a:t>опоры и прямой, вдоль которой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ffcc00"/>
                </a:solidFill>
                <a:latin typeface="Tahoma"/>
              </a:rPr>
              <a:t>действует на рычаг сила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ffcc00"/>
                </a:solidFill>
                <a:latin typeface="Tahoma"/>
              </a:rPr>
              <a:t>называется </a:t>
            </a:r>
            <a:r>
              <a:rPr b="0" i="1" lang="ru-RU" sz="4000" spc="-1" strike="noStrike">
                <a:solidFill>
                  <a:srgbClr val="ffcc00"/>
                </a:solidFill>
                <a:latin typeface="Tahoma"/>
              </a:rPr>
              <a:t>плечом силы.</a:t>
            </a:r>
            <a:br>
              <a:rPr sz="3600"/>
            </a:br>
            <a:br>
              <a:rPr sz="36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25-09-19T12:01:55Z</dcterms:modified>
  <cp:revision>2</cp:revision>
  <dc:subject/>
  <dc:title>Слайд 1</dc:title>
</cp:coreProperties>
</file>