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B6F-3A2E-4666-BF9E-B265B1A8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0F4-43D7-44CF-B71C-1A3B9C01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56B-6096-4103-843D-57AD7AE2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D51-06FA-4CAC-872B-C9048799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31A-236A-4165-9FC9-E31F20B0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D24-FAF1-4860-8A46-F612A90E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279-18FC-44C7-9AB5-2B6C497F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156-2357-431B-832F-AEA9CC70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E10-4E55-4114-A682-E5867A5B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042-E7A3-40F9-93E3-2A9BCD1F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EE8-4543-4C53-B9B5-8C0EFF8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4F6-BAF6-4DC2-AD82-C45EBFDB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CB6C-FBDD-4A5F-97C2-579509929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НЦИЯ «Угадай памятн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26T14:23:03Z</dcterms:created>
  <dc:creator>olga</dc:creator>
  <dc:description/>
  <dc:language>en-US</dc:language>
  <cp:lastModifiedBy>olga</cp:lastModifiedBy>
  <dcterms:modified xsi:type="dcterms:W3CDTF">2025-03-10T14:44:54Z</dcterms:modified>
  <cp:revision>4</cp:revision>
  <dc:subject/>
  <dc:title>Презентация PowerPoint</dc:title>
</cp:coreProperties>
</file>