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EFB-58AD-4DF4-A0C8-A47C37E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FAD-4F39-45B7-8FE8-554296B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5C2DB-96C3-4A27-9954-47A46363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92E2A-DA30-4171-BFB2-89897CC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CCF46-4463-40CA-8472-C550438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6CB2-E9BE-4033-BBAF-B6AD6E0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E3741-E9C4-42F7-A8BA-9EB028A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14DE4-F08C-40EC-8CD7-C42990F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44E18-D402-44F9-B7FE-0ADF1417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31930-BFF2-44C9-912E-9AA6C33A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5563D-43E5-407E-9DDF-BB2E2E87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C969-D5CA-4C61-BC60-821532D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7EA-E8F0-4CD6-9BDC-9774E6CC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6D8E-3096-416C-B3CD-D645B08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0F6A4-CC83-4BE9-8FFB-A0BE866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8E62-85A0-44EF-9418-E3C95DE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721FC-99CE-4F69-95BB-8E22E1D8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5A71D-A67E-471D-BA35-24269B94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39F7-2387-40EC-84EE-27988FC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08CB0-3BB6-4825-8FB9-8D1F80E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533B8-EF79-441D-87F4-CECEF31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F726F-F9EB-460F-838D-8A4A3683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E3F1D-C034-4321-8851-66443A30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FF8-A476-4D1F-94FD-CC4E09F0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ED91A-2C26-4D75-8504-B66AADBE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07FEA-B89D-4704-9B37-8168D062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A705-D420-45ED-AF24-BABEF466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AFA1D-ACB7-4121-8051-630B98E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F744F-B13D-4B4B-9306-B555FDD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10591-B117-44D6-9CCB-0C3D676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A517-A391-45ED-A51E-01105A96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274EA-BB0A-476A-B592-7798ADB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94B3F-B002-4F0A-9BC2-A4B8C94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4B8C6-24D7-4C76-8011-03374D4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E16-D7FD-4F91-A0CF-D602C628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3509C-D7B7-4B03-8D3F-81CE11D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3AB68-329A-4060-B1C1-42CA0956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3D72B-85D7-44E6-996A-438C55D7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9E927-8F25-481D-8720-D43E1D0E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5EFC0-CF05-491D-9FC1-D29D6A0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2B9C5-A26D-4D0D-A108-FDEBAC6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F41D3-65B8-4B47-8E22-396F972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287C9-7986-4EA0-A653-48372156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AA9F9-6229-432A-8794-5A57344C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0856A-2433-4B0B-AC3B-33B7BEF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735D-F21C-4960-B339-482AD014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E379D-57A5-4202-8858-AE50BF5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DBED6-9B0B-44CC-BADC-A1F018A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D5FCA-5794-4737-954D-A334615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96D9-54EE-4201-9229-8EFE4377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03AD-732E-4C7E-A330-DA254100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BAB-FB02-4200-BE2F-DF2FA3BA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3626-4E4F-4617-9687-34A58045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F8D-A59D-4480-A236-5C749CC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5B23-6043-4898-8C0B-75E8FE7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939-962C-40D9-9FEB-7959B34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5E9-5C28-44F1-AAC1-C062C01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EB1A-AEB5-4A52-8AB6-71D569C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57E8-AEFC-4E01-AE21-B53B245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A365-4A38-47D6-947D-05F973D9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20DC-BCFF-4497-93FF-5EAD8A6D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B32-DF92-477F-B318-DD55706D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21F5-B4B9-44E0-8C83-360E5656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9880-8882-4FB9-9F04-BCF667F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D382-DD76-488E-8CAF-E0F89569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D10B-2D10-49AB-A52A-FCBCE62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CC9A-F3BF-46D1-A918-9D3BB5BC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E1E-2C00-4A0C-8AD2-DC14B79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6084-187C-4520-81C4-FCD66C83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16F0-DAE6-487D-8D50-862F01B0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7E81-C626-48FC-8A0A-321D590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4B9B-A015-469F-A58B-0D59825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9EC8-08D7-4DFE-AF20-5F9EDDB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12CA-9040-42E7-97A2-26BDDDA1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5524-35C4-4223-A019-5184A52D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9FF6-2537-496E-BE02-654BC03F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9B7A-350F-4E63-AF94-2FF7555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651E-7B7C-4ACC-89D7-9E5323F3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BDC-0D9C-43CE-938B-472A6B4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E549-0134-4D31-B776-1D69DD8B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5FF1-D5FD-4432-BA17-A8EBF5B9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3BD7-1B01-4553-91F4-4F4D820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4A1D-A07F-4C37-9157-192FA55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1273-4420-4744-A216-0977DD7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AD1D-B9E7-4EC5-85FE-4378F99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E96C-4D8B-41CC-BDE9-C6A83120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CF0C-1E4F-4756-B943-C1453B47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A005-2253-48D4-82B5-1DAFC352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EEB8-3348-4A34-8C55-06D5EF0F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0CD-75C4-4FD1-84CA-65D2F4F4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E82D-133A-41A0-AFE3-40A424BA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4258-E3F0-420C-9CB4-5C40B188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20E3-4C00-4B1C-821E-DA920417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67B6-B07E-40F8-AA41-BED5EE1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FCF3-B366-458E-8CA1-5137FCC0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BE29-D253-4606-9E4D-0390843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528D-F2DD-48E7-A298-D54BBB77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316D-90BD-4867-81BA-8CAABD23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7B27-9F19-4EDD-A4AC-221FEEA8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0F37-F555-4160-8753-CF8B6DD3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A81-5CD4-4B23-9BFA-A851CE2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B3B4-F50D-4B2E-AFAA-FF00158D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FE7E-C142-42CB-B184-13B5531E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5DC4-C341-47D2-8ED1-59CD12C9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74EA-D718-4E42-B789-2D1F351F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A3041-55CD-400F-A590-562F4124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F61E-192E-4B72-8D63-6927801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9A7B-7C0A-48F6-A318-629DE4E9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5AD5-9C0B-4A1B-A883-358D5B57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65741-DBF2-460D-ADC6-AEF9FF62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D06D-5BBB-4FC4-B449-89DA2A0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C4A-A2AB-417B-9896-0CE5A76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4A9D-91EB-4711-8D38-A2C63CD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5383-11F2-4833-AFF1-7A01C11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5807-0F26-43EC-8B17-A0C8E1A6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464B-3F9B-4878-8BEA-47D2A7E1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C80B-3704-42F5-8B2C-BE2D614C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74B0-8E5A-4334-B074-641D8F3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EE4D-42A6-462A-B3AC-25DF5DF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45E09-3191-47B8-A360-9BCF3CB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EB09-D9BB-498B-8873-F46C6374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127F-29F8-4C6E-BBD2-CE35579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504-AD65-425C-A021-F36E3F3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8EB1-FD14-4A61-BDE4-94FD3AC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5569-6BC5-4100-9975-2450FF0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64892-B64D-434D-A786-4DDC5A63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FE18-841D-4CDA-B5B6-B8F7242B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9683-AC2A-428F-95E1-E327FB6B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1705-2082-4C63-A263-9F1724A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C20A-6806-40BF-82C8-1FE8610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87BD-CA9B-4EA1-B36E-CD316DBB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EFD6-6607-4ACA-8270-204FCCA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861E-801A-4FE1-A02A-C7B0C6D9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578-B43D-43D7-A35C-E0946CA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517AF-711D-490B-A553-66AA0EF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E3F2C-4D90-4679-AB68-F13AB84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8C10-4911-4E2E-897B-2A59E4D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2F0B-54D5-46C2-8666-1ADB99E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A762-E518-49EA-B3C1-60EBE8DD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5408-CF05-4E68-8964-F8BE6926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4D11B-F96F-4DFB-B62E-EEB0D08C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450B9-FE85-4B34-A2B5-056D6D7D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A5084-7B52-4277-93B2-7B09F1D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C1021-1477-4E8E-A0F8-B38DAC2A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3CCC-5AF8-4E31-BBDD-553786C09B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7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8F8-9C30-45E4-B252-3B22249693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2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93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A45-D1B8-401D-99BE-A0775F96CB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11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11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2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310-B889-4499-B928-19C2A3EAAC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DC9-A7AF-4671-81F5-386008A4A8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AAE6-9734-440C-872A-6A611722E0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9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0B6F-CDDD-4EA9-B64D-F33266A9B1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7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8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C6B4-D433-44B7-8F69-F26BC43A30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6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6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7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6454-F8DD-4D9B-98D5-465E4C2A62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5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5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6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6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F868-E43B-4D06-8888-2F94C2667A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4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4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6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F37-2D44-456B-9E0D-E111D01F9E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3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3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5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5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3FF-E1E6-4D45-8B51-1A7E2BB820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Использование плакатов при изучении темы:</a:t>
            </a:r>
            <a:br>
              <a:rPr sz="4800"/>
            </a:b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 «Гражданская война» 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готовила: Морозова Наталья Геннадье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истории МКО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Ш №8» г.Ефрем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ульск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Причины Гражданской войны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рьба за вла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еская политика большевиков весной – летом 1918 г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рестский мир и его последств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гон Учредительного собр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аз от идеи создания «однородного социалистического правительства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сновные противоборствующие силы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ас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8" name="Picture 5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73400" cy="424836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6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92572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Распределите основные слои населения по противоборствующим лагерям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ржуаз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ещ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ухове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стья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ч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ллиген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фицер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ы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уржуаз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ещ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ухове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житочное крестья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едня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ь интеллиген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ь офицер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крас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Рабоч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Беднейшее крестья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Часть интеллиген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Часть офицер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Лидеры белого движ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2335" name="i-main-pic" descr="Картинка 71 из 1390"/>
          <p:cNvPicPr/>
          <p:nvPr/>
        </p:nvPicPr>
        <p:blipFill>
          <a:blip r:embed="rId1"/>
          <a:stretch/>
        </p:blipFill>
        <p:spPr>
          <a:xfrm>
            <a:off x="179280" y="1916280"/>
            <a:ext cx="1863720" cy="2952720"/>
          </a:xfrm>
          <a:prstGeom prst="rect">
            <a:avLst/>
          </a:prstGeom>
          <a:ln w="0">
            <a:noFill/>
          </a:ln>
        </p:spPr>
      </p:pic>
      <p:pic>
        <p:nvPicPr>
          <p:cNvPr id="2336" name="i-main-pic" descr="Картинка 1 из 1248"/>
          <p:cNvPicPr/>
          <p:nvPr/>
        </p:nvPicPr>
        <p:blipFill>
          <a:blip r:embed="rId2"/>
          <a:stretch/>
        </p:blipFill>
        <p:spPr>
          <a:xfrm>
            <a:off x="4591080" y="1916280"/>
            <a:ext cx="1996920" cy="2952720"/>
          </a:xfrm>
          <a:prstGeom prst="rect">
            <a:avLst/>
          </a:prstGeom>
          <a:ln w="0">
            <a:noFill/>
          </a:ln>
        </p:spPr>
      </p:pic>
      <p:pic>
        <p:nvPicPr>
          <p:cNvPr id="2337" name="i-main-pic" descr="Картинка 1 из 490"/>
          <p:cNvPicPr/>
          <p:nvPr/>
        </p:nvPicPr>
        <p:blipFill>
          <a:blip r:embed="rId3"/>
          <a:stretch/>
        </p:blipFill>
        <p:spPr>
          <a:xfrm>
            <a:off x="6732720" y="191628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2338" name="i-main-pic" descr="Картинка 1 из 897"/>
          <p:cNvPicPr/>
          <p:nvPr/>
        </p:nvPicPr>
        <p:blipFill>
          <a:blip r:embed="rId4"/>
          <a:stretch/>
        </p:blipFill>
        <p:spPr>
          <a:xfrm>
            <a:off x="2278080" y="1916280"/>
            <a:ext cx="2095560" cy="2952720"/>
          </a:xfrm>
          <a:prstGeom prst="rect">
            <a:avLst/>
          </a:prstGeom>
          <a:ln w="0">
            <a:noFill/>
          </a:ln>
        </p:spPr>
      </p:pic>
      <p:sp>
        <p:nvSpPr>
          <p:cNvPr id="2339" name="WordArt 7"/>
          <p:cNvSpPr txBox="1"/>
          <p:nvPr/>
        </p:nvSpPr>
        <p:spPr>
          <a:xfrm>
            <a:off x="324000" y="4941720"/>
            <a:ext cx="1584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В. Колч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0" name="WordArt 8"/>
          <p:cNvSpPr txBox="1"/>
          <p:nvPr/>
        </p:nvSpPr>
        <p:spPr>
          <a:xfrm>
            <a:off x="2700360" y="4941720"/>
            <a:ext cx="12970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И. Дени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1" name="WordArt 9"/>
          <p:cNvSpPr txBox="1"/>
          <p:nvPr/>
        </p:nvSpPr>
        <p:spPr>
          <a:xfrm>
            <a:off x="4643280" y="4941720"/>
            <a:ext cx="1955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Н. Вранг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2" name="WordArt 10"/>
          <p:cNvSpPr txBox="1"/>
          <p:nvPr/>
        </p:nvSpPr>
        <p:spPr>
          <a:xfrm>
            <a:off x="6804000" y="4941720"/>
            <a:ext cx="21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.Н. Юден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4" name="Picture 4" descr=""/>
          <p:cNvPicPr/>
          <p:nvPr/>
        </p:nvPicPr>
        <p:blipFill>
          <a:blip r:embed="rId1"/>
          <a:stretch/>
        </p:blipFill>
        <p:spPr>
          <a:xfrm>
            <a:off x="6372360" y="1268280"/>
            <a:ext cx="2771640" cy="558972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6335640" cy="5589720"/>
          </a:xfrm>
          <a:prstGeom prst="rect">
            <a:avLst/>
          </a:prstGeom>
          <a:ln w="0">
            <a:noFill/>
          </a:ln>
        </p:spPr>
      </p:pic>
      <p:sp>
        <p:nvSpPr>
          <p:cNvPr id="2346" name="WordArt 6"/>
          <p:cNvSpPr txBox="1"/>
          <p:nvPr/>
        </p:nvSpPr>
        <p:spPr>
          <a:xfrm>
            <a:off x="1187280" y="260280"/>
            <a:ext cx="6772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овите основные полож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Лидеры красного движения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2348" name="i-main-pic" descr="Картинка 9 из 1715"/>
          <p:cNvPicPr/>
          <p:nvPr/>
        </p:nvPicPr>
        <p:blipFill>
          <a:blip r:embed="rId1"/>
          <a:stretch/>
        </p:blipFill>
        <p:spPr>
          <a:xfrm>
            <a:off x="609480" y="1704960"/>
            <a:ext cx="2962440" cy="3960720"/>
          </a:xfrm>
          <a:prstGeom prst="rect">
            <a:avLst/>
          </a:prstGeom>
          <a:ln w="0">
            <a:noFill/>
          </a:ln>
        </p:spPr>
      </p:pic>
      <p:pic>
        <p:nvPicPr>
          <p:cNvPr id="2349" name="i-main-pic" descr="Картинка 15 из 41636"/>
          <p:cNvPicPr/>
          <p:nvPr/>
        </p:nvPicPr>
        <p:blipFill>
          <a:blip r:embed="rId2"/>
          <a:stretch/>
        </p:blipFill>
        <p:spPr>
          <a:xfrm>
            <a:off x="5580000" y="1700280"/>
            <a:ext cx="2814840" cy="3960720"/>
          </a:xfrm>
          <a:prstGeom prst="rect">
            <a:avLst/>
          </a:prstGeom>
          <a:ln w="0">
            <a:noFill/>
          </a:ln>
        </p:spPr>
      </p:pic>
      <p:sp>
        <p:nvSpPr>
          <p:cNvPr id="2350" name="WordArt 5"/>
          <p:cNvSpPr txBox="1"/>
          <p:nvPr/>
        </p:nvSpPr>
        <p:spPr>
          <a:xfrm>
            <a:off x="684360" y="5805360"/>
            <a:ext cx="275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.Д. Тр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1" name="WordArt 6"/>
          <p:cNvSpPr txBox="1"/>
          <p:nvPr/>
        </p:nvSpPr>
        <p:spPr>
          <a:xfrm>
            <a:off x="5867280" y="5734080"/>
            <a:ext cx="2343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И. Лен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2" name="Picture 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5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349800" cy="4465440"/>
          </a:xfrm>
          <a:prstGeom prst="rect">
            <a:avLst/>
          </a:prstGeom>
          <a:ln w="0">
            <a:noFill/>
          </a:ln>
        </p:spPr>
      </p:pic>
      <p:sp>
        <p:nvSpPr>
          <p:cNvPr id="2354" name="WordArt 7"/>
          <p:cNvSpPr txBox="1"/>
          <p:nvPr/>
        </p:nvSpPr>
        <p:spPr>
          <a:xfrm>
            <a:off x="250920" y="549360"/>
            <a:ext cx="86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овите основные положения программы крас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вните программы красных и белых , что было общего в них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было различного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6" name="Picture 3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608280" cy="4248360"/>
          </a:xfrm>
          <a:prstGeom prst="rect">
            <a:avLst/>
          </a:prstGeom>
          <a:ln w="0">
            <a:noFill/>
          </a:ln>
        </p:spPr>
      </p:pic>
      <p:pic>
        <p:nvPicPr>
          <p:cNvPr id="2357" name="Picture 4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2418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951360" cy="5199120"/>
          </a:xfrm>
          <a:prstGeom prst="rect">
            <a:avLst/>
          </a:prstGeom>
          <a:ln w="0">
            <a:noFill/>
          </a:ln>
        </p:spPr>
      </p:pic>
      <p:pic>
        <p:nvPicPr>
          <p:cNvPr id="2359" name="Picture 3" descr=""/>
          <p:cNvPicPr/>
          <p:nvPr/>
        </p:nvPicPr>
        <p:blipFill>
          <a:blip r:embed="rId2"/>
          <a:stretch/>
        </p:blipFill>
        <p:spPr>
          <a:xfrm>
            <a:off x="4702320" y="981000"/>
            <a:ext cx="3757320" cy="5184720"/>
          </a:xfrm>
          <a:prstGeom prst="rect">
            <a:avLst/>
          </a:prstGeom>
          <a:ln w="0">
            <a:noFill/>
          </a:ln>
        </p:spPr>
      </p:pic>
      <p:sp>
        <p:nvSpPr>
          <p:cNvPr id="2360" name="WordArt 4"/>
          <p:cNvSpPr txBox="1"/>
          <p:nvPr/>
        </p:nvSpPr>
        <p:spPr>
          <a:xfrm>
            <a:off x="1332000" y="0"/>
            <a:ext cx="633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пределите где плакат белых, а где красны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361" name="WordArt 5"/>
          <p:cNvSpPr txBox="1"/>
          <p:nvPr/>
        </p:nvSpPr>
        <p:spPr>
          <a:xfrm>
            <a:off x="611280" y="476280"/>
            <a:ext cx="781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ъясните, почему вы так считает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кат - вид графики, броское изображение на крупном листе с кратким пояснительным текстом, выполняемое в агитационных, рекламных, информационных или учебных целя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остранная интервенц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вооруженное вмешательство во внутренние дела других стр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овите цели иностранной интервенции, используя плакаты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айд 21,2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5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8" name="Picture 5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Цели  иностранной интервенции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хват географических зон влия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лабление Росс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щь белым в борьбе с большевик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800"/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800"/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Результативность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Использование плакатов :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яет снять напряженность и страх учащихся перед невозможностью воспроизвести учебный материал на всех этапах уро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ивизирует познавательную деятельность, вызывая интерес, желание отвеч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яет провести урок нетрадиционно, а значит повышает интерес учащихся к предме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ет возможность ставить вопросы поискового и творческого характ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Используемые интернет-ресурсы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derzava.ru/foto/grazdwar/image001.htm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www.ng.ru/culture/2001-03-17/7_placat.htm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cwar.holdgold.ru/page.php?id=14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rovs.atropos.spb.ru/index.php?view=pos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2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Цели использования агитационных плакатов на уроках истории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активизировать познавательную деятельность на уроках истор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 вызвать интерес у учащихся к предмет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облегчить процесс восприятия и запомин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развивать память и логическое мышление у учащих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Использование плакатов белых и красных  при изучение темы : «Начало гражданской войны и военной интервенции».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ажданская война – это вооруженная борьба между разными группами населения в одной стра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на ваш взгляд является причинами Гражданской войны в России? (ответьте на вопрос используя плакаты тех времен)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айд 6,7,8,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AutoShape 5"/>
          <p:cNvSpPr/>
          <p:nvPr/>
        </p:nvSpPr>
        <p:spPr>
          <a:xfrm>
            <a:off x="3786120" y="2814480"/>
            <a:ext cx="157176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7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65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1" name="Picture 5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72360" cy="6257880"/>
          </a:xfrm>
          <a:prstGeom prst="rect">
            <a:avLst/>
          </a:prstGeom>
          <a:ln w="0">
            <a:noFill/>
          </a:ln>
        </p:spPr>
      </p:pic>
      <p:sp>
        <p:nvSpPr>
          <p:cNvPr id="2322" name="WordArt 6"/>
          <p:cNvSpPr txBox="1"/>
          <p:nvPr/>
        </p:nvSpPr>
        <p:spPr>
          <a:xfrm>
            <a:off x="900000" y="5805360"/>
            <a:ext cx="720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оцкий и Брестский мир. Пытаясь исправи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21:00Z</dcterms:created>
  <dc:creator>Братва</dc:creator>
  <dc:description/>
  <dc:language>en-US</dc:language>
  <cp:lastModifiedBy>Наталья</cp:lastModifiedBy>
  <dcterms:modified xsi:type="dcterms:W3CDTF">2025-09-26T21:30:44Z</dcterms:modified>
  <cp:revision>7</cp:revision>
  <dc:subject/>
  <dc:title>Использование плакатов при изучении темы:  «Гражданская война» </dc:title>
</cp:coreProperties>
</file>