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2.jpeg" ContentType="image/jpeg"/>
  <Override PartName="/ppt/media/image37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9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D401-7EDE-4573-8258-74D3666FC0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30F1-D978-4411-AD4A-BA545C5753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классное мероприятие можно использовать для групповых и индивидуальных за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8116-7DCC-44C6-9F35-85DCC9C2A2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E5D0-73DB-426C-B63A-379846AB5A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D5A9-BD62-4CBE-A0C0-BA79AFB9E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8226-508C-4F9F-9585-A1C898C68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82C9-CA9F-432A-9FAD-D91CFA737D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46E5-6B9E-41F9-B7DA-B293F2FC2B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 туре пять тем по два во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8932-8909-4992-8C32-06788E2EC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F115-9AA5-47C5-8E0E-F95745BC4C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A85A-109E-4047-B9B6-05A49693D9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6562-60A4-4003-B778-5073F69DB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2752-65D0-4FF0-A330-FCD5E11A6A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EAEE-E1C9-482E-A70E-45B78DD201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576D-EFC7-4B79-B27A-0EE1A11E06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AFC8-38EF-4E03-BD36-8081E469C0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9127-7328-4329-A69E-7B04A086B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439C-BD95-4777-983F-9F81FE43B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CC50-54F8-4AC4-89AB-3ECDB9730A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льные вопросы включают три темы по два во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24E5-45BE-4DF0-B217-D5254A5D91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44E5-286C-4374-BD8F-4DD55A385F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93D5-BED5-403C-B504-6F4BA4E4BE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A899-72E6-405E-B9C0-FF824EB05F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ормление необходимо  при проведении звездного часа для всего класса. Учащиеся поднимают табличку с номером ответа и за правильный ответ получают жетон. В конце мероприятия подсчитываются полученные жетоны у каждого и выявляется победи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A222-A03F-4AC2-8AB3-047BB4B7C9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617D-1283-496B-ADC6-551F2DFC85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D5A3-B3EC-4161-B9AB-B38579D56A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0B42-2442-475E-87ED-DBFB2E64E3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FFBA-39A2-4448-93D0-42C632F875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DCA7-4D3A-4D70-8330-98759563DB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497B-F237-44E0-966C-F7F487A5F3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D1F3-4353-4A21-9199-99BC9F0C2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C6E0-52FA-40F2-A6C2-35362DB316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 туре пять тем по два во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3323-1F5E-42E6-9F43-9276C9AB1D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8D8E-1CD2-405E-9C6A-5943645E1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481B-8DA1-4676-8576-90227CAA4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91E0-0F9D-42BB-BC47-C44065182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FAF5-FC24-437E-926C-690B81B46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376C-F368-4EA4-B6DF-35A02E86F0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5D0D-2D2B-488E-A970-D2EB65FF46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0357-FDEB-4665-92C8-C965D60D87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6CBF-25F6-42B8-A4E2-3FED6A6CB8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E303-D82C-40CE-BDD9-63C324E4D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B1F2-1DB1-4AFD-8D2D-2FD2E5A912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42AD-6395-4175-98B7-15A5E53214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2C1E-087F-45CF-82E0-9375DAF33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CFA1-DA46-491C-B48E-8C5AA6DCB1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DA74-B486-42A8-9248-84AED5A14F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3A7A-7935-4401-A9F5-0A85020A03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0AB0-7482-4D40-9101-E1F99D854C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B9BE-4D36-4837-AD30-9B3382F20E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272F-160D-40E2-A085-5B3B5715EB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E2EC-102C-45AB-A02F-AA85305918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нажатии на правильный вариант открывается слайд с отве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8890-75AF-4431-9894-9557EF03DF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E0F8-59C1-4436-B334-8B6CEE5760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6FB8-F0F1-4C30-8499-7063922426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к следующему вопросу нажмите на изображение глобуса в правом нижнем углу на изображение глоб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CB9A-57CE-437D-88CA-2BE97F5182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6B33-77CF-4E38-8C68-2B1058A530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E1B1-0EAD-4ADB-ACED-8604FA4E0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иперссылки. Гиперссылки работают только при показе слайдов. При нажатии на правильный вариант открывается слайд с подробным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, нажать кнопкой мыши на предполагаемый ответ. При нажатии на правильный вариант вопроса открывается слайд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919-86C5-4B81-9C7A-8657C8B6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8FF-5C7D-4D75-802D-92032A3C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4BE-34DE-4C32-80BC-D07EE8EE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7AE-19C8-4F4F-AA42-70EB776C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5D7B-5060-464E-9972-20DA010A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8D29-554F-4EF6-9B60-85AD7E27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F70C-2E61-41EC-9213-C0E2A02C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67D5-08E3-4CAA-BF4F-C3C90C20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9E5A-1F39-42F9-A889-13E618AE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43F6-2C34-44A6-8103-82E626F5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4DCE-5D30-49E5-BE11-9B4B9C1D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13F2-8E2B-4BC9-877B-8D233E6E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0C9E-2A56-46EA-8DE8-32ABFAE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3296-7307-4E78-B3C8-874867D0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51AC-5744-4289-B2A2-FC3182E5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36C2-ADD3-45A9-95D6-13F7A5A7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A7D6-9CCD-48CA-9852-501444B7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4E6-E638-407B-8D8B-90D3FC5B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F09-482C-4659-B365-64384B48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A04-52D6-4EB8-AB90-52E8C243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E2A-7B9A-406A-A21A-243491DA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898-1B49-4190-BA25-5808B229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B7B-197A-4CF7-9BB6-E25E6611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C26-E4BB-499D-B156-5633569F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2FCA-E011-4455-8F74-469A1608143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DF21-F8CB-4C67-A631-57F23B5BD8A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4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41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12.xml"/><Relationship Id="rId3" Type="http://schemas.openxmlformats.org/officeDocument/2006/relationships/slide" Target="slide4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4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3.xml"/><Relationship Id="rId7" Type="http://schemas.openxmlformats.org/officeDocument/2006/relationships/slide" Target="slide44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46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4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4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49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50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51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52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53.xml"/><Relationship Id="rId6" Type="http://schemas.openxmlformats.org/officeDocument/2006/relationships/slide" Target="slide2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55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5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58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5.xml"/><Relationship Id="rId3" Type="http://schemas.openxmlformats.org/officeDocument/2006/relationships/slide" Target="slide26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0.xml"/><Relationship Id="rId3" Type="http://schemas.openxmlformats.org/officeDocument/2006/relationships/slide" Target="slide30.xml"/><Relationship Id="rId4" Type="http://schemas.openxmlformats.org/officeDocument/2006/relationships/slide" Target="slide30.xml"/><Relationship Id="rId5" Type="http://schemas.openxmlformats.org/officeDocument/2006/relationships/slide" Target="slide59.xml"/><Relationship Id="rId6" Type="http://schemas.openxmlformats.org/officeDocument/2006/relationships/slide" Target="slide30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6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90;&#1080;&#1085;&#1077;&#1085;&#1090;" TargetMode="External"/><Relationship Id="rId2" Type="http://schemas.openxmlformats.org/officeDocument/2006/relationships/hyperlink" Target="http://ru.wikipedia.org/wiki/&#1057;&#1088;&#1077;&#1076;&#1080;&#1079;&#1077;&#1084;&#1085;&#1086;&#1077;_&#1084;&#1086;&#1088;&#1077;" TargetMode="External"/><Relationship Id="rId3" Type="http://schemas.openxmlformats.org/officeDocument/2006/relationships/hyperlink" Target="http://ru.wikipedia.org/wiki/&#1050;&#1088;&#1072;&#1089;&#1085;&#1086;&#1077;_&#1084;&#1086;&#1088;&#1077;" TargetMode="External"/><Relationship Id="rId4" Type="http://schemas.openxmlformats.org/officeDocument/2006/relationships/hyperlink" Target="http://ru.wikipedia.org/wiki/&#1040;&#1090;&#1083;&#1072;&#1085;&#1090;&#1080;&#1095;&#1077;&#1089;&#1082;&#1080;&#1081;_&#1086;&#1082;&#1077;&#1072;&#1085;" TargetMode="External"/><Relationship Id="rId5" Type="http://schemas.openxmlformats.org/officeDocument/2006/relationships/hyperlink" Target="http://ru.wikipedia.org/wiki/&#1048;&#1085;&#1076;&#1080;&#1081;&#1089;&#1082;&#1080;&#1081;_&#1086;&#1082;&#1077;&#1072;&#1085;" TargetMode="External"/><Relationship Id="rId6" Type="http://schemas.openxmlformats.org/officeDocument/2006/relationships/hyperlink" Target="http://ru.wikipedia.org/wiki/&#1045;&#1074;&#1088;&#1072;&#1079;&#1080;&#1103;" TargetMode="External"/><Relationship Id="rId7" Type="http://schemas.openxmlformats.org/officeDocument/2006/relationships/hyperlink" Target="http://ru.wikipedia.org/wiki/&#1053;&#1072;&#1089;&#1077;&#1083;&#1077;&#1085;&#1080;&#1077;" TargetMode="External"/><Relationship Id="rId8" Type="http://schemas.openxmlformats.org/officeDocument/2006/relationships/hyperlink" Target="http://ru.wikipedia.org/wiki/&#1043;&#1086;&#1084;&#1080;&#1085;&#1080;&#1076;&#1099;" TargetMode="External"/><Relationship Id="rId9" Type="http://schemas.openxmlformats.org/officeDocument/2006/relationships/slide" Target="slide6.xml"/><Relationship Id="rId10" Type="http://schemas.openxmlformats.org/officeDocument/2006/relationships/image" Target="../media/image2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70;&#1078;&#1085;&#1086;&#1077;_&#1087;&#1086;&#1083;&#1091;&#1096;&#1072;&#1088;&#1080;&#1077;" TargetMode="External"/><Relationship Id="rId2" Type="http://schemas.openxmlformats.org/officeDocument/2006/relationships/hyperlink" Target="http://ru.wikipedia.org/wiki/&#1070;&#1078;&#1085;&#1086;&#1077;_&#1087;&#1086;&#1083;&#1091;&#1096;&#1072;&#1088;&#1080;&#1077;" TargetMode="External"/><Relationship Id="rId3" Type="http://schemas.openxmlformats.org/officeDocument/2006/relationships/hyperlink" Target="http://ru.wikipedia.org/wiki/&#1040;&#1074;&#1089;&#1090;&#1088;&#1072;&#1083;&#1080;&#1103;_(&#1082;&#1086;&#1085;&#1090;&#1080;&#1085;&#1077;&#1085;&#1090;)" TargetMode="External"/><Relationship Id="rId4" Type="http://schemas.openxmlformats.org/officeDocument/2006/relationships/hyperlink" Target="http://ru.wikipedia.org/wiki/&#1040;&#1074;&#1089;&#1090;&#1088;&#1072;&#1083;&#1080;&#1103;_(&#1082;&#1086;&#1085;&#1090;&#1080;&#1085;&#1077;&#1085;&#1090;)" TargetMode="External"/><Relationship Id="rId5" Type="http://schemas.openxmlformats.org/officeDocument/2006/relationships/hyperlink" Target="http://ru.wikipedia.org/wiki/&#1058;&#1072;&#1089;&#1084;&#1072;&#1085;&#1080;&#1103;" TargetMode="External"/><Relationship Id="rId6" Type="http://schemas.openxmlformats.org/officeDocument/2006/relationships/hyperlink" Target="http://ru.wikipedia.org/wiki/&#1048;&#1085;&#1076;&#1080;&#1081;&#1089;&#1082;&#1080;&#1081;_&#1086;&#1082;&#1077;&#1072;&#1085;" TargetMode="External"/><Relationship Id="rId7" Type="http://schemas.openxmlformats.org/officeDocument/2006/relationships/hyperlink" Target="http://ru.wikipedia.org/wiki/&#1058;&#1080;&#1093;&#1080;&#1081;_&#1086;&#1082;&#1077;&#1072;&#1085;" TargetMode="External"/><Relationship Id="rId8" Type="http://schemas.openxmlformats.org/officeDocument/2006/relationships/hyperlink" Target="http://ru.wikipedia.org/wiki/&#1070;&#1078;&#1085;&#1099;&#1081;_&#1086;&#1082;&#1077;&#1072;&#1085;" TargetMode="External"/><Relationship Id="rId9" Type="http://schemas.openxmlformats.org/officeDocument/2006/relationships/hyperlink" Target="http://ru.wikipedia.org/wiki/&#1052;&#1072;&#1090;&#1077;&#1088;&#1080;&#1082;" TargetMode="External"/><Relationship Id="rId10" Type="http://schemas.openxmlformats.org/officeDocument/2006/relationships/hyperlink" Target="http://ru.wikipedia.org/wiki/&#1040;&#1074;&#1089;&#1090;&#1088;&#1072;&#1083;&#1080;&#1081;&#1089;&#1082;&#1080;&#1077;_&#1072;&#1073;&#1086;&#1088;&#1080;&#1075;&#1077;&#1085;&#1099;" TargetMode="External"/><Relationship Id="rId11" Type="http://schemas.openxmlformats.org/officeDocument/2006/relationships/hyperlink" Target="http://ru.wikipedia.org/wiki/&#1040;&#1074;&#1089;&#1090;&#1088;&#1072;&#1083;&#1080;&#1081;&#1089;&#1082;&#1080;&#1077;_&#1072;&#1073;&#1086;&#1088;&#1080;&#1075;&#1077;&#1085;&#1099;" TargetMode="External"/><Relationship Id="rId12" Type="http://schemas.openxmlformats.org/officeDocument/2006/relationships/hyperlink" Target="http://ru.wikipedia.org/wiki/&#1050;&#1072;&#1085;&#1073;&#1077;&#1088;&#1088;&#1072;" TargetMode="External"/><Relationship Id="rId13" Type="http://schemas.openxmlformats.org/officeDocument/2006/relationships/hyperlink" Target="http://ru.wikipedia.org/wiki/&#1057;&#1080;&#1076;&#1085;&#1077;&#1081;" TargetMode="External"/><Relationship Id="rId14" Type="http://schemas.openxmlformats.org/officeDocument/2006/relationships/hyperlink" Target="http://ru.wikipedia.org/wiki/&#1052;&#1077;&#1083;&#1100;&#1073;&#1091;&#1088;&#1085;" TargetMode="External"/><Relationship Id="rId15" Type="http://schemas.openxmlformats.org/officeDocument/2006/relationships/hyperlink" Target="http://ru.wikipedia.org/wiki/&#1041;&#1088;&#1080;&#1089;&#1073;&#1077;&#1085;" TargetMode="External"/><Relationship Id="rId16" Type="http://schemas.openxmlformats.org/officeDocument/2006/relationships/hyperlink" Target="http://ru.wikipedia.org/wiki/&#1055;&#1077;&#1088;&#1090;_(&#1040;&#1074;&#1089;&#1090;&#1088;&#1072;&#1083;&#1080;&#1103;)" TargetMode="External"/><Relationship Id="rId17" Type="http://schemas.openxmlformats.org/officeDocument/2006/relationships/hyperlink" Target="http://ru.wikipedia.org/wiki/&#1040;&#1076;&#1077;&#1083;&#1072;&#1080;&#1076;&#1072;_(&#1075;&#1086;&#1088;&#1086;&#1076;)" TargetMode="External"/><Relationship Id="rId18" Type="http://schemas.openxmlformats.org/officeDocument/2006/relationships/slide" Target="slide7.xml"/><Relationship Id="rId19" Type="http://schemas.openxmlformats.org/officeDocument/2006/relationships/image" Target="../media/image2.jpeg"/><Relationship Id="rId20" Type="http://schemas.openxmlformats.org/officeDocument/2006/relationships/image" Target="../media/image9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2;&#1074;&#1086;&#1103;&#1076;&#1085;&#1099;&#1077;" TargetMode="External"/><Relationship Id="rId2" Type="http://schemas.openxmlformats.org/officeDocument/2006/relationships/hyperlink" Target="http://ru.wikipedia.org/wiki/&#1052;&#1083;&#1077;&#1082;&#1086;&#1087;&#1080;&#1090;&#1072;&#1102;&#1097;&#1077;&#1077;" TargetMode="External"/><Relationship Id="rId3" Type="http://schemas.openxmlformats.org/officeDocument/2006/relationships/hyperlink" Target="http://ru.wikipedia.org/wiki/&#1043;&#1088;&#1099;&#1079;&#1091;&#1085;&#1099;" TargetMode="External"/><Relationship Id="rId4" Type="http://schemas.openxmlformats.org/officeDocument/2006/relationships/hyperlink" Target="http://ru.wikipedia.org/wiki/&#1062;&#1077;&#1085;&#1090;&#1088;&#1072;&#1083;&#1100;&#1085;&#1072;&#1103;_&#1040;&#1084;&#1077;&#1088;&#1080;&#1082;&#1072;" TargetMode="External"/><Relationship Id="rId5" Type="http://schemas.openxmlformats.org/officeDocument/2006/relationships/hyperlink" Target="http://ru.wikipedia.org/wiki/&#1070;&#1078;&#1085;&#1072;&#1103;_&#1040;&#1084;&#1077;&#1088;&#1080;&#1082;&#1072;" TargetMode="External"/><Relationship Id="rId6" Type="http://schemas.openxmlformats.org/officeDocument/2006/relationships/hyperlink" Target="http://ru.wikipedia.org/wiki/&#1040;&#1085;&#1076;&#1099;" TargetMode="External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" Target="slide8.xml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9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9;&#1072;&#1076;&#1086;&#1095;&#1085;&#1099;&#1077;_&#1075;&#1086;&#1088;&#1085;&#1099;&#1077;_&#1087;&#1086;&#1088;&#1086;&#1076;&#1099;" TargetMode="External"/><Relationship Id="rId2" Type="http://schemas.openxmlformats.org/officeDocument/2006/relationships/hyperlink" Target="http://ru.wikipedia.org/wiki/&#1054;&#1089;&#1072;&#1076;&#1086;&#1095;&#1085;&#1099;&#1077;_&#1075;&#1086;&#1088;&#1085;&#1099;&#1077;_&#1087;&#1086;&#1088;&#1086;&#1076;&#1099;" TargetMode="External"/><Relationship Id="rId3" Type="http://schemas.openxmlformats.org/officeDocument/2006/relationships/hyperlink" Target="http://ru.wikipedia.org/wiki/&#1050;&#1072;&#1088;&#1073;&#1086;&#1085;&#1072;&#1090;_&#1082;&#1072;&#1083;&#1100;&#1094;&#1080;&#1103;" TargetMode="External"/><Relationship Id="rId4" Type="http://schemas.openxmlformats.org/officeDocument/2006/relationships/hyperlink" Target="http://ru.wikipedia.org/wiki/&#1050;&#1072;&#1083;&#1100;&#1094;&#1080;&#1090;" TargetMode="External"/><Relationship Id="rId5" Type="http://schemas.openxmlformats.org/officeDocument/2006/relationships/hyperlink" Target="http://ru.wikipedia.org/wiki/&#1052;&#1077;&#1090;&#1072;&#1084;&#1086;&#1088;&#1092;&#1080;&#1079;&#1084;" TargetMode="External"/><Relationship Id="rId6" Type="http://schemas.openxmlformats.org/officeDocument/2006/relationships/hyperlink" Target="http://ru.wikipedia.org/wiki/&#1052;&#1088;&#1072;&#1084;&#1086;&#1088;" TargetMode="External"/><Relationship Id="rId7" Type="http://schemas.openxmlformats.org/officeDocument/2006/relationships/hyperlink" Target="http://ru.wikipedia.org/wiki/&#1057;&#1082;&#1091;&#1083;&#1100;&#1087;&#1090;&#1091;&#1088;&#1072;" TargetMode="External"/><Relationship Id="rId8" Type="http://schemas.openxmlformats.org/officeDocument/2006/relationships/slide" Target="slide10.xml"/><Relationship Id="rId9" Type="http://schemas.openxmlformats.org/officeDocument/2006/relationships/image" Target="../media/image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3;&#1072;&#1089;&#1090;&#1080;&#1095;&#1085;&#1086;&#1089;&#1090;&#1100;_(&#1092;&#1080;&#1079;&#1080;&#1082;&#1072;)" TargetMode="External"/><Relationship Id="rId2" Type="http://schemas.openxmlformats.org/officeDocument/2006/relationships/hyperlink" Target="http://ru.wikipedia.org/wiki/&#1055;&#1077;&#1088;&#1077;&#1093;&#1086;&#1076;&#1085;&#1099;&#1081;_&#1084;&#1077;&#1090;&#1072;&#1083;&#1083;" TargetMode="External"/><Relationship Id="rId3" Type="http://schemas.openxmlformats.org/officeDocument/2006/relationships/hyperlink" Target="http://ru.wikipedia.org/wiki/&#1062;&#1074;&#1077;&#1090;" TargetMode="External"/><Relationship Id="rId4" Type="http://schemas.openxmlformats.org/officeDocument/2006/relationships/hyperlink" Target="http://ru.wikipedia.org/wiki/&#1056;&#1091;&#1076;&#1072;" TargetMode="External"/><Relationship Id="rId5" Type="http://schemas.openxmlformats.org/officeDocument/2006/relationships/hyperlink" Target="http://ru.wikipedia.org/wiki/&#1041;&#1088;&#1086;&#1085;&#1079;&#1072;" TargetMode="External"/><Relationship Id="rId6" Type="http://schemas.openxmlformats.org/officeDocument/2006/relationships/image" Target="../media/image14.jpeg"/><Relationship Id="rId7" Type="http://schemas.openxmlformats.org/officeDocument/2006/relationships/slide" Target="slide11.xm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90;&#1077;&#1088;" TargetMode="External"/><Relationship Id="rId2" Type="http://schemas.openxmlformats.org/officeDocument/2006/relationships/hyperlink" Target="http://ru.wikipedia.org/wiki/&#1047;&#1077;&#1084;&#1083;&#1103;" TargetMode="External"/><Relationship Id="rId3" Type="http://schemas.openxmlformats.org/officeDocument/2006/relationships/hyperlink" Target="http://ru.wikipedia.org/wiki/&#1054;&#1082;&#1077;&#1072;&#1085;" TargetMode="External"/><Relationship Id="rId4" Type="http://schemas.openxmlformats.org/officeDocument/2006/relationships/hyperlink" Target="http://ru.wikipedia.org/wiki/&#1052;&#1072;&#1090;&#1077;&#1088;&#1080;&#1082;" TargetMode="External"/><Relationship Id="rId5" Type="http://schemas.openxmlformats.org/officeDocument/2006/relationships/hyperlink" Target="http://ru.wikipedia.org/wiki/&#1056;&#1077;&#1089;&#1087;&#1091;&#1073;&#1083;&#1080;&#1082;&#1072;_&#1052;&#1072;&#1076;&#1072;&#1075;&#1072;&#1089;&#1082;&#1072;&#1088;" TargetMode="External"/><Relationship Id="rId6" Type="http://schemas.openxmlformats.org/officeDocument/2006/relationships/hyperlink" Target="http://ru.wikipedia.org/wiki/&#1040;&#1074;&#1089;&#1090;&#1088;&#1072;&#1083;&#1080;&#1103;" TargetMode="External"/><Relationship Id="rId7" Type="http://schemas.openxmlformats.org/officeDocument/2006/relationships/hyperlink" Target="http://ru.wikipedia.org/wiki/&#1052;&#1091;&#1089;&#1089;&#1086;&#1085;&#1085;&#1099;&#1081;_&#1082;&#1083;&#1080;&#1084;&#1072;&#1090;" TargetMode="External"/><Relationship Id="rId8" Type="http://schemas.openxmlformats.org/officeDocument/2006/relationships/hyperlink" Target="http://ru.wikipedia.org/wiki/&#1042;&#1083;&#1072;&#1078;&#1085;&#1086;&#1089;&#1090;&#1100;" TargetMode="External"/><Relationship Id="rId9" Type="http://schemas.openxmlformats.org/officeDocument/2006/relationships/image" Target="../media/image15.png"/><Relationship Id="rId10" Type="http://schemas.openxmlformats.org/officeDocument/2006/relationships/slide" Target="slide12.xml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.jpeg"/><Relationship Id="rId3" Type="http://schemas.openxmlformats.org/officeDocument/2006/relationships/hyperlink" Target="http://ru.wikipedia.org/wiki/&#1050;&#1086;&#1085;&#1090;&#1080;&#1085;&#1077;&#1085;&#1090;" TargetMode="External"/><Relationship Id="rId4" Type="http://schemas.openxmlformats.org/officeDocument/2006/relationships/hyperlink" Target="http://ru.wikipedia.org/wiki/&#1052;&#1086;&#1088;&#1077;" TargetMode="External"/><Relationship Id="rId5" Type="http://schemas.openxmlformats.org/officeDocument/2006/relationships/hyperlink" Target="http://ru.wikipedia.org/wiki/&#1054;&#1082;&#1077;&#1072;&#1085;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ru.wikipedia.org/wiki/&#1042;&#1085;&#1091;&#1090;&#1088;&#1077;&#1085;&#1085;&#1077;&#1077;_&#1084;&#1086;&#1088;&#1077;" TargetMode="External"/><Relationship Id="rId4" Type="http://schemas.openxmlformats.org/officeDocument/2006/relationships/hyperlink" Target="http://ru.wikipedia.org/wiki/&#1040;&#1090;&#1083;&#1072;&#1085;&#1090;&#1080;&#1095;&#1077;&#1089;&#1082;&#1080;&#1081;_&#1086;&#1082;&#1077;&#1072;&#1085;" TargetMode="External"/><Relationship Id="rId5" Type="http://schemas.openxmlformats.org/officeDocument/2006/relationships/hyperlink" Target="http://ru.wikipedia.org/wiki/&#1056;&#1086;&#1089;&#1089;&#1080;&#1103;" TargetMode="External"/><Relationship Id="rId6" Type="http://schemas.openxmlformats.org/officeDocument/2006/relationships/hyperlink" Target="http://ru.wikipedia.org/wiki/&#1059;&#1082;&#1088;&#1072;&#1080;&#1085;&#1072;" TargetMode="External"/><Relationship Id="rId7" Type="http://schemas.openxmlformats.org/officeDocument/2006/relationships/hyperlink" Target="http://ru.wikipedia.org/wiki/&#1056;&#1091;&#1084;&#1099;&#1085;&#1080;&#1103;" TargetMode="External"/><Relationship Id="rId8" Type="http://schemas.openxmlformats.org/officeDocument/2006/relationships/hyperlink" Target="http://ru.wikipedia.org/wiki/&#1041;&#1086;&#1083;&#1075;&#1072;&#1088;&#1080;&#1103;" TargetMode="External"/><Relationship Id="rId9" Type="http://schemas.openxmlformats.org/officeDocument/2006/relationships/hyperlink" Target="http://ru.wikipedia.org/wiki/&#1058;&#1091;&#1088;&#1094;&#1080;&#1103;" TargetMode="External"/><Relationship Id="rId10" Type="http://schemas.openxmlformats.org/officeDocument/2006/relationships/hyperlink" Target="http://ru.wikipedia.org/wiki/&#1043;&#1088;&#1091;&#1079;&#1080;&#1103;" TargetMode="External"/><Relationship Id="rId11" Type="http://schemas.openxmlformats.org/officeDocument/2006/relationships/hyperlink" Target="http://ru.wikipedia.org/wiki/&#1057;&#1077;&#1088;&#1086;&#1074;&#1086;&#1076;&#1086;&#1088;&#1086;&#1076;" TargetMode="External"/><Relationship Id="rId12" Type="http://schemas.openxmlformats.org/officeDocument/2006/relationships/hyperlink" Target="http://ru.wikipedia.org/wiki/&#1050;&#1091;&#1088;&#1086;&#1088;&#1090;" TargetMode="External"/><Relationship Id="rId13" Type="http://schemas.openxmlformats.org/officeDocument/2006/relationships/hyperlink" Target="http://ru.wikipedia.org/wiki/&#1045;&#1074;&#1088;&#1072;&#1079;&#1080;&#1103;" TargetMode="External"/><Relationship Id="rId14" Type="http://schemas.openxmlformats.org/officeDocument/2006/relationships/slide" Target="slide14.xml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86;&#1087;&#1080;&#1095;&#1077;&#1089;&#1082;&#1080;&#1081;_&#1087;&#1086;&#1103;&#1089;" TargetMode="External"/><Relationship Id="rId2" Type="http://schemas.openxmlformats.org/officeDocument/2006/relationships/hyperlink" Target="http://ru.wikipedia.org/wiki/&#1057;&#1091;&#1101;&#1094;&#1082;&#1080;&#1081;_&#1079;&#1072;&#1083;&#1080;&#1074;" TargetMode="External"/><Relationship Id="rId3" Type="http://schemas.openxmlformats.org/officeDocument/2006/relationships/hyperlink" Target="http://ru.wikipedia.org/wiki/&#1040;&#1082;&#1072;&#1073;&#1072;_(&#1079;&#1072;&#1083;&#1080;&#1074;)" TargetMode="External"/><Relationship Id="rId4" Type="http://schemas.openxmlformats.org/officeDocument/2006/relationships/hyperlink" Target="http://ru.wikipedia.org/wiki/&#1056;&#1077;&#1082;&#1072;" TargetMode="External"/><Relationship Id="rId5" Type="http://schemas.openxmlformats.org/officeDocument/2006/relationships/hyperlink" Target="http://ru.wikipedia.org/wiki/&#1042;&#1086;&#1076;&#1072;" TargetMode="External"/><Relationship Id="rId6" Type="http://schemas.openxmlformats.org/officeDocument/2006/relationships/image" Target="../media/image19.jpeg"/><Relationship Id="rId7" Type="http://schemas.openxmlformats.org/officeDocument/2006/relationships/slide" Target="slide27.xm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5;&#1077;&#1075;" TargetMode="External"/><Relationship Id="rId2" Type="http://schemas.openxmlformats.org/officeDocument/2006/relationships/image" Target="../media/image21.jpeg"/><Relationship Id="rId3" Type="http://schemas.openxmlformats.org/officeDocument/2006/relationships/slide" Target="slide18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9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bse/84981/&#1044;&#1083;&#1080;&#1085;&#1072;" TargetMode="External"/><Relationship Id="rId2" Type="http://schemas.openxmlformats.org/officeDocument/2006/relationships/hyperlink" Target="http://dic.academic.ru/dic.nsf/bse/135308/&#1057;&#1088;&#1077;&#1076;&#1080;&#1079;&#1077;&#1084;&#1085;&#1086;&#1077;" TargetMode="External"/><Relationship Id="rId3" Type="http://schemas.openxmlformats.org/officeDocument/2006/relationships/hyperlink" Target="http://dic.academic.ru/dic.nsf/bse/153841/&#1069;&#1083;&#1100;" TargetMode="External"/><Relationship Id="rId4" Type="http://schemas.openxmlformats.org/officeDocument/2006/relationships/hyperlink" Target="http://dic.academic.ru/dic.nsf/bse/153841/&#1069;&#1083;&#1100;" TargetMode="External"/><Relationship Id="rId5" Type="http://schemas.openxmlformats.org/officeDocument/2006/relationships/hyperlink" Target="http://dic.academic.ru/dic.nsf/bse/65492/&#1040;&#1089;&#1074;&#1072;" TargetMode="External"/><Relationship Id="rId6" Type="http://schemas.openxmlformats.org/officeDocument/2006/relationships/hyperlink" Target="http://dic.academic.ru/dic.nsf/bse/133696/&#1057;&#1086;&#1073;&#1072;&#1090;" TargetMode="External"/><Relationship Id="rId7" Type="http://schemas.openxmlformats.org/officeDocument/2006/relationships/hyperlink" Target="http://dic.academic.ru/dic.nsf/bse/80220/&#1043;&#1086;&#1083;&#1091;&#1073;&#1086;&#1081;" TargetMode="External"/><Relationship Id="rId8" Type="http://schemas.openxmlformats.org/officeDocument/2006/relationships/slide" Target="slide20.xml"/><Relationship Id="rId9" Type="http://schemas.openxmlformats.org/officeDocument/2006/relationships/image" Target="../media/image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7;&#1072;&#1088;&#1080;&#1089;&#1086;&#1074;&#1099;&#1077;" TargetMode="External"/><Relationship Id="rId2" Type="http://schemas.openxmlformats.org/officeDocument/2006/relationships/hyperlink" Target="http://ru.wikipedia.org/wiki/&#1040;&#1088;&#1077;&#1072;&#1083;" TargetMode="External"/><Relationship Id="rId3" Type="http://schemas.openxmlformats.org/officeDocument/2006/relationships/hyperlink" Target="http://ru.wikipedia.org/wiki/&#1058;&#1080;&#1093;&#1080;&#1081;_&#1086;&#1082;&#1077;&#1072;&#1085;" TargetMode="External"/><Relationship Id="rId4" Type="http://schemas.openxmlformats.org/officeDocument/2006/relationships/hyperlink" Target="http://ru.wikipedia.org/wiki/&#1057;&#1077;&#1074;&#1077;&#1088;&#1085;&#1072;&#1103;_&#1040;&#1084;&#1077;&#1088;&#1080;&#1082;&#1072;" TargetMode="External"/><Relationship Id="rId5" Type="http://schemas.openxmlformats.org/officeDocument/2006/relationships/hyperlink" Target="http://ru.wikipedia.org/wiki/&#1057;&#1077;&#1074;&#1077;&#1088;&#1085;&#1072;&#1103;_&#1040;&#1084;&#1077;&#1088;&#1080;&#1082;&#1072;" TargetMode="External"/><Relationship Id="rId6" Type="http://schemas.openxmlformats.org/officeDocument/2006/relationships/hyperlink" Target="http://ru.wikipedia.org/wiki/&#1057;&#1077;&#1082;&#1074;&#1086;&#1081;&#1103;_(&#1044;&#1078;&#1086;&#1088;&#1076;&#1078;_&#1043;&#1077;&#1089;&#1089;)" TargetMode="External"/><Relationship Id="rId7" Type="http://schemas.openxmlformats.org/officeDocument/2006/relationships/hyperlink" Target="http://ru.wikipedia.org/wiki/&#1057;&#1077;&#1082;&#1074;&#1086;&#1081;&#1103;_(&#1044;&#1078;&#1086;&#1088;&#1076;&#1078;_&#1043;&#1077;&#1089;&#1089;)" TargetMode="External"/><Relationship Id="rId8" Type="http://schemas.openxmlformats.org/officeDocument/2006/relationships/hyperlink" Target="http://ru.wikipedia.org/wiki/&#1048;&#1085;&#1076;&#1077;&#1081;&#1094;&#1099;" TargetMode="External"/><Relationship Id="rId9" Type="http://schemas.openxmlformats.org/officeDocument/2006/relationships/hyperlink" Target="http://ru.wikipedia.org/wiki/&#1063;&#1077;&#1088;&#1086;&#1082;&#1080;" TargetMode="External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slide" Target="slide21.xml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0;&#1086;&#1083;&#1086;&#1075;&#1080;&#1095;&#1077;&#1089;&#1082;&#1080;&#1081;_&#1074;&#1080;&#1076;" TargetMode="External"/><Relationship Id="rId2" Type="http://schemas.openxmlformats.org/officeDocument/2006/relationships/hyperlink" Target="http://ru.wikipedia.org/wiki/&#1040;&#1074;&#1089;&#1090;&#1088;&#1072;&#1083;&#1080;&#1103;" TargetMode="External"/><Relationship Id="rId3" Type="http://schemas.openxmlformats.org/officeDocument/2006/relationships/hyperlink" Target="http://ru.wikipedia.org/wiki/&#1053;&#1086;&#1074;&#1072;&#1103;_&#1047;&#1077;&#1083;&#1072;&#1085;&#1076;&#1080;&#1103;" TargetMode="External"/><Relationship Id="rId4" Type="http://schemas.openxmlformats.org/officeDocument/2006/relationships/hyperlink" Target="http://ru.wikipedia.org/wiki/&#1058;&#1072;&#1089;&#1084;&#1072;&#1085;&#1080;&#1103;" TargetMode="External"/><Relationship Id="rId5" Type="http://schemas.openxmlformats.org/officeDocument/2006/relationships/hyperlink" Target="http://ru.wikipedia.org/wiki/&#1041;&#1086;&#1083;&#1086;&#1090;&#1086;" TargetMode="External"/><Relationship Id="rId6" Type="http://schemas.openxmlformats.org/officeDocument/2006/relationships/image" Target="../media/image26.jpeg"/><Relationship Id="rId7" Type="http://schemas.openxmlformats.org/officeDocument/2006/relationships/slide" Target="slide22.xm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8;&#1085;&#1072;&#1103;_&#1089;&#1080;&#1089;&#1090;&#1077;&#1084;&#1072;" TargetMode="External"/><Relationship Id="rId2" Type="http://schemas.openxmlformats.org/officeDocument/2006/relationships/hyperlink" Target="http://ru.wikipedia.org/wiki/&#1043;&#1086;&#1088;&#1085;&#1072;&#1103;_&#1089;&#1080;&#1089;&#1090;&#1077;&#1084;&#1072;" TargetMode="External"/><Relationship Id="rId3" Type="http://schemas.openxmlformats.org/officeDocument/2006/relationships/hyperlink" Target="http://ru.wikipedia.org/wiki/&#1047;&#1077;&#1084;&#1083;&#1103;" TargetMode="External"/><Relationship Id="rId4" Type="http://schemas.openxmlformats.org/officeDocument/2006/relationships/hyperlink" Target="http://ru.wikipedia.org/wiki/&#1048;&#1085;&#1076;&#1080;&#1103;" TargetMode="External"/><Relationship Id="rId5" Type="http://schemas.openxmlformats.org/officeDocument/2006/relationships/hyperlink" Target="http://ru.wikipedia.org/wiki/&#1053;&#1077;&#1087;&#1072;&#1083;" TargetMode="External"/><Relationship Id="rId6" Type="http://schemas.openxmlformats.org/officeDocument/2006/relationships/hyperlink" Target="http://ru.wikipedia.org/wiki/&#1050;&#1080;&#1090;&#1072;&#1081;" TargetMode="External"/><Relationship Id="rId7" Type="http://schemas.openxmlformats.org/officeDocument/2006/relationships/hyperlink" Target="http://ru.wikipedia.org/wiki/&#1055;&#1072;&#1082;&#1080;&#1089;&#1090;&#1072;&#1085;" TargetMode="External"/><Relationship Id="rId8" Type="http://schemas.openxmlformats.org/officeDocument/2006/relationships/hyperlink" Target="http://ru.wikipedia.org/wiki/&#1041;&#1091;&#1090;&#1072;&#1085;_(&#1075;&#1086;&#1089;&#1091;&#1076;&#1072;&#1088;&#1089;&#1090;&#1074;&#1086;)" TargetMode="External"/><Relationship Id="rId9" Type="http://schemas.openxmlformats.org/officeDocument/2006/relationships/hyperlink" Target="http://ru.wikipedia.org/wiki/&#1069;&#1074;&#1077;&#1088;&#1077;&#1089;&#1090;" TargetMode="External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slide" Target="slide23.xml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ru.wikipedia.org/wiki/&#1040;&#1082;&#1086;&#1085;&#1082;&#1072;&#1075;&#1091;&#1072;" TargetMode="External"/><Relationship Id="rId3" Type="http://schemas.openxmlformats.org/officeDocument/2006/relationships/hyperlink" Target="http://ru.wikipedia.org/wiki/&#1070;&#1078;&#1085;&#1072;&#1103;_&#1040;&#1084;&#1077;&#1088;&#1080;&#1082;&#1072;" TargetMode="External"/><Relationship Id="rId4" Type="http://schemas.openxmlformats.org/officeDocument/2006/relationships/hyperlink" Target="http://ru.wikipedia.org/wiki/&#1050;&#1086;&#1088;&#1076;&#1080;&#1083;&#1100;&#1077;&#1088;&#1099;" TargetMode="External"/><Relationship Id="rId5" Type="http://schemas.openxmlformats.org/officeDocument/2006/relationships/hyperlink" Target="http://ru.wikipedia.org/wiki/&#1042;&#1086;&#1076;&#1086;&#1088;&#1072;&#1079;&#1076;&#1077;&#1083;" TargetMode="External"/><Relationship Id="rId6" Type="http://schemas.openxmlformats.org/officeDocument/2006/relationships/hyperlink" Target="http://ru.wikipedia.org/wiki/&#1041;&#1072;&#1089;&#1089;&#1077;&#1081;&#1085;_&#1074;&#1086;&#1076;&#1086;&#1105;&#1084;&#1072;" TargetMode="External"/><Relationship Id="rId7" Type="http://schemas.openxmlformats.org/officeDocument/2006/relationships/hyperlink" Target="http://ru.wikipedia.org/wiki/&#1040;&#1090;&#1083;&#1072;&#1085;&#1090;&#1080;&#1095;&#1077;&#1089;&#1082;&#1080;&#1081;_&#1086;&#1082;&#1077;&#1072;&#1085;" TargetMode="External"/><Relationship Id="rId8" Type="http://schemas.openxmlformats.org/officeDocument/2006/relationships/hyperlink" Target="http://ru.wikipedia.org/wiki/&#1058;&#1080;&#1093;&#1080;&#1081;_&#1086;&#1082;&#1077;&#1072;&#1085;" TargetMode="External"/><Relationship Id="rId9" Type="http://schemas.openxmlformats.org/officeDocument/2006/relationships/hyperlink" Target="http://ru.wikipedia.org/wiki/&#1042;&#1077;&#1085;&#1077;&#1089;&#1091;&#1101;&#1083;&#1072;" TargetMode="External"/><Relationship Id="rId10" Type="http://schemas.openxmlformats.org/officeDocument/2006/relationships/hyperlink" Target="http://ru.wikipedia.org/wiki/&#1050;&#1086;&#1083;&#1091;&#1084;&#1073;&#1080;&#1103;" TargetMode="External"/><Relationship Id="rId11" Type="http://schemas.openxmlformats.org/officeDocument/2006/relationships/hyperlink" Target="http://ru.wikipedia.org/wiki/&#1069;&#1082;&#1074;&#1072;&#1076;&#1086;&#1088;" TargetMode="External"/><Relationship Id="rId12" Type="http://schemas.openxmlformats.org/officeDocument/2006/relationships/hyperlink" Target="http://ru.wikipedia.org/wiki/&#1055;&#1077;&#1088;&#1091;" TargetMode="External"/><Relationship Id="rId13" Type="http://schemas.openxmlformats.org/officeDocument/2006/relationships/hyperlink" Target="http://ru.wikipedia.org/wiki/&#1041;&#1086;&#1083;&#1080;&#1074;&#1080;&#1103;" TargetMode="External"/><Relationship Id="rId14" Type="http://schemas.openxmlformats.org/officeDocument/2006/relationships/hyperlink" Target="http://ru.wikipedia.org/wiki/&#1063;&#1080;&#1083;&#1080;" TargetMode="External"/><Relationship Id="rId15" Type="http://schemas.openxmlformats.org/officeDocument/2006/relationships/hyperlink" Target="http://ru.wikipedia.org/wiki/&#1040;&#1088;&#1075;&#1077;&#1085;&#1090;&#1080;&#1085;&#1072;" TargetMode="External"/><Relationship Id="rId16" Type="http://schemas.openxmlformats.org/officeDocument/2006/relationships/image" Target="../media/image30.jpeg"/><Relationship Id="rId17" Type="http://schemas.openxmlformats.org/officeDocument/2006/relationships/slide" Target="slide24.xml"/><Relationship Id="rId18" Type="http://schemas.openxmlformats.org/officeDocument/2006/relationships/image" Target="../media/image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5.xml"/><Relationship Id="rId3" Type="http://schemas.openxmlformats.org/officeDocument/2006/relationships/image" Target="../media/image2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ru.wikipedia.org/wiki/&#1040;&#1088;&#1072;&#1073;&#1089;&#1082;&#1080;&#1081;_&#1084;&#1080;&#1088;" TargetMode="External"/><Relationship Id="rId3" Type="http://schemas.openxmlformats.org/officeDocument/2006/relationships/hyperlink" Target="http://ru.wikipedia.org/wiki/&#1053;&#1072;&#1094;&#1080;&#1086;&#1085;&#1072;&#1083;&#1100;&#1085;&#1086;&#1089;&#1090;&#1100;" TargetMode="External"/><Relationship Id="rId4" Type="http://schemas.openxmlformats.org/officeDocument/2006/relationships/hyperlink" Target="http://ru.wikipedia.org/wiki/&#1057;&#1072;&#1091;&#1076;&#1086;&#1074;&#1089;&#1082;&#1072;&#1103;_&#1040;&#1088;&#1072;&#1074;&#1080;&#1103;" TargetMode="External"/><Relationship Id="rId5" Type="http://schemas.openxmlformats.org/officeDocument/2006/relationships/slide" Target="slide26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3;&#1090;&#1072;&#1081;&#1089;&#1082;&#1080;&#1077;_&#1075;&#1086;&#1088;&#1099;" TargetMode="External"/><Relationship Id="rId2" Type="http://schemas.openxmlformats.org/officeDocument/2006/relationships/hyperlink" Target="http://ru.wikipedia.org/wiki/&#1058;&#1103;&#1085;&#1100;-&#1064;&#1072;&#1085;&#1100;" TargetMode="External"/><Relationship Id="rId3" Type="http://schemas.openxmlformats.org/officeDocument/2006/relationships/hyperlink" Target="http://ru.wikipedia.org/w/index.php?title=&#1057;&#1077;&#1074;&#1077;&#1088;&#1086;&#1082;&#1080;&#1090;&#1072;&#1081;&#1089;&#1082;&#1086;&#1077;_&#1087;&#1083;&#1072;&#1090;&#1086;&amp;action=edit&amp;redlink=1" TargetMode="External"/><Relationship Id="rId4" Type="http://schemas.openxmlformats.org/officeDocument/2006/relationships/hyperlink" Target="http://ru.wikipedia.org/wiki/&#1052;&#1086;&#1085;&#1075;&#1086;&#1083;&#1080;&#1103;" TargetMode="External"/><Relationship Id="rId5" Type="http://schemas.openxmlformats.org/officeDocument/2006/relationships/hyperlink" Target="http://ru.wikipedia.org/wiki/&#1053;&#1072;&#1085;&#1100;&#1096;&#1072;&#1085;&#1100;" TargetMode="External"/><Relationship Id="rId6" Type="http://schemas.openxmlformats.org/officeDocument/2006/relationships/hyperlink" Target="http://ru.wikipedia.org/wiki/&#1040;&#1083;&#1090;&#1099;&#1085;&#1090;&#1072;&#1075;" TargetMode="External"/><Relationship Id="rId7" Type="http://schemas.openxmlformats.org/officeDocument/2006/relationships/hyperlink" Target="http://ru.wikipedia.org/wiki/&#1061;&#1091;&#1072;&#1085;&#1093;&#1101;_(&#1088;&#1077;&#1082;&#1072;)" TargetMode="External"/><Relationship Id="rId8" Type="http://schemas.openxmlformats.org/officeDocument/2006/relationships/hyperlink" Target="http://ru.wikipedia.org/wiki/&#1052;&#1086;&#1085;&#1075;&#1086;&#1083;&#1100;&#1089;&#1082;&#1080;&#1081;_&#1103;&#1079;&#1099;&#1082;" TargetMode="External"/><Relationship Id="rId9" Type="http://schemas.openxmlformats.org/officeDocument/2006/relationships/hyperlink" Target="http://ru.wikipedia.org/wiki/&#1062;&#1077;&#1085;&#1090;&#1088;&#1072;&#1083;&#1100;&#1085;&#1072;&#1103;_&#1040;&#1079;&#1080;&#1103;" TargetMode="External"/><Relationship Id="rId10" Type="http://schemas.openxmlformats.org/officeDocument/2006/relationships/hyperlink" Target="http://ru.wikipedia.org/wiki/&#1055;&#1091;&#1089;&#1090;&#1099;&#1085;&#1103;" TargetMode="External"/><Relationship Id="rId11" Type="http://schemas.openxmlformats.org/officeDocument/2006/relationships/hyperlink" Target="http://ru.wikipedia.org/wiki/&#1040;&#1079;&#1080;&#1103;" TargetMode="External"/><Relationship Id="rId12" Type="http://schemas.openxmlformats.org/officeDocument/2006/relationships/slide" Target="slide28.xml"/><Relationship Id="rId13" Type="http://schemas.openxmlformats.org/officeDocument/2006/relationships/image" Target="../media/image2.jpeg"/><Relationship Id="rId14" Type="http://schemas.openxmlformats.org/officeDocument/2006/relationships/image" Target="../media/image34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7;&#1074;&#1077;&#1088;&#1085;&#1072;&#1103;_&#1040;&#1092;&#1088;&#1080;&#1082;&#1072;" TargetMode="External"/><Relationship Id="rId2" Type="http://schemas.openxmlformats.org/officeDocument/2006/relationships/hyperlink" Target="http://ru.wikipedia.org/wiki/&#1057;&#1077;&#1074;&#1077;&#1088;&#1085;&#1072;&#1103;_&#1040;&#1092;&#1088;&#1080;&#1082;&#1072;" TargetMode="External"/><Relationship Id="rId3" Type="http://schemas.openxmlformats.org/officeDocument/2006/relationships/hyperlink" Target="http://ru.wikipedia.org/wiki/&#1040;&#1092;&#1088;&#1080;&#1082;&#1072;" TargetMode="External"/><Relationship Id="rId4" Type="http://schemas.openxmlformats.org/officeDocument/2006/relationships/hyperlink" Target="http://ru.wikipedia.org/wiki/&#1054;&#1072;&#1079;&#1080;&#1089;" TargetMode="External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" Target="slide29.xm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" Target="slide31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slide" Target="slide35.xml"/><Relationship Id="rId6" Type="http://schemas.openxmlformats.org/officeDocument/2006/relationships/slide" Target="slide35.xml"/><Relationship Id="rId7" Type="http://schemas.openxmlformats.org/officeDocument/2006/relationships/slide" Target="slide35.xml"/><Relationship Id="rId8" Type="http://schemas.openxmlformats.org/officeDocument/2006/relationships/slide" Target="slide3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" Target="slide35.xml"/><Relationship Id="rId13" Type="http://schemas.openxmlformats.org/officeDocument/2006/relationships/slide" Target="slide6.xml"/><Relationship Id="rId14" Type="http://schemas.openxmlformats.org/officeDocument/2006/relationships/slide" Target="slide36.xml"/><Relationship Id="rId15" Type="http://schemas.openxmlformats.org/officeDocument/2006/relationships/slide" Target="slide6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080;&#1103;" TargetMode="External"/><Relationship Id="rId2" Type="http://schemas.openxmlformats.org/officeDocument/2006/relationships/hyperlink" Target="http://ru.wikipedia.org/wiki/&#1050;&#1091;&#1087;&#1077;&#1094;" TargetMode="External"/><Relationship Id="rId3" Type="http://schemas.openxmlformats.org/officeDocument/2006/relationships/hyperlink" Target="http://ru.wikipedia.org/wiki/&#1055;&#1091;&#1090;&#1077;&#1096;&#1077;&#1089;&#1090;&#1074;&#1077;&#1085;&#1085;&#1080;&#1082;" TargetMode="External"/><Relationship Id="rId4" Type="http://schemas.openxmlformats.org/officeDocument/2006/relationships/hyperlink" Target="http://ru.wikipedia.org/wiki/&#1040;&#1079;&#1077;&#1088;&#1073;&#1072;&#1081;&#1076;&#1078;&#1072;&#1085;" TargetMode="External"/><Relationship Id="rId5" Type="http://schemas.openxmlformats.org/officeDocument/2006/relationships/hyperlink" Target="http://ru.wikipedia.org/wiki/&#1040;&#1088;&#1084;&#1077;&#1085;&#1080;&#1103;" TargetMode="External"/><Relationship Id="rId6" Type="http://schemas.openxmlformats.org/officeDocument/2006/relationships/hyperlink" Target="http://ru.wikipedia.org/wiki/&#1048;&#1088;&#1072;&#1085;" TargetMode="External"/><Relationship Id="rId7" Type="http://schemas.openxmlformats.org/officeDocument/2006/relationships/hyperlink" Target="http://ru.wikipedia.org/wiki/&#1050;&#1080;&#1090;&#1072;&#1081;" TargetMode="External"/><Relationship Id="rId8" Type="http://schemas.openxmlformats.org/officeDocument/2006/relationships/hyperlink" Target="http://ru.wikipedia.org/wiki/&#1052;&#1086;&#1085;&#1075;&#1086;&#1083;&#1080;&#1103;" TargetMode="External"/><Relationship Id="rId9" Type="http://schemas.openxmlformats.org/officeDocument/2006/relationships/hyperlink" Target="http://ru.wikipedia.org/wiki/&#1048;&#1085;&#1076;&#1080;&#1103;" TargetMode="External"/><Relationship Id="rId10" Type="http://schemas.openxmlformats.org/officeDocument/2006/relationships/hyperlink" Target="http://ru.wikipedia.org/wiki/&#1048;&#1085;&#1076;&#1086;&#1085;&#1077;&#1079;&#1080;&#1103;" TargetMode="External"/><Relationship Id="rId11" Type="http://schemas.openxmlformats.org/officeDocument/2006/relationships/hyperlink" Target="http://ru.wikipedia.org/wiki/XIV" TargetMode="External"/><Relationship Id="rId12" Type="http://schemas.openxmlformats.org/officeDocument/2006/relationships/hyperlink" Target="http://ru.wikipedia.org/wiki/XVI" TargetMode="External"/><Relationship Id="rId13" Type="http://schemas.openxmlformats.org/officeDocument/2006/relationships/image" Target="../media/image2.jpeg"/><Relationship Id="rId14" Type="http://schemas.openxmlformats.org/officeDocument/2006/relationships/image" Target="../media/image40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3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3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9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90560" y="1828800"/>
            <a:ext cx="4343400" cy="4572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3300"/>
                </a:solidFill>
                <a:latin typeface="Times New Roman"/>
              </a:rPr>
              <a:t>Звездный час по географ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762120" y="609480"/>
            <a:ext cx="7543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07932" dir="189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По странам и континентам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07932" dir="189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6. МЕТАЛЛЫ И МИНЕРАЛ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0" y="175248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ВОПРОС</a:t>
            </a:r>
            <a:r>
              <a:rPr b="0" lang="ru-RU" sz="2000" spc="-1" strike="noStrike">
                <a:solidFill>
                  <a:srgbClr val="ff33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этим металл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евние люд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л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им из первых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040" y="2133720"/>
            <a:ext cx="3352680" cy="3124080"/>
          </a:xfrm>
          <a:prstGeom prst="rect">
            <a:avLst/>
          </a:prstGeom>
          <a:solidFill>
            <a:srgbClr val="00ffcc">
              <a:alpha val="52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4712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1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МАРГАНЕЦ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1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ИЗВЕСТНЯ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1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 МЕДЬ 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1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.ГЛ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1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 ЗОЛО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124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 ЖЕЛЕЗО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hlinkClick r:id="rId7" action="ppaction://hlinksldjump"/>
              </a:rPr>
              <a:t>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7.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ЕОГРАФИЧЕСКИЕ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ПОНЯТ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0" y="175248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ВОПРОС</a:t>
            </a:r>
            <a:r>
              <a:rPr b="0" lang="ru-RU" sz="2000" spc="-1" strike="noStrike">
                <a:solidFill>
                  <a:srgbClr val="ff33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ый ветер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ующий в предел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зона: с холодн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рика на тепл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кеан и наоборо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09120" y="1905120"/>
            <a:ext cx="3886200" cy="4114800"/>
          </a:xfrm>
          <a:prstGeom prst="rect">
            <a:avLst/>
          </a:prstGeom>
          <a:blipFill rotWithShape="0">
            <a:blip r:embed="rId1">
              <a:alphaModFix amt="52000"/>
            </a:blip>
            <a:stretch/>
          </a:blipFill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1.САВАНН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2.ШЕЛЬФ 	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3. АЙСБЕРГ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4. МУСС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5. СЕЛЬ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7" action="ppaction://hlinksldjump"/>
              </a:rPr>
              <a:t>6 КРАТ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8. ГЕОГРАФИЧЕСКИЕ ПОНЯТ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88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ВОПРОС</a:t>
            </a:r>
            <a:r>
              <a:rPr b="0" lang="ru-RU" sz="1800" spc="-1" strike="noStrike">
                <a:solidFill>
                  <a:srgbClr val="ff33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ровненная ча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водной окраи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ериков, прилегаю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берегам суши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арактеризующая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им с 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м строени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9120" y="1905120"/>
            <a:ext cx="3886200" cy="4114800"/>
          </a:xfrm>
          <a:prstGeom prst="rect">
            <a:avLst/>
          </a:prstGeom>
          <a:blipFill rotWithShape="0">
            <a:blip r:embed="rId1">
              <a:alphaModFix amt="52000"/>
            </a:blip>
            <a:stretch/>
          </a:blipFill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1.САВАНН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2.ШЕЛЬФ 	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3. АЙСБЕРГ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4. МУССО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5. СЕЛЬ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7" action="ppaction://hlinksldjump"/>
              </a:rPr>
              <a:t>6 КРАТ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9. МОР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0" y="175248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порты 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м море: Одесс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вороссийск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апсе 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09120" y="2133720"/>
            <a:ext cx="3886200" cy="3504960"/>
          </a:xfrm>
          <a:prstGeom prst="rect">
            <a:avLst/>
          </a:prstGeom>
          <a:solidFill>
            <a:srgbClr val="00ffcc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ЭГЕЙСК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ЧЕРНОЕ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КАСПИЙСК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 4.БАЛТИЙСК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 АРАЛЬСК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 КРАСН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10. МОР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0" y="1752120"/>
            <a:ext cx="35798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е соленое и теплое мо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19320" y="2209320"/>
            <a:ext cx="3200400" cy="3124440"/>
          </a:xfrm>
          <a:prstGeom prst="rect">
            <a:avLst/>
          </a:prstGeom>
          <a:solidFill>
            <a:srgbClr val="00ffcc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ЭГЕЙСК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ЧЕРН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КАСПИЙСК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.БАЛТИЙСК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 АРАЛЬСК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7" action="ppaction://hlinksldjump"/>
              </a:rPr>
              <a:t>КРАСН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9520" y="609480"/>
            <a:ext cx="5031000" cy="75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ТУР  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ОПРОС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411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 -12 ЖИЛИЩ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3-14 РЕ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5-16 РАСТИТЕЛЬНЫЙ МИ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7-18 Г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-20 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12" descr="глобус 36">
            <a:hlinkClick r:id="rId1" action="ppaction://hlinksldjump"/>
          </p:cNvPr>
          <p:cNvPicPr/>
          <p:nvPr/>
        </p:nvPicPr>
        <p:blipFill>
          <a:blip r:embed="rId2"/>
          <a:srcRect l="-4563" t="0" r="0" b="11761"/>
          <a:stretch/>
        </p:blipFill>
        <p:spPr>
          <a:xfrm>
            <a:off x="5873760" y="2819520"/>
            <a:ext cx="217800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11. ЖИЛИЩ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0" y="175248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лище крестья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точной Аз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2133720"/>
            <a:ext cx="3886200" cy="3504960"/>
          </a:xfrm>
          <a:prstGeom prst="rect">
            <a:avLst/>
          </a:prstGeom>
          <a:solidFill>
            <a:srgbClr val="00ffcc">
              <a:alpha val="2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  ВИГВА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ИГЛ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 ЧУМ 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 ЮР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 ФАН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 САКЛ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12. ЖИЛИЩ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9200" y="175248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лище эскимосов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120" y="1905120"/>
            <a:ext cx="3886200" cy="4114800"/>
          </a:xfrm>
          <a:prstGeom prst="rect">
            <a:avLst/>
          </a:prstGeom>
          <a:solidFill>
            <a:srgbClr val="00ffcc">
              <a:alpha val="2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  ВИГВА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ИГЛ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 ЧУМ 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 ЮР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 ФАН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 САКЛ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13. РЕ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0" y="175248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овите ре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ую  в Азии и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вертую в   мир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длин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38080" y="2133360"/>
            <a:ext cx="3353040" cy="3352680"/>
          </a:xfrm>
          <a:prstGeom prst="rect">
            <a:avLst/>
          </a:prstGeom>
          <a:solidFill>
            <a:srgbClr val="00ffcc">
              <a:alpha val="2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РЕЙН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ВОЛГ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НИЛ 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. ЯНД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 ЕНИС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 КОЛОРАДО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hlinkClick r:id="rId7" action="ppaction://hlinksldjump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14. РЕ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2880" y="1980720"/>
            <a:ext cx="3579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ка Африки, одна 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вух величайших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яжённости рек 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066320" y="2209320"/>
            <a:ext cx="3429000" cy="3581640"/>
          </a:xfrm>
          <a:prstGeom prst="rect">
            <a:avLst/>
          </a:prstGeom>
          <a:solidFill>
            <a:srgbClr val="00ffcc">
              <a:alpha val="2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РЕЙН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ВОЛГ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НИЛ 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. ЯНД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 ЕНИС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 КОЛОРАДО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hlinkClick r:id="rId7" action="ppaction://hlinksldjump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ь мероприятия</a:t>
            </a:r>
            <a:r>
              <a:rPr b="0" lang="ru-RU" sz="3600" spc="-1" strike="noStrike">
                <a:solidFill>
                  <a:srgbClr val="0066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769160" cy="4497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а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рганизовать деятельность учащихся по систематизации и закреплению знаний по географии в 7 класс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вающа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вершенствовать коммуникативные умения учащих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а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звитие любознательности, настойчивости в приобретении зн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15. РАСТИТЕЛЬНЫЙ МИР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29200" y="175248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войное дерево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ет в лесах СШ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евесин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ют дл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вод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ружен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120" y="1905120"/>
            <a:ext cx="3886200" cy="3504960"/>
          </a:xfrm>
          <a:prstGeom prst="rect">
            <a:avLst/>
          </a:prstGeom>
          <a:solidFill>
            <a:srgbClr val="00ffcc">
              <a:alpha val="2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САКСАУ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СЕКВОЙ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ФИНИК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.БАОБА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ЛИСТВЕНН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ЭВКАЛИП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16. РАСТИТЕЛЬНЫЙ МИР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9200" y="175248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лодые побег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го дере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держат масло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120" y="1904760"/>
            <a:ext cx="3886200" cy="3429000"/>
          </a:xfrm>
          <a:prstGeom prst="rect">
            <a:avLst/>
          </a:prstGeom>
          <a:solidFill>
            <a:srgbClr val="00ffcc">
              <a:alpha val="2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САКСАУ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СЕКВОЙ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ФИНИК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.БАОБА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ЛИСТВЕНН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ЭВКАЛИП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17. ГОР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9200" y="175248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чайшие го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мли (выше 8 к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д уровнем моря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9120" y="1905120"/>
            <a:ext cx="3886200" cy="4114800"/>
          </a:xfrm>
          <a:prstGeom prst="rect">
            <a:avLst/>
          </a:prstGeom>
          <a:solidFill>
            <a:srgbClr val="00ffcc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АЛЬП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ГИМАЛАИ 	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КОРДИЛЬЕР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 УРАЛЬСК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КАВКАЗСК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18. ГОР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0" y="175248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ая длинная 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ре горная цеп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тяж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9 тыс. км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9120" y="1905120"/>
            <a:ext cx="3886200" cy="4114800"/>
          </a:xfrm>
          <a:prstGeom prst="rect">
            <a:avLst/>
          </a:prstGeom>
          <a:solidFill>
            <a:srgbClr val="00ffcc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АЛЬП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ГИМАЛАИ 	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КОРДИЛЬЕР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 УРАЛЬСК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КАВКАЗСК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9. НАСЕЛ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76560" y="1980720"/>
            <a:ext cx="37335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ю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берское насел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верной Афр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1904760"/>
            <a:ext cx="3505320" cy="3809880"/>
          </a:xfrm>
          <a:prstGeom prst="rect">
            <a:avLst/>
          </a:prstGeom>
          <a:solidFill>
            <a:srgbClr val="00ffcc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ЭСКИМОС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ИНДЕЙЦЫ	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 БЕДУ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 ТУАРЕГ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5.СЕР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6.УЙГ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20. НАСЕЛ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29200" y="175212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сло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одиться ка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битатели пустынь»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кочевники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09120" y="1905120"/>
            <a:ext cx="3886200" cy="4114800"/>
          </a:xfrm>
          <a:prstGeom prst="rect">
            <a:avLst/>
          </a:prstGeom>
          <a:solidFill>
            <a:srgbClr val="00ffcc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ЭСКИМОС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ИНДЕЙЦЫ	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 БЕДУ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 ТУАРЕГ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СЕР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УЙГ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79096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ИНАЛ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1-22 ПУСТЫ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3-24  СТИХ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5-26 ИССЛЕДОВАТЕ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5" descr="глобус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2819520"/>
            <a:ext cx="18954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1. ПУСТЫН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0024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стыня в Монголии 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итае. Там наблюд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большая разниц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имних и летни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ератур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том +4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, зимой -4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14040" y="2209320"/>
            <a:ext cx="3352680" cy="3124440"/>
          </a:xfrm>
          <a:prstGeom prst="rect">
            <a:avLst/>
          </a:prstGeom>
          <a:solidFill>
            <a:srgbClr val="00ffcc">
              <a:alpha val="5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 АТАКА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ГОБ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САХА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КАРАКУ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ВИК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КАЛАХА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2. ПУСТЫН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2920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ая больш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стыня на зем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аре , ее площад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ыше 8 млн. кв.к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120" y="1828800"/>
            <a:ext cx="3505320" cy="3581280"/>
          </a:xfrm>
          <a:prstGeom prst="rect">
            <a:avLst/>
          </a:prstGeom>
          <a:solidFill>
            <a:srgbClr val="00ffcc">
              <a:alpha val="5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 АТАКА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 ГОБ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САХА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. КАРАКУ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 ВИК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КАЛАХА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23. СТИХ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29200" y="20570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ер на морски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бережьях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яющий два раза 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тки св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авлен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09120" y="1905120"/>
            <a:ext cx="3886200" cy="3657600"/>
          </a:xfrm>
          <a:prstGeom prst="rect">
            <a:avLst/>
          </a:prstGeom>
          <a:solidFill>
            <a:srgbClr val="00ffcc">
              <a:alpha val="5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ЦУНАМ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ТАЙФУН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УРАГАН 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.СМЕР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ТОРНАД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 БР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руктура и оформление мероприятия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6858000" cy="434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9000"/>
          </a:bodyPr>
          <a:p>
            <a:pPr marL="546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уктур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ТУ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– 10 вопрос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ТУ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10 вопрос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ФИНА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6 вопрос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ОТВЕ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 ВОПРО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формлени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Физическая карта ми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Компьютер, проект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жетоны, таблички с цифрами от 1 до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24. СТИХ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920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тоящий кругов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торм. О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вляется в ви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ловещей черн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учи, из котор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ускае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тящийся вихрь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оминающ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бот слон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120" y="1905120"/>
            <a:ext cx="3886200" cy="4114800"/>
          </a:xfrm>
          <a:prstGeom prst="rect">
            <a:avLst/>
          </a:prstGeom>
          <a:solidFill>
            <a:srgbClr val="00ffcc">
              <a:alpha val="5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ЦУНАМ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ТАЙФУН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УРАГАН 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.СМЕР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ТОРНАД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 БР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25. ИССЛЕДОВАТЕЛ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00600" y="17524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пец, много сделавший дл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репления связей Запада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тока. В 1298 году написа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Книгу», которая вошла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олотой фонд миров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тератур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бранные путешестве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ком географичес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дения об открытиях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ли использованы пр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лении карт Ази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61760" y="2209680"/>
            <a:ext cx="3352680" cy="3353040"/>
          </a:xfrm>
          <a:prstGeom prst="rect">
            <a:avLst/>
          </a:prstGeom>
          <a:solidFill>
            <a:srgbClr val="00ffcc">
              <a:alpha val="5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 Ф.НАНС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 М.ПОЛ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 В.БЕРЕНГ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. Х. КОЛУМ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 А.НИКИТ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 Д.КУ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26. ИССЛЕДОВАТЕЛ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24280" y="16765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рвежский поляр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тел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тор и участн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ого перехода чере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ьды Гренландии, лучш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х описал север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я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09480" y="2286000"/>
            <a:ext cx="3276720" cy="3124080"/>
          </a:xfrm>
          <a:prstGeom prst="rect">
            <a:avLst/>
          </a:prstGeom>
          <a:solidFill>
            <a:srgbClr val="00ffcc">
              <a:alpha val="5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 Ф.НАНС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 М.ПОЛ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 В.БЕРЕНГ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. Х. КОЛУМ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 А.НИКИТ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 Д.КУ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510516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вездный час закончен.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дведем итоги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ПАСИБО за внимание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!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5409720"/>
            <a:ext cx="655308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ВЕТЫ НА ВОПРОС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Picture 4" descr="глобус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562720"/>
            <a:ext cx="88596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1.АФРИ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62520" y="837720"/>
            <a:ext cx="4952880" cy="541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7000"/>
          </a:bodyPr>
          <a:p>
            <a:pPr marL="46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́фр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контине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оложенный к югу 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Средиземн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Красн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ре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аду от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Атлантического океа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к востоку от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Индийского океа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второй по величи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инент после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Евраз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Африки составля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30 млн. км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Насе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фрики составляет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ллиард человек. Афр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родина человечества: имен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нашли самые древние остан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нних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гомини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их вероят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6" descr="глобус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153280" y="5943600"/>
            <a:ext cx="758880" cy="914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0" descr="www"/>
          <p:cNvPicPr/>
          <p:nvPr/>
        </p:nvPicPr>
        <p:blipFill>
          <a:blip r:embed="rId11"/>
          <a:stretch/>
        </p:blipFill>
        <p:spPr>
          <a:xfrm>
            <a:off x="685800" y="2057400"/>
            <a:ext cx="3068640" cy="3114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2.АВСТРАЛ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7960" y="1827360"/>
            <a:ext cx="4035240" cy="4497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стралия - государство в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Южн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полушар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расположенное на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материк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Австрал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трове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Тасм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нескольки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угих островах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Индийско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Тихо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Южного океан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Шестое по площад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сударство мира, единствен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сударство, занимающее целый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9"/>
              </a:rPr>
              <a:t>матери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териковая часть Австралийского Союз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ыла заселена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0"/>
              </a:rPr>
              <a:t>австралийски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1"/>
              </a:rPr>
              <a:t>аборигена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олее 42 тысяч лет наза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лицей государства является гор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2"/>
              </a:rPr>
              <a:t>Канбер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Численность насе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стралийского Союза превышает 21 мл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ловек, при этом 60 % насе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живает в крупнейших городах стран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3"/>
              </a:rPr>
              <a:t>Сидн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4"/>
              </a:rPr>
              <a:t>Мельбур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5"/>
              </a:rPr>
              <a:t>Брисбе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6"/>
              </a:rPr>
              <a:t>Пер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7"/>
              </a:rPr>
              <a:t>Аделаи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их пригород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отография из космо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8" descr="глобус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7924680" y="5562720"/>
            <a:ext cx="885960" cy="1066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аврсталия"/>
          <p:cNvPicPr/>
          <p:nvPr/>
        </p:nvPicPr>
        <p:blipFill>
          <a:blip r:embed="rId20"/>
          <a:stretch/>
        </p:blipFill>
        <p:spPr>
          <a:xfrm>
            <a:off x="685800" y="243828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09320" y="301680"/>
            <a:ext cx="647388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3. КАПИБА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пиба́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досви́н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—полувод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травоядно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млекопитающе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—самый крупный сред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временных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грызун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Длина те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рослой капибары достигает 1,35 м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- до 60 кг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покрыто жесткой лохмат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ерстью пестрой коричнев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цветки. Капибара встречается п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регам разнообразных водоёмов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опических и умеренных частя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Центрально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Южной Амер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точнее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Ан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рироде капибары живут 9-10 лет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Рисунок 6" descr="http://upload.wikimedia.org/wikipedia/commons/thumb/9/9d/Capybara-range.png/180px-Capybara-range.png"/>
          <p:cNvPicPr/>
          <p:nvPr/>
        </p:nvPicPr>
        <p:blipFill>
          <a:blip r:embed="rId7"/>
          <a:stretch/>
        </p:blipFill>
        <p:spPr>
          <a:xfrm>
            <a:off x="990720" y="1447920"/>
            <a:ext cx="2284200" cy="2590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капибара"/>
          <p:cNvPicPr/>
          <p:nvPr/>
        </p:nvPicPr>
        <p:blipFill>
          <a:blip r:embed="rId8"/>
          <a:stretch/>
        </p:blipFill>
        <p:spPr>
          <a:xfrm>
            <a:off x="1523880" y="3733920"/>
            <a:ext cx="3579840" cy="2385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глобус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924680" y="5486400"/>
            <a:ext cx="94932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4. МОЛО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05160" y="1827360"/>
            <a:ext cx="3578040" cy="45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466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лох – небольш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ое,  от 18 до 22 см,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его тело покрыт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ими и остры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говыми шипами. Пита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муравьями. Движ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лоха неторопливы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длительны.  Самки молох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ладывают яйца в нор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еныши  появляются 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т совсем крошечным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ной около 6 мм и вес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ьше 2 г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ут эти ящерицы  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вадцати л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7" descr="молох"/>
          <p:cNvPicPr/>
          <p:nvPr/>
        </p:nvPicPr>
        <p:blipFill>
          <a:blip r:embed="rId1"/>
          <a:stretch/>
        </p:blipFill>
        <p:spPr>
          <a:xfrm>
            <a:off x="838080" y="2209680"/>
            <a:ext cx="3962520" cy="3233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глобус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86760" y="5705640"/>
            <a:ext cx="95724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5.ИЗВЕСТНЯК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46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вестня́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осадоч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горная пор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чаще все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ческого происхождени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оящая почти на 100 % и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карбоната каль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форм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исталлов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кальци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личного размера. Пр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метаморфизм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вестня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кристаллизуются 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уют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мрамо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Известня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ироко применяется 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честве строительно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териала, мелкозернист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новидности использую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создания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скульпту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9" descr="глобус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824960" y="5562720"/>
            <a:ext cx="1074600" cy="1295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известняк"/>
          <p:cNvPicPr/>
          <p:nvPr/>
        </p:nvPicPr>
        <p:blipFill>
          <a:blip r:embed="rId10"/>
          <a:stretch/>
        </p:blipFill>
        <p:spPr>
          <a:xfrm>
            <a:off x="838080" y="228600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2160" y="685800"/>
            <a:ext cx="4800600" cy="68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ТУР  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ОПРОС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442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-2 МАТЕР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-4 ЖИВОТНЫЙ МИ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-6 МЕТАЛЛЫ И МИНЕРАЛ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-8 ГЕОГРАФИЧЕСКИЕ ПОНЯТ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-10  МОР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глобус">
            <a:hlinkClick r:id="rId1" action="ppaction://hlinksldjump"/>
          </p:cNvPr>
          <p:cNvPicPr/>
          <p:nvPr/>
        </p:nvPicPr>
        <p:blipFill>
          <a:blip r:embed="rId2"/>
          <a:srcRect l="0" t="0" r="0" b="14699"/>
          <a:stretch/>
        </p:blipFill>
        <p:spPr>
          <a:xfrm>
            <a:off x="5638680" y="2590920"/>
            <a:ext cx="21877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6. МЕД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14440" y="1676160"/>
            <a:ext cx="4264200" cy="4344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это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пластичный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 метал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лотисто-розового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цв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ин из первых металлов, широк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военных человеком из-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авнительной доступности д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ения из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ру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мал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мпературы плавления.  Медь 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ости применялась в основном 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 сплава с оловом —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бронз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готовления оружия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ьшая часть медной руд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бывается открытым способ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держание меди в руде составляет о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,4 до 1,0 %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 На фото самородная мед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Рисунок 4" descr="http://upload.wikimedia.org/wikipedia/commons/thumb/4/49/CopperMineralUSGOV.jpg/150px-CopperMineralUSGOV.jpg"/>
          <p:cNvPicPr/>
          <p:nvPr/>
        </p:nvPicPr>
        <p:blipFill>
          <a:blip r:embed="rId6"/>
          <a:stretch/>
        </p:blipFill>
        <p:spPr>
          <a:xfrm>
            <a:off x="380880" y="1905120"/>
            <a:ext cx="2892600" cy="2757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глобус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32760" y="5638680"/>
            <a:ext cx="101124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7. МУССО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800240" y="1827360"/>
            <a:ext cx="3962520" cy="4497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ссо́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— устойчивый сезонный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вете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званный разностью температур воздух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 определёнными областями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Земл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иодически меняющий своё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равле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том муссоны дуют с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океа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матер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зимой — с материков 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еан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ибольшей устойчивостью и скорость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тра муссоны обладают в некотор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йонах тропиков (особенно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ваториальной Африке, странах Южн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Юго-Восточной Азии и в Южн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ушарии вплоть до северных час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Мадагаска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Австрал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Муссонный клима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характеризует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ышенной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влажность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лет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ио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муссон1"/>
          <p:cNvPicPr/>
          <p:nvPr/>
        </p:nvPicPr>
        <p:blipFill>
          <a:blip r:embed="rId9"/>
          <a:stretch/>
        </p:blipFill>
        <p:spPr>
          <a:xfrm>
            <a:off x="304920" y="2438280"/>
            <a:ext cx="4267080" cy="2295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глобус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132760" y="5638680"/>
            <a:ext cx="101124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8. ШЕЛЬФ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5" name="Picture 5" descr="глобус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86760" y="5486400"/>
            <a:ext cx="957240" cy="115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35812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е́ль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выровненная обла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водной окраины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матер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ыкающая к суше 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рактеризующаяся общим с н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ологическим строение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ницами шельфа являют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рег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мор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океа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а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зываема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бров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резк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гиб поверхности морско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на — переход к материково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лону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ая площадь шельф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авляет около 32 миллион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м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10" descr="шельф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533520" y="2362320"/>
            <a:ext cx="434340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9. ЧЕРНОЕ МОР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9" name="Picture 18" descr="i"/>
          <p:cNvPicPr/>
          <p:nvPr/>
        </p:nvPicPr>
        <p:blipFill>
          <a:blip r:embed="rId1"/>
          <a:stretch/>
        </p:blipFill>
        <p:spPr>
          <a:xfrm>
            <a:off x="1295280" y="4267080"/>
            <a:ext cx="2648160" cy="1981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черное море"/>
          <p:cNvPicPr/>
          <p:nvPr/>
        </p:nvPicPr>
        <p:blipFill>
          <a:blip r:embed="rId2"/>
          <a:stretch/>
        </p:blipFill>
        <p:spPr>
          <a:xfrm>
            <a:off x="838080" y="2057400"/>
            <a:ext cx="3571920" cy="18478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724280" y="1676520"/>
            <a:ext cx="3959280" cy="4495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ёрное мо́р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внутреннее мо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ссейна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Атлантического океа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более 400 тыс.км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ибольшая глубина — 2210 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ре омывает берега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Украи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Румы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Болгар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9"/>
              </a:rPr>
              <a:t>Тур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10"/>
              </a:rPr>
              <a:t>Груз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рактерной особенностью Чёрно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ря является полное отсут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изни на глубинах свыше 150—200 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 счёт насыщенности глубинны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ёв воды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11"/>
              </a:rPr>
              <a:t>сероводород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ёрное море — важный райо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анспортных перевозок, а такж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ин из крупнейших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12"/>
              </a:rPr>
              <a:t>курортны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онов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13"/>
              </a:rPr>
              <a:t>Евраз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15" descr="глобус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8250120" y="5781600"/>
            <a:ext cx="8938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10. КРАСНОЕ МОР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101920" y="1827360"/>
            <a:ext cx="3584520" cy="4497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асное море вдаётся в сушу Азии 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фрики, омывает берега 8 стра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щадь Красного моря равна 45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ыс. км². Почти 2/3 моря лежат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тропическом пояс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тровов в северной части моря мал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только южнее 17° с.ш. они образую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сколько групп с многочисленны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тров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севере моря располагаются д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лива: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Суэцк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Акабск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бенность Красного моря состоит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м, что в него не впадает ни од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ре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оэтому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в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Красном мор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истально чис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нимок из  космо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6" descr="красное море"/>
          <p:cNvPicPr/>
          <p:nvPr/>
        </p:nvPicPr>
        <p:blipFill>
          <a:blip r:embed="rId6"/>
          <a:stretch/>
        </p:blipFill>
        <p:spPr>
          <a:xfrm>
            <a:off x="990720" y="2057400"/>
            <a:ext cx="3325680" cy="3581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глобус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59760" y="5672160"/>
            <a:ext cx="984240" cy="118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5409720"/>
            <a:ext cx="541008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ВЕТЫ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УР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11.ФАНЗ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23920" y="1828800"/>
            <a:ext cx="37306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7000"/>
          </a:bodyPr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анз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итайское жилище, на каркас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деревянных столбов. Крыш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вускатная, крытая соломой, черепице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мышом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анз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стоит обычно и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ёх – пяти комн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ходная дверь ведёт в кухню с очагам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торыми с помощью дымоход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апливают комнатные каны (тёпл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ирокие нары, на которых сидят з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зенькими столами или спят). Иног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ны отапливаются специальной топк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аружи дома. Такой тип конструкци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арактерный для сельского, отча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родского населения в Север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точном Китае, выработался в 7–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. и в основных чертах сохранился д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ших дн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фанза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3520" y="2819520"/>
            <a:ext cx="4190760" cy="2187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глобус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32760" y="5638680"/>
            <a:ext cx="101124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12. ИГЛ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419360" y="1904760"/>
            <a:ext cx="4267080" cy="426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ставляет собой куполообразну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ройку диаметром 3—4 метра 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той около 2 метров из уплотненн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тром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снеж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ли ледяных блок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жно, чтобы вход в иглу был ниж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я пола — это обеспечивает отток и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е тяжелого углекислого газа и прито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амен более легкого кислорода, а такж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плоизоляци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т в иглу проникает прямо чере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жные стены. Внутреннее помеще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ычно застилается шкурами. Д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огрева жилища и дополнительного е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вещения используются плошки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ирники. Поэтому в хижине мож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держиваться комфортная для жизн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ловека температур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5" descr="иглу"/>
          <p:cNvPicPr/>
          <p:nvPr/>
        </p:nvPicPr>
        <p:blipFill>
          <a:blip r:embed="rId2"/>
          <a:stretch/>
        </p:blipFill>
        <p:spPr>
          <a:xfrm>
            <a:off x="838080" y="22096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глобус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59760" y="5672160"/>
            <a:ext cx="984240" cy="118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13. ЯНДЗ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724280" y="1828440"/>
            <a:ext cx="3810240" cy="442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9000"/>
          </a:bodyPr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дные ресурсы Китая вели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пнейшие речные бассейны образую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и Янцзы, Хуанхэ и Сицзян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нцзы, самая длинная река Китая (627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м), относится к бассейну Тих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еана. Янцзы практически всег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оводна благодаря сравнительн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вномерному в течение г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уплению воды от правых приток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реке в период летних муссонов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торые по времени совпадают с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янием снегов и ледников в горах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исходит резкое повышение уровн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ды, приводящее к сильн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воднения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. Янцзы важна в транспортн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и  Широко используется д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ужд орошаемого земледел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яндзы"/>
          <p:cNvPicPr/>
          <p:nvPr/>
        </p:nvPicPr>
        <p:blipFill>
          <a:blip r:embed="rId1"/>
          <a:stretch/>
        </p:blipFill>
        <p:spPr>
          <a:xfrm>
            <a:off x="533520" y="2286000"/>
            <a:ext cx="3962160" cy="2584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глобус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3120" y="5748480"/>
            <a:ext cx="920880" cy="1109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14. НИ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505320" y="1752480"/>
            <a:ext cx="4721040" cy="472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овременное египетское наз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ль-Бахр; , река в Африк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Дл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6671 км. Площадь бассей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870 тыс. км2. Берёт начало 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точно-Африканском плоскогорь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падает в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Средиземное мор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бразу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льт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ерхней половине течения Ни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имает крупные притоки: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Э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Газа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Ас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Соба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Голубой Ни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бар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ссейн Нила полностью или частич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хватывает территории Руанды, Кени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нзании, Уганды, Эфиопии, Судана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ипта (АРЕ).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ТО ИЗ КОСМО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глобус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223120" y="5748480"/>
            <a:ext cx="920880" cy="1109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i"/>
          <p:cNvPicPr/>
          <p:nvPr/>
        </p:nvPicPr>
        <p:blipFill>
          <a:blip r:embed="rId10"/>
          <a:stretch/>
        </p:blipFill>
        <p:spPr>
          <a:xfrm>
            <a:off x="533520" y="2895480"/>
            <a:ext cx="264132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МАТЕРИКИ</a:t>
            </a:r>
            <a:r>
              <a:rPr b="1" lang="ru-RU" sz="36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0" y="175248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ВОПРОС</a:t>
            </a:r>
            <a:r>
              <a:rPr b="0" lang="ru-RU" sz="2000" spc="-1" strike="noStrike">
                <a:solidFill>
                  <a:srgbClr val="ff33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роди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ка. На эт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рике найде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танки человека 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одах, имеющи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раст 27 млн. л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2120" y="1752480"/>
            <a:ext cx="3581280" cy="41148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АФРИК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ЮЖНАЯ АМЕРИ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СЕВЕРНАЯ АМЕР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АВСТРАЛ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АНТАРКТИ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15. СЕКВОЙ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кво́й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— род вечнозелен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войных деревьев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Кипарисов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тественный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ареа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ода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Тихоокеанско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бережье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Северн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Амер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тдельные экземпля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квойи достигают высоты боле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10 м . Максимальная толщина ство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квойи — 7 м, максималь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раст — более трёх с половин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ысяч лет. Культивируют ради легк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рочной древесины (используют д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водных сооружений и т. п.), 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же как декоративн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звание  было дано в честь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Секвой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(Джорджа Гесса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индейско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ожд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емени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9"/>
              </a:rPr>
              <a:t>черо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секв1"/>
          <p:cNvPicPr/>
          <p:nvPr/>
        </p:nvPicPr>
        <p:blipFill>
          <a:blip r:embed="rId10"/>
          <a:stretch/>
        </p:blipFill>
        <p:spPr>
          <a:xfrm>
            <a:off x="533520" y="1447920"/>
            <a:ext cx="2549520" cy="3828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секв"/>
          <p:cNvPicPr/>
          <p:nvPr/>
        </p:nvPicPr>
        <p:blipFill>
          <a:blip r:embed="rId11">
            <a:lum bright="12000"/>
          </a:blip>
          <a:stretch/>
        </p:blipFill>
        <p:spPr>
          <a:xfrm>
            <a:off x="1371600" y="388620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глобус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223120" y="5748480"/>
            <a:ext cx="920880" cy="1109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16. ЭВКАЛИП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876920" y="1905120"/>
            <a:ext cx="35812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ществует более 700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вид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вкалипта. Большая часть растёт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сах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Австрал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Новой Зеланд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Тасман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бразуя своеобразные ле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Эвкалип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— достигает колоссальн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меров: в некоторых источника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казывают до 155 м высоты 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лщину в 10 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т вид отличается необычайн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ыстрым ростом и сильно пахучи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стьями. В настоящее время эт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тение, разводится во многи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ранах ради его быстрого роста 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особности осушать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болотист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ст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эвкал"/>
          <p:cNvPicPr/>
          <p:nvPr/>
        </p:nvPicPr>
        <p:blipFill>
          <a:blip r:embed="rId6"/>
          <a:stretch/>
        </p:blipFill>
        <p:spPr>
          <a:xfrm>
            <a:off x="1143000" y="1828800"/>
            <a:ext cx="3100320" cy="4114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глобус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848720" y="5410080"/>
            <a:ext cx="984240" cy="118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17. ГИМАЛА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05520" y="1905120"/>
            <a:ext cx="35812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имала́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 — высочайшая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горн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систем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Земл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Гималаи раскинулис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территории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Инд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Непал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Кит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Тибет)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Пакиста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Бута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рная система Гималаев на стык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нтральной и Южной Азии име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ыше 2400 км в длину и около 350 к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ширину. Средняя высота гребн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оло 6000 м, максимальн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848 м  — гора Джомолунгм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9"/>
              </a:rPr>
              <a:t>Эверес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 Здесь находится 10 верши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той более 8000 м над уровне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нимок из космо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6" descr="гималаи"/>
          <p:cNvPicPr/>
          <p:nvPr/>
        </p:nvPicPr>
        <p:blipFill>
          <a:blip r:embed="rId10"/>
          <a:stretch/>
        </p:blipFill>
        <p:spPr>
          <a:xfrm>
            <a:off x="304920" y="1905120"/>
            <a:ext cx="4038480" cy="2031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гимал1"/>
          <p:cNvPicPr/>
          <p:nvPr/>
        </p:nvPicPr>
        <p:blipFill>
          <a:blip r:embed="rId11"/>
          <a:stretch/>
        </p:blipFill>
        <p:spPr>
          <a:xfrm>
            <a:off x="1143000" y="4114800"/>
            <a:ext cx="3657600" cy="2502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глобус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159760" y="5672160"/>
            <a:ext cx="984240" cy="118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8" descr="анды1"/>
          <p:cNvPicPr/>
          <p:nvPr/>
        </p:nvPicPr>
        <p:blipFill>
          <a:blip r:embed="rId1"/>
          <a:stretch/>
        </p:blipFill>
        <p:spPr>
          <a:xfrm>
            <a:off x="2209680" y="4038480"/>
            <a:ext cx="3108600" cy="23320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18. АНД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41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ды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ндийские Кордильер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мая длинная (9000 км) и одна и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мых высоких (гора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Аконкагу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962 м) горных систем Земл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каймляющая с севера и запада вс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Южную Америку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 южная ча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Кордильер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Анды являются крупн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жокеанским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водораздело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 (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стоку от Анд текут реки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бассей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Атлантического океан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к западу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ассейна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Тихого океан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ры лежат в 6 климатических пояса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ды протянулись через территор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ми государств Южной Америки: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9"/>
              </a:rPr>
              <a:t>Венесуэл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0"/>
              </a:rPr>
              <a:t>Колумб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1"/>
              </a:rPr>
              <a:t>Эквадор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2"/>
              </a:rPr>
              <a:t>Перу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3"/>
              </a:rPr>
              <a:t>Болив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4"/>
              </a:rPr>
              <a:t>Чил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5"/>
              </a:rPr>
              <a:t>Аргентин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7" descr="анды"/>
          <p:cNvPicPr/>
          <p:nvPr/>
        </p:nvPicPr>
        <p:blipFill>
          <a:blip r:embed="rId16"/>
          <a:stretch/>
        </p:blipFill>
        <p:spPr>
          <a:xfrm>
            <a:off x="609480" y="1600200"/>
            <a:ext cx="2028960" cy="3809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глобус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7848720" y="5672160"/>
            <a:ext cx="984240" cy="118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19. ТУАРЕГ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76560" y="190512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уареги-  народ, живущий в Нигере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ли, Верхней Вольте и пустынн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йонах Алжира, куда был вытеснен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поху арабских завоеваний из боле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верных областей Африки. Общ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около 1 млн. че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религии туареги — мусульман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нниты. Основное занятие —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емледелие, совмещаемое с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едением мелкого рогатого ско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уареги сохраняют племенное деле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начительные элемен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триархально-феодального стро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пнейшие группы племён –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юллемиден, ифорас, кель-грес, кель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хаггар, кель-аир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8" descr="туареги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14600" y="3200400"/>
            <a:ext cx="2174760" cy="3359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глобус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9760" y="5672160"/>
            <a:ext cx="984240" cy="1185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1" descr="туарег"/>
          <p:cNvPicPr/>
          <p:nvPr/>
        </p:nvPicPr>
        <p:blipFill>
          <a:blip r:embed="rId4"/>
          <a:stretch/>
        </p:blipFill>
        <p:spPr>
          <a:xfrm>
            <a:off x="533520" y="1600200"/>
            <a:ext cx="22939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20. БЕДУИН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9" name="Picture 14" descr="852"/>
          <p:cNvPicPr/>
          <p:nvPr/>
        </p:nvPicPr>
        <p:blipFill>
          <a:blip r:embed="rId1"/>
          <a:stretch/>
        </p:blipFill>
        <p:spPr>
          <a:xfrm>
            <a:off x="1370160" y="2649600"/>
            <a:ext cx="3579840" cy="24699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дуин — «обитатель пустыни»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м термином принят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означать всех жител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арабского ми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ые веду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чевой образ жизн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зависимо от и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национа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лигиозной принадле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дуины живут в пустыне н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ее 4-5 тысяч лет, по свое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схождению являют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ходцами с территор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Саудовской Арав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10" descr="глобус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01000" y="5486400"/>
            <a:ext cx="920880" cy="1109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440" y="5334120"/>
            <a:ext cx="563868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ФИНАЛЬНЫЕ ВОПРОСЫ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21. ГОБ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3760" y="1676160"/>
            <a:ext cx="3429000" cy="434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би простирается от гор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Алта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Тянь-Шан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востоке д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Северокитайского плат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западе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севере Гоби переходит в степ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Монгол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на юге регион ограниче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рами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Наньша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Алтынта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ой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Хуанх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Слово «гоби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монгольско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оисхождения 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значает «безводное место», эти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овом в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9"/>
              </a:rPr>
              <a:t>Центральной Аз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означают вообще пустынные 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упустынные ландшафты. П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вокупности пустынн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рриторий Гоби являет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пнейшей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0"/>
              </a:rPr>
              <a:t>пустын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1"/>
              </a:rPr>
              <a:t>Аз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9" descr="глобус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924680" y="5748480"/>
            <a:ext cx="920880" cy="1109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1" descr="гоби"/>
          <p:cNvPicPr/>
          <p:nvPr/>
        </p:nvPicPr>
        <p:blipFill>
          <a:blip r:embed="rId14"/>
          <a:stretch/>
        </p:blipFill>
        <p:spPr>
          <a:xfrm>
            <a:off x="609480" y="2438280"/>
            <a:ext cx="441972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22. САХА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105160" y="1828800"/>
            <a:ext cx="342900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ха́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сположена в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Северн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Африк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Имеет площадь около 8,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лн км² (около 30% площад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Афр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 Сахара частичн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хватывает территорию боле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сяти государств. Обшир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странства Сахары не заселены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едлый образ жизни ограниче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йонами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оазис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хара не поддаётся категоризации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мках одного типа пустыни, хот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обладающим является песчано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менистый ти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7" descr="сахара фото из космоса"/>
          <p:cNvPicPr/>
          <p:nvPr/>
        </p:nvPicPr>
        <p:blipFill>
          <a:blip r:embed="rId5"/>
          <a:stretch/>
        </p:blipFill>
        <p:spPr>
          <a:xfrm>
            <a:off x="457200" y="1905120"/>
            <a:ext cx="4191120" cy="23526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сахара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1600200" y="3962520"/>
            <a:ext cx="3124080" cy="2498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глобус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223120" y="5748480"/>
            <a:ext cx="920880" cy="1109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23. ТОРНАД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95320" y="1752480"/>
            <a:ext cx="4038840" cy="419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орнад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узкий чудовищн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ращающийся столб воздух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торый тянется от грозового обла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 земли. Существует две разновид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го явления: торнадо, причин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никновения которых ста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льнейшие грозы, и торнадо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явившиеся вследствие други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кторов. Как правило, торнад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являются в результате гроз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оза, продолжающаяся за сч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ходящего воздушного пото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клонного и беспрестанно вращающего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дает появлению торнад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7" descr="торнадо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1752480"/>
            <a:ext cx="3276720" cy="2818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торнад1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981080" y="3276720"/>
            <a:ext cx="2470320" cy="3276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глобус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86760" y="5705640"/>
            <a:ext cx="95724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МАТЕРИ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2880" y="167652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ВОПРОС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т материк бы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крыт позж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уги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1752480"/>
            <a:ext cx="35812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ВРАЗ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ФРИК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ЖНАЯ АМЕРИ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ВЕРНАЯ АМЕ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СТРАЛ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ТАРКТИ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762120" y="1752480"/>
            <a:ext cx="3733560" cy="426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76280" indent="-476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ЕВРАЗ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АФРИК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ЮЖНАЯ АМЕРИ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СЕВЕРНАЯ АМЕ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7" action="ppaction://hlinksldjump"/>
              </a:rPr>
              <a:t>АВСТРАЛ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8" action="ppaction://hlinksldjump"/>
              </a:rPr>
              <a:t>АНТАРКТИ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762120" y="1752480"/>
            <a:ext cx="3733560" cy="42674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76280" indent="-476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9" action="ppaction://hlinksldjump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0" action="ppaction://hlinksldjump"/>
              </a:rPr>
              <a:t>АФРИК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1" action="ppaction://hlinksldjump"/>
              </a:rPr>
              <a:t>ЮЖНАЯ АМЕРИКА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2" action="ppaction://hlinksldjump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3" action="ppaction://hlinksldjump"/>
              </a:rPr>
              <a:t>СЕВЕРНАЯ АМЕР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4" action="ppaction://hlinksldjump"/>
              </a:rPr>
              <a:t>АВСТРАЛ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5" action="ppaction://hlinksldjump"/>
              </a:rPr>
              <a:t>АНТАРКТИ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24. БРИЗ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343040" y="1599840"/>
            <a:ext cx="441972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и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ветер, который дует 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бережье морей и больших озё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авление бриза меняется дважды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тки: дневной (или морской) бри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ует с моря на разогретое дневны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чами Солнца побережье. Ноч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ли береговой) бриз имеет обрат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авление. Скорость бр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большая, и составляет 1—5 м/с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риз чаще бывает лето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A: Морской бриз (дневной)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B:Береговой бриз (ночной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глобус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86760" y="5705640"/>
            <a:ext cx="957240" cy="1152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бриз"/>
          <p:cNvPicPr/>
          <p:nvPr/>
        </p:nvPicPr>
        <p:blipFill>
          <a:blip r:embed="rId3"/>
          <a:stretch/>
        </p:blipFill>
        <p:spPr>
          <a:xfrm>
            <a:off x="533520" y="1922400"/>
            <a:ext cx="3579840" cy="3925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25. МАРКО ПОЛ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723920" y="1599840"/>
            <a:ext cx="403884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а́рко По́л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итальянск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купец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путешественни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ивший истори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его путешествия по Азии в сво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менитой истории «Книга о разнообраз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ира». Путешествие Марко Поло служи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нным источником по географи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нографии, истории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Азербайджа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Армен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Ира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Кита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Монгол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9"/>
              </a:rPr>
              <a:t>Инд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0"/>
              </a:rPr>
              <a:t>Индонез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других стран в средние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а книга оказала значительное влияние 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еплавателей, картографов, писател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1"/>
              </a:rPr>
              <a:t>XI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Times New Roman"/>
                <a:hlinkClick r:id="rId12"/>
              </a:rPr>
              <a:t>XV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еков. В частности она была 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абле Христофора Колумба во время е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иска пути в Инди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6" descr="глобус"/>
          <p:cNvPicPr/>
          <p:nvPr/>
        </p:nvPicPr>
        <p:blipFill>
          <a:blip r:embed="rId13"/>
          <a:stretch/>
        </p:blipFill>
        <p:spPr>
          <a:xfrm>
            <a:off x="8186760" y="5705640"/>
            <a:ext cx="957240" cy="1152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поло"/>
          <p:cNvPicPr/>
          <p:nvPr/>
        </p:nvPicPr>
        <p:blipFill>
          <a:blip r:embed="rId14">
            <a:lum bright="12000"/>
          </a:blip>
          <a:stretch/>
        </p:blipFill>
        <p:spPr>
          <a:xfrm>
            <a:off x="1066680" y="2133720"/>
            <a:ext cx="331632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Times New Roman"/>
              </a:rPr>
              <a:t>26. ФРИТЬОФ НАНСЕ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266720" y="1980720"/>
            <a:ext cx="4038840" cy="396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ри́тьоф На́нсе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норвеж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ярный исследователь, учё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оолог, основатель новой науки —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зической океанографии, лауреа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белевской премии мира за 19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888 году первым пересе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енландию на лыжах, в 1893-9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дах руководил экспедицией 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Фраме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4" descr="глобус"/>
          <p:cNvPicPr/>
          <p:nvPr/>
        </p:nvPicPr>
        <p:blipFill>
          <a:blip r:embed="rId1"/>
          <a:stretch/>
        </p:blipFill>
        <p:spPr>
          <a:xfrm>
            <a:off x="8186760" y="5705640"/>
            <a:ext cx="957240" cy="115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нансен1"/>
          <p:cNvPicPr/>
          <p:nvPr/>
        </p:nvPicPr>
        <p:blipFill>
          <a:blip r:embed="rId2"/>
          <a:stretch/>
        </p:blipFill>
        <p:spPr>
          <a:xfrm>
            <a:off x="914400" y="1752480"/>
            <a:ext cx="29592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3</a:t>
            </a:r>
            <a:r>
              <a:rPr b="0" lang="ru-RU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ЖИВОТНЫЙ МИР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798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ВОПРОС</a:t>
            </a:r>
            <a:r>
              <a:rPr b="0" lang="ru-RU" sz="2000" spc="-1" strike="noStrike">
                <a:solidFill>
                  <a:srgbClr val="ff33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 Европе это животн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называю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одосвинкой, н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на родине, в Южной 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Центральной Америке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его  называют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066320" y="2285640"/>
            <a:ext cx="2971800" cy="2971800"/>
          </a:xfrm>
          <a:prstGeom prst="rect">
            <a:avLst/>
          </a:prstGeom>
          <a:solidFill>
            <a:srgbClr val="00ffcc">
              <a:alpha val="2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 ЦЕЦЕ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 ЗЕБ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 ТАПИР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. МОЛОХ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 АНАКОН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 КАПИБА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4</a:t>
            </a:r>
            <a:r>
              <a:rPr b="0" lang="ru-RU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ЖИВОТНЫЙ МИР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0" y="175248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ВОПРОС</a:t>
            </a:r>
            <a:r>
              <a:rPr b="0" lang="ru-RU" sz="2000" spc="-1" strike="noStrike">
                <a:solidFill>
                  <a:srgbClr val="ff33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животн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вет в пустыня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встрал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19320" y="2057040"/>
            <a:ext cx="3200400" cy="3352680"/>
          </a:xfrm>
          <a:prstGeom prst="rect">
            <a:avLst/>
          </a:prstGeom>
          <a:solidFill>
            <a:srgbClr val="00ffcc">
              <a:alpha val="2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ЦЕЦЕ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2 ЗЕБР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3. ТАПИР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4. МОЛОХ	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hlinkClick r:id="rId7" action="ppaction://hlinksldjump"/>
              </a:rPr>
              <a:t>5. АНАКОНД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hlinkClick r:id="rId8" action="ppaction://hlinksldjump"/>
              </a:rPr>
              <a:t>6. КАПИБАР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5. МЕТАЛЛЫ И МИНЕРАЛ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0" y="1752480"/>
            <a:ext cx="35798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ОПРОС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а плотная, сер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ода посл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бо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вращается 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рамор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90360" y="1904760"/>
            <a:ext cx="3352680" cy="3352680"/>
          </a:xfrm>
          <a:prstGeom prst="rect">
            <a:avLst/>
          </a:prstGeom>
          <a:solidFill>
            <a:srgbClr val="00ffcc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1" action="ppaction://hlinksldjump"/>
              </a:rPr>
              <a:t>1.МАРГАНЕЦ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2" action="ppaction://hlinksldjump"/>
              </a:rPr>
              <a:t>2.ИЗВЕСТНЯ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3" action="ppaction://hlinksldjump"/>
              </a:rPr>
              <a:t>3. МЕДЬ 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4" action="ppaction://hlinksldjump"/>
              </a:rPr>
              <a:t>4.ГЛ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5" action="ppaction://hlinksldjump"/>
              </a:rPr>
              <a:t>5. ЗОЛО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6" action="ppaction://hlinksldjump"/>
              </a:rPr>
              <a:t>6. ЖЕ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7" action="ppaction://hlinksldjump"/>
              </a:rPr>
              <a:t>Л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hlinkClick r:id="rId8" action="ppaction://hlinksldjump"/>
              </a:rPr>
              <a:t>ЕЗО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Times New Roman"/>
                <a:hlinkClick r:id="rId9" action="ppaction://hlinksldjump"/>
              </a:rPr>
              <a:t>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исенков С.А.</dc:creator>
  <dc:description>Презентацию можно использовать для групповых и индивидуальных занятий</dc:description>
  <cp:keywords>география</cp:keywords>
  <dc:language>en-US</dc:language>
  <cp:lastModifiedBy>tosha</cp:lastModifiedBy>
  <dcterms:modified xsi:type="dcterms:W3CDTF">2025-10-16T08:50:33Z</dcterms:modified>
  <cp:revision>167</cp:revision>
  <dc:subject>география</dc:subject>
  <dc:title>Звездный час по географии 7 к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Автор">
    <vt:lpwstr>Лисенков С.А.</vt:lpwstr>
  </property>
  <property fmtid="{D5CDD505-2E9C-101B-9397-08002B2CF9AE}" pid="3" name="Цель">
    <vt:lpwstr>закрепление знаний по географии в 7 кл.</vt:lpwstr>
  </property>
  <property fmtid="{D5CDD505-2E9C-101B-9397-08002B2CF9AE}" pid="4" name="Язык">
    <vt:lpwstr>русский</vt:lpwstr>
  </property>
  <property fmtid="{D5CDD505-2E9C-101B-9397-08002B2CF9AE}" pid="5" name="класс">
    <vt:lpwstr>7</vt:lpwstr>
  </property>
  <property fmtid="{D5CDD505-2E9C-101B-9397-08002B2CF9AE}" pid="6" name="тема">
    <vt:lpwstr>география</vt:lpwstr>
  </property>
</Properties>
</file>