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24.gif" ContentType="image/gif"/>
  <Override PartName="/ppt/media/image4.png" ContentType="image/png"/>
  <Override PartName="/ppt/media/image13.jpeg" ContentType="image/jpe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3A78-A8D4-448C-BC73-E08F9826E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E210-E256-4FF8-ADFB-ED9979A2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FF50-1A30-4427-AFBB-72DC1CD3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2D29-5A19-4552-B084-EC053C193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1F11-0217-4B5F-803B-B122D147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16A8-50CC-4F0C-8111-1FCB0706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9822-A5BF-4BCD-94F7-9A868013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D0AB-335D-4067-BD92-9764E764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89E6-33C6-4985-877C-5F13449D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1496-9BB8-4529-8A1C-B72D8DC1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C9FF-1BC3-4A0A-9922-B079F99E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D5A1-439B-4CE8-B53D-4BECA8EA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6697-8788-4EAD-933B-4EA52286B7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33560" y="634680"/>
            <a:ext cx="7346880" cy="896760"/>
          </a:xfrm>
          <a:prstGeom prst="rect">
            <a:avLst/>
          </a:prstGeom>
          <a:solidFill>
            <a:srgbClr val="ffc000"/>
          </a:solidFill>
          <a:ln w="2844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 Light"/>
              </a:rPr>
              <a:t>Кто такие пчелы?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52960" y="5974920"/>
            <a:ext cx="3989520" cy="484200"/>
          </a:xfrm>
          <a:prstGeom prst="rect">
            <a:avLst/>
          </a:prstGeom>
          <a:solidFill>
            <a:srgbClr val="ffffff">
              <a:alpha val="74000"/>
            </a:srgbClr>
          </a:solidFill>
          <a:ln w="9360">
            <a:solidFill>
              <a:srgbClr val="ffffff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7" descr="https://4.bp.blogspot.com/-FRVQ7rx1kRQ/WsZQJ37mE-I/AAAAAAAAQVE/P5ZoCzuXpP04vwInk8kw3NHsBB6BN1jLwCLcBGAs/s1600/%25D0%25BF%25D1%2587%25D0%25B5%25D0%25BB%25D0%25BA%25D0%25B8_DoV%2B%25281%2529.jpg"/>
          <p:cNvPicPr/>
          <p:nvPr/>
        </p:nvPicPr>
        <p:blipFill>
          <a:blip r:embed="rId1"/>
          <a:stretch/>
        </p:blipFill>
        <p:spPr>
          <a:xfrm>
            <a:off x="2498760" y="1531800"/>
            <a:ext cx="4727520" cy="3997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ffc0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 Light"/>
              </a:rPr>
              <a:t>Чем питаются пчелы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563c1"/>
                </a:solidFill>
                <a:uFillTx/>
                <a:latin typeface="Calibri"/>
              </a:rPr>
              <a:t>Насекомые питаютс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нектаром и пыльцой растений. Так пчелы запасаются необходимой энергией и питательными веществ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4" descr=""/>
          <p:cNvPicPr/>
          <p:nvPr/>
        </p:nvPicPr>
        <p:blipFill>
          <a:blip r:embed="rId1"/>
          <a:stretch/>
        </p:blipFill>
        <p:spPr>
          <a:xfrm>
            <a:off x="3035160" y="3056040"/>
            <a:ext cx="2557440" cy="2886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Где живут пчелы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48760" y="1269720"/>
            <a:ext cx="386892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рироде пчелы живут там, где им вздумается, на то они и дикие. Чаще всего они обитают в дуплах старых деревьев или в расщелинах зем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28880" y="1252080"/>
            <a:ext cx="388764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ловека, который разводит пчел, называют пчеловодом или пасечником, место, где он разводит пчел – пасекой, а домики, которые он изготавливает специально для пчел, – улья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 "/>
          <p:cNvPicPr/>
          <p:nvPr/>
        </p:nvPicPr>
        <p:blipFill>
          <a:blip r:embed="rId1"/>
          <a:stretch/>
        </p:blipFill>
        <p:spPr>
          <a:xfrm>
            <a:off x="344520" y="585720"/>
            <a:ext cx="3838680" cy="2557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 "/>
          <p:cNvPicPr/>
          <p:nvPr/>
        </p:nvPicPr>
        <p:blipFill>
          <a:blip r:embed="rId2"/>
          <a:stretch/>
        </p:blipFill>
        <p:spPr>
          <a:xfrm>
            <a:off x="344520" y="3890880"/>
            <a:ext cx="4241880" cy="2386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https://site.agrarnik.com/wp-content/uploads/2019/04/paseka-1.jpg"/>
          <p:cNvPicPr/>
          <p:nvPr/>
        </p:nvPicPr>
        <p:blipFill>
          <a:blip r:embed="rId3"/>
          <a:stretch/>
        </p:blipFill>
        <p:spPr>
          <a:xfrm>
            <a:off x="5138640" y="3890880"/>
            <a:ext cx="3586320" cy="2386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https://i.simpalsmedia.com/999.md/BoardImages/900x900/a06cc078ea5145d3fff3f6be20686664.jpg"/>
          <p:cNvPicPr/>
          <p:nvPr/>
        </p:nvPicPr>
        <p:blipFill>
          <a:blip r:embed="rId4"/>
          <a:stretch/>
        </p:blipFill>
        <p:spPr>
          <a:xfrm>
            <a:off x="5118120" y="579600"/>
            <a:ext cx="3606840" cy="2563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127080"/>
            <a:ext cx="788688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Что производят пчелы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5" name="Picture 8" descr="https://aromamasla.com/wp-content/uploads/2020/02/v-mede-soderzhitsya-vse-chto-neobhodimo-dlya-zdorovya.jpg"/>
          <p:cNvPicPr/>
          <p:nvPr/>
        </p:nvPicPr>
        <p:blipFill>
          <a:blip r:embed="rId1"/>
          <a:stretch/>
        </p:blipFill>
        <p:spPr>
          <a:xfrm>
            <a:off x="738360" y="1509840"/>
            <a:ext cx="7667280" cy="4059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ffc0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 Light"/>
              </a:rPr>
              <a:t>Когда стоит бояться пчел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явить агрессию пчелы могут в случаях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пах спиртного, резкого одеколона и даже пота могут спровоцировать атаку пче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пах животных, которых насекомые воспринимают, как врагов. Это собаки, лошадь, козы. Кстати, если пчела выпустила яд, остальные могут начать атаку, почувствовав его арома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охие погодные условия, которые могут вызвать нервное напряжение пчел в улье. Сбор меда в это время не осуществляют, поскольку насекомые сразу же атакую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4" descr=""/>
          <p:cNvPicPr/>
          <p:nvPr/>
        </p:nvPicPr>
        <p:blipFill>
          <a:blip r:embed="rId1"/>
          <a:stretch/>
        </p:blipFill>
        <p:spPr>
          <a:xfrm>
            <a:off x="7010280" y="5562720"/>
            <a:ext cx="194328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Спасибо за просмотр!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0" name="Picture 2" descr="http://forumsmile.ru/u/4/8/9/4893f7308163aa140da93c2c667e5e83.gif"/>
          <p:cNvPicPr/>
          <p:nvPr/>
        </p:nvPicPr>
        <p:blipFill>
          <a:blip r:embed="rId1"/>
          <a:stretch/>
        </p:blipFill>
        <p:spPr>
          <a:xfrm>
            <a:off x="3022560" y="1511280"/>
            <a:ext cx="3357720" cy="3357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 Light"/>
              </a:rPr>
              <a:t>Поэты о пчелах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ы, конечно, молодец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челка золота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обираешь сладкий мед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о цветкам лет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о погладить не мог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Я тебя за это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отому что жалишь 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Даже добрых деток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https://4.bp.blogspot.com/-hHgIlfQ6NcI/WsZQKbjKYbI/AAAAAAAAQVI/j8OG9LCCVu876TR9cSIwFwQOW6DaKvDjwCLcBGAs/s1600/%25D0%25BF%25D1%2587%25D0%25B5%25D0%25BB%25D0%25BA%25D0%25B8_DoV%2B%252810%2529.png"/>
          <p:cNvPicPr/>
          <p:nvPr/>
        </p:nvPicPr>
        <p:blipFill>
          <a:blip r:embed="rId1"/>
          <a:stretch/>
        </p:blipFill>
        <p:spPr>
          <a:xfrm>
            <a:off x="4572000" y="1913040"/>
            <a:ext cx="361620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ffc0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 Light"/>
              </a:rPr>
              <a:t>Загадки о пчелах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д на зиму принес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тящая… (пчел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етить хотят все дет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ый сладкий дом на свете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 хозяева жужжат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адкий домик сторожат… (пчел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шка плачет и ревет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сит пчел, чтоб дали… (мед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s://2.bp.blogspot.com/-7LSSBB4ANg8/WsZQKeMerhI/AAAAAAAAQVM/1XnbUujY1Cgf11b77BCQ-OV0ZpdOthPWgCLcBGAs/s1600/%25D0%25BF%25D1%2587%25D0%25B5%25D0%25BB%25D0%25BA%25D0%25B8_DoV%2B%25281%2529.png"/>
          <p:cNvPicPr/>
          <p:nvPr/>
        </p:nvPicPr>
        <p:blipFill>
          <a:blip r:embed="rId1"/>
          <a:stretch/>
        </p:blipFill>
        <p:spPr>
          <a:xfrm>
            <a:off x="5473800" y="1359000"/>
            <a:ext cx="2728800" cy="3130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ffc0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 Light"/>
              </a:rPr>
              <a:t>Пальчиковая гимнастика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 Light"/>
              </a:rPr>
              <a:t>«Трудолюбивая пчелка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челка трудится весь ден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Руками обрисовать перед собой круг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 работать ей не лен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Покачивание указательными пальцами в знак отрицания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т цветка летит к цветку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Ритмичные взмахи рукам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леит на брюшко пыльцу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Круговые движения ладонью по животу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Хоботком нектар сосет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Вытянуть руку вперед, затем вниз, наклониться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 день много собере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«Раскрыть» перед собой все пальцы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несет нектар тот в ул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Изображают полет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 назад вернется пул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Резко выбросит руку с вытянутым указательным пальцем вперед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 сотах утрамбует мед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Топанье ногам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коро ведь зима приде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Поеживание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удет пчелкам чем питатьс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Имитация движения ложкой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адо летом им старатьс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5" descr=""/>
          <p:cNvPicPr/>
          <p:nvPr/>
        </p:nvPicPr>
        <p:blipFill>
          <a:blip r:embed="rId1"/>
          <a:stretch/>
        </p:blipFill>
        <p:spPr>
          <a:xfrm>
            <a:off x="5913360" y="1994040"/>
            <a:ext cx="2416320" cy="2844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ffc0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 Light"/>
              </a:rPr>
              <a:t>Пословицы и поговорк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1160" y="1750680"/>
            <a:ext cx="7886520" cy="4545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ленькая пчела человеку большому делу учи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удолюбивая, как пче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шими устами да мед пи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брого человека и пчела не жали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https://4.bp.blogspot.com/-aU1CQMvMop4/WsZQM1f69dI/AAAAAAAAQVs/IfYiA3tt_uYChDglvLyP0GtWE09FpX4PgCLcBGAs/s1600/%25D0%25BF%25D1%2587%25D0%25B5%25D0%25BB%25D0%25BA%25D0%25B8_DoV%2B%25285%2529.png"/>
          <p:cNvPicPr/>
          <p:nvPr/>
        </p:nvPicPr>
        <p:blipFill>
          <a:blip r:embed="rId1"/>
          <a:stretch/>
        </p:blipFill>
        <p:spPr>
          <a:xfrm>
            <a:off x="5622840" y="2755800"/>
            <a:ext cx="3363840" cy="360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ffc0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 Light"/>
              </a:rPr>
              <a:t>А как выглядит пчела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8560" y="1787040"/>
            <a:ext cx="7886880" cy="435132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льце пчелы имеет очень красивый полосатый желто-черный окрас. У насекомого есть крылья и удлиненный хоботок – «носик». Им оно высасывает нектар с растений и превращает его в ме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4" descr=""/>
          <p:cNvPicPr/>
          <p:nvPr/>
        </p:nvPicPr>
        <p:blipFill>
          <a:blip r:embed="rId1"/>
          <a:stretch/>
        </p:blipFill>
        <p:spPr>
          <a:xfrm>
            <a:off x="2944800" y="3389400"/>
            <a:ext cx="2608200" cy="2609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0000" y="-127440"/>
            <a:ext cx="7886520" cy="18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 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Это интересно!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0000" y="1269720"/>
            <a:ext cx="7886520" cy="12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У каждой пчелы есть 5 глаз, 3 из них расположены на лбу (помогают различать свет и темноту), еще 2 находятся по бокам головы (нужны для кругового обзор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4" descr=""/>
          <p:cNvPicPr/>
          <p:nvPr/>
        </p:nvPicPr>
        <p:blipFill>
          <a:blip r:embed="rId1"/>
          <a:stretch/>
        </p:blipFill>
        <p:spPr>
          <a:xfrm>
            <a:off x="630360" y="2992320"/>
            <a:ext cx="3736800" cy="2494080"/>
          </a:xfrm>
          <a:prstGeom prst="rect">
            <a:avLst/>
          </a:prstGeom>
          <a:ln w="0">
            <a:noFill/>
          </a:ln>
        </p:spPr>
      </p:pic>
      <p:pic>
        <p:nvPicPr>
          <p:cNvPr id="62" name="Объект 8" descr=""/>
          <p:cNvPicPr/>
          <p:nvPr/>
        </p:nvPicPr>
        <p:blipFill>
          <a:blip r:embed="rId2"/>
          <a:stretch/>
        </p:blipFill>
        <p:spPr>
          <a:xfrm>
            <a:off x="4876920" y="2757600"/>
            <a:ext cx="3411360" cy="2728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30360" y="457200"/>
            <a:ext cx="378936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Процесс развит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4" name="Рисунок 9" descr=""/>
          <p:cNvPicPr/>
          <p:nvPr/>
        </p:nvPicPr>
        <p:blipFill>
          <a:blip r:embed="rId1"/>
          <a:srcRect l="14379" t="0" r="14379" b="0"/>
          <a:stretch/>
        </p:blipFill>
        <p:spPr>
          <a:xfrm>
            <a:off x="4419720" y="812880"/>
            <a:ext cx="2077920" cy="21891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1698120"/>
            <a:ext cx="3735360" cy="41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 вылупления пчела еще не готова к сбору меда. Первое время у молодых особей уходит на знакомство с внутренним устроем улья. Они убирают улья или же прикармливают личин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 этого пчелу могут отправить в первый полет, где она будет учиться собирать нектар и искать дорогу обратно в доми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10" descr=""/>
          <p:cNvPicPr/>
          <p:nvPr/>
        </p:nvPicPr>
        <p:blipFill>
          <a:blip r:embed="rId2"/>
          <a:stretch/>
        </p:blipFill>
        <p:spPr>
          <a:xfrm>
            <a:off x="5479920" y="3097080"/>
            <a:ext cx="2965680" cy="1968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Как живут пчелы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85680" y="1066680"/>
            <a:ext cx="815832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челы живут большими и дружными семьями. У каждого из членов семьи есть свои обяза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9" descr=""/>
          <p:cNvPicPr/>
          <p:nvPr/>
        </p:nvPicPr>
        <p:blipFill>
          <a:blip r:embed="rId1"/>
          <a:stretch/>
        </p:blipFill>
        <p:spPr>
          <a:xfrm>
            <a:off x="3817800" y="2108160"/>
            <a:ext cx="1247760" cy="23256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0" descr=""/>
          <p:cNvPicPr/>
          <p:nvPr/>
        </p:nvPicPr>
        <p:blipFill>
          <a:blip r:embed="rId2"/>
          <a:stretch/>
        </p:blipFill>
        <p:spPr>
          <a:xfrm>
            <a:off x="6121440" y="1974960"/>
            <a:ext cx="2006640" cy="20066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1" descr=""/>
          <p:cNvPicPr/>
          <p:nvPr/>
        </p:nvPicPr>
        <p:blipFill>
          <a:blip r:embed="rId3"/>
          <a:stretch/>
        </p:blipFill>
        <p:spPr>
          <a:xfrm>
            <a:off x="985680" y="1922400"/>
            <a:ext cx="1776600" cy="21114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2" descr=""/>
          <p:cNvPicPr/>
          <p:nvPr/>
        </p:nvPicPr>
        <p:blipFill>
          <a:blip r:embed="rId4"/>
          <a:stretch/>
        </p:blipFill>
        <p:spPr>
          <a:xfrm>
            <a:off x="866880" y="4433760"/>
            <a:ext cx="1941480" cy="19414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3" descr=""/>
          <p:cNvPicPr/>
          <p:nvPr/>
        </p:nvPicPr>
        <p:blipFill>
          <a:blip r:embed="rId5"/>
          <a:stretch/>
        </p:blipFill>
        <p:spPr>
          <a:xfrm>
            <a:off x="4648320" y="4737240"/>
            <a:ext cx="3251160" cy="1625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20:52:53Z</dcterms:created>
  <dc:creator>Инна</dc:creator>
  <dc:description/>
  <dc:language>en-US</dc:language>
  <cp:lastModifiedBy>Математики</cp:lastModifiedBy>
  <dcterms:modified xsi:type="dcterms:W3CDTF">2025-10-21T07:20:16Z</dcterms:modified>
  <cp:revision>22</cp:revision>
  <dc:subject/>
  <dc:title>Название презентации</dc:title>
</cp:coreProperties>
</file>