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37/377/37377743_1218023448angsosna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club-edu.tambov.ru/vjpusk/vjp143/rabot/19/images/listvennica-1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megasklad.ru/data/photoes/s442033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ekaterinburg-tesis.ru/excurs/img/gs10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festival.1september.ru/files/articles/50/5090/509080/img2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az.lib.ru/m/maminsibirjak_d/.photo1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kburg.ru/UserFiles/Storage/ContentPhoto/0/0/11/1131_original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1.endata.cx/data/games/16771/school02-22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lposters.com/images/BRGPOD/144529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neftegaz.ru/images/news/ekaterina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enoth.narod.ru/enc/1/3.files/image006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71/Georg_Wilhelm_de_Gennin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g-fotki.yandex.ru/get/0/kif66.1/0_76_3d20cec3_XL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oth.narod.ru/enc/1/3.files/image006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kreml/0008_NARYSHKINA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shkolazhizni.ru/img/content/i77/77008_or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41.radikal.ru/i091/0904/5f/efec1fe26332t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41.radikal.ru/i091/0904/5f/efec1fe26332t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51.radikal.ru/i131/0906/b7/5cb53df06428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mp.ustu.ru/Users/Nazina/Serg/e-burg08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345440" cy="2394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Impact"/>
              </a:rPr>
              <a:t>Колесо истории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-108360" y="3141720"/>
            <a:ext cx="7775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1" lang="uk-UA" sz="2400" spc="-1" strike="noStrike">
                <a:solidFill>
                  <a:srgbClr val="ffffff"/>
                </a:solidFill>
                <a:latin typeface="Impact"/>
              </a:rPr>
              <a:t>Кто не знает прошлого не узнает и будущего!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1" lang="uk-UA" sz="2400" spc="-1" strike="noStrike">
                <a:solidFill>
                  <a:srgbClr val="4d4d4d"/>
                </a:solidFill>
                <a:latin typeface="Arial"/>
              </a:rPr>
              <a:t>Составила учитель МБОУ СОШ № 179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d4d4d"/>
                </a:solidFill>
                <a:latin typeface="Impact"/>
              </a:rPr>
              <a:t>   </a:t>
            </a:r>
            <a:r>
              <a:rPr b="1" lang="uk-UA" sz="2400" spc="-1" strike="noStrike">
                <a:solidFill>
                  <a:srgbClr val="4d4d4d"/>
                </a:solidFill>
                <a:latin typeface="Arial"/>
              </a:rPr>
              <a:t>О.И.Виноградов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60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Из каких деревьев делали 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плотину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4d4d4d"/>
                </a:solidFill>
                <a:latin typeface="Impact"/>
              </a:rPr>
              <a:t>Сосна</a:t>
            </a:r>
            <a:r>
              <a:rPr b="0" lang="ru-RU" sz="32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4d4d4d"/>
                </a:solidFill>
                <a:latin typeface="Impact"/>
              </a:rPr>
              <a:t>    Лиственница</a:t>
            </a:r>
            <a:r>
              <a:rPr b="0" lang="ru-RU" sz="32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4d4d4d"/>
                </a:solidFill>
                <a:latin typeface="Impact"/>
              </a:rPr>
              <a:t>       Кедр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2" name="Picture 5" descr="Картинка 3 из 3866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102200"/>
            <a:ext cx="3132000" cy="233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Картинка 6 из 3507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3213000"/>
            <a:ext cx="1992240" cy="3378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Картинка 18 из 529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3068640"/>
            <a:ext cx="27594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34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7280" y="1484280"/>
            <a:ext cx="78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У кого из этих писателей не уральские </a:t>
            </a: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корни 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П.П.Бажов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  И.А.Крылов            Д.Н.Мамин-Сибиряк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5" descr="Картинка 2 из 89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068640"/>
            <a:ext cx="1968480" cy="3594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Картинка 11 из 13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3213000"/>
            <a:ext cx="2309760" cy="3164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Картинка 1 из 492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81640" y="3068640"/>
            <a:ext cx="2606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98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07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                        </a:t>
            </a: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Дом-музей П.П.Бажова</a:t>
            </a:r>
            <a:br>
              <a:rPr sz="3600"/>
            </a:b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Сысерть</a:t>
            </a: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     Екатеринбург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4d4d4d"/>
                </a:solidFill>
                <a:latin typeface="Impact"/>
              </a:rPr>
              <a:t>Серебряное копытц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Impact"/>
              </a:rPr>
              <a:t>Малахитовая шкатулка</a:t>
            </a:r>
            <a:r>
              <a:rPr b="0" lang="ru-RU" sz="2000" spc="-1" strike="noStrike">
                <a:solidFill>
                  <a:srgbClr val="4d4d4d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2" name="Picture 5" descr="Картинка 4 из 4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844640"/>
            <a:ext cx="3624120" cy="2421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Картинка 9 из 407"/>
          <p:cNvPicPr/>
          <p:nvPr/>
        </p:nvPicPr>
        <p:blipFill>
          <a:blip r:embed="rId3"/>
          <a:stretch/>
        </p:blipFill>
        <p:spPr>
          <a:xfrm>
            <a:off x="395280" y="1844640"/>
            <a:ext cx="3600360" cy="238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Картинка 2 из 1486"/>
          <p:cNvPicPr/>
          <p:nvPr/>
        </p:nvPicPr>
        <p:blipFill>
          <a:blip r:embed="rId4"/>
          <a:stretch/>
        </p:blipFill>
        <p:spPr>
          <a:xfrm>
            <a:off x="395280" y="4508640"/>
            <a:ext cx="2521080" cy="1892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Картинка 33 из 3093"/>
          <p:cNvPicPr/>
          <p:nvPr/>
        </p:nvPicPr>
        <p:blipFill>
          <a:blip r:embed="rId5"/>
          <a:stretch/>
        </p:blipFill>
        <p:spPr>
          <a:xfrm>
            <a:off x="6443640" y="4437000"/>
            <a:ext cx="23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7201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Дом-музей Д.Н.Мамина-Сибиряк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Серая шейк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                                    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Заяц – длинные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         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уши, короткий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    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хвос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132360" cy="208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238560" cy="20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843200" cy="275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4"/>
          <a:stretch/>
        </p:blipFill>
        <p:spPr>
          <a:xfrm>
            <a:off x="5724360" y="4149720"/>
            <a:ext cx="25927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1197000"/>
            <a:ext cx="856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Какого из этих животных  </a:t>
            </a:r>
            <a:br>
              <a:rPr sz="3200"/>
            </a:b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    нет  на гербе Екатеринбурга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424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выхухоль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соболь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медвед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33577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771640" y="3932280"/>
            <a:ext cx="33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5940360" y="3033720"/>
            <a:ext cx="360036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38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1998 год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8" name="Picture 4" descr="Картинка 1 из 1157"/>
          <p:cNvPicPr/>
          <p:nvPr/>
        </p:nvPicPr>
        <p:blipFill>
          <a:blip r:embed="rId1"/>
          <a:stretch/>
        </p:blipFill>
        <p:spPr>
          <a:xfrm>
            <a:off x="2627280" y="2637000"/>
            <a:ext cx="428472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6920" y="148428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    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Екатеринбург, мой город!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640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Фонтан «Каменный цветок»                  Храм на Кров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1" name="Picture 5" descr="Картинка 17 из 1063855"/>
          <p:cNvPicPr/>
          <p:nvPr/>
        </p:nvPicPr>
        <p:blipFill>
          <a:blip r:embed="rId1"/>
          <a:stretch/>
        </p:blipFill>
        <p:spPr>
          <a:xfrm>
            <a:off x="468360" y="3429000"/>
            <a:ext cx="4479840" cy="2446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Картинка 27 из 1063855"/>
          <p:cNvPicPr/>
          <p:nvPr/>
        </p:nvPicPr>
        <p:blipFill>
          <a:blip r:embed="rId2"/>
          <a:stretch/>
        </p:blipFill>
        <p:spPr>
          <a:xfrm>
            <a:off x="5796000" y="3068640"/>
            <a:ext cx="2446200" cy="3665520"/>
          </a:xfrm>
          <a:prstGeom prst="rect">
            <a:avLst/>
          </a:prstGeom>
          <a:ln w="0">
            <a:noFill/>
          </a:ln>
        </p:spPr>
      </p:pic>
      <p:pic>
        <p:nvPicPr>
          <p:cNvPr id="143" name="Советские песни - Свердловский Вальс.mp3" descr=""/>
          <p:cNvPicPr/>
          <p:nvPr/>
        </p:nvPicPr>
        <p:blipFill>
          <a:blip r:embed="rId3"/>
          <a:stretch/>
        </p:blipFill>
        <p:spPr>
          <a:xfrm>
            <a:off x="684360" y="616572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5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91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31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9757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Что было, то видели, что будет, 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      увидим.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6407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4d4d4d"/>
                </a:solidFill>
                <a:latin typeface="Impact"/>
              </a:rPr>
              <a:t>      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Прошедшего не возвратить,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   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а думай ,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         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как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            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наперёд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      </a:t>
            </a:r>
            <a:r>
              <a:rPr b="0" lang="ru-RU" sz="4400" spc="-1" strike="noStrike">
                <a:solidFill>
                  <a:srgbClr val="4d4d4d"/>
                </a:solidFill>
                <a:latin typeface="Impact"/>
              </a:rPr>
              <a:t>жить!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5" descr="Картинка 147 из 294003"/>
          <p:cNvPicPr/>
          <p:nvPr/>
        </p:nvPicPr>
        <p:blipFill>
          <a:blip r:embed="rId1"/>
          <a:stretch/>
        </p:blipFill>
        <p:spPr>
          <a:xfrm>
            <a:off x="250920" y="3429000"/>
            <a:ext cx="27176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Картинка 53 из 5916524"/>
          <p:cNvPicPr/>
          <p:nvPr/>
        </p:nvPicPr>
        <p:blipFill>
          <a:blip r:embed="rId2"/>
          <a:stretch/>
        </p:blipFill>
        <p:spPr>
          <a:xfrm>
            <a:off x="6300720" y="3357720"/>
            <a:ext cx="1941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1268280"/>
            <a:ext cx="705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0" lang="ru-RU" sz="4400" spc="-1" strike="noStrike">
                <a:solidFill>
                  <a:srgbClr val="003399"/>
                </a:solidFill>
                <a:latin typeface="Impact"/>
              </a:rPr>
              <a:t>Правила игр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2491920"/>
            <a:ext cx="8712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Каждой команде присваивается цвет: красный, жёлтый, зелёный.  Выберете капитана, у него будет указка. Капитан решает: кто будет давать ответ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Я задаю вопросы и даю 3 вариант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ответа, выберете правильный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За каждый правильный ответ  в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проезжаете 1 версту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Кто проедет дальше всех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5" descr="Картинка 65 из 59165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757680"/>
            <a:ext cx="30592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42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862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26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114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                </a:t>
            </a: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А что же такое верста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    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Единица измерения расстояния на Рус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                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А бывает ли так:      1         =  10           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Impact"/>
              </a:rPr>
              <a:t>       </a:t>
            </a:r>
            <a:r>
              <a:rPr b="0" lang="ru-RU" sz="4800" spc="-1" strike="noStrike">
                <a:solidFill>
                  <a:srgbClr val="003399"/>
                </a:solidFill>
                <a:latin typeface="Impact"/>
              </a:rPr>
              <a:t>1 верста – 1 066,8 м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640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4" descr="верста"/>
          <p:cNvPicPr/>
          <p:nvPr/>
        </p:nvPicPr>
        <p:blipFill>
          <a:blip r:embed="rId1"/>
          <a:stretch/>
        </p:blipFill>
        <p:spPr>
          <a:xfrm>
            <a:off x="250920" y="2479680"/>
            <a:ext cx="84978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10920" y="1052280"/>
            <a:ext cx="626436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Impact"/>
              </a:rPr>
              <a:t>Кто считается основателем </a:t>
            </a:r>
            <a:r>
              <a:rPr b="1" lang="ru-RU" sz="36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1" lang="ru-RU" sz="3600" spc="-1" strike="noStrike">
                <a:solidFill>
                  <a:srgbClr val="003399"/>
                </a:solidFill>
                <a:latin typeface="Impact"/>
              </a:rPr>
              <a:t>	</a:t>
            </a:r>
            <a:r>
              <a:rPr b="1" lang="ru-RU" sz="3600" spc="-1" strike="noStrike">
                <a:solidFill>
                  <a:srgbClr val="003399"/>
                </a:solidFill>
                <a:latin typeface="Impact"/>
              </a:rPr>
              <a:t>города?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2997000"/>
            <a:ext cx="8640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4d4d4d"/>
                </a:solidFill>
                <a:latin typeface="Impact"/>
              </a:rPr>
              <a:t>Пётр 1</a:t>
            </a:r>
            <a:r>
              <a:rPr b="0" lang="uk-UA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uk-UA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uk-UA" sz="2800" spc="-1" strike="noStrike">
                <a:solidFill>
                  <a:srgbClr val="4d4d4d"/>
                </a:solidFill>
                <a:latin typeface="Impact"/>
              </a:rPr>
              <a:t>Царица Екатерина    </a:t>
            </a:r>
            <a:r>
              <a:rPr b="0" lang="en-US" sz="2800" spc="-1" strike="noStrike">
                <a:solidFill>
                  <a:srgbClr val="4d4d4d"/>
                </a:solidFill>
                <a:latin typeface="Impact"/>
              </a:rPr>
              <a:t>         </a:t>
            </a:r>
            <a:r>
              <a:rPr b="0" lang="uk-UA" sz="2800" spc="-1" strike="noStrike">
                <a:solidFill>
                  <a:srgbClr val="4d4d4d"/>
                </a:solidFill>
                <a:latin typeface="Impact"/>
              </a:rPr>
              <a:t>В.Н.Татищев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0" name="Picture 5" descr="Картинка 11 из 98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3573360"/>
            <a:ext cx="2324160" cy="309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Картинка 3 из 62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4720" y="3716280"/>
            <a:ext cx="2352600" cy="28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Картинка 6 из 1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47040" y="3573360"/>
            <a:ext cx="21542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8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7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18 ноября 1723 год – открытие завода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8964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Основатели города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В.Н.Татищев           Г. В. де Генин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Picture 5" descr="Картинка 4 из 3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573360"/>
            <a:ext cx="2360880" cy="273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Картинка 1 из 3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141720"/>
            <a:ext cx="2592360" cy="3457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Картинка 6 из 1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5280" y="3500280"/>
            <a:ext cx="2049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1699920"/>
            <a:ext cx="76341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В честь кого так назвали город 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640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Мать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Сестра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       Жен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0" name="Picture 7" descr="Картинка 2 из 34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2273040" cy="340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Картинка 12 из 30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3860640"/>
            <a:ext cx="3600360" cy="279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Картинка 5 из 1126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16720" y="3573360"/>
            <a:ext cx="231120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8532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Impact"/>
              </a:rPr>
              <a:t>Царица Екатерина Алексеевна – жена</a:t>
            </a:r>
            <a:r>
              <a:rPr b="0" lang="ru-RU" sz="3200" spc="-1" strike="noStrike">
                <a:solidFill>
                  <a:srgbClr val="003399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640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1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1" lang="ru-RU" sz="2800" spc="-1" strike="noStrike">
                <a:solidFill>
                  <a:srgbClr val="4d4d4d"/>
                </a:solidFill>
                <a:latin typeface="Impact"/>
              </a:rPr>
              <a:t>    </a:t>
            </a:r>
            <a:r>
              <a:rPr b="1" lang="ru-RU" sz="2800" spc="-1" strike="noStrike">
                <a:solidFill>
                  <a:srgbClr val="4d4d4d"/>
                </a:solidFill>
                <a:latin typeface="Impact"/>
              </a:rPr>
              <a:t>Екатерина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(настоящее имя Марта), дочь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литовского крестьянина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Самуила Скавронского </a:t>
            </a: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Impact"/>
              </a:rPr>
              <a:t>была второй женой Петра Первого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" name="Picture 4" descr="Картинка 5 из 112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349360"/>
            <a:ext cx="3210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73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53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7058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Impact"/>
              </a:rPr>
              <a:t>Какое Сооружение построенное в то время сохранилось до наших дней?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4d4d4d"/>
                </a:solidFill>
                <a:latin typeface="Impact"/>
              </a:rPr>
              <a:t>Пл     тина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33ccff"/>
                </a:solidFill>
                <a:latin typeface="Impact"/>
              </a:rPr>
              <a:t>О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5" descr="Картинка 11 из 12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645000"/>
            <a:ext cx="4176720" cy="2977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Картинка 21 из 12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3716280"/>
            <a:ext cx="4336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0023 L 0.00382 -0.06894 E">
                                      <p:cBhvr>
                                        <p:cTn id="29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8:35:01Z</dcterms:created>
  <dc:creator>Lakky</dc:creator>
  <dc:description/>
  <dc:language>en-US</dc:language>
  <cp:lastModifiedBy>User</cp:lastModifiedBy>
  <dcterms:modified xsi:type="dcterms:W3CDTF">2025-11-03T17:36:32Z</dcterms:modified>
  <cp:revision>18</cp:revision>
  <dc:subject/>
  <dc:title>Колесо истории</dc:title>
</cp:coreProperties>
</file>