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CBC-EA3D-4CF7-9F20-197A603A2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B2F-9D53-43BF-A8C7-DAF811F46D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9F9-1056-4304-AF8F-0E17BBB7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3FA-A208-430D-AC0D-EA61FD0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145-7003-4217-A73C-7BB4911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F8D-6BF7-4D67-9C90-C35BC28B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20E6-44CF-42CE-B329-5E92A225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C949-F098-46D0-85C1-00F7021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DC47-FA0A-4DC2-B337-4C8A0F93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B060-4987-4B21-8B80-FF86F89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980E-5B2A-4CC4-AEC9-C543597B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DDA4-6690-4553-BF39-C4C88DE1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119-A4F2-4026-8AB5-D00ABE5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625-C794-429D-AAF7-B2A50018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EA1-64A8-46CA-A843-9FF1018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C8C1-2045-4969-8932-D83AAD5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5148-150C-4CB9-991F-8ECD3102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7165-880F-4B99-946F-29B4CE4C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6970-9EF8-43DD-B1EA-FD89CE1B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A147-F5F5-484F-9F0C-FD492DF8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D777-4ECB-4C5F-9AC6-B2A996D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7905-8FF3-4CF2-A7C8-824128FE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3A07-83E1-4628-84A6-1CEB66C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89895-1FFB-4AB3-94FE-E5A10384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214-62A7-4A70-83ED-316B9205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3A70-3BA6-40EE-8C1E-B422403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8505-1C4B-4C91-BFBD-457C0D7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01E2-1F33-4B48-B3C2-F10689F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904F-D46E-4D07-8B6F-C281774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8BD1-55B1-41C8-B4FC-5DC48E7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D509-EC67-4216-B47C-0BF37A5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2222-777C-4402-8370-2F998162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876D-64A6-4798-8A28-B96940C8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E6CE-9989-418F-90B7-F55C4F87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6B17-6AD5-4294-9DA3-D2ADB6A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680-2F03-48DD-B15E-5FD8142F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54236-CDE7-4F79-841B-922AC43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686E-DF04-43A7-A872-D74863FC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9B8E-9425-4723-84E8-1CD3F04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075F-0D21-40BD-BB99-70F60E1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E05A-5C13-484A-9107-318B6E4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ED0B-8C17-450B-A6FC-ED7CDDB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D5ED-6849-4AD5-B83F-F19E081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AB8B-B2FF-4E0E-B9D6-EA731C4A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7DAF-2142-4093-8674-38563CBF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ECD4-DE72-4512-B950-6531F29E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5BC-606E-4F8C-AA37-8EA55EA0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8150-E026-4E42-8696-9C1B596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424B-6FB0-4ED5-BEDA-BBED3712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70B8-FFD3-4D12-9E4C-83BD873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3FF4-41F7-4A0E-82E0-3B4FB41C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AB97-6262-47D0-B94D-D080D29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C69F-5417-4494-BFDD-7408C39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748E-F838-4098-A97F-9B19E9D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14B3-F1D3-4BF6-86FB-EB2044A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41A2-9D58-4207-99B0-269FF497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00D7-09DD-4450-B2AA-51D56296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B90-7547-416F-814C-01E0CDB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FA55-2542-4A10-9F28-FC4ED191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12A-789D-4C5F-9312-7D37505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3A9-6693-46BF-B75A-00CF000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0FD-AB28-462E-806F-977F205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228-685A-4271-AB06-14EF49C07A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E017-F1CE-48C5-BB75-87D9DBC8143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9C69-8A7B-4FC8-8255-37C6D32F1DE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F967-77DA-4F66-8C52-876BBA524A2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474-5258-4B47-A7BD-D849108E68E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82560" y="1487520"/>
            <a:ext cx="8212320" cy="2157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"/>
          <p:cNvSpPr/>
          <p:nvPr/>
        </p:nvSpPr>
        <p:spPr>
          <a:xfrm>
            <a:off x="4437000" y="5013360"/>
            <a:ext cx="4572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оталала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ильцова Елена Владимировна.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БУ Школа №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о.Тольятти, Самар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1152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755280" y="3716280"/>
            <a:ext cx="7743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C:\Users\123\Desktop\телефон\20141210_124313.jpg"/>
          <p:cNvPicPr/>
          <p:nvPr/>
        </p:nvPicPr>
        <p:blipFill>
          <a:blip r:embed="rId3"/>
          <a:stretch/>
        </p:blipFill>
        <p:spPr>
          <a:xfrm>
            <a:off x="4497480" y="3500280"/>
            <a:ext cx="3641760" cy="31100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6"/>
          <p:cNvSpPr/>
          <p:nvPr/>
        </p:nvSpPr>
        <p:spPr>
          <a:xfrm>
            <a:off x="158760" y="1411200"/>
            <a:ext cx="7743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b13f9a"/>
                </a:solidFill>
                <a:latin typeface="Trebuchet MS"/>
              </a:rPr>
              <a:t>В процессе выполнения подобных упражнений у детей хорошо развивается мозжечок, который играет важную роль в развитии координации, а так же тренируются мышцы, зрительные органы, укрепляется вестибулярный аппара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7235640" cy="1176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23640" y="1280880"/>
            <a:ext cx="7848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Формируются жизненно важные двигательные навы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Формируются нравственные качеств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Развиваются скоростно-силовые качества(быстрота, ловкость, выносливость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Развиваются интеллектуальные качества(наблюдательность, память, сообразительность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Укрепляется здоровье, улучшается кровообращение и обмен веществ в организме, деятельность сердца и лёгки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Воспитываются морально волевые качества. Дети учатся самообладанию, умению действовать в коллективе, контролировать свои поступки, подчиняться общим требования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Записанный звук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396720" y="262080"/>
            <a:ext cx="7242480" cy="46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1960" y="1125360"/>
            <a:ext cx="79930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3d68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Направлена на восстановление, замещение и компенсацию нарушенных функций, совершенствование мышечно–суставного чувства, развитие самостоятельного и качественного выполнения двигательных действий, максимальное возможное уменьшение степени ограничений жизнедеятельности, подготовка к социальной интеграции учеников начального и среднего звен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3d68"/>
                </a:solidFill>
                <a:latin typeface="Trebuchet MS"/>
              </a:rPr>
              <a:t>Задачи : </a:t>
            </a: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1.Достижение соответствующего возрасту уровня физической подготовленности, развитие физических качеств, координация движений.                                     2.Применение специальных средств и методов, способствующих повышению функциональных возможностей.                                                               3.Определение ясной целевой направленности педагогических задач, которые определяют содержание урока, выбор средств и методов обучения и воспитания, способов организации обучающихся специальной медицинской групп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646200" y="476280"/>
            <a:ext cx="7242120" cy="571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94920" y="1557000"/>
            <a:ext cx="77439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Индивидуальный подход к каждому обучающемус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Мотивирование ребёнка к учебному процесс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редотвращение наступления утомления(чередование умственной и практической деятельности, преподнесение материала небольшими дозами, использование наглядного материала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роявление педагогического такт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ощрение за успехи, своевременная и тактическая помощь каждому ребёнку, развитие в нём веры в собственные силы и возможност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Единство совместной деятельност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мощь в приспособлении к окружающим условия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901800" y="476280"/>
            <a:ext cx="7235640" cy="571320"/>
          </a:xfrm>
          <a:prstGeom prst="rect">
            <a:avLst/>
          </a:prstGeom>
          <a:ln w="0">
            <a:noFill/>
          </a:ln>
        </p:spPr>
      </p:pic>
      <p:pic>
        <p:nvPicPr>
          <p:cNvPr id="234" name="Объект 1" descr=""/>
          <p:cNvPicPr/>
          <p:nvPr/>
        </p:nvPicPr>
        <p:blipFill>
          <a:blip r:embed="rId2"/>
          <a:stretch/>
        </p:blipFill>
        <p:spPr>
          <a:xfrm>
            <a:off x="1023840" y="1536840"/>
            <a:ext cx="7759800" cy="25225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398520" y="4610160"/>
            <a:ext cx="7461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Выбираются в зависимости от поставленных задач, возрастных особенностей детей, их подготовленности, сложности и характера упражнения, этапа обуч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858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94920" y="1341000"/>
            <a:ext cx="77439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этапное разъяснение зада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следовательное выполнение зада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Систематичность в выполнении зада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степенность увеличения темпа и сложност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вторение учащимся инструкции к выполнению зада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Обеспечение визуальными техническими средствами обуче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Близость к учащимся во время объяснения и выполнения задани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редоставление дополнительного времени для завершения зада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Разрешение переделать задание, с которым ученик не справилс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Индивидуальное оценивание учащихся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858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94920" y="1268280"/>
            <a:ext cx="7743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Теоретические сведения(применение карточек с изображением пошагового выполнения заданий)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Креативная гимнастик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ОРУ с гимнастической палкой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Упражнения на растягивание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Танцевальные шаг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Ритмотерапия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рыжк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Акробатические упражнения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Упражнения на координацию, равновесие, осанку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Подвижные игры(игры со счётом и выстраиванием слов)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b83d68"/>
                </a:solidFill>
                <a:latin typeface="Trebuchet MS"/>
              </a:rPr>
              <a:t>Внеурочные занят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858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39640" y="1253880"/>
            <a:ext cx="78422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2"/>
          <a:stretch/>
        </p:blipFill>
        <p:spPr>
          <a:xfrm>
            <a:off x="539640" y="1103400"/>
            <a:ext cx="3527640" cy="23367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" descr=""/>
          <p:cNvPicPr/>
          <p:nvPr/>
        </p:nvPicPr>
        <p:blipFill>
          <a:blip r:embed="rId3"/>
          <a:srcRect l="3535" t="9050" r="8263" b="12204"/>
          <a:stretch/>
        </p:blipFill>
        <p:spPr>
          <a:xfrm>
            <a:off x="4538520" y="1103400"/>
            <a:ext cx="367200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4"/>
          <a:srcRect l="3801" t="1701" r="5199" b="4846"/>
          <a:stretch/>
        </p:blipFill>
        <p:spPr>
          <a:xfrm>
            <a:off x="542880" y="3573360"/>
            <a:ext cx="3583080" cy="30067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"/>
          <p:cNvPicPr/>
          <p:nvPr/>
        </p:nvPicPr>
        <p:blipFill>
          <a:blip r:embed="rId5"/>
          <a:srcRect l="15267" t="1702" r="0" b="17454"/>
          <a:stretch/>
        </p:blipFill>
        <p:spPr>
          <a:xfrm>
            <a:off x="4675320" y="3591000"/>
            <a:ext cx="315756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1152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755280" y="3716280"/>
            <a:ext cx="7743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108000" y="1449360"/>
            <a:ext cx="8031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b13f9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b13f9a"/>
                </a:solidFill>
                <a:latin typeface="Trebuchet MS"/>
              </a:rPr>
              <a:t>Предусматривает целенаправленную работу педагога по применению нестандартных упражнений, специальных заданий, творческих игр, направленных на развитие выдумки, творческой инициатив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2"/>
          <a:stretch/>
        </p:blipFill>
        <p:spPr>
          <a:xfrm>
            <a:off x="169920" y="2852640"/>
            <a:ext cx="4464000" cy="37450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4" descr=""/>
          <p:cNvPicPr/>
          <p:nvPr/>
        </p:nvPicPr>
        <p:blipFill>
          <a:blip r:embed="rId3"/>
          <a:stretch/>
        </p:blipFill>
        <p:spPr>
          <a:xfrm>
            <a:off x="4849920" y="2852640"/>
            <a:ext cx="32893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901800" y="189000"/>
            <a:ext cx="723564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55280" y="3716280"/>
            <a:ext cx="7743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468360" y="1452600"/>
            <a:ext cx="767088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Я читаю детям отрывок из русской </a:t>
            </a:r>
            <a:r>
              <a:rPr b="0" lang="en-US" sz="1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народной сказки «Снегурочка».  После этого предлагаю и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«превратиться» в снегурочек. Они стоят, не двигаясь, с закрытыми глазами, прислушива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к ощущениям в теле. Затем, по моему сигналу, дети начинают</a:t>
            </a:r>
            <a:r>
              <a:rPr b="0" lang="en-US" sz="1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чуть-чуть моргать ресничкам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открывают глаза, водят ими вправо-влево. Затем делают глубокий вдох носом, наблюдают з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тем, как воздух входит в ноздри, как они дышат. Затем «снегурочки»</a:t>
            </a:r>
            <a:r>
              <a:rPr b="0" lang="en-US" sz="1400" spc="-1" strike="noStrike">
                <a:solidFill>
                  <a:srgbClr val="b13f9a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улыбаю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13f9a"/>
                </a:solidFill>
                <a:latin typeface="Trebuchet MS"/>
              </a:rPr>
              <a:t>медленно поворачивают головы, разводят в стороны руки, делают шаг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Урок физкультуры - Мои фотографии - Фотоальбомы - МОУ Буранная НОШ"/>
          <p:cNvPicPr/>
          <p:nvPr/>
        </p:nvPicPr>
        <p:blipFill>
          <a:blip r:embed="rId2"/>
          <a:stretch/>
        </p:blipFill>
        <p:spPr>
          <a:xfrm>
            <a:off x="4067280" y="4019400"/>
            <a:ext cx="3960720" cy="2563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" descr=""/>
          <p:cNvPicPr/>
          <p:nvPr/>
        </p:nvPicPr>
        <p:blipFill>
          <a:blip r:embed="rId3"/>
          <a:stretch/>
        </p:blipFill>
        <p:spPr>
          <a:xfrm>
            <a:off x="108000" y="4019400"/>
            <a:ext cx="3816360" cy="25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17:39Z</dcterms:created>
  <dc:creator>Customer</dc:creator>
  <dc:description/>
  <dc:language>en-US</dc:language>
  <cp:lastModifiedBy>Пользователь</cp:lastModifiedBy>
  <dcterms:modified xsi:type="dcterms:W3CDTF">2025-03-30T16:02:45Z</dcterms:modified>
  <cp:revision>39</cp:revision>
  <dc:subject/>
  <dc:title>Толерант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