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8AF1B-38A0-492E-A138-73736BA9005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CE7D8-7527-4DF4-A63E-2CC8989A77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C783A-5A97-4232-B712-59DFC1177A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E36-7628-4242-9313-CB7E9743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ED32-1E5A-4E6A-AFA5-5E5B26E4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5C0-1929-469B-A0AE-BD56FD64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9B1-45CB-4834-B0FA-E8748C5E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FD48-539B-42FE-B0C9-47008A3A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5FB-3F49-4649-B595-AF529C89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0785-941F-4A77-A730-D1855DFF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FCE-A4BB-43B7-867A-788ED7F1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1B1-EB66-4B6F-98F8-912515F3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FF7-09F3-40B3-9973-D8D9DDC4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5337-6F5F-4DB7-938E-92684CD2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702D-4EB7-4416-AC99-3F6F5E35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9BA470-B6D2-4A88-972B-35A4EBC5E6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360"/>
            <a:ext cx="9069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лавные члены предложения. Второстепенные члены предлож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611360" y="1208160"/>
            <a:ext cx="8215200" cy="34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Мало уметь писать, надо уметь думать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727280" y="993600"/>
            <a:ext cx="8028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400" spc="-1" strike="noStrike">
                <a:solidFill>
                  <a:srgbClr val="000000"/>
                </a:solidFill>
                <a:latin typeface="Arial"/>
              </a:rPr>
              <a:t>В…рхушки, лучами, покачиваются, д…ревьев, под, нежными, со…нца.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6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хушки д</a:t>
            </a:r>
            <a:r>
              <a:rPr b="1" lang="ru-RU" sz="6600" spc="-1" strike="noStrike">
                <a:solidFill>
                  <a:srgbClr val="009973"/>
                </a:solidFill>
                <a:latin typeface="Arial"/>
              </a:rPr>
              <a:t>е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ревьев покачиваются под нежными лучами со</a:t>
            </a:r>
            <a:r>
              <a:rPr b="1" lang="ru-RU" sz="6600" spc="-1" strike="noStrike">
                <a:solidFill>
                  <a:srgbClr val="009973"/>
                </a:solidFill>
                <a:latin typeface="Arial"/>
              </a:rPr>
              <a:t>л</a:t>
            </a: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ца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>
            <a:hlinkClick r:id="rId1" action="ppaction://hlinksldjump"/>
          </p:cNvPr>
          <p:cNvSpPr/>
          <p:nvPr/>
        </p:nvSpPr>
        <p:spPr>
          <a:xfrm>
            <a:off x="515880" y="604800"/>
            <a:ext cx="9128160" cy="10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57120" y="3222720"/>
            <a:ext cx="4048200" cy="111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754600" y="3222720"/>
            <a:ext cx="3889440" cy="1114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49360" y="763560"/>
            <a:ext cx="9072000" cy="667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ГЛАВНЫЕ ЧЛЕНЫ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73680" y="3408480"/>
            <a:ext cx="40305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ПОДЛЕЖАЩ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802040" y="1636560"/>
            <a:ext cx="2698920" cy="158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H="1">
            <a:off x="2341080" y="1636560"/>
            <a:ext cx="2460600" cy="158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828040" y="3382920"/>
            <a:ext cx="374112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КАЗУЕМ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 rot="16200000">
            <a:off x="4732200" y="196560"/>
            <a:ext cx="615960" cy="9528120"/>
          </a:xfrm>
          <a:custGeom>
            <a:avLst/>
            <a:gdLst>
              <a:gd name="textAreaLeft" fmla="*/ 393480 w 615960"/>
              <a:gd name="textAreaRight" fmla="*/ 616320 w 615960"/>
              <a:gd name="textAreaTop" fmla="*/ 269280 h 9528120"/>
              <a:gd name="textAreaBottom" fmla="*/ 9258840 h 952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6"/>
                  <a:pt x="10800" y="1952"/>
                </a:cubicBezTo>
                <a:lnTo>
                  <a:pt x="10800" y="8883"/>
                </a:lnTo>
                <a:cubicBezTo>
                  <a:pt x="10800" y="9859"/>
                  <a:pt x="5400" y="10835"/>
                  <a:pt x="0" y="10835"/>
                </a:cubicBezTo>
                <a:cubicBezTo>
                  <a:pt x="5400" y="10835"/>
                  <a:pt x="10800" y="11811"/>
                  <a:pt x="10800" y="12787"/>
                </a:cubicBezTo>
                <a:lnTo>
                  <a:pt x="10800" y="19648"/>
                </a:lnTo>
                <a:cubicBezTo>
                  <a:pt x="10800" y="20624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633240" y="5448240"/>
            <a:ext cx="94474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ГРАММАТИЧЕСКАЯ ОСНОВА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11" descr="http://allforchildren.ru/pictures/butterfly_forkids_s/butterfly001.gif"/>
          <p:cNvPicPr/>
          <p:nvPr/>
        </p:nvPicPr>
        <p:blipFill>
          <a:blip r:embed="rId2"/>
          <a:stretch/>
        </p:blipFill>
        <p:spPr>
          <a:xfrm>
            <a:off x="7875720" y="5710320"/>
            <a:ext cx="19364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611360" y="279360"/>
            <a:ext cx="8286840" cy="75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Упр. 92 стр. 6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 молоде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 хорошо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постарайся  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071720" y="604800"/>
            <a:ext cx="8016840" cy="10317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>
            <a:hlinkClick r:id="rId1" action="ppaction://hlinksldjump"/>
          </p:cNvPr>
          <p:cNvSpPr/>
          <p:nvPr/>
        </p:nvSpPr>
        <p:spPr>
          <a:xfrm>
            <a:off x="436680" y="2352600"/>
            <a:ext cx="3651120" cy="10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6">
            <a:hlinkClick r:id="rId2" action="ppaction://hlinksldjump"/>
          </p:cNvPr>
          <p:cNvSpPr/>
          <p:nvPr/>
        </p:nvSpPr>
        <p:spPr>
          <a:xfrm>
            <a:off x="4960800" y="2271600"/>
            <a:ext cx="4921560" cy="11908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560" y="684360"/>
            <a:ext cx="7701840" cy="795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900" spc="-1" strike="noStrike">
                <a:solidFill>
                  <a:srgbClr val="0000cc"/>
                </a:solidFill>
                <a:latin typeface="Arial"/>
              </a:rPr>
              <a:t>ЧЛЕНЫ ПРЕДЛОЖЕН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83280" y="2509920"/>
            <a:ext cx="3073680" cy="7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ЛАВ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683240" y="2589120"/>
            <a:ext cx="5397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ТОРОСТЕП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3"/>
          <p:cNvSpPr/>
          <p:nvPr/>
        </p:nvSpPr>
        <p:spPr>
          <a:xfrm>
            <a:off x="4722840" y="1636560"/>
            <a:ext cx="2063880" cy="635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>
            <a:off x="2896920" y="1636560"/>
            <a:ext cx="1904760" cy="716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9" descr="http://allforchildren.ru/pictures/butterfly_forkids_s/butterfly012.gif"/>
          <p:cNvPicPr/>
          <p:nvPr/>
        </p:nvPicPr>
        <p:blipFill>
          <a:blip r:embed="rId3"/>
          <a:stretch/>
        </p:blipFill>
        <p:spPr>
          <a:xfrm>
            <a:off x="1181160" y="5275440"/>
            <a:ext cx="20476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754280" y="636480"/>
            <a:ext cx="7929360" cy="54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 Я научился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Я затруднялся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амым интересным для меня было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оё настроение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12720" y="2410920"/>
            <a:ext cx="85680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Молодц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8:00:51Z</dcterms:created>
  <dc:creator/>
  <dc:description/>
  <dc:language>en-US</dc:language>
  <cp:lastModifiedBy>RemPak</cp:lastModifiedBy>
  <dcterms:modified xsi:type="dcterms:W3CDTF">2016-10-17T16:29:43Z</dcterms:modified>
  <cp:revision>12</cp:revision>
  <dc:subject/>
  <dc:title>                    Урок русского языка</dc:title>
</cp:coreProperties>
</file>