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2442-D626-4F6C-A882-716D0027BD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7F01-7A6A-4030-AB75-0D3BB44928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21D1-D236-423B-95FC-138A84AB6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78E9-36C6-4CD2-A7DA-82DA9635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62C4-F89D-4129-A5C2-780792324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2F2F-95B9-46B8-B17C-688EF5CC0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37A6-19B3-4AB2-839D-D7C9A44F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A762-A413-4978-AF6C-FD810BC3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9F00-566C-4E7B-B080-C2131D67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106A-BB00-48E5-A5F0-D5556310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B502-223A-40E6-8F18-5ACB4B8B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A87E-23E2-451E-A8F2-6AF08516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1397-B1BA-4DB1-BF55-D516A863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4623-FAE0-43CD-BD30-EF625E6B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C4B1-1018-4B0B-BACD-C3920FC4F2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Calibri"/>
              </a:rPr>
              <a:t>КЛАССНЫЙ ЧАС НА ТЕМУ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 u="sng">
                <a:solidFill>
                  <a:srgbClr val="604a7b"/>
                </a:solidFill>
                <a:uFillTx/>
                <a:latin typeface="Calibri"/>
              </a:rPr>
              <a:t>«</a:t>
            </a:r>
            <a:r>
              <a:rPr b="0" i="1" lang="ru-RU" sz="6000" spc="-1" strike="noStrike" u="sng">
                <a:solidFill>
                  <a:srgbClr val="604a7b"/>
                </a:solidFill>
                <a:uFillTx/>
                <a:latin typeface="Calibri"/>
              </a:rPr>
              <a:t>ПОГОВОРИМ О ТОЛЕРАНТНОСТИ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1"/>
          <p:cNvSpPr/>
          <p:nvPr/>
        </p:nvSpPr>
        <p:spPr>
          <a:xfrm>
            <a:off x="214200" y="2071800"/>
            <a:ext cx="8715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ы получим больше, чем отдадим, если будем чаще вспоминать про то, что нас соединяет, про то, что человек становится Человеком только благодаря другому человеку.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ы живем, потому что мы раз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Картинка 54 из 64000"/>
          <p:cNvPicPr/>
          <p:nvPr/>
        </p:nvPicPr>
        <p:blipFill>
          <a:blip r:embed="rId1"/>
          <a:stretch/>
        </p:blipFill>
        <p:spPr>
          <a:xfrm>
            <a:off x="6456240" y="4857840"/>
            <a:ext cx="2479680" cy="1871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Картинка 289 из 4544"/>
          <p:cNvPicPr/>
          <p:nvPr/>
        </p:nvPicPr>
        <p:blipFill>
          <a:blip r:embed="rId2"/>
          <a:stretch/>
        </p:blipFill>
        <p:spPr>
          <a:xfrm>
            <a:off x="360360" y="139680"/>
            <a:ext cx="2998800" cy="2000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Documents and Settings\Admin\Рабочий стол\Конкурс Дюндик\презентация\Картинки\580945b0c37c.jpg"/>
          <p:cNvPicPr/>
          <p:nvPr/>
        </p:nvPicPr>
        <p:blipFill>
          <a:blip r:embed="rId3"/>
          <a:stretch/>
        </p:blipFill>
        <p:spPr>
          <a:xfrm>
            <a:off x="5499000" y="139680"/>
            <a:ext cx="3187800" cy="2219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4" descr="Картинка 11 из 64000"/>
          <p:cNvPicPr/>
          <p:nvPr/>
        </p:nvPicPr>
        <p:blipFill>
          <a:blip r:embed="rId4"/>
          <a:stretch/>
        </p:blipFill>
        <p:spPr>
          <a:xfrm>
            <a:off x="360360" y="4998960"/>
            <a:ext cx="25416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детская дружб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2"/>
          <p:cNvSpPr/>
          <p:nvPr/>
        </p:nvSpPr>
        <p:spPr>
          <a:xfrm>
            <a:off x="2286000" y="135720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олерантность( терпимость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чает уважение, принятие и правильное понимание богатого многообразия культур нашего мира, наших форм самовыражения и способов проявлений человеческой индивидуа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1500120" y="357120"/>
            <a:ext cx="63579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lerance (англ.)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ность быть терпимым, снисходительным; быть терпимым, позволять существование различных мнений без их дискримин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928800" y="1285920"/>
            <a:ext cx="6643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lerenz (немец.)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пимость к чужим мнениям, верованиям, повед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1357200" y="1857240"/>
            <a:ext cx="60724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lerance (франц.)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ежденность в том, что другие могут думать и действовать в манере, отличной от нашей собстве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1214280" y="2714760"/>
            <a:ext cx="66438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lerencia (испан.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пособность принимать идеи или мнения, отличные 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ств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1428840" y="3643200"/>
            <a:ext cx="6429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uan rong (китайск.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инимать других такими, какие они есть, и           быть великодушными по отношению к друг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1071720" y="5643720"/>
            <a:ext cx="74293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asamul (араб.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нисхождение, милосердие, всепрощение, умение принимать  других такими, какие они есть, и прощ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928800" y="4500720"/>
            <a:ext cx="72864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лерантность (руск.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умение терпеть, принимать и признавать существование кого-либо, примирять, приводить в соответствие с самим собой по отношению к кому-либо или чему-либо, быть снисходитель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2"/>
          <p:cNvSpPr/>
          <p:nvPr/>
        </p:nvSpPr>
        <p:spPr>
          <a:xfrm>
            <a:off x="3429000" y="1214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3581280" y="1366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Diagram 32"/>
          <p:cNvGrpSpPr/>
          <p:nvPr/>
        </p:nvGrpSpPr>
        <p:grpSpPr>
          <a:xfrm>
            <a:off x="2054880" y="103680"/>
            <a:ext cx="5036040" cy="6168960"/>
            <a:chOff x="2054880" y="103680"/>
            <a:chExt cx="5036040" cy="6168960"/>
          </a:xfrm>
        </p:grpSpPr>
        <p:sp>
          <p:nvSpPr>
            <p:cNvPr id="62" name="_s1028"/>
            <p:cNvSpPr/>
            <p:nvPr/>
          </p:nvSpPr>
          <p:spPr>
            <a:xfrm flipV="1">
              <a:off x="4570560" y="1760760"/>
              <a:ext cx="0" cy="83736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29"/>
            <p:cNvSpPr/>
            <p:nvPr/>
          </p:nvSpPr>
          <p:spPr>
            <a:xfrm>
              <a:off x="3918240" y="103680"/>
              <a:ext cx="1306080" cy="1659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Отношение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к другому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с позиции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равног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30"/>
            <p:cNvSpPr/>
            <p:nvPr/>
          </p:nvSpPr>
          <p:spPr>
            <a:xfrm flipV="1">
              <a:off x="5190120" y="2911320"/>
              <a:ext cx="626760" cy="25956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31"/>
            <p:cNvSpPr/>
            <p:nvPr/>
          </p:nvSpPr>
          <p:spPr>
            <a:xfrm>
              <a:off x="5784840" y="1826640"/>
              <a:ext cx="1306080" cy="1660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Воспита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32"/>
            <p:cNvSpPr/>
            <p:nvPr/>
          </p:nvSpPr>
          <p:spPr>
            <a:xfrm>
              <a:off x="4950720" y="4093920"/>
              <a:ext cx="388080" cy="67968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33"/>
            <p:cNvSpPr/>
            <p:nvPr/>
          </p:nvSpPr>
          <p:spPr>
            <a:xfrm>
              <a:off x="5070600" y="4612320"/>
              <a:ext cx="1306080" cy="1660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Позитивное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взаимодействие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с людь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34"/>
            <p:cNvSpPr/>
            <p:nvPr/>
          </p:nvSpPr>
          <p:spPr>
            <a:xfrm flipH="1">
              <a:off x="3799440" y="4091040"/>
              <a:ext cx="388080" cy="67968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35"/>
            <p:cNvSpPr/>
            <p:nvPr/>
          </p:nvSpPr>
          <p:spPr>
            <a:xfrm>
              <a:off x="2766600" y="4612320"/>
              <a:ext cx="1306080" cy="1660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Терпимое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отношение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к ины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36"/>
            <p:cNvSpPr/>
            <p:nvPr/>
          </p:nvSpPr>
          <p:spPr>
            <a:xfrm flipH="1" flipV="1">
              <a:off x="3326040" y="2908440"/>
              <a:ext cx="626760" cy="25884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37"/>
            <p:cNvSpPr/>
            <p:nvPr/>
          </p:nvSpPr>
          <p:spPr>
            <a:xfrm>
              <a:off x="2054880" y="1826640"/>
              <a:ext cx="1306080" cy="1660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Уважение,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принят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38"/>
            <p:cNvSpPr/>
            <p:nvPr/>
          </p:nvSpPr>
          <p:spPr>
            <a:xfrm>
              <a:off x="3918240" y="2598480"/>
              <a:ext cx="1306080" cy="1660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8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Толерант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Box 5"/>
          <p:cNvSpPr/>
          <p:nvPr/>
        </p:nvSpPr>
        <p:spPr>
          <a:xfrm>
            <a:off x="858960" y="714240"/>
            <a:ext cx="167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ва 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6512400" y="857160"/>
            <a:ext cx="240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нони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1571760" y="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инципы толеран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142920" y="500040"/>
            <a:ext cx="87868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" algn="ctr"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отказ от насилия</a:t>
            </a:r>
            <a:r>
              <a:rPr b="0" lang="ru-RU" sz="2800" spc="-1" strike="noStrike">
                <a:solidFill>
                  <a:srgbClr val="17375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</a:rPr>
              <a:t>как неприемлемого средства приобщения человека к какой-либо иде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добровольность выбора</a:t>
            </a:r>
            <a:r>
              <a:rPr b="0" lang="ru-RU" sz="2800" spc="-1" strike="noStrike">
                <a:solidFill>
                  <a:srgbClr val="17375e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</a:rPr>
              <a:t>акцент на искренности его убеждений, «свобода совести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умение принудить себя, не принуждая других</a:t>
            </a:r>
            <a:r>
              <a:rPr b="0" lang="ru-RU" sz="2800" spc="-1" strike="noStrike">
                <a:solidFill>
                  <a:srgbClr val="17375e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подчинение законам,</a:t>
            </a:r>
            <a:r>
              <a:rPr b="0" lang="ru-RU" sz="2800" spc="-1" strike="noStrike">
                <a:solidFill>
                  <a:srgbClr val="17375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17375e"/>
                </a:solidFill>
                <a:latin typeface="Times New Roman"/>
              </a:rPr>
              <a:t>традициям и обычаям, не нарушая их и удовлетворяя общественные потребности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принятие Другог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17375e"/>
                </a:solidFill>
                <a:latin typeface="Times New Roman"/>
              </a:rPr>
              <a:t>который может отличаться по разным признакам — </a:t>
            </a:r>
            <a:r>
              <a:rPr b="0" lang="ru-RU" sz="2800" spc="-1" strike="noStrike">
                <a:solidFill>
                  <a:srgbClr val="17375e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17375e"/>
                </a:solidFill>
                <a:latin typeface="Times New Roman"/>
              </a:rPr>
              <a:t>национальным, расовым, культурным, религиозным и т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Diagram 23"/>
          <p:cNvGrpSpPr/>
          <p:nvPr/>
        </p:nvGrpSpPr>
        <p:grpSpPr>
          <a:xfrm>
            <a:off x="694080" y="862200"/>
            <a:ext cx="7687080" cy="5148720"/>
            <a:chOff x="694080" y="862200"/>
            <a:chExt cx="7687080" cy="5148720"/>
          </a:xfrm>
        </p:grpSpPr>
        <p:sp>
          <p:nvSpPr>
            <p:cNvPr id="78" name="_s2052"/>
            <p:cNvSpPr/>
            <p:nvPr/>
          </p:nvSpPr>
          <p:spPr>
            <a:xfrm flipH="1" flipV="1">
              <a:off x="3162240" y="2392200"/>
              <a:ext cx="814320" cy="652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2053"/>
            <p:cNvSpPr/>
            <p:nvPr/>
          </p:nvSpPr>
          <p:spPr>
            <a:xfrm>
              <a:off x="1724760" y="1340640"/>
              <a:ext cx="1755360" cy="118944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ежрасова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2054"/>
            <p:cNvSpPr/>
            <p:nvPr/>
          </p:nvSpPr>
          <p:spPr>
            <a:xfrm flipH="1" flipV="1">
              <a:off x="2433600" y="3249720"/>
              <a:ext cx="1243440" cy="14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2055"/>
            <p:cNvSpPr/>
            <p:nvPr/>
          </p:nvSpPr>
          <p:spPr>
            <a:xfrm>
              <a:off x="694080" y="2549880"/>
              <a:ext cx="1755360" cy="118944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асова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2056"/>
            <p:cNvSpPr/>
            <p:nvPr/>
          </p:nvSpPr>
          <p:spPr>
            <a:xfrm flipH="1">
              <a:off x="2691000" y="3795840"/>
              <a:ext cx="1091160" cy="42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2057"/>
            <p:cNvSpPr/>
            <p:nvPr/>
          </p:nvSpPr>
          <p:spPr>
            <a:xfrm>
              <a:off x="1053360" y="3924720"/>
              <a:ext cx="1756080" cy="1189440"/>
            </a:xfrm>
            <a:prstGeom prst="ellipse">
              <a:avLst/>
            </a:prstGeom>
            <a:solidFill>
              <a:srgbClr val="1a0fff"/>
            </a:solidFill>
            <a:ln w="28440">
              <a:solidFill>
                <a:srgbClr val="0a0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изиологическа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2058"/>
            <p:cNvSpPr/>
            <p:nvPr/>
          </p:nvSpPr>
          <p:spPr>
            <a:xfrm flipH="1">
              <a:off x="3811320" y="4054320"/>
              <a:ext cx="429120" cy="80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2059"/>
            <p:cNvSpPr/>
            <p:nvPr/>
          </p:nvSpPr>
          <p:spPr>
            <a:xfrm>
              <a:off x="2631240" y="4821480"/>
              <a:ext cx="1755360" cy="1189440"/>
            </a:xfrm>
            <a:prstGeom prst="ellipse">
              <a:avLst/>
            </a:pr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литическа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2060"/>
            <p:cNvSpPr/>
            <p:nvPr/>
          </p:nvSpPr>
          <p:spPr>
            <a:xfrm>
              <a:off x="4838760" y="4054320"/>
              <a:ext cx="432720" cy="80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2061"/>
            <p:cNvSpPr/>
            <p:nvPr/>
          </p:nvSpPr>
          <p:spPr>
            <a:xfrm>
              <a:off x="4692240" y="4821480"/>
              <a:ext cx="1755360" cy="118944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озрастна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2062"/>
            <p:cNvSpPr/>
            <p:nvPr/>
          </p:nvSpPr>
          <p:spPr>
            <a:xfrm>
              <a:off x="5296680" y="3793320"/>
              <a:ext cx="1090440" cy="426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2063"/>
            <p:cNvSpPr/>
            <p:nvPr/>
          </p:nvSpPr>
          <p:spPr>
            <a:xfrm>
              <a:off x="6269760" y="3922920"/>
              <a:ext cx="1755360" cy="11894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разовательна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2064"/>
            <p:cNvSpPr/>
            <p:nvPr/>
          </p:nvSpPr>
          <p:spPr>
            <a:xfrm flipV="1">
              <a:off x="5398200" y="3245760"/>
              <a:ext cx="1240560" cy="148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2065"/>
            <p:cNvSpPr/>
            <p:nvPr/>
          </p:nvSpPr>
          <p:spPr>
            <a:xfrm>
              <a:off x="6625800" y="2547360"/>
              <a:ext cx="1755360" cy="119016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Географическа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2066"/>
            <p:cNvSpPr/>
            <p:nvPr/>
          </p:nvSpPr>
          <p:spPr>
            <a:xfrm flipV="1">
              <a:off x="5099760" y="2390040"/>
              <a:ext cx="807840" cy="652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2067"/>
            <p:cNvSpPr/>
            <p:nvPr/>
          </p:nvSpPr>
          <p:spPr>
            <a:xfrm>
              <a:off x="5595120" y="1338480"/>
              <a:ext cx="1756080" cy="118944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елигиозна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2068"/>
            <p:cNvSpPr/>
            <p:nvPr/>
          </p:nvSpPr>
          <p:spPr>
            <a:xfrm flipV="1">
              <a:off x="4536360" y="2051640"/>
              <a:ext cx="0" cy="85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2069"/>
            <p:cNvSpPr/>
            <p:nvPr/>
          </p:nvSpPr>
          <p:spPr>
            <a:xfrm>
              <a:off x="3658680" y="862200"/>
              <a:ext cx="1755360" cy="118944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ежнациональна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070"/>
            <p:cNvSpPr/>
            <p:nvPr/>
          </p:nvSpPr>
          <p:spPr>
            <a:xfrm>
              <a:off x="3658680" y="2905200"/>
              <a:ext cx="1755360" cy="119016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олерантность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Users\Библиотека\дружные дети\толерантность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2"/>
          <p:cNvSpPr/>
          <p:nvPr/>
        </p:nvSpPr>
        <p:spPr>
          <a:xfrm>
            <a:off x="214200" y="1643040"/>
            <a:ext cx="8786880" cy="47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16 ноября 1995 года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Генеральная конференция ЮНЕСКО утвердила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Декларацию принципов толерант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16 ноябр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Международный день толерант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1999 год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«Манифест 2000 года в поддержку культуры мира и ненасил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2000 год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Международный год культуры ми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2001–2010 годы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Международное десятилетие культуры мира и ненасилия в интересах детей плане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21 ма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Всемирный день культурного разнообразия во им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диалога и разви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23 августа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Международный день памяти 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работорговле и ее ликвид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357120" y="142920"/>
            <a:ext cx="864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Международные дни и год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которые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отмечаются международными организаци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системы О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умай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42560" y="785880"/>
            <a:ext cx="87152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й бог – евр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и цифры – арабск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и буквы – латинск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я демократия – греческ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й кофе – бразиль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й букет – француз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я кастрюля – голландск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я жизнь - славянск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к кто же м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8T13:27:03Z</dcterms:created>
  <dc:creator>XxX</dc:creator>
  <dc:description/>
  <dc:language>en-US</dc:language>
  <cp:lastModifiedBy>KBH</cp:lastModifiedBy>
  <dcterms:modified xsi:type="dcterms:W3CDTF">2025-11-15T07:49:29Z</dcterms:modified>
  <cp:revision>32</cp:revision>
  <dc:subject/>
  <dc:title>Слайд 1</dc:title>
</cp:coreProperties>
</file>