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185-7A36-4F2A-BBDC-1123069A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D0B1-B03A-427E-AEAE-8B9FF0FA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F106-2110-469D-86E9-B3A8F9D9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71E-9BDE-4932-8ECD-542C8786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082E-E755-46DB-886F-938A73F0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1D9A-CE67-4518-A48B-A60E2B35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D510-A247-42CA-B97C-889B3C61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5DC0-A2D2-4952-963D-510E016F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969D-90A5-4C18-813F-142DF411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AEAD-CC27-4DEA-B101-4E32EE5A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7AF4-B778-4D81-8771-96F1D5BB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597-7C21-45D5-AE1D-7308F5EC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2CF3-8EC4-4632-A777-CC928EC4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FE36-DF46-47FD-85B9-97EA86BD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BC9B-DF75-4974-BB05-207C0F05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96AB-EF92-475E-8644-179FE9C4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8C8D-3C54-4FBE-97DC-27B3600E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6B9A0-4FE8-45EB-B684-B0390641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BEEB6-1794-46F2-BD42-5A774C6B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BDA50-AA05-41FA-AB23-72C8426A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D327F-1E57-4DD9-B7B6-1620AF7F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EA3F6-2E36-4AAC-894D-D4CF1029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CAE-F6BD-4CB5-9B8B-CABD8816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BCFB2-9635-40AA-B159-C659FC68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A1910-2C71-43DC-B11F-85BD179E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2A9BF-BB34-478E-8401-27F782CC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2C672-4B55-43BC-967F-7C0E7B19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FEF62-49D0-4FAF-8D73-B71D743C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B356A-9426-4B91-A83C-CAAF5FB2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82F35-82B4-42B2-9E3C-168C8796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2FA3C-649F-43A2-A3DF-889E6C66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7A08F-A752-46EC-A767-8A6381CE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F5F8F-8294-42F4-A8A2-7126BEB8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04F-72CA-4EEC-97D4-C6FCE779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D0AD1-3C2E-42BB-A002-4F09AF57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D8AA0-C0D9-4100-863C-97187D90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BA8FE-8330-42A3-BE07-268865CA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85912-5835-4F21-94CB-7722F6EC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3E68D-D2DC-4C52-87DF-0B3CA576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62714-125B-462A-99FC-383DFE24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C5265-7B8E-4B0F-AAB1-DD3216AF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10C92-94A6-440B-985A-D3E9D1DC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B7E5D-11C4-4260-9BA0-5077059A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352-CCF2-4D33-9B24-95413815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CAF-DC33-490D-95F4-689219FC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DE6-631C-4799-970A-815D7B64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C9B-7DF1-407D-9087-1F3886FD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B09-5EE9-47E5-985B-C516D58D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8BEC2-B28F-4116-9B4C-63C87B09B4C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EAB1E-226E-445F-908E-A76DA547DAC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57B7D-987E-4583-82EA-EBCE5F5FC28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27EE2-9DB1-4E5F-AFED-A93EFD64D52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360" y="1500120"/>
            <a:ext cx="8389800" cy="38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Times New Roman"/>
              </a:rPr>
              <a:t>«Активизация 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Times New Roman"/>
              </a:rPr>
              <a:t>познавательной деятельности обучающихся в процессе обучения  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Times New Roman"/>
              </a:rPr>
              <a:t>математике»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Times New Roman"/>
              </a:rPr>
              <a:t>  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</a:rPr>
              <a:t>Учитель математики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</a:rPr>
              <a:t>МБОУ СШ № 42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</a:rPr>
              <a:t>Кузьменко Т.А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468360" y="404640"/>
            <a:ext cx="748836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)  «Незнакомец и  купец»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роблемная ситуация)    Однажды незнакомец постучал в окно к богатому купцу и предложил такую сделку : «Я буду ежедневно в течение 30 дней приносить тебе по 100000р. А ты мне в первый день за 100000 дашь 1коп., во второй день за 100000-2коп. И так каждый день будешь увеличивать предыдущее число денег в 2раза. Если тебе выгодна сделка, то с завтрашнего дня начнем.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пец обрадовался такой удаче. Он подсчитал, что за 30 дней получит от незнакомца 3000000р. На следующий день пошли к нотариусу и узаконили сделк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здается проблемная ситуация. Кто в этой сделке проиграл: купец или незнакомец? Учащиеся составляют последовательность чисел:1;2;4;8;16; 32;64;….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беждаются, что эти числа составляют геометрическую прогрессию со знаменателем q=2, первым членом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=1 и количеством членов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=30. Вычисляют сумму 30 членов этой прогрессии и убеждаются, что это число больше миллиарда! Неожиданными  бывают результаты, когда не знаешь математик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5"/>
          <p:cNvSpPr/>
          <p:nvPr/>
        </p:nvSpPr>
        <p:spPr>
          <a:xfrm>
            <a:off x="468360" y="1773360"/>
            <a:ext cx="851040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ПАСИБО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 внимание 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1469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здание условий для развития способности ребёнка к самоопределению в направлениях и средствах самообразования через развитие их творческих и индивидуальных возможносте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Формирование положительного отношения школьников к учебной деятельности, развитие их стремления к глубокому познанию изучаемых предметов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е у обучающихся потребности к самопознанию, саморазвитию, самореализации; опыта деятельностного постижения окружающей действительности, опыта открытий, навыков исследовательской деятельности; основ научных знаний по математике; научного мировоззрения и познавательных интересов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Заголовок 3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2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3"/>
          <p:cNvSpPr/>
          <p:nvPr/>
        </p:nvSpPr>
        <p:spPr>
          <a:xfrm>
            <a:off x="2928960" y="2071800"/>
            <a:ext cx="3643200" cy="114300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едства активизации обуче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1071720" y="642960"/>
            <a:ext cx="2571480" cy="92880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бное содержа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Прямоугольник 6"/>
          <p:cNvSpPr/>
          <p:nvPr/>
        </p:nvSpPr>
        <p:spPr>
          <a:xfrm>
            <a:off x="3492360" y="3860640"/>
            <a:ext cx="2643480" cy="100044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Прямоугольник 7"/>
          <p:cNvSpPr/>
          <p:nvPr/>
        </p:nvSpPr>
        <p:spPr>
          <a:xfrm>
            <a:off x="500040" y="4857840"/>
            <a:ext cx="2571840" cy="12142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тандартны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6156360" y="4941720"/>
            <a:ext cx="2773440" cy="121464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естандартны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Прямоугольник 9"/>
          <p:cNvSpPr/>
          <p:nvPr/>
        </p:nvSpPr>
        <p:spPr>
          <a:xfrm>
            <a:off x="5786280" y="714240"/>
            <a:ext cx="2643480" cy="92880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ы и формы обуч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Стрелка вправо 10"/>
          <p:cNvSpPr/>
          <p:nvPr/>
        </p:nvSpPr>
        <p:spPr>
          <a:xfrm rot="13553400">
            <a:off x="2761920" y="1717200"/>
            <a:ext cx="700200" cy="20484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000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Стрелка вправо 11"/>
          <p:cNvSpPr/>
          <p:nvPr/>
        </p:nvSpPr>
        <p:spPr>
          <a:xfrm rot="18522600">
            <a:off x="6148080" y="1765440"/>
            <a:ext cx="699840" cy="14112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c000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Стрелка вправо 12"/>
          <p:cNvSpPr/>
          <p:nvPr/>
        </p:nvSpPr>
        <p:spPr>
          <a:xfrm rot="5400000">
            <a:off x="4421520" y="3436200"/>
            <a:ext cx="585720" cy="14292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c000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Стрелка вправо 13"/>
          <p:cNvSpPr/>
          <p:nvPr/>
        </p:nvSpPr>
        <p:spPr>
          <a:xfrm rot="8774400">
            <a:off x="2861640" y="4508280"/>
            <a:ext cx="601560" cy="19980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c000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Стрелка вправо 14"/>
          <p:cNvSpPr/>
          <p:nvPr/>
        </p:nvSpPr>
        <p:spPr>
          <a:xfrm rot="1681200">
            <a:off x="6227280" y="4581360"/>
            <a:ext cx="722520" cy="19548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c000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овременные педагогические технологии, используемые в образовательном процессе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79280" y="175536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личностно-ориентированное обуче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ИК – технолог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развивающее обуче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проблемное обуче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дифференцированное обуче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разноуровневое обуче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игровые технолог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технология развития исследовательских умений и навык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Заголовок 3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стандартные уроки, используемые в образовательном процесс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- урок-соревнование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- урок-игр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- урок-путешествие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- урок-практикум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- урок-лекци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-  урок-консультаци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- урок-исследование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- урок – дискусс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24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Формы проведения внеклассной работы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 учащимис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5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Неделя математи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математические олимпиады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математические викторины, дискуссии, конкурсы, познавательные игры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математические вечера, математические экскурси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математические рефераты, проекты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мультимедийные презентации по математике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изготовление математических моделей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539640" y="692280"/>
            <a:ext cx="631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которые средства повышения эффективности обучения и приемы активизации познавательной деятельности учащихся, которые мною используются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нообразные виды устного счета (когда примеры оформлены в виде лото, всевозможные формы кодирования ответов, игры «Собери цветы», «Поймай рыбку», «Лесенка», «Удивительная цепочка» и др.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создание на уроке учебной проблемной ситуаци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актические работы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сообщение сведений из истории математи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) Вы сможете прочитать название высочайшей горной вершины мира, если правильно решите примеры и впишите буквы: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Рисунок 4" descr=""/>
          <p:cNvPicPr/>
          <p:nvPr/>
        </p:nvPicPr>
        <p:blipFill>
          <a:blip r:embed="rId2"/>
          <a:stretch/>
        </p:blipFill>
        <p:spPr>
          <a:xfrm>
            <a:off x="539640" y="1797120"/>
            <a:ext cx="8661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2920" y="475920"/>
            <a:ext cx="885672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) В старину корой этого дерева «заговаривали» зубы и лихорадку. Вырежут из коры треугольник, чтобы отдать дань Богу Отцу, Богу Сыну, Святому духу, и трут десны, читая молитву. А потом треугольник прикладывают на место, откуда вырезали. И боль утихает. И неведомо было людям, что дело не в богах, а в содержащихся веществах в коре именно этого дерева. О каком дереве идет речь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14840 : 760 – 57 * 13 + 204476 : 68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79280" y="4016520"/>
          <a:ext cx="8496360" cy="1233360"/>
        </p:xfrm>
        <a:graphic>
          <a:graphicData uri="http://schemas.openxmlformats.org/drawingml/2006/table">
            <a:tbl>
              <a:tblPr/>
              <a:tblGrid>
                <a:gridCol w="573120"/>
                <a:gridCol w="430200"/>
                <a:gridCol w="573120"/>
                <a:gridCol w="573120"/>
                <a:gridCol w="747720"/>
                <a:gridCol w="649440"/>
                <a:gridCol w="730080"/>
                <a:gridCol w="730440"/>
                <a:gridCol w="649080"/>
                <a:gridCol w="730440"/>
                <a:gridCol w="730080"/>
                <a:gridCol w="730440"/>
                <a:gridCol w="649080"/>
              </a:tblGrid>
              <a:tr h="56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4"/>
          <p:cNvSpPr/>
          <p:nvPr/>
        </p:nvSpPr>
        <p:spPr>
          <a:xfrm>
            <a:off x="1403280" y="3787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7:09:42Z</dcterms:created>
  <dc:creator>сергей</dc:creator>
  <dc:description/>
  <dc:language>en-US</dc:language>
  <cp:lastModifiedBy>Пользователь</cp:lastModifiedBy>
  <dcterms:modified xsi:type="dcterms:W3CDTF">2020-10-14T15:11:17Z</dcterms:modified>
  <cp:revision>114</cp:revision>
  <dc:subject/>
  <dc:title>   </dc:title>
</cp:coreProperties>
</file>