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3B70-FDBB-4837-830A-8A7176BE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BADB1-56A2-4DC5-9F55-B8A65A1E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7B66-A154-4073-8595-DBD7A864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401F-3993-4CB9-BECA-F0164F05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90D2-E47D-4A4F-BD6B-8EE47CE2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6D43-88DC-49CC-ABFC-1D038C56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A58E-9413-4DBA-9CC1-5EF2CFDD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7E2F-1D75-4F1A-A078-1036CC27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D7EF-2783-451E-AC8F-9C44A8E6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5F1A-E863-443B-8744-86AF0723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02E8-1939-4EC2-B245-605EEAE6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2387-29DD-4A49-9BA9-0097EB4E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B360-05EE-46D7-96D1-471C024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8F55-E97A-4E2C-9834-5EE199AB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D221-734D-40E0-8EAF-4E45B5CE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F112-C113-4B0D-9BD0-172BD584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9336-D58D-4BFB-8752-FDE27A96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0B1C-8315-48C2-95F4-7B0CF789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6728-F72B-46F0-8F9B-B6CAA0FD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CEDC2-AD36-4BA2-9DF6-5D4BEF1A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032B-A555-4A11-9F21-F0044090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2620-6893-452B-932C-8F8D064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C3AB-64F0-4163-8469-30BA20C2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04A6-1261-43CA-BBDA-C449C071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603F-AB9B-491B-91D1-342A7835EB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178B-A46F-4D6E-9B1A-EB7D94CE67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811080" y="1047600"/>
            <a:ext cx="7905960" cy="3468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28480" y="4642920"/>
            <a:ext cx="7553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: Окушкаева Кермен Борис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Спасибо за внимание.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оположник технологии УДЕ- Эрдниев Пюрвя Мучкаевич, доктор педагогических наук, заслуженный деятель науки РСФСР, зав. кафедрой Калмыцкого гос.универс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У – укруп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 – дидактически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Е  - едини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Главная задача образовательного процесса современной российской школы заключается в том, что ученик должен учиться сам, а учитель осуществляет управление его учебной деятельностью. Поэтому традиционный объяснительно- иллюстративный процесс заменяется новыми педагогическими технологиями. Одним из таких является У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идеи У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овместное одновременное изучение взаимосвязанных вопросов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ешение деформированных заданий с одним или несколькими неизвес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сложнение предлагаемого материала ( от простого к сложно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Решение прямых задач и преобразование в обратные или аналог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ДЕ при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ставлении и решении «четвёрки» пример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 класс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5*3=75              31*15=4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*25=75              15*31=4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:3=5                 465:15=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:5=3                 465:31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ючевое упражнение на уроке математики по УДЕ- это составление и решение обрат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981080"/>
          <a:ext cx="8229600" cy="28576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ные задач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лова в условии одинаковые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Вопросы меняются местам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Числа в условии одинаковые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2920" y="620640"/>
          <a:ext cx="8858160" cy="4570560"/>
        </p:xfrm>
        <a:graphic>
          <a:graphicData uri="http://schemas.openxmlformats.org/drawingml/2006/table">
            <a:tbl>
              <a:tblPr/>
              <a:tblGrid>
                <a:gridCol w="2952720"/>
                <a:gridCol w="2952720"/>
                <a:gridCol w="2952720"/>
              </a:tblGrid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хождени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умм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хождение неизвестного слагаем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хождение неизвестного слагаем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6,7 кг./ 3,3кг кг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</a:t>
                      </a: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/ 3,3гр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кг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6,7кг /___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кг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20" name="Прямая соединительная линия 5"/>
          <p:cNvSpPr/>
          <p:nvPr/>
        </p:nvSpPr>
        <p:spPr>
          <a:xfrm flipH="1" flipV="1">
            <a:off x="1258920" y="3284280"/>
            <a:ext cx="433440" cy="43164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2"/>
          <p:cNvSpPr/>
          <p:nvPr/>
        </p:nvSpPr>
        <p:spPr>
          <a:xfrm flipH="1">
            <a:off x="1834920" y="3284640"/>
            <a:ext cx="360360" cy="43164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3"/>
          <p:cNvSpPr/>
          <p:nvPr/>
        </p:nvSpPr>
        <p:spPr>
          <a:xfrm>
            <a:off x="1547640" y="3860640"/>
            <a:ext cx="503280" cy="5050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7"/>
          <p:cNvSpPr/>
          <p:nvPr/>
        </p:nvSpPr>
        <p:spPr>
          <a:xfrm>
            <a:off x="3635280" y="2708280"/>
            <a:ext cx="432000" cy="43344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20"/>
          <p:cNvSpPr/>
          <p:nvPr/>
        </p:nvSpPr>
        <p:spPr>
          <a:xfrm>
            <a:off x="3924360" y="3357720"/>
            <a:ext cx="503280" cy="43164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22"/>
          <p:cNvSpPr/>
          <p:nvPr/>
        </p:nvSpPr>
        <p:spPr>
          <a:xfrm flipH="1">
            <a:off x="4571640" y="3284640"/>
            <a:ext cx="431640" cy="50472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4"/>
          <p:cNvSpPr/>
          <p:nvPr/>
        </p:nvSpPr>
        <p:spPr>
          <a:xfrm>
            <a:off x="7643880" y="2714760"/>
            <a:ext cx="504720" cy="4330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26"/>
          <p:cNvSpPr/>
          <p:nvPr/>
        </p:nvSpPr>
        <p:spPr>
          <a:xfrm>
            <a:off x="6516720" y="3357720"/>
            <a:ext cx="431640" cy="358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28"/>
          <p:cNvSpPr/>
          <p:nvPr/>
        </p:nvSpPr>
        <p:spPr>
          <a:xfrm flipH="1">
            <a:off x="7093080" y="3357720"/>
            <a:ext cx="287280" cy="358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6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836640"/>
          <a:ext cx="8964720" cy="4548240"/>
        </p:xfrm>
        <a:graphic>
          <a:graphicData uri="http://schemas.openxmlformats.org/drawingml/2006/table">
            <a:tbl>
              <a:tblPr/>
              <a:tblGrid>
                <a:gridCol w="3218040"/>
                <a:gridCol w="3046320"/>
                <a:gridCol w="2700360"/>
              </a:tblGrid>
              <a:tr h="100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хождение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з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хождение уменьшаем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хождение вычитаем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0,5/5,3 ./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 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к./5,3./5,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0,5/      / 5,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меньш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ис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велич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ис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т/         на 2 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на 2 Б</a:t>
                      </a: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/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 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 т./ 3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    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4"/>
          <p:cNvSpPr/>
          <p:nvPr/>
        </p:nvSpPr>
        <p:spPr>
          <a:xfrm>
            <a:off x="1908000" y="2205000"/>
            <a:ext cx="432000" cy="360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3780000" y="2205000"/>
            <a:ext cx="431640" cy="3603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7451640" y="2133720"/>
            <a:ext cx="433440" cy="35856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928800" y="3929040"/>
            <a:ext cx="431640" cy="33804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3564000" y="3933720"/>
            <a:ext cx="431640" cy="4096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7164360" y="4291920"/>
            <a:ext cx="504000" cy="3610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37" name="Прямая со стрелкой 24"/>
          <p:cNvCxnSpPr/>
          <p:nvPr/>
        </p:nvCxnSpPr>
        <p:spPr>
          <a:xfrm flipH="1" flipV="1">
            <a:off x="6732000" y="4291920"/>
            <a:ext cx="432360" cy="3610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sp>
        <p:nvSpPr>
          <p:cNvPr id="138" name="Прямоугольник 25"/>
          <p:cNvSpPr/>
          <p:nvPr/>
        </p:nvSpPr>
        <p:spPr>
          <a:xfrm>
            <a:off x="7093080" y="4653000"/>
            <a:ext cx="338040" cy="33804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даёт нам УДЕ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3"/>
          <p:cNvSpPr/>
          <p:nvPr/>
        </p:nvSpPr>
        <p:spPr>
          <a:xfrm>
            <a:off x="539640" y="148428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местное и одновременное изучение взаимообратных действий (сложения и вычитания, умножения и дел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кращение расхода учеб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вышение качества знан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30:12Z</dcterms:created>
  <dc:creator>Валентина</dc:creator>
  <dc:description/>
  <dc:language>en-US</dc:language>
  <cp:lastModifiedBy>Acer</cp:lastModifiedBy>
  <dcterms:modified xsi:type="dcterms:W3CDTF">2021-03-30T18:03:41Z</dcterms:modified>
  <cp:revision>63</cp:revision>
  <dc:subject/>
  <dc:title>Развитие творческого мышления школьников средствами проектной деятельности</dc:title>
</cp:coreProperties>
</file>