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793-DAAA-4E44-9441-3E69F8B8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388-9587-42CF-82A4-4698A237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ACF-0C78-4670-AE33-6B2D9161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9B7-96FC-4CE5-85A9-C8EF39F4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9B45-30F9-4EEB-BCED-DDB72376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C5FF-6CFE-4E58-8EFB-E9C6155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2791-6031-489B-ACC2-A56BC0F2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C655-82FA-4A38-ACAE-97E4341F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81FB-8472-44A4-A87E-AEB2F28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DFEA-9AFC-4D6D-A591-693C060D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3088-C4BC-4DE7-9EF9-0C9222DB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236-64D3-4470-9EA1-7E30700E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F70F-0B1B-43F7-A164-3D95B003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141B-68D7-4230-96AB-832A8CA1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E1A0-B9D0-4981-BDB8-6711B9FB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650C-95FE-435B-A094-88427123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E576-6BFB-4627-8FBF-13AA09A3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D05B-50F7-4103-A024-9A0D8392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7752-4C20-42FC-8A29-490BCDAC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8227-8DC1-4F07-9A93-5EACF27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780B-AC34-4CBB-813A-0BACB73E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FD54-5FFF-4270-93A0-AD401FD5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EA8-CC07-41DC-9836-3C9072C6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6DAD2-F57F-43BD-820E-F3FCBED4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3930-90B0-4860-ABB1-D0A3DB2D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F76E-1FBC-4D5B-9A13-A78E1408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B35E-4502-43BD-AB17-9B71A2C5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EB54-2F8D-4245-8E74-5B3902D8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A0B2B-EE6D-4D8A-9670-A61D8BAE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185F-083F-4DCB-B367-6CEA04CC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539E-0BDE-4633-AE50-00497B41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E47E-E5AA-4C8D-8E19-16513694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0DE69-428D-487D-9035-2ABE8B67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F3A2-9B6C-4286-8FC0-53CD25AA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82A9F-EFA5-4614-BA08-7F313404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86F4A-8FEB-4AA2-8682-AA491740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78A6C-C00A-49A0-829C-BB2085B0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D84F-0A39-4124-AF5E-4CF90227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5636B-DB1F-4010-A497-8A0CE4D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9CCE1-5761-4CAA-BF07-17948689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F2172-248F-4338-B46C-99D9240C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1981-B571-49F5-93D7-8676EF46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19AF-1736-418C-99B7-657E156D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A5A5-99AB-4E69-A98C-F6D8DF30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250-D7C3-4024-9CD5-8C145DDD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371F-81DF-49B8-A3CB-CB1D50A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333-173B-4B1C-AA72-D2EA36A3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B80-5FB2-4AC9-93D7-BAA64386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BB14-596B-4FC9-BCF2-DF7F26D9709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FAEF-971B-409C-8A83-F43E2F932EC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276-B8D0-41EF-BB97-6D6FEAD811B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941C-9F70-43B8-A6E3-6E30BFB596B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осударственное бюджетное дошкольное образовательное учреждение детский сад № 50 Калининского района Санкт-Петербурга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68000" y="2060640"/>
            <a:ext cx="8280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ТРУКТУРА ОФОРМЛЕН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ПРОЕКТА В ДОУ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ина А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высшей категор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8360" y="404640"/>
          <a:ext cx="7559640" cy="5832720"/>
        </p:xfrm>
        <a:graphic>
          <a:graphicData uri="http://schemas.openxmlformats.org/drawingml/2006/table">
            <a:tbl>
              <a:tblPr/>
              <a:tblGrid>
                <a:gridCol w="3779640"/>
                <a:gridCol w="3780000"/>
              </a:tblGrid>
              <a:tr h="58327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е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вляются социально важными, поскольку раскрывают актуальные для детей проблемы, а итоговый продукт практико-ориентированной проектной деятельности является социально значимым. Деятельность осуществляется при участии взрослых, которые содействуют на этапах планирования, распределения задач и индивидуальных усилий, организации работы в групп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09480" y="549360"/>
          <a:ext cx="7491600" cy="5688000"/>
        </p:xfrm>
        <a:graphic>
          <a:graphicData uri="http://schemas.openxmlformats.org/drawingml/2006/table">
            <a:tbl>
              <a:tblPr/>
              <a:tblGrid>
                <a:gridCol w="3745080"/>
                <a:gridCol w="3746520"/>
              </a:tblGrid>
              <a:tr h="56880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ельно-ориентированные (информационные)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формационные проекты позволяют детям узнать больше о каком-либо предмете или явлении, проанализировать и обобщить полученные сведения. В ходе осуществления проектной деятельности дошкольники выбирают интересующую их тему, тщательно планируют работу, собирают информацию и на основании анализа представляют готовый продукт. В ходе реализации проекта дети учатся не только получать и анализировать данные, но и презентовать их, знакомить окружающих с результатами своей работы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меры проектов: «Я и моя семья»; «Семейное древо»; «Путешествие в царство математики», «Красная книга»; «Бабушкина сундук», журнал «Почемучка» и др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09480" y="609480"/>
          <a:ext cx="7275600" cy="5699160"/>
        </p:xfrm>
        <a:graphic>
          <a:graphicData uri="http://schemas.openxmlformats.org/drawingml/2006/table">
            <a:tbl>
              <a:tblPr/>
              <a:tblGrid>
                <a:gridCol w="3637080"/>
                <a:gridCol w="3638520"/>
              </a:tblGrid>
              <a:tr h="569916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-творческ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но-творческая проектная деятельность в работе ДОУ позволяет дошкольникам практиковать свои актерские и художественные способности, использовать различные виды деятельности. Дети знакомятся с литературными произведениями и сказками, осмысляют поставленные перед ними задачи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оект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11280" y="83628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 (пояснительная записка)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становка проблем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(объясняет, почему возникла необходимость в выполнении проекта, для чего нужен этот проект детям, воспитателям, дошкольному учреждению)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 В современном мире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оэтому актуально становится разработка проекта 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астники :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пределение формата и типа проекта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, творческий…долгосрочный, краткосрочный 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проекта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должна быть понятна, конкретна, реалистичн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нкретные шаги для достижения цели (что, как и где может измениться, как будет измеряться, на какую аудиторию направлен проект и т.д.) (образовательные, воспитательные, развивающие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жидаемые результаты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что необходимо получить для выполнения поставленных задач, количественный и качественный результат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нтегрируемые образовательные области: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формы работы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Методы проек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1557000"/>
            <a:ext cx="6348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БЛЮДЕ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ОВМЕСТНЫЕ   ТВОРЧЕСКИЕ    ИГ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ГРЫ-ЭКСПЕРИМЕНТИРОВАН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ОНИТОРИНГОВЫЕ  ПРОЦЕД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БУЧАЮЩИЕ  ПРОЕКТИВНЫЕ  ИГ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ЗНАВАТЕЛЬНАЯ  ДЕЯТЕЛЬНОС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ГРЫ-СКАЗКИ,  ДРАМАТИЗ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ЕСОЧНАЯ  И  СКАЗКОТЕРАП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ЫСТАВОЧНАЯ  ДЕЯТЕЛЬНОСТ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МЕТОДЫ  МУЗЕЙНОЙ  ПЕДАГОГИ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ЗЕНТАЦ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65628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Этапы реализации проек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. Подготовительный  этап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1.1.Постановка  цели, исходя  из  интересов детей, формулировка  проблемы.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09480" y="2343240"/>
          <a:ext cx="6348600" cy="3916440"/>
        </p:xfrm>
        <a:graphic>
          <a:graphicData uri="http://schemas.openxmlformats.org/drawingml/2006/table">
            <a:tbl>
              <a:tblPr/>
              <a:tblGrid>
                <a:gridCol w="2116080"/>
                <a:gridCol w="2116440"/>
                <a:gridCol w="2116080"/>
              </a:tblGrid>
              <a:tr h="2898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Эта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я воспитате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йствия де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90096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пределение цели, проблемы (темы). Выбор участников группы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оспитатели определяют границы детского знания и их интересы, чтобы подвести детей к теме проектной деятельности.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 данном этапе роль педагога заключается в том, чтобы суметь обнаружить, увидеть проблему, волнующую детей и подсказать способ поиска ее решени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ти попадают в игровую (проблемную) ситуацию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ажно, чтобы идея проектной деятельности была ему интересно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609480"/>
            <a:ext cx="64184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1.2.Составление  плана  движения  к  цел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1.3.Обсуждение  плана  работы  с родителями воспитанников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1.4. Обращение  за  помощью    к специалистам ДОУ, родителя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1.5. Сбор  информации, материалов  для  реализации  проекта  при помощи  различных  средств</a:t>
            </a:r>
            <a:br>
              <a:rPr sz="1400"/>
            </a:br>
            <a:endParaRPr b="0" lang="en-US" sz="14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637000"/>
          <a:ext cx="6696000" cy="33080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3174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роекта и планирование деятельности, поиск источников информации, выбор помощников и кураторов. Проблема тщательно анализируется, определяется круг задач, необходимая для их выполнения информация, распределяются роли в группах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 помогает детям в планировании работы над проектом, решении поставленных задач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динение детей в рабочие группы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вносят свои предложения, а педагог помогает реализовать их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rebuchet MS"/>
              </a:rPr>
              <a:t>2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rebuchet MS"/>
              </a:rPr>
              <a:t>Основной   этап  (практический, реализация проекта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Организация  разнообразной  деятельности (игры,  праздники, наблюдения, экскурсии, опыта, творческие  задания  и др.)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Домашние  задания  родителям  и детям;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rebuchet MS"/>
              </a:rPr>
              <a:t>Самостоятельные  творческие  работы: поделки, рисунки, альбомы, выпуск  газет, выставка  плакатов  и пр., подбор  материалов.</a:t>
            </a:r>
            <a:br>
              <a:rPr sz="1200"/>
            </a:br>
            <a:endParaRPr b="0" lang="en-US" sz="12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755640" y="1989000"/>
          <a:ext cx="6769080" cy="4321440"/>
        </p:xfrm>
        <a:graphic>
          <a:graphicData uri="http://schemas.openxmlformats.org/drawingml/2006/table">
            <a:tbl>
              <a:tblPr/>
              <a:tblGrid>
                <a:gridCol w="2162160"/>
                <a:gridCol w="2303640"/>
                <a:gridCol w="2303280"/>
              </a:tblGrid>
              <a:tr h="45518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ктическая часть работы над проек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 этапе реализации проекта, главная задача воспитателя заключается в том, чтобы организовать познавательную, исследовательскую, экспериментальную, продуктивную деятельность, направленную на поиски необходимых отве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 процессе работы над проектом дети приобретают специфические знания, умения и навыки, они учатся взаимодействовать, добывать и обрабатывать информацию, сравнивать, делать вы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609480"/>
            <a:ext cx="641844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этап -  Заключительный   этап  (итоговый)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 презентации проекта  через  различные  формы (праздники, открытые  мероприятия для родителей, выставки, составление  книг, альбомов  и др.;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684360" y="1989000"/>
          <a:ext cx="6624360" cy="4111920"/>
        </p:xfrm>
        <a:graphic>
          <a:graphicData uri="http://schemas.openxmlformats.org/drawingml/2006/table">
            <a:tbl>
              <a:tblPr/>
              <a:tblGrid>
                <a:gridCol w="2598480"/>
                <a:gridCol w="2370240"/>
                <a:gridCol w="1655640"/>
              </a:tblGrid>
              <a:tr h="41119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, представление готового проду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я продукта чаще всего проходит в формате выставки, представления, фотоальбома, спектакля, круглого стола, на который приглашают родителей, других воспитанников и педагогов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7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 помогает детям презентовать продукт проектной деятельности, рассказать о н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ершающий этап проекта предполагает презентацию итогов или запланированного продукта, поскольку дошкольникам крайне важно увидеть результат своей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ff00"/>
                </a:solidFill>
                <a:latin typeface="Trebuchet MS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результатов проект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Результат работы (дети, родители,педагоги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Например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Де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ети получили необходимую информацию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Родител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Возросла родительская активность в организации совместной деятельности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 u="sng">
                <a:solidFill>
                  <a:srgbClr val="404040"/>
                </a:solidFill>
                <a:uFillTx/>
                <a:latin typeface="Trebuchet MS"/>
              </a:rPr>
              <a:t>Педагог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сширилось сотрудничество с родителя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Разработан консультативно - практический материала для родите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99640" y="1557000"/>
            <a:ext cx="669636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ектная деятельность в ДО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поэтапная практическая работа, которая позволяет расширять диапазон знаний, практических навыков и творческие способности детей; обеспечивает всестороннее развитие личности дошкольника; стимулирует любознательность, коммуникабельность, ответственность. 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rebuchet MS"/>
              </a:rPr>
              <a:t>Презентация результатов</a:t>
            </a:r>
            <a:r>
              <a:rPr b="0" lang="ru-RU" sz="3600" spc="-1" strike="noStrike">
                <a:solidFill>
                  <a:srgbClr val="00ff00"/>
                </a:solidFill>
                <a:latin typeface="Trebuchet MS"/>
              </a:rPr>
              <a:t> 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rebuchet MS"/>
              </a:rPr>
              <a:t>Презентация результатов</a:t>
            </a: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- представление готового продукт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Иными словами, осуществление проекта требует на завершающем этапе презентации продукта и защиты самого проекта, которую можно провести в форме конкурса, выставки, презентации, выступления.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и защите воспитанники и педагог демонстрируют и комментируют глубину разработки поставленной проблемы, её актуальность, объясняют полученный результат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785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                </a:t>
            </a: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Приложения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 приложении может быть вынесен материал, который  прошел в рамках деятельности проекта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конспекты совместной деятельности с детьм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ланы развлечений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есед с детьм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ценарии проведения мероприятий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нкеты для родителе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писок используемой литературы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915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СПАСИБО  ЗА  ВНИМАНИЕ !!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каждого  проекта  есть  жизненный  цикл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  каждой  фазы  свидетельствует  о  достижении  ее  очередного  результат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ют  3 фаз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, разработка (концепция или актуальность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Типы и виды проекто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262673"/>
                </a:solidFill>
                <a:uFillTx/>
                <a:latin typeface="Trebuchet MS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составу  участников и  их  объединению:    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ск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,  с  привлечением  родите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ипы и виды проекто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rebuchet MS"/>
              </a:rPr>
              <a:t>По   срокам  проведения:                   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олгосрочны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90c226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раткосрочны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Типы и виды проекто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  видам  деятельности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ы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о-ориентированны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о-творческие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87280"/>
            <a:ext cx="807732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rebuchet MS"/>
              </a:rPr>
              <a:t>Типология проектов</a:t>
            </a:r>
            <a:br>
              <a:rPr sz="2900"/>
            </a:b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42920" y="1052640"/>
          <a:ext cx="7491600" cy="5400720"/>
        </p:xfrm>
        <a:graphic>
          <a:graphicData uri="http://schemas.openxmlformats.org/drawingml/2006/table">
            <a:tbl>
              <a:tblPr/>
              <a:tblGrid>
                <a:gridCol w="3746520"/>
                <a:gridCol w="3745080"/>
              </a:tblGrid>
              <a:tr h="540072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следовательск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усматривают активное экспериментирование и проведение опытов, которые позволят понять природу вещей, значение и суть явлений. Результаты исследовательских проектов часто оформляются в виде портфолио, стенгазет, презентаций или выставок. Работа требует тщательного планирования, определения социально значимой проблемы, актуальных целей и задач, распределения обязанностей между участникам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9640" y="476280"/>
          <a:ext cx="7632720" cy="568800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56880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орческ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личаются спонтанностью, эмоциональностью, а потому такие проекты часто осуществляются в формате конкурса, театрализованного представления, спортивного или семейного праздника, стенгазеты, видеофильма. Действия участников могут не имеет строгого регламента, а потому структура прорабатывается достаточно формально и рамочно. Участники выбирают тему проектной деятельность в ДОУ, решают, когда и как будет оформлен готовый продукт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609480"/>
          <a:ext cx="7848720" cy="56278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62788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ые, игров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осуществляется посредством распределения ролей между участниками и реализации задач с элементами творческих игр. Дети перевоплощаются в сказочных персонажей, мультипликационных героев, представителей различных профессий, литературных персонажей, животных или растений. Несмотря на значительную роль творческой составляющей, основными видами деятельности являются игровая и ролевая.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9:37:58Z</dcterms:created>
  <dc:creator>Toshiba</dc:creator>
  <dc:description/>
  <dc:language>en-US</dc:language>
  <cp:lastModifiedBy>Анна Воронинa</cp:lastModifiedBy>
  <dcterms:modified xsi:type="dcterms:W3CDTF">2025-11-27T12:22:26Z</dcterms:modified>
  <cp:revision>47</cp:revision>
  <dc:subject/>
  <dc:title>Муниципальное  дошкольное образовательное учреждение  Детский сад № 23 «Радость»</dc:title>
</cp:coreProperties>
</file>