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4.png" ContentType="image/png"/>
  <Override PartName="/ppt/media/image10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931A-6C3F-4C14-9B57-DBBEC19E4D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FF64-F972-44D4-AD2B-336B0F0BFF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4DC-F102-497E-8477-D6B5BEF7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C5D-89EB-4FD2-8051-CD00FC7C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D82-F76C-46C0-84D6-0715EF7C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E20-AE83-42B9-A51D-6D52953E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AD9-CA94-4A4C-A5AA-080CA0BC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A63-F44C-4B74-935D-47DF2473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551-FE78-4169-9526-5BBF1A06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765-01F4-4591-B63D-8CC63B6E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9D6-0F50-40FD-B2B4-FCFBD49F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EC7-76A5-4982-9A37-3822D24B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D19-43B6-4485-B876-5E225C2A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143-A5B9-43AF-8B73-95B5E97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9F6D-FDED-4140-8A25-3E1C79FDCA7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qwertyuioiuytre.avi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http://soldmaral.ucoz.ru/shablonPPT/bezhevyj_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ННОВАЦИОННЫЕ И АКТИВНЫЕ МЕТОДЫ ОБУЧЕНИЯ И ВОСПИТАНИЯ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 УСЛОВИЯХ РЕАЛИЗАЦИИ ФГО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400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втор: Бурантаева Д.Е., преподаватель общественных дисцип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фон_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57120"/>
            <a:ext cx="822960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Преимущества электронных интерактивных форм обуч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35720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бучающиеся -  активные участники процесса обуч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величение объема самостоятельной рабо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риобретение навыка владения современными техническими средствами и технологиями обработки информ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Актуальность и оперативность получаем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Гибкость и доступ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стоянный контакт студентов с преподава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ндивидуальность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42920" y="3429000"/>
            <a:ext cx="8858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фон_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428760" y="0"/>
            <a:ext cx="47865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Электронное интерактивно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б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3500280"/>
            <a:ext cx="878688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бразовательная технология, при которой для передачи формальных и неформальных инструкций, поддержки и оценки используются сетевые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http://27sysday.ru/wp-content/uploads/2012/10/kak-podklyuchit-internet-na-2-kompyutera9.jpg"/>
          <p:cNvPicPr/>
          <p:nvPr/>
        </p:nvPicPr>
        <p:blipFill>
          <a:blip r:embed="rId2"/>
          <a:srcRect l="3751" t="8339" r="0" b="0"/>
          <a:stretch/>
        </p:blipFill>
        <p:spPr>
          <a:xfrm>
            <a:off x="3571920" y="285840"/>
            <a:ext cx="5500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8" descr="фон_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-2858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Электронное интерактивное обу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7120" y="1428840"/>
            <a:ext cx="82296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интерактивные ресурсы и материал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электронные библиотеки и ЭБС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обучающие материалы и курс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обсуждения в реальном режиме времен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чаты, видеочат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электронная почт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видеоконферен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видеоконсультации и программные приложения совместного использования (разделяемые рабочие пространства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357120" y="428760"/>
            <a:ext cx="3214800" cy="914400"/>
          </a:xfrm>
          <a:prstGeom prst="roundRect">
            <a:avLst>
              <a:gd name="adj" fmla="val 31819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редства и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571680" y="514368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нстру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3786120" y="4643280"/>
            <a:ext cx="2928960" cy="170028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б-конфер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лайн-семин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бин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право 9"/>
          <p:cNvSpPr/>
          <p:nvPr/>
        </p:nvSpPr>
        <p:spPr>
          <a:xfrm>
            <a:off x="2857680" y="5429160"/>
            <a:ext cx="928440" cy="357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c03bd"/>
                </a:solidFill>
                <a:latin typeface="Calibri"/>
              </a:rPr>
              <a:t>Технология </a:t>
            </a:r>
            <a:br>
              <a:rPr sz="2900"/>
            </a:br>
            <a:r>
              <a:rPr b="1" lang="ru-RU" sz="2900" spc="-1" strike="noStrike">
                <a:solidFill>
                  <a:srgbClr val="0c03bd"/>
                </a:solidFill>
                <a:latin typeface="Calibri"/>
              </a:rPr>
              <a:t>блочно-моду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хема 5" descr=""/>
          <p:cNvPicPr/>
          <p:nvPr/>
        </p:nvPicPr>
        <p:blipFill>
          <a:blip r:embed="rId1"/>
          <a:stretch/>
        </p:blipFill>
        <p:spPr>
          <a:xfrm>
            <a:off x="1547640" y="1914480"/>
            <a:ext cx="6334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фон_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студент.jpg"/>
          <p:cNvPicPr/>
          <p:nvPr/>
        </p:nvPicPr>
        <p:blipFill>
          <a:blip r:embed="rId2"/>
          <a:stretch/>
        </p:blipFill>
        <p:spPr>
          <a:xfrm>
            <a:off x="3214800" y="2717640"/>
            <a:ext cx="2643120" cy="311652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право 5"/>
          <p:cNvSpPr/>
          <p:nvPr/>
        </p:nvSpPr>
        <p:spPr>
          <a:xfrm rot="7035000">
            <a:off x="4300560" y="784800"/>
            <a:ext cx="2786040" cy="15714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7"/>
          <p:cNvSpPr/>
          <p:nvPr/>
        </p:nvSpPr>
        <p:spPr>
          <a:xfrm rot="4255200">
            <a:off x="979920" y="1140480"/>
            <a:ext cx="2786040" cy="15714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2020"/>
                </a:solidFill>
                <a:latin typeface="Calibri"/>
              </a:rPr>
              <a:t>Метод про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840" y="5316480"/>
            <a:ext cx="8929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168bba"/>
                </a:solidFill>
                <a:uFillTx/>
                <a:latin typeface="Calibri"/>
                <a:hlinkClick r:id="rId3"/>
              </a:rPr>
              <a:t>Прогресс наук и машин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— это полезное средство,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о единственной целью цивилизации является развитие человека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Э. Флайа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вправо 10"/>
          <p:cNvSpPr/>
          <p:nvPr/>
        </p:nvSpPr>
        <p:spPr>
          <a:xfrm rot="4255200">
            <a:off x="-408240" y="1425960"/>
            <a:ext cx="2786040" cy="15717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2020"/>
                </a:solidFill>
                <a:latin typeface="Calibri"/>
              </a:rPr>
              <a:t>Исследовательский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1"/>
          <p:cNvSpPr/>
          <p:nvPr/>
        </p:nvSpPr>
        <p:spPr>
          <a:xfrm rot="7035000">
            <a:off x="5515560" y="1240200"/>
            <a:ext cx="2786400" cy="15717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13"/>
          <p:cNvSpPr/>
          <p:nvPr/>
        </p:nvSpPr>
        <p:spPr>
          <a:xfrm rot="4329000">
            <a:off x="2424600" y="637200"/>
            <a:ext cx="2786040" cy="15714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2020"/>
                </a:solidFill>
                <a:latin typeface="Calibri"/>
              </a:rPr>
              <a:t>Модульное об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14"/>
          <p:cNvSpPr/>
          <p:nvPr/>
        </p:nvSpPr>
        <p:spPr>
          <a:xfrm rot="7035000">
            <a:off x="6729480" y="1597680"/>
            <a:ext cx="2786040" cy="15714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 rot="17866800">
            <a:off x="4485600" y="124596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2020"/>
                </a:solidFill>
                <a:latin typeface="Calibri"/>
              </a:rPr>
              <a:t>Дистанционное обу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9"/>
          <p:cNvSpPr/>
          <p:nvPr/>
        </p:nvSpPr>
        <p:spPr>
          <a:xfrm rot="17815200">
            <a:off x="6650280" y="1715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2020"/>
                </a:solidFill>
                <a:latin typeface="Arial"/>
              </a:rPr>
              <a:t>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0"/>
          <p:cNvSpPr/>
          <p:nvPr/>
        </p:nvSpPr>
        <p:spPr>
          <a:xfrm rot="17902200">
            <a:off x="7475400" y="191412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2020"/>
                </a:solidFill>
                <a:latin typeface="Arial"/>
              </a:rPr>
              <a:t>Кейс-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21"/>
          <p:cNvSpPr/>
          <p:nvPr/>
        </p:nvSpPr>
        <p:spPr>
          <a:xfrm rot="5400000">
            <a:off x="3464640" y="-1178640"/>
            <a:ext cx="2786040" cy="15717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22"/>
          <p:cNvSpPr/>
          <p:nvPr/>
        </p:nvSpPr>
        <p:spPr>
          <a:xfrm rot="6484200">
            <a:off x="6964560" y="-1432440"/>
            <a:ext cx="2786040" cy="15717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23"/>
          <p:cNvSpPr/>
          <p:nvPr/>
        </p:nvSpPr>
        <p:spPr>
          <a:xfrm rot="4641600">
            <a:off x="-321120" y="-1396800"/>
            <a:ext cx="2786040" cy="15714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Активные формы воспита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1500120"/>
            <a:ext cx="88581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Calibri"/>
              </a:rPr>
              <a:t>Проблемный классный час  -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начинается с вопросов, с проблемы, которую необходимо решить. Студента выполняют поисковую и исследовательскую деятель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Calibri"/>
              </a:rPr>
              <a:t>Классный час –визуализация  - 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учит студента преобразовывать устную, письменную информацию в визуальную форму, выделяя значимые  элементы.  Используются схемы, рисунки, анимации для привлечения вним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Классный час с заранее запланированными ошибками</a:t>
            </a:r>
            <a:r>
              <a:rPr b="1" lang="ru-RU" sz="3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84280"/>
            <a:ext cx="70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Которые должны обнаружить студен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Список ошибок студенты узнают в конц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Подбираются распространенные ошибки, которые делают как студенты, так и преподавате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Студенты во время урока должны обнаружить ошибки и занести на лис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В конце классного часа проводитс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0066"/>
                </a:solidFill>
                <a:latin typeface="Calibri"/>
              </a:rPr>
              <a:t>их обсужд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C:\Documents and Settings\Мамуля\Мои документы\Downloads\9762185_a2b65e76af0d72fc2dfd48baf7b3ac3d1.gif"/>
          <p:cNvPicPr/>
          <p:nvPr/>
        </p:nvPicPr>
        <p:blipFill>
          <a:blip r:embed="rId1"/>
          <a:stretch/>
        </p:blipFill>
        <p:spPr>
          <a:xfrm>
            <a:off x="6659640" y="4508640"/>
            <a:ext cx="23572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Классный час -диску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85880" y="1714320"/>
            <a:ext cx="62150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целенаправленное, коллективное обсуждение конкретной проблемы, сопровождающееся обменом идеями, суждениями, мнениями в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33"/>
                </a:solidFill>
                <a:latin typeface="Calibri"/>
              </a:rPr>
              <a:t>Виды дискусс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alibri"/>
              </a:rPr>
              <a:t>Тематическая: 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обсуждаемые вопросы связаны с темой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alibri"/>
              </a:rPr>
              <a:t>Биографическая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: ориентирована на индивидуальный прошлый опыт участ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alibri"/>
              </a:rPr>
              <a:t>Интеракционная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: обсуждаются структура и содержание отношений, складывающихся «здесь» и «тепер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VIDEOS"/>
          <p:cNvPicPr/>
          <p:nvPr/>
        </p:nvPicPr>
        <p:blipFill>
          <a:blip r:embed="rId1"/>
          <a:stretch/>
        </p:blipFill>
        <p:spPr>
          <a:xfrm>
            <a:off x="6929280" y="2000160"/>
            <a:ext cx="192888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Мозговой штурм 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(мозговая атак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35720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свободная форма дискуссии, позволяет быстро включить в работу всех студентов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Используется для решения конкретной проблемы или поиска ответа на вопро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Это способ поощрения активности учеников               и быстрого генерирования и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6" descr="http://s_3.ord.edu54.ru/images/antn027.gif"/>
          <p:cNvPicPr/>
          <p:nvPr/>
        </p:nvPicPr>
        <p:blipFill>
          <a:blip r:embed="rId1"/>
          <a:stretch/>
        </p:blipFill>
        <p:spPr>
          <a:xfrm>
            <a:off x="6572160" y="4286160"/>
            <a:ext cx="24289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356760"/>
            <a:ext cx="8015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i="1" lang="ru-RU" sz="2600" spc="-1" strike="noStrike">
                <a:solidFill>
                  <a:srgbClr val="660033"/>
                </a:solidFill>
                <a:latin typeface="Calibri"/>
              </a:rPr>
              <a:t>Классный час – пресс-конференц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480" y="150012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еподаватель объявляет тему классного 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сит студентов письменно задавать ему вопросы по данной тем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Студенты формулируют вопросы в течение 5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Далее преподаватель сортирует поступившие записки и читает в форме связного раскрытия 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В процессе которого формулируются ответы на заданные вопрос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В конце преподаватель проводит итоговую оценку вопросов, выявляя знания и интересы студ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CONTACTS"/>
          <p:cNvPicPr/>
          <p:nvPr/>
        </p:nvPicPr>
        <p:blipFill>
          <a:blip r:embed="rId1"/>
          <a:stretch/>
        </p:blipFill>
        <p:spPr>
          <a:xfrm>
            <a:off x="6858000" y="1785960"/>
            <a:ext cx="2046240" cy="36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фон_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7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3792a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Инновационная образовательная технология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29000" y="2049120"/>
            <a:ext cx="517536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орма организации учебного процесса,   гарантирующая воспроизведение сходных результатов в определенных педагогических условиях, включающая некое новшество методического, организационного, технического и т.п. харак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smu-kgu.edu.crimea.ua/files2/images/dlya_novostey/konference.jpg?size=6"/>
          <p:cNvPicPr/>
          <p:nvPr/>
        </p:nvPicPr>
        <p:blipFill>
          <a:blip r:embed="rId2"/>
          <a:stretch/>
        </p:blipFill>
        <p:spPr>
          <a:xfrm>
            <a:off x="214200" y="24289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alibri"/>
              </a:rPr>
              <a:t>Активные формы воспита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1320" y="1527120"/>
            <a:ext cx="862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alibri"/>
              </a:rPr>
              <a:t>Классный час с разбором конкретной ситу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изложенной устно или в виде видеозаписи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студенты совместно анализируют и обсуждают представленный матери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6600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33"/>
                </a:solidFill>
                <a:latin typeface="Calibri"/>
              </a:rPr>
              <a:t>классный час </a:t>
            </a:r>
            <a:r>
              <a:rPr b="0" i="1" lang="ru-RU" sz="2700" spc="-1" strike="noStrike">
                <a:solidFill>
                  <a:srgbClr val="660033"/>
                </a:solidFill>
                <a:latin typeface="Calibri"/>
              </a:rPr>
              <a:t>–консультац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50% на вопросы студенто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50% времени отводится для отве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в том числе с привлечением специальных консультантов в области изучаемой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33"/>
                </a:solidFill>
                <a:latin typeface="Calibri"/>
              </a:rPr>
              <a:t>«Круглый стол»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сочетание тематической дискуссии с групповой консультацией,  по­зволяет сформировать умения решать проблемы, научить культуре ведения диску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Методы группового решения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Calibri"/>
              </a:rPr>
              <a:t>творческих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132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Метод дневников  -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участники решения проблемы записывают появившиеся в определенный период времени (неделя и т.п.) идеи – с последующим коллективным их обсужд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Метод развивающейся кооперации -  ставиться </a:t>
            </a:r>
            <a:r>
              <a:rPr b="0" lang="ru-RU" sz="1900" spc="-1" strike="noStrike">
                <a:solidFill>
                  <a:srgbClr val="000066"/>
                </a:solidFill>
                <a:latin typeface="Calibri"/>
              </a:rPr>
              <a:t>задача,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которую трудно выполнить в индивидуальном порядке и  нужна кооперация (объединение)  студентов с распределением внутренних ролей в групп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Создаются группы  из 6–8 человек, а далее каждая группа предлагает свой вариант  решения и начинается дискуссия, в ходе которой группы должны доказать истинность своего варианта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500880" y="2928960"/>
            <a:ext cx="2554200" cy="34624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82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libri"/>
              </a:rPr>
              <a:t>Классификация иг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92844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По игровой методике: 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предметные, сюжетные, ролевые, деловые, имитационные, драмат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По характеру педагогического процесса: 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обучающие, познавательные, репродуктивные, творческие, обобщающие, диагностические, тренинговые, контролирующие, развиваю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По области деятельности: 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интеллектуальные, социальные, психологические, физические, трудо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По игровой среде: 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компьютерные, технические, настольные, телевизио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428760" y="1571760"/>
            <a:ext cx="8135640" cy="295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  <a:ea typeface="Arial"/>
              </a:rPr>
              <a:t>Личностная значимость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  <a:ea typeface="Arial"/>
              </a:rPr>
              <a:t> и заинтересованность студ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  <a:ea typeface="Arial"/>
              </a:rPr>
              <a:t>К чему душа леж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  <a:ea typeface="Arial"/>
              </a:rPr>
              <a:t>к тому и руки приложа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3024360" cy="289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2950920" cy="1903320"/>
          </a:xfrm>
          <a:prstGeom prst="rect">
            <a:avLst/>
          </a:prstGeom>
          <a:ln w="0">
            <a:noFill/>
          </a:ln>
        </p:spPr>
      </p:pic>
      <p:sp>
        <p:nvSpPr>
          <p:cNvPr id="139" name="Line 4"/>
          <p:cNvSpPr/>
          <p:nvPr/>
        </p:nvSpPr>
        <p:spPr>
          <a:xfrm flipV="1">
            <a:off x="2627280" y="5083200"/>
            <a:ext cx="4249800" cy="218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50920" y="18900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33"/>
                </a:solidFill>
                <a:latin typeface="Georgia"/>
                <a:ea typeface="Arial"/>
              </a:rPr>
              <a:t>Критерии эффектив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  <a:ea typeface="Arial"/>
              </a:rPr>
              <a:t>представленных методов и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фон_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85840" y="1214280"/>
          <a:ext cx="8572320" cy="5202360"/>
        </p:xfrm>
        <a:graphic>
          <a:graphicData uri="http://schemas.openxmlformats.org/drawingml/2006/table">
            <a:tbl>
              <a:tblPr/>
              <a:tblGrid>
                <a:gridCol w="2286000"/>
                <a:gridCol w="3259080"/>
                <a:gridCol w="3027240"/>
              </a:tblGrid>
              <a:tr h="632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адицион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дель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новацион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дель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евой акц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ультат обу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цесс обучения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ль </a:t>
                      </a:r>
                      <a:br>
                        <a:rPr sz="2200"/>
                      </a:br>
                      <a:r>
                        <a:rPr b="0" i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подавател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ду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сультати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br>
                        <a:rPr sz="2200"/>
                      </a:br>
                      <a:r>
                        <a:rPr b="0" i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ъявления </a:t>
                      </a:r>
                      <a:br>
                        <a:rPr sz="2200"/>
                      </a:br>
                      <a:r>
                        <a:rPr b="0" i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нан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«готовом виде», по образцу, с преобладанием вербальных методов и текстовых фор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ктивные фор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спользование 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иповы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ладное использование знаний в реальных услов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обладающая форма учеб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ронта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лективные и групповые формы учебной работы, индивидуа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5"/>
          <p:cNvSpPr/>
          <p:nvPr/>
        </p:nvSpPr>
        <p:spPr>
          <a:xfrm>
            <a:off x="0" y="0"/>
            <a:ext cx="878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Сравнительная характери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традиционной и инновационной технологий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фон_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1285920"/>
          <a:ext cx="9001080" cy="5143320"/>
        </p:xfrm>
        <a:graphic>
          <a:graphicData uri="http://schemas.openxmlformats.org/drawingml/2006/table">
            <a:tbl>
              <a:tblPr/>
              <a:tblGrid>
                <a:gridCol w="1643040"/>
                <a:gridCol w="3927600"/>
                <a:gridCol w="3430440"/>
              </a:tblGrid>
              <a:tr h="63972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новационные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д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лючевые особ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виваем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арактерис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адиционной модел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текстно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теграция различных видов деятельности студентов: учебной, научной практической. Создание условий, максимально приближенных к реа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величение доли </a:t>
                      </a:r>
                      <a:r>
                        <a:rPr b="0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ктической работы студента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итационно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спользование игровых и имитационных форм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величение доли </a:t>
                      </a:r>
                      <a:r>
                        <a:rPr b="0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ктивных методов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блемн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ициирование самостоятельного поиска студентом знаний через проблематизацию преподавателем учеб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зменение характера учебного труда и учебной зада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с репродуктивного на продуктивный, творчес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дульн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держание учебного материала жестко структурировано в целях его максимального усвоения, сопровождаясь обязательными блоками упражнений и контроля по каждому фрагмен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ецифическая </a:t>
                      </a:r>
                      <a:r>
                        <a:rPr b="0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ация учебного материала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– в наиболее сжатом и понятном для студента ви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станционно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ирокий доступ к образовательным ресурсам, предельно опосредованная роль преподавателя и самостоятельная и автономная роль студ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спользование новейших информационно-коммуникативных средств и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85840" y="4320"/>
            <a:ext cx="854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Сравнение характери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инновационных моделей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0" descr="фон_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Пассивное обучение"/>
          <p:cNvPicPr/>
          <p:nvPr/>
        </p:nvPicPr>
        <p:blipFill>
          <a:blip r:embed="rId2"/>
          <a:stretch/>
        </p:blipFill>
        <p:spPr>
          <a:xfrm>
            <a:off x="2286000" y="3929040"/>
            <a:ext cx="435780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Активное обучение"/>
          <p:cNvPicPr/>
          <p:nvPr/>
        </p:nvPicPr>
        <p:blipFill>
          <a:blip r:embed="rId3"/>
          <a:stretch/>
        </p:blipFill>
        <p:spPr>
          <a:xfrm>
            <a:off x="5643720" y="500040"/>
            <a:ext cx="2857320" cy="3071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Интерактивное обучение"/>
          <p:cNvPicPr/>
          <p:nvPr/>
        </p:nvPicPr>
        <p:blipFill>
          <a:blip r:embed="rId4"/>
          <a:stretch/>
        </p:blipFill>
        <p:spPr>
          <a:xfrm>
            <a:off x="857160" y="500040"/>
            <a:ext cx="28576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530280" y="463680"/>
            <a:ext cx="8253360" cy="119376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3" descr=""/>
          <p:cNvPicPr/>
          <p:nvPr/>
        </p:nvPicPr>
        <p:blipFill>
          <a:blip r:embed="rId2"/>
          <a:stretch/>
        </p:blipFill>
        <p:spPr>
          <a:xfrm>
            <a:off x="542880" y="19875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9" descr="фон_1.pn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3214800" y="-145800"/>
            <a:ext cx="59292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ринцип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нновационного обуч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0"/>
          <p:cNvSpPr/>
          <p:nvPr/>
        </p:nvSpPr>
        <p:spPr>
          <a:xfrm>
            <a:off x="1000080" y="1357200"/>
            <a:ext cx="5715000" cy="7714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виду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4"/>
          <p:cNvSpPr/>
          <p:nvPr/>
        </p:nvSpPr>
        <p:spPr>
          <a:xfrm>
            <a:off x="1000080" y="2286000"/>
            <a:ext cx="5715000" cy="7048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5"/>
          <p:cNvSpPr/>
          <p:nvPr/>
        </p:nvSpPr>
        <p:spPr>
          <a:xfrm>
            <a:off x="1000080" y="3143160"/>
            <a:ext cx="5715000" cy="6955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ле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6"/>
          <p:cNvSpPr/>
          <p:nvPr/>
        </p:nvSpPr>
        <p:spPr>
          <a:xfrm>
            <a:off x="1000080" y="4000680"/>
            <a:ext cx="5715000" cy="7142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екст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7"/>
          <p:cNvSpPr/>
          <p:nvPr/>
        </p:nvSpPr>
        <p:spPr>
          <a:xfrm>
            <a:off x="1000080" y="4857840"/>
            <a:ext cx="5715000" cy="7142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сотрудн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8"/>
          <p:cNvSpPr/>
          <p:nvPr/>
        </p:nvSpPr>
        <p:spPr>
          <a:xfrm>
            <a:off x="1071720" y="5715000"/>
            <a:ext cx="5643360" cy="7142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методов актив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фон_1.png"/>
          <p:cNvPicPr/>
          <p:nvPr/>
        </p:nvPicPr>
        <p:blipFill>
          <a:blip r:embed="rId1"/>
          <a:stretch/>
        </p:blipFill>
        <p:spPr>
          <a:xfrm>
            <a:off x="-10800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324000" y="-379800"/>
            <a:ext cx="854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своение материала при использовании активных метод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0"/>
          <p:cNvSpPr/>
          <p:nvPr/>
        </p:nvSpPr>
        <p:spPr>
          <a:xfrm>
            <a:off x="1000080" y="1357200"/>
            <a:ext cx="5715000" cy="7714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лекционной подаче материала –  не более 20-30%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4"/>
          <p:cNvSpPr/>
          <p:nvPr/>
        </p:nvSpPr>
        <p:spPr>
          <a:xfrm>
            <a:off x="2000160" y="2428920"/>
            <a:ext cx="5715000" cy="1071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самостоятельной работе с литературой — до 5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5"/>
          <p:cNvSpPr/>
          <p:nvPr/>
        </p:nvSpPr>
        <p:spPr>
          <a:xfrm>
            <a:off x="642960" y="3857760"/>
            <a:ext cx="5715000" cy="9284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проговаривании — до 7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6"/>
          <p:cNvSpPr/>
          <p:nvPr/>
        </p:nvSpPr>
        <p:spPr>
          <a:xfrm>
            <a:off x="2714760" y="5143680"/>
            <a:ext cx="5715000" cy="1071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личном участии в изучаемой деятельности  — до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596880" y="609480"/>
            <a:ext cx="8255160" cy="119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39280" y="2349000"/>
            <a:ext cx="8317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Inter» — это «взаимный», «act» -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ИНТЕРАКТИВНОЕ ОБУЧ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обучение,    построенное на взаимодействии обучающегося с учебным окружением, учебной средой, которая служит областью осваиваемого опы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8:35:20Z</dcterms:created>
  <dc:creator>света</dc:creator>
  <dc:description/>
  <dc:language>en-US</dc:language>
  <cp:lastModifiedBy>Учетная запись Майкрософт</cp:lastModifiedBy>
  <dcterms:modified xsi:type="dcterms:W3CDTF">2025-12-02T05:29:17Z</dcterms:modified>
  <cp:revision>226</cp:revision>
  <dc:subject/>
  <dc:title>инновационные образовательные  методы и технологии</dc:title>
</cp:coreProperties>
</file>