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37.jpeg" ContentType="image/jpeg"/>
  <Override PartName="/ppt/media/image42.jpeg" ContentType="image/jpeg"/>
  <Override PartName="/ppt/media/image51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40.jpeg" ContentType="image/jpeg"/>
  <Override PartName="/ppt/media/image46.png" ContentType="image/png"/>
  <Override PartName="/ppt/media/image47.jpeg" ContentType="image/jpeg"/>
  <Override PartName="/ppt/media/image48.wmf" ContentType="image/x-wmf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5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5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1EC8-C51E-4B10-A35D-C9B48B4A55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E1B-2C61-4D3E-9DA7-BD2EC2D18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D3A-D0FB-42B1-9C67-434C42F052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7D4-C4D9-4D94-9643-3FF89AE5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BBD-C7FA-4AF7-A561-3D8B6BD9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5B8-4E50-4A10-B016-846A27E0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B5D-80A8-4F14-9271-2696A2A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391-35B7-4F90-8654-81880BE5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DB2-F8DD-4E72-8B96-14463E1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30DB-23BC-44B5-B54C-18CE64F9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1D43-6FD3-4431-88F8-47ABA9A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0A4-50BA-4568-A96B-FD9E7AF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2C4-84BF-49D9-9232-87D9EC8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B1CE-92B4-4790-8BB4-6AC5E42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5EE-2367-4092-9C52-F1975C17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305-A599-4F6E-990A-AA79D74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7D3-B26E-45FF-A4A2-EBF9ED8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FFC6-8097-4EF5-AAF9-BD78F8B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9061-C0F7-42E8-AE97-EC324988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9165-9F7D-4B7C-86C2-9479BC3C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EEA3-2A16-4622-87D1-4B86C57E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7190-845C-4EEC-AEDF-E547D733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AD3C-9AAA-44E8-A83F-06BF4B4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CB4E-F1EC-41E3-8AB0-5764557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B8D1-7E7D-4242-9585-A336D47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1F9-C6A6-44DF-904A-78C44A2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90D9-2D46-4505-9FA7-CDD433A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EA17-288E-460D-BDC5-7CAA29B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027D-3A04-4DED-BF2C-F9749A96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0ABF-12EF-4636-B30D-57917B3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B0B5-8F6E-49FF-A710-907EEEB6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39F9-93B1-429B-A0B5-57E00B2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5F83-D1A7-4540-BAE7-02887929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5B99-E789-4CE6-A568-B7D91B0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98EA-58DB-4829-A65C-2F313C1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86C3-93AD-4136-8143-EA075B1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3E2-035B-48AD-AAF0-6A74CCA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5040-171D-486B-9A38-430C5529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C79F-78A3-4207-BC26-992AAB77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5F5A-D635-4BCA-A6DB-65F36945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5049-5396-490F-AAEF-A12FB3B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1E771-FBC2-4FAB-BAFA-02C17C9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F0C2-89DC-4EF4-A38F-B1E1D6D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40FC-D248-45DD-9769-A3F79F18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6790-D2DF-4E72-8078-E99D9565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F0073-3F67-43A4-88E5-37BF96B9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3823A-21AD-420A-AAF4-AD087E49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0F0-8F3F-45D8-9E6A-D3F4767A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77BF-B840-4695-915C-0B69275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C933-18CB-4143-AAD2-643AA1CB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1900E-1C3F-4D59-81CA-1662306A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7FD37-2E0B-4D8C-A2F2-B555AD7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3133-091D-4C86-AEBE-4962F7D7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56D7-32E3-4B04-811C-8E235FA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8AEC-735E-4459-990B-2407AFB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583F-8121-4895-A325-838740C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4826-E4C8-4FFC-B183-96A7EC56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D243-99D4-43D1-9FBD-EBAC0700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A4F-5110-43D0-845E-80B355D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B0EE-977B-4AD5-88F0-00F077F3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C2C-0CA4-41AE-8D7A-F794045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40D-9CC3-425E-82A4-77EA1B2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748-02CC-4161-8AC3-79940FE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43E5-94EC-4492-8B3F-31476C25CB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CB18-59F1-4129-9F8F-E6050ECA14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540-45A7-4BF5-8817-C8500894A9B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849C-3FBF-4E5F-83A1-F0AB222BCA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239-9118-4A3C-B7F6-82D9E1BFBA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7.jpeg"/><Relationship Id="rId7" Type="http://schemas.openxmlformats.org/officeDocument/2006/relationships/image" Target="../media/image48.wmf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jpeg"/><Relationship Id="rId14" Type="http://schemas.openxmlformats.org/officeDocument/2006/relationships/image" Target="../media/image55.jpeg"/><Relationship Id="rId15" Type="http://schemas.openxmlformats.org/officeDocument/2006/relationships/image" Target="../media/image56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3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54880" y="260280"/>
            <a:ext cx="2249280" cy="288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0"/>
          <p:cNvGrpSpPr/>
          <p:nvPr/>
        </p:nvGrpSpPr>
        <p:grpSpPr>
          <a:xfrm>
            <a:off x="179280" y="223920"/>
            <a:ext cx="8785440" cy="6408720"/>
            <a:chOff x="179280" y="223920"/>
            <a:chExt cx="8785440" cy="6408720"/>
          </a:xfrm>
        </p:grpSpPr>
        <p:sp>
          <p:nvSpPr>
            <p:cNvPr id="229" name="Line 6"/>
            <p:cNvSpPr/>
            <p:nvPr/>
          </p:nvSpPr>
          <p:spPr>
            <a:xfrm>
              <a:off x="468360" y="223920"/>
              <a:ext cx="0" cy="6408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179280" y="6561360"/>
              <a:ext cx="878544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>
              <a:off x="395280" y="6417000"/>
              <a:ext cx="36720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324000" y="223920"/>
              <a:ext cx="0" cy="5473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1"/>
          <p:cNvSpPr/>
          <p:nvPr/>
        </p:nvSpPr>
        <p:spPr>
          <a:xfrm>
            <a:off x="792000" y="428760"/>
            <a:ext cx="9807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Зачем челове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нужна зубная щетка?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Прямоугольник 8" descr=""/>
          <p:cNvPicPr/>
          <p:nvPr/>
        </p:nvPicPr>
        <p:blipFill>
          <a:blip r:embed="rId2"/>
          <a:stretch/>
        </p:blipFill>
        <p:spPr>
          <a:xfrm>
            <a:off x="1920960" y="6059520"/>
            <a:ext cx="5156280" cy="11558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Documents and Settings\Admin\Local Settings\Temporary Internet Files\Content.IE5\ZK29EVE6\MCj04414280000[1].png"/>
          <p:cNvPicPr/>
          <p:nvPr/>
        </p:nvPicPr>
        <p:blipFill>
          <a:blip r:embed="rId3"/>
          <a:stretch/>
        </p:blipFill>
        <p:spPr>
          <a:xfrm>
            <a:off x="4143240" y="4000680"/>
            <a:ext cx="2373480" cy="2373120"/>
          </a:xfrm>
          <a:prstGeom prst="rect">
            <a:avLst/>
          </a:prstGeom>
          <a:ln w="0">
            <a:noFill/>
          </a:ln>
        </p:spPr>
      </p:pic>
      <p:sp>
        <p:nvSpPr>
          <p:cNvPr id="236" name="Стрелка вниз 10"/>
          <p:cNvSpPr/>
          <p:nvPr/>
        </p:nvSpPr>
        <p:spPr>
          <a:xfrm>
            <a:off x="5143680" y="3000240"/>
            <a:ext cx="483840" cy="97812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4418280" y="32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004_b"/>
          <p:cNvPicPr/>
          <p:nvPr/>
        </p:nvPicPr>
        <p:blipFill>
          <a:blip r:embed="rId1"/>
          <a:stretch/>
        </p:blipFill>
        <p:spPr>
          <a:xfrm>
            <a:off x="5219640" y="2421000"/>
            <a:ext cx="3732120" cy="2198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0904"/>
          <p:cNvPicPr/>
          <p:nvPr/>
        </p:nvPicPr>
        <p:blipFill>
          <a:blip r:embed="rId2"/>
          <a:stretch/>
        </p:blipFill>
        <p:spPr>
          <a:xfrm>
            <a:off x="2700360" y="4341960"/>
            <a:ext cx="3778200" cy="2516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1907"/>
          <p:cNvPicPr/>
          <p:nvPr/>
        </p:nvPicPr>
        <p:blipFill>
          <a:blip r:embed="rId3"/>
          <a:stretch/>
        </p:blipFill>
        <p:spPr>
          <a:xfrm>
            <a:off x="2987640" y="2349360"/>
            <a:ext cx="1714680" cy="1809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5"/>
          <p:cNvPicPr/>
          <p:nvPr/>
        </p:nvPicPr>
        <p:blipFill>
          <a:blip r:embed="rId4"/>
          <a:stretch/>
        </p:blipFill>
        <p:spPr>
          <a:xfrm>
            <a:off x="179280" y="2492280"/>
            <a:ext cx="2417760" cy="3489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6"/>
          <p:cNvSpPr/>
          <p:nvPr/>
        </p:nvSpPr>
        <p:spPr>
          <a:xfrm>
            <a:off x="1357200" y="50004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шьте полезные для здоровья зубов продукты: свежие овощи, фрукты, молочные 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8" descr="C:\Documents and Settings\Admin\Мои документы\Мои рисунки\vitamini5.jpg"/>
          <p:cNvPicPr/>
          <p:nvPr/>
        </p:nvPicPr>
        <p:blipFill>
          <a:blip r:embed="rId5"/>
          <a:stretch/>
        </p:blipFill>
        <p:spPr>
          <a:xfrm>
            <a:off x="6429240" y="4357800"/>
            <a:ext cx="23576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konf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417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30686"/>
          <p:cNvPicPr/>
          <p:nvPr/>
        </p:nvPicPr>
        <p:blipFill>
          <a:blip r:embed="rId2"/>
          <a:stretch/>
        </p:blipFill>
        <p:spPr>
          <a:xfrm>
            <a:off x="5292720" y="1341360"/>
            <a:ext cx="3340080" cy="2506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219036e633db"/>
          <p:cNvPicPr/>
          <p:nvPr/>
        </p:nvPicPr>
        <p:blipFill>
          <a:blip r:embed="rId3"/>
          <a:stretch/>
        </p:blipFill>
        <p:spPr>
          <a:xfrm>
            <a:off x="500040" y="4000680"/>
            <a:ext cx="3460680" cy="2597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ven6"/>
          <p:cNvPicPr/>
          <p:nvPr/>
        </p:nvPicPr>
        <p:blipFill>
          <a:blip r:embed="rId4"/>
          <a:stretch/>
        </p:blipFill>
        <p:spPr>
          <a:xfrm>
            <a:off x="5292720" y="4005360"/>
            <a:ext cx="3460680" cy="259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153306"/>
          <p:cNvPicPr/>
          <p:nvPr/>
        </p:nvPicPr>
        <p:blipFill>
          <a:blip r:embed="rId5"/>
          <a:stretch/>
        </p:blipFill>
        <p:spPr>
          <a:xfrm>
            <a:off x="3132000" y="2997360"/>
            <a:ext cx="3063960" cy="21380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6"/>
          <p:cNvSpPr/>
          <p:nvPr/>
        </p:nvSpPr>
        <p:spPr>
          <a:xfrm>
            <a:off x="1357200" y="21420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шьте меньше слад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slide0006_image006"/>
          <p:cNvPicPr/>
          <p:nvPr/>
        </p:nvPicPr>
        <p:blipFill>
          <a:blip r:embed="rId1"/>
          <a:stretch/>
        </p:blipFill>
        <p:spPr>
          <a:xfrm>
            <a:off x="0" y="1643040"/>
            <a:ext cx="4714920" cy="2995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AR00280"/>
          <p:cNvPicPr/>
          <p:nvPr/>
        </p:nvPicPr>
        <p:blipFill>
          <a:blip r:embed="rId2"/>
          <a:stretch/>
        </p:blipFill>
        <p:spPr>
          <a:xfrm>
            <a:off x="500040" y="4044960"/>
            <a:ext cx="3747960" cy="2813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slide0003_image004"/>
          <p:cNvPicPr/>
          <p:nvPr/>
        </p:nvPicPr>
        <p:blipFill>
          <a:blip r:embed="rId3"/>
          <a:stretch/>
        </p:blipFill>
        <p:spPr>
          <a:xfrm>
            <a:off x="5148360" y="1773360"/>
            <a:ext cx="3749400" cy="2568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009"/>
          <p:cNvPicPr/>
          <p:nvPr/>
        </p:nvPicPr>
        <p:blipFill>
          <a:blip r:embed="rId4"/>
          <a:stretch/>
        </p:blipFill>
        <p:spPr>
          <a:xfrm>
            <a:off x="4929120" y="4459320"/>
            <a:ext cx="4214880" cy="23986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5"/>
          <p:cNvSpPr/>
          <p:nvPr/>
        </p:nvSpPr>
        <p:spPr>
          <a:xfrm>
            <a:off x="642960" y="28584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 грызите орехи, леденцы и другие твёрдые проду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141_600x399_IMG_3512_1"/>
          <p:cNvPicPr/>
          <p:nvPr/>
        </p:nvPicPr>
        <p:blipFill>
          <a:blip r:embed="rId1"/>
          <a:stretch/>
        </p:blipFill>
        <p:spPr>
          <a:xfrm>
            <a:off x="179280" y="1844640"/>
            <a:ext cx="4829400" cy="321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001-1"/>
          <p:cNvPicPr/>
          <p:nvPr/>
        </p:nvPicPr>
        <p:blipFill>
          <a:blip r:embed="rId2"/>
          <a:stretch/>
        </p:blipFill>
        <p:spPr>
          <a:xfrm>
            <a:off x="4867200" y="3648240"/>
            <a:ext cx="4276800" cy="32097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3"/>
          <p:cNvSpPr/>
          <p:nvPr/>
        </p:nvSpPr>
        <p:spPr>
          <a:xfrm>
            <a:off x="0" y="4287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 чередуйте горячую и холодную пищу: зубная эмаль может потреск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Documents and Settings\Admin\Local Settings\Temporary Internet Files\Content.IE5\5KWK8RV7\MCj04378370000[1].wmf"/>
          <p:cNvPicPr/>
          <p:nvPr/>
        </p:nvPicPr>
        <p:blipFill>
          <a:blip r:embed="rId1"/>
          <a:stretch/>
        </p:blipFill>
        <p:spPr>
          <a:xfrm>
            <a:off x="285840" y="2000160"/>
            <a:ext cx="3500280" cy="2641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Documents and Settings\Admin\Local Settings\Temporary Internet Files\Content.IE5\5KWK8RV7\MCj04378370000[1].wmf"/>
          <p:cNvPicPr/>
          <p:nvPr/>
        </p:nvPicPr>
        <p:blipFill>
          <a:blip r:embed="rId2"/>
          <a:stretch/>
        </p:blipFill>
        <p:spPr>
          <a:xfrm>
            <a:off x="4643280" y="1785960"/>
            <a:ext cx="3571920" cy="271476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4" descr=""/>
          <p:cNvPicPr/>
          <p:nvPr/>
        </p:nvPicPr>
        <p:blipFill>
          <a:blip r:embed="rId3"/>
          <a:stretch/>
        </p:blipFill>
        <p:spPr>
          <a:xfrm>
            <a:off x="5278320" y="208080"/>
            <a:ext cx="3872160" cy="11570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5" descr=""/>
          <p:cNvPicPr/>
          <p:nvPr/>
        </p:nvPicPr>
        <p:blipFill>
          <a:blip r:embed="rId4"/>
          <a:stretch/>
        </p:blipFill>
        <p:spPr>
          <a:xfrm>
            <a:off x="-6480" y="420840"/>
            <a:ext cx="4657680" cy="115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0_1edc1_27568922_L"/>
          <p:cNvPicPr/>
          <p:nvPr/>
        </p:nvPicPr>
        <p:blipFill>
          <a:blip r:embed="rId5"/>
          <a:stretch/>
        </p:blipFill>
        <p:spPr>
          <a:xfrm>
            <a:off x="3714840" y="785880"/>
            <a:ext cx="785880" cy="711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0_1edc1_27568922_L"/>
          <p:cNvPicPr/>
          <p:nvPr/>
        </p:nvPicPr>
        <p:blipFill>
          <a:blip r:embed="rId6"/>
          <a:stretch/>
        </p:blipFill>
        <p:spPr>
          <a:xfrm>
            <a:off x="8501040" y="714240"/>
            <a:ext cx="642960" cy="711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Documents and Settings\Admin\Local Settings\Temporary Internet Files\Content.IE5\QES5YMC0\MCj04248540000[1].wmf"/>
          <p:cNvPicPr/>
          <p:nvPr/>
        </p:nvPicPr>
        <p:blipFill>
          <a:blip r:embed="rId7"/>
          <a:stretch/>
        </p:blipFill>
        <p:spPr>
          <a:xfrm>
            <a:off x="6286680" y="5973840"/>
            <a:ext cx="641160" cy="884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C:\Documents and Settings\Admin\Local Settings\Temporary Internet Files\Content.IE5\0DQL74X3\MPj04384710000[1].jpg"/>
          <p:cNvPicPr/>
          <p:nvPr/>
        </p:nvPicPr>
        <p:blipFill>
          <a:blip r:embed="rId8"/>
          <a:stretch/>
        </p:blipFill>
        <p:spPr>
          <a:xfrm>
            <a:off x="6929280" y="6087960"/>
            <a:ext cx="635040" cy="770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C:\Documents and Settings\Admin\Local Settings\Temporary Internet Files\Content.IE5\ZK29EVE6\MPj04031620000[1].jpg"/>
          <p:cNvPicPr/>
          <p:nvPr/>
        </p:nvPicPr>
        <p:blipFill>
          <a:blip r:embed="rId9"/>
          <a:stretch/>
        </p:blipFill>
        <p:spPr>
          <a:xfrm>
            <a:off x="785880" y="6237360"/>
            <a:ext cx="928800" cy="620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Documents and Settings\Admin\Мои документы\Мои рисунки\Рисунок32.gif"/>
          <p:cNvPicPr/>
          <p:nvPr/>
        </p:nvPicPr>
        <p:blipFill>
          <a:blip r:embed="rId10"/>
          <a:stretch/>
        </p:blipFill>
        <p:spPr>
          <a:xfrm>
            <a:off x="2820960" y="6215040"/>
            <a:ext cx="465120" cy="64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C:\Documents and Settings\Admin\Мои документы\Мои рисунки\Рисунок66.gif"/>
          <p:cNvPicPr/>
          <p:nvPr/>
        </p:nvPicPr>
        <p:blipFill>
          <a:blip r:embed="rId11"/>
          <a:stretch/>
        </p:blipFill>
        <p:spPr>
          <a:xfrm>
            <a:off x="2214720" y="6357960"/>
            <a:ext cx="502920" cy="500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C:\Documents and Settings\Admin\Local Settings\Temporary Internet Files\Content.IE5\22E5WHZS\MCj04397670000[1].png"/>
          <p:cNvPicPr/>
          <p:nvPr/>
        </p:nvPicPr>
        <p:blipFill>
          <a:blip r:embed="rId12"/>
          <a:stretch/>
        </p:blipFill>
        <p:spPr>
          <a:xfrm>
            <a:off x="4416480" y="6143760"/>
            <a:ext cx="584280" cy="714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5" descr="C:\Documents and Settings\Admin\Мои документы\Мои рисунки\3c9565ae9c3b7603d824511d577bc682_600.jpg"/>
          <p:cNvPicPr/>
          <p:nvPr/>
        </p:nvPicPr>
        <p:blipFill>
          <a:blip r:embed="rId13"/>
          <a:stretch/>
        </p:blipFill>
        <p:spPr>
          <a:xfrm>
            <a:off x="7705800" y="6072120"/>
            <a:ext cx="1238040" cy="78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konf"/>
          <p:cNvPicPr/>
          <p:nvPr/>
        </p:nvPicPr>
        <p:blipFill>
          <a:blip r:embed="rId14"/>
          <a:stretch/>
        </p:blipFill>
        <p:spPr>
          <a:xfrm>
            <a:off x="5143680" y="6202440"/>
            <a:ext cx="975960" cy="655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6" descr="C:\Documents and Settings\Admin\Мои документы\Мои рисунки\Рисунок67.gif"/>
          <p:cNvPicPr/>
          <p:nvPr/>
        </p:nvPicPr>
        <p:blipFill>
          <a:blip r:embed="rId15"/>
          <a:stretch/>
        </p:blipFill>
        <p:spPr>
          <a:xfrm>
            <a:off x="3714840" y="635796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2566 C 0.03715 -0.02659 0.04167 -0.02682 0.04601 -0.02867 C 0.04861 -0.02982 0.05018 -0.03306 0.05261 -0.03468 C 0.05903 -0.03907 0.0658 -0.04346 0.07275 -0.04647 C 0.08299 -0.05571 0.09514 -0.05641 0.10608 -0.06427 C 0.12344 -0.07675 0.13802 -0.08831 0.15712 -0.09686 C 0.15955 -0.09802 0.16129 -0.10125 0.16372 -0.10264 C 0.16875 -0.10541 0.17431 -0.10611 0.17934 -0.10865 C 0.20799 -0.12252 0.17118 -0.1068 0.19497 -0.12044 C 0.2165 -0.13292 0.1908 -0.11258 0.21268 -0.12922 C 0.23299 -0.14471 0.2507 -0.16297 0.27031 -0.17962 C 0.28611 -0.19302 0.29445 -0.20296 0.31268 -0.2092 C 0.32118 -0.21683 0.33004 -0.22446 0.33941 -0.23001 C 0.34358 -0.23255 0.34861 -0.23255 0.35261 -0.23579 C 0.35625 -0.23879 0.35972 -0.24249 0.36372 -0.2448 C 0.37396 -0.25081 0.38646 -0.25151 0.39705 -0.25659 C 0.40695 -0.26145 0.41545 -0.26792 0.42604 -0.27139 C 0.43542 -0.27971 0.44636 -0.28133 0.45695 -0.28618 C 0.46094 -0.2878 0.46424 -0.29011 0.46823 -0.29196 C 0.4724 -0.29404 0.4816 -0.29797 0.4816 -0.29774 C 0.48889 -0.30467 0.49601 -0.30675 0.50365 -0.31276 C 0.51632 -0.3227 0.52934 -0.33172 0.54358 -0.33634 C 0.55417 -0.34582 0.56389 -0.3546 0.57483 -0.36316 C 0.58646 -0.3724 0.59306 -0.38234 0.60608 -0.38674 C 0.6224 -0.4087 0.60643 -0.3902 0.62604 -0.40454 C 0.65 -0.4221 0.63056 -0.41239 0.64601 -0.41933 C 0.65486 -0.43112 0.65868 -0.42811 0.66823 -0.43713 C 0.67084 -0.43944 0.67222 -0.4436 0.67483 -0.44591 C 0.67969 -0.45054 0.68559 -0.45308 0.69045 -0.4577 C 0.7033 -0.46972 0.71198 -0.48613 0.7283 -0.4933 C 0.73976 -0.50417 0.74636 -0.5111 0.75938 -0.51688 C 0.75469 -0.50786 0.75139 -0.49769 0.74827 -0.48729 C 0.74566 -0.47851 0.74531 -0.46857 0.7415 -0.46071 C 0.74011 -0.4577 0.7382 -0.45516 0.73715 -0.45192 C 0.73525 -0.44614 0.73525 -0.43944 0.73264 -0.43412 C 0.73125 -0.43112 0.7283 -0.42511 0.7283 -0.42488 E">
                                      <p:cBhvr>
                                        <p:cTn id="5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0.03652 C 0.06163 0.03259 0.06597 0.02866 0.07048 0.02473 C 0.07621 0.01965 0.0717 0.00601 0.075 -0.00185 C 0.08194 -0.01849 0.09132 -0.03352 0.0993 -0.04924 C 0.10833 -0.06727 0.09844 -0.05617 0.11041 -0.06704 C 0.1184 -0.08437 0.12882 -0.09686 0.13941 -0.11142 C 0.14132 -0.11396 0.14184 -0.11766 0.14375 -0.1202 C 0.14982 -0.12806 0.15746 -0.13361 0.16389 -0.14101 C 0.18819 -0.16944 0.21545 -0.19001 0.24166 -0.21498 C 0.2533 -0.22608 0.27291 -0.24942 0.28611 -0.25636 C 0.2993 -0.26306 0.30903 -0.27462 0.32153 -0.28294 C 0.32517 -0.28525 0.32934 -0.28618 0.33264 -0.28895 C 0.33976 -0.29496 0.34687 -0.30143 0.35278 -0.30952 C 0.35503 -0.31253 0.35677 -0.316 0.35937 -0.31854 C 0.36493 -0.32409 0.37205 -0.32686 0.37708 -0.33333 C 0.38906 -0.34905 0.40226 -0.36292 0.41493 -0.37772 C 0.42309 -0.38719 0.43073 -0.39875 0.43941 -0.4073 C 0.44288 -0.41077 0.44705 -0.41262 0.45052 -0.41609 C 0.4618 -0.42718 0.46493 -0.44522 0.47934 -0.45169 C 0.48298 -0.45539 0.49878 -0.47134 0.50156 -0.47226 C 0.52413 -0.47989 0.54739 -0.48682 0.57048 -0.49006 C 0.58524 -0.48914 0.60017 -0.4896 0.61493 -0.48706 C 0.62222 -0.4859 0.62743 -0.47272 0.63489 -0.46926 C 0.63646 -0.46625 0.63906 -0.46394 0.63941 -0.46047 C 0.64028 -0.45192 0.63368 -0.43643 0.63264 -0.42788 C 0.6309 -0.41424 0.6309 -0.39991 0.6283 -0.3865 C 0.62691 -0.3798 0.62378 -0.37009 0.62378 -0.36292 E">
                                      <p:cBhvr>
                                        <p:cTn id="62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97 0.04692 C 0.06112 0.01225 0.05851 -0.02474 0.04983 -0.05964 C 0.04184 -0.13777 0.05417 -0.01156 0.04323 -0.22816 C 0.04063 -0.27971 0.03542 -0.33958 0.02761 -0.39089 C 0.02587 -0.43921 0.02813 -0.48844 0.02101 -0.53606 C 0.01754 -0.55918 0.0125 -0.5779 0.0099 -0.60102 C 0.00695 -0.60009 0.00313 -0.60079 0.00105 -0.59801 C -0.00104 -0.59524 -4.16667000000003E-006 -0.58992 -0.00121 -0.58623 C -0.00225 -0.58299 -0.00416 -0.58045 -0.00572 -0.57744 C -0.01684 -0.52936 -0.02465 -0.48012 -0.0368 -0.4325 C -0.03854 -0.42603 -0.0368 -0.44614 -0.0368 -0.45308 E">
                                      <p:cBhvr>
                                        <p:cTn id="6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03652 C -0.09218 0.00532 -0.09479 -0.02843 -0.0934 -0.06149 C -0.09218 -0.08992 -0.08993 -0.12182 -0.08455 -0.15002 C -0.07552 -0.24549 -0.08264 -0.34166 -0.09114 -0.43689 C -0.09288 -0.45677 -0.09201 -0.46972 -0.09566 -0.48729 C -0.10086 -0.51202 -0.10625 -0.53652 -0.11128 -0.56126 C -0.11614 -0.58553 -0.13055 -0.64078 -0.1467 -0.6528 C -0.14705 -0.65303 -0.16336 -0.66019 -0.16684 -0.66181 C -0.17465 -0.66528 -0.19114 -0.66759 -0.19114 -0.66736 C -0.20156 -0.66667 -0.21198 -0.66644 -0.22239 -0.66482 C -0.23645 -0.66274 -0.25052 -0.65349 -0.26458 -0.65002 C -0.271 -0.64563 -0.2783 -0.64309 -0.28455 -0.638 C -0.29027 -0.63315 -0.29461 -0.62575 -0.30017 -0.62043 C -0.30468 -0.61142 -0.30885 -0.60264 -0.31336 -0.59362 C -0.31475 -0.59062 -0.31788 -0.58484 -0.31788 -0.58461 C -0.32708 -0.52473 -0.32239 -0.47365 -0.32239 -0.4073 E">
                                      <p:cBhvr>
                                        <p:cTn id="70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1 -0.0393 C 0.08281 -0.08275 0.08073 -0.05918 0.08629 -0.11026 C 0.08906 -0.13592 0.08889 -0.16204 0.09514 -0.18724 C 0.10573 -0.22977 0.11927 -0.27069 0.13281 -0.3116 C 0.14115 -0.3368 0.14722 -0.36408 0.15729 -0.38835 C 0.16441 -0.40568 0.17361 -0.4221 0.18177 -0.43874 C 0.1842 -0.44359 0.18559 -0.44914 0.18837 -0.45353 C 0.2066 -0.48289 0.22951 -0.50809 0.2507 -0.53352 C 0.25955 -0.54415 0.26111 -0.54947 0.27066 -0.55709 C 0.28142 -0.56565 0.2934 -0.57189 0.30399 -0.58067 C 0.30764 -0.58368 0.31493 -0.59292 0.31962 -0.59547 C 0.33785 -0.60564 0.35538 -0.61049 0.37517 -0.61327 C 0.39583 -0.61234 0.42969 -0.63592 0.43733 -0.61026 C 0.45556 -0.54877 0.43715 -0.47804 0.43507 -0.41216 C 0.43472 -0.40129 0.42951 -0.38997 0.42396 -0.38257 E">
                                      <p:cBhvr>
                                        <p:cTn id="74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08 -0.25034 C 0.08177 -0.27785 0.0816 -0.30559 0.08333 -0.3331 C 0.08542 -0.36592 0.09878 -0.39967 0.10555 -0.43088 C 0.1158 -0.4785 0.12292 -0.52959 0.13663 -0.57582 C 0.14323 -0.59801 0.1533 -0.61835 0.15885 -0.64101 C 0.16111 -0.64979 0.16233 -0.65927 0.16545 -0.66759 C 0.17535 -0.69371 0.18958 -0.7196 0.20104 -0.74456 C 0.21771 -0.78109 0.23472 -0.81438 0.25434 -0.84812 C 0.25764 -0.85367 0.25955 -0.86061 0.26337 -0.86569 C 0.26719 -0.87078 0.27257 -0.87309 0.27656 -0.87771 C 0.34045 -0.95076 0.24757 -0.85252 0.31441 -0.9221 C 0.31788 -0.92556 0.32153 -0.92857 0.32552 -0.93088 C 0.32986 -0.93342 0.33889 -0.93689 0.33889 -0.93666 C 0.34375 -0.91077 0.34358 -0.88234 0.33212 -0.85991 C 0.32951 -0.84905 0.3283 -0.84003 0.32326 -0.83033 C 0.3151 -0.79796 0.32795 -0.84628 0.31667 -0.81253 C 0.31267 -0.80074 0.30868 -0.7864 0.30555 -0.77415 C 0.30451 -0.74387 0.31128 -0.62644 0.29219 -0.57582 E">
                                      <p:cBhvr>
                                        <p:cTn id="7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20157 C 0.01146 -0.25566 0.01632 -0.3116 0.02448 -0.36731 C 0.02517 -0.3791 0.025 -0.39112 0.02674 -0.40291 C 0.02795 -0.41124 0.03212 -0.41817 0.03351 -0.42649 C 0.03663 -0.44568 0.03906 -0.4644 0.04462 -0.48266 C 0.04687 -0.49838 0.05191 -0.50925 0.05573 -0.52427 C 0.06042 -0.54277 0.05469 -0.53121 0.06233 -0.55386 C 0.07257 -0.58391 0.08524 -0.61281 0.09566 -0.64263 C 0.09826 -0.65025 0.09948 -0.65881 0.10226 -0.66621 C 0.1092 -0.6847 0.11892 -0.70134 0.12674 -0.71937 C 0.15486 -0.78363 0.12812 -0.72954 0.14236 -0.75798 C 0.14271 -0.75959 0.14618 -0.78155 0.14896 -0.78155 C 0.15208 -0.78155 0.15052 -0.77369 0.15121 -0.76976 C 0.14549 -0.71752 0.15312 -0.79126 0.1467 -0.70758 C 0.14514 -0.68747 0.14045 -0.66829 0.13785 -0.64841 C 0.13663 -0.63939 0.13576 -0.62529 0.13351 -0.61581 C 0.12934 -0.59917 0.12604 -0.58252 0.1224 -0.56565 C 0.1217 -0.56265 0.11562 -0.53491 0.11562 -0.54785 E">
                                      <p:cBhvr>
                                        <p:cTn id="8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52 -0.06103 C -0.08645 -0.10148 -0.10347 -0.03606 -0.08975 -0.07882 C -0.08506 -0.09362 -0.08489 -0.11026 -0.08315 -0.12621 C -0.08159 -0.14008 -0.07864 -0.16759 -0.07864 -0.16736 C -0.07743 -0.33148 -0.07847 -0.3902 -0.06753 -0.51965 C -0.06684 -0.5571 -0.06788 -0.59477 -0.06545 -0.63222 C -0.0651 -0.63661 -0.06267 -0.62413 -0.06093 -0.6202 C -0.04722 -0.58853 -0.0677 -0.64239 -0.05208 -0.59662 C -0.04444 -0.57443 -0.0375 -0.55478 -0.03211 -0.53144 C -0.03281 -0.51271 -0.03298 -0.49399 -0.0342 -0.47526 C -0.03437 -0.47226 -0.03593 -0.46949 -0.03645 -0.46648 C -0.03819 -0.45677 -0.0394 -0.44683 -0.04097 -0.43689 C -0.04253 -0.42695 -0.04114 -0.42788 -0.04531 -0.42788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41655E-006 C -0.00278 -0.0319 -0.00278 -0.05479 -0.01112 -0.08299 C -0.01441 -0.10957 -0.02518 -0.13246 -0.03334 -0.15696 C -0.04132 -0.18146 -0.04809 -0.2062 -0.05556 -0.23093 C -0.06407 -0.25937 -0.07622 -0.28526 -0.08455 -0.31369 C -0.09931 -0.36431 -0.11563 -0.41424 -0.13125 -0.46464 C -0.1382 -0.48706 -0.14341 -0.51064 -0.15122 -0.5326 C -0.16771 -0.57952 -0.18889 -0.62437 -0.20487 -0.67176 C -0.21129 -0.69187 -0.2165 -0.7136 -0.22257 -0.73394 C -0.23073 -0.76145 -0.24705 -0.78757 -0.26268 -0.80791 C -0.27205 -0.82085 -0.30417 -0.82109 -0.31789 -0.82571 C -0.33785 -0.82478 -0.35782 -0.82455 -0.37778 -0.8227 C -0.38594 -0.82201 -0.3941 -0.81346 -0.40226 -0.81091 C -0.40903 -0.80629 -0.41528 -0.80051 -0.42223 -0.79612 C -0.43889 -0.78572 -0.4566 -0.77878 -0.47344 -0.76931 C -0.47639 -0.76769 -0.47952 -0.76561 -0.4823 -0.76353 C -0.48455 -0.76168 -0.48646 -0.7589 -0.48889 -0.75752 C -0.5099 -0.74526 -0.48768 -0.76191 -0.50452 -0.75174 C -0.52032 -0.74226 -0.52743 -0.73764 -0.54237 -0.73093 C -0.55816 -0.7166 -0.53872 -0.73278 -0.55782 -0.72215 C -0.56684 -0.71729 -0.59028 -0.70158 -0.59792 -0.69256 C -0.63143 -0.65303 -0.66042 -0.60264 -0.67778 -0.54739 C -0.68316 -0.53029 -0.68664 -0.51179 -0.69115 -0.49422 C -0.69184 -0.48244 -0.69341 -0.47065 -0.69341 -0.45863 C -0.69341 -0.45446 -0.69254 -0.45054 -0.69115 -0.44684 C -0.69046 -0.44499 -0.69115 -0.45077 -0.69115 -0.45285 E">
                                      <p:cBhvr>
                                        <p:cTn id="90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238" name="Picture 14" descr="2398"/>
          <p:cNvPicPr/>
          <p:nvPr/>
        </p:nvPicPr>
        <p:blipFill>
          <a:blip r:embed="rId1"/>
          <a:stretch/>
        </p:blipFill>
        <p:spPr>
          <a:xfrm>
            <a:off x="2690640" y="71928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9684"/>
          <p:cNvPicPr/>
          <p:nvPr/>
        </p:nvPicPr>
        <p:blipFill>
          <a:blip r:embed="rId2"/>
          <a:stretch/>
        </p:blipFill>
        <p:spPr>
          <a:xfrm>
            <a:off x="5724360" y="1844640"/>
            <a:ext cx="3130560" cy="2084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zuby"/>
          <p:cNvPicPr/>
          <p:nvPr/>
        </p:nvPicPr>
        <p:blipFill>
          <a:blip r:embed="rId3"/>
          <a:stretch/>
        </p:blipFill>
        <p:spPr>
          <a:xfrm>
            <a:off x="6659640" y="4095720"/>
            <a:ext cx="1838160" cy="2762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571680" y="1714680"/>
            <a:ext cx="19285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но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убная щё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убная п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пол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убная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оласкив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44600" y="-4861080"/>
            <a:ext cx="562608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5" descr="molochnie-zubi-1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3106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27000"/>
          <p:cNvPicPr/>
          <p:nvPr/>
        </p:nvPicPr>
        <p:blipFill>
          <a:blip r:embed="rId2"/>
          <a:stretch/>
        </p:blipFill>
        <p:spPr>
          <a:xfrm>
            <a:off x="5357880" y="4071960"/>
            <a:ext cx="3786120" cy="240984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560520"/>
            <a:ext cx="5085000" cy="19875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633840"/>
            <a:ext cx="6894720" cy="19857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7" descr=""/>
          <p:cNvPicPr/>
          <p:nvPr/>
        </p:nvPicPr>
        <p:blipFill>
          <a:blip r:embed="rId5"/>
          <a:stretch/>
        </p:blipFill>
        <p:spPr>
          <a:xfrm>
            <a:off x="2273400" y="5937120"/>
            <a:ext cx="1993680" cy="163368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8" descr=""/>
          <p:cNvPicPr/>
          <p:nvPr/>
        </p:nvPicPr>
        <p:blipFill>
          <a:blip r:embed="rId6"/>
          <a:stretch/>
        </p:blipFill>
        <p:spPr>
          <a:xfrm>
            <a:off x="5383080" y="7845480"/>
            <a:ext cx="202896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71 -2.25098E-006 C 0.07726 -0.01271 0.08906 -0.02357 0.10191 -0.02935 C 0.11007 -0.04553 0.10434 -0.03674 0.12153 -0.052 C 0.12396 -0.05408 0.12639 -0.05639 0.12882 -0.05847 C 0.13125 -0.06055 0.13611 -0.06494 0.13611 -0.06471 C 0.14202 -0.07696 0.14913 -0.08736 0.15313 -0.10076 C 0.16181 -0.12965 0.15347 -0.11116 0.16285 -0.12988 C 0.19549 -0.30645 0.16962 -0.16177 0.16285 -0.64941 C 0.16233 -0.68153 0.13455 -0.71204 0.11406 -0.72082 C 0.10556 -0.71712 0.09861 -0.71319 0.09462 -0.70141 C 0.09254 -0.69517 0.08976 -0.68199 0.08976 -0.68176 C 0.09063 -0.67321 0.09097 -0.66443 0.09219 -0.65588 C 0.09271 -0.65241 0.09288 -0.64848 0.09462 -0.64617 C 0.09584 -0.64456 0.09462 -0.65056 0.09462 -0.65264 E">
                                      <p:cBhvr>
                                        <p:cTn id="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99 -0.03744 C 0.06546 -0.05223 0.06563 -0.06101 0.06771 -0.07973 C 0.07014 -0.20198 0.09254 -0.53824 0.06042 -0.56667 C 0.05677 -0.58123 0.04983 -0.59302 0.04341 -0.60573 C 0.04202 -0.6085 0.04219 -0.61243 0.04098 -0.61543 C 0.03473 -0.63022 0.02535 -0.64548 0.0165 -0.65773 C 0.00921 -0.65657 0.00174 -0.65703 -0.00538 -0.65449 C -0.00972 -0.65287 -0.01406 -0.63716 -0.0151 -0.63485 C -0.01823 -0.62814 -0.0217 -0.62191 -0.025 -0.61543 C -0.02951 -0.60665 -0.03038 -0.5951 -0.03472 -0.58631 C -0.04045 -0.56297 -0.03246 -0.59071 -0.04444 -0.56667 C -0.04583 -0.5639 -0.04531 -0.55974 -0.04687 -0.55696 C -0.05781 -0.53871 -0.09461 -0.54171 -0.10538 -0.54079 C -0.11614 -0.53131 -0.1243 -0.52068 -0.13472 -0.51144 C -0.14201 -0.51467 -0.14409 -0.51768 -0.1493 -0.52461 E">
                                      <p:cBhvr>
                                        <p:cTn id="1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44600" y="-4861080"/>
            <a:ext cx="562608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5" descr="molochnie-zubi-1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310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27000"/>
          <p:cNvPicPr/>
          <p:nvPr/>
        </p:nvPicPr>
        <p:blipFill>
          <a:blip r:embed="rId2"/>
          <a:stretch/>
        </p:blipFill>
        <p:spPr>
          <a:xfrm>
            <a:off x="5357880" y="4071960"/>
            <a:ext cx="3786120" cy="24098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560520"/>
            <a:ext cx="5085000" cy="19875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633840"/>
            <a:ext cx="6894720" cy="19857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7" descr=""/>
          <p:cNvPicPr/>
          <p:nvPr/>
        </p:nvPicPr>
        <p:blipFill>
          <a:blip r:embed="rId5"/>
          <a:stretch/>
        </p:blipFill>
        <p:spPr>
          <a:xfrm>
            <a:off x="2273400" y="5937120"/>
            <a:ext cx="1993680" cy="163368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8" descr=""/>
          <p:cNvPicPr/>
          <p:nvPr/>
        </p:nvPicPr>
        <p:blipFill>
          <a:blip r:embed="rId6"/>
          <a:stretch/>
        </p:blipFill>
        <p:spPr>
          <a:xfrm>
            <a:off x="5383080" y="7845480"/>
            <a:ext cx="202896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71 -2.25098E-006 C 0.07726 -0.01271 0.08906 -0.02357 0.10191 -0.02935 C 0.11007 -0.04553 0.10434 -0.03674 0.12153 -0.052 C 0.12396 -0.05408 0.12639 -0.05639 0.12882 -0.05847 C 0.13125 -0.06055 0.13611 -0.06494 0.13611 -0.06471 C 0.14202 -0.07696 0.14913 -0.08736 0.15313 -0.10076 C 0.16181 -0.12965 0.15347 -0.11116 0.16285 -0.12988 C 0.19549 -0.30645 0.16962 -0.16177 0.16285 -0.64941 C 0.16233 -0.68153 0.13455 -0.71204 0.11406 -0.72082 C 0.10556 -0.71712 0.09861 -0.71319 0.09462 -0.70141 C 0.09254 -0.69517 0.08976 -0.68199 0.08976 -0.68176 C 0.09063 -0.67321 0.09097 -0.66443 0.09219 -0.65588 C 0.09271 -0.65241 0.09288 -0.64848 0.09462 -0.64617 C 0.09584 -0.64456 0.09462 -0.65056 0.09462 -0.65264 E">
                                      <p:cBhvr>
                                        <p:cTn id="1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99 -0.03744 C 0.06546 -0.05223 0.06563 -0.06101 0.06771 -0.07973 C 0.07014 -0.20198 0.09254 -0.53824 0.06042 -0.56667 C 0.05677 -0.58123 0.04983 -0.59302 0.04341 -0.60573 C 0.04202 -0.6085 0.04219 -0.61243 0.04098 -0.61543 C 0.03473 -0.63022 0.02535 -0.64548 0.0165 -0.65773 C 0.00921 -0.65657 0.00174 -0.65703 -0.00538 -0.65449 C -0.00972 -0.65287 -0.01406 -0.63716 -0.0151 -0.63485 C -0.01823 -0.62814 -0.0217 -0.62191 -0.025 -0.61543 C -0.02951 -0.60665 -0.03038 -0.5951 -0.03472 -0.58631 C -0.04045 -0.56297 -0.03246 -0.59071 -0.04444 -0.56667 C -0.04583 -0.5639 -0.04531 -0.55974 -0.04687 -0.55696 C -0.05781 -0.53871 -0.09461 -0.54171 -0.10538 -0.54079 C -0.11614 -0.53131 -0.1243 -0.52068 -0.13472 -0.51144 C -0.14201 -0.51467 -0.14409 -0.51768 -0.1493 -0.52461 E">
                                      <p:cBhvr>
                                        <p:cTn id="2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123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1640" y="404640"/>
            <a:ext cx="1463760" cy="1873440"/>
          </a:xfrm>
          <a:prstGeom prst="rect">
            <a:avLst/>
          </a:prstGeom>
          <a:ln w="0">
            <a:noFill/>
          </a:ln>
        </p:spPr>
      </p:pic>
      <p:sp>
        <p:nvSpPr>
          <p:cNvPr id="257" name="Line 4"/>
          <p:cNvSpPr/>
          <p:nvPr/>
        </p:nvSpPr>
        <p:spPr>
          <a:xfrm>
            <a:off x="468360" y="692280"/>
            <a:ext cx="0" cy="597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79280" y="6597720"/>
            <a:ext cx="87854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395280" y="6453360"/>
            <a:ext cx="367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250920" y="1052640"/>
            <a:ext cx="0" cy="580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98"/>
          <p:cNvPicPr/>
          <p:nvPr/>
        </p:nvPicPr>
        <p:blipFill>
          <a:blip r:embed="rId2"/>
          <a:stretch/>
        </p:blipFill>
        <p:spPr>
          <a:xfrm>
            <a:off x="554040" y="1628640"/>
            <a:ext cx="3618000" cy="454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AutoShape 16"/>
          <p:cNvSpPr/>
          <p:nvPr/>
        </p:nvSpPr>
        <p:spPr>
          <a:xfrm>
            <a:off x="5724360" y="333360"/>
            <a:ext cx="1657440" cy="609480"/>
          </a:xfrm>
          <a:prstGeom prst="borderCallout1">
            <a:avLst>
              <a:gd name="adj1" fmla="val 18750"/>
              <a:gd name="adj2" fmla="val -8333"/>
              <a:gd name="adj3" fmla="val 223958"/>
              <a:gd name="adj4" fmla="val -139750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эм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5724360" y="1268280"/>
            <a:ext cx="1800360" cy="609840"/>
          </a:xfrm>
          <a:prstGeom prst="borderCallout1">
            <a:avLst>
              <a:gd name="adj1" fmla="val 18750"/>
              <a:gd name="adj2" fmla="val -8333"/>
              <a:gd name="adj3" fmla="val 195050"/>
              <a:gd name="adj4" fmla="val -155555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ден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5724360" y="2133720"/>
            <a:ext cx="1727280" cy="609480"/>
          </a:xfrm>
          <a:prstGeom prst="borderCallout1">
            <a:avLst>
              <a:gd name="adj1" fmla="val 18750"/>
              <a:gd name="adj2" fmla="val -8333"/>
              <a:gd name="adj3" fmla="val 137500"/>
              <a:gd name="adj4" fmla="val -179504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724360" y="5516640"/>
            <a:ext cx="1944720" cy="609480"/>
          </a:xfrm>
          <a:prstGeom prst="borderCallout1">
            <a:avLst>
              <a:gd name="adj1" fmla="val 18750"/>
              <a:gd name="adj2" fmla="val -8333"/>
              <a:gd name="adj3" fmla="val -241666"/>
              <a:gd name="adj4" fmla="val -107263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5724360" y="3068640"/>
            <a:ext cx="1944720" cy="1096920"/>
          </a:xfrm>
          <a:prstGeom prst="borderCallout1">
            <a:avLst>
              <a:gd name="adj1" fmla="val 18750"/>
              <a:gd name="adj2" fmla="val -8333"/>
              <a:gd name="adj3" fmla="val 32708"/>
              <a:gd name="adj4" fmla="val -152162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осуды и 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5724360" y="450864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149217"/>
              <a:gd name="adj4" fmla="val -101324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д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20720" y="549360"/>
            <a:ext cx="3106800" cy="520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ТРОЕНИЕ З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4" descr="876"/>
          <p:cNvPicPr/>
          <p:nvPr/>
        </p:nvPicPr>
        <p:blipFill>
          <a:blip r:embed="rId1"/>
          <a:stretch/>
        </p:blipFill>
        <p:spPr>
          <a:xfrm>
            <a:off x="6156360" y="2997360"/>
            <a:ext cx="1317600" cy="1663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12345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451640" y="404640"/>
            <a:ext cx="1463760" cy="1873440"/>
          </a:xfrm>
          <a:prstGeom prst="rect">
            <a:avLst/>
          </a:prstGeom>
          <a:ln w="0">
            <a:noFill/>
          </a:ln>
        </p:spPr>
      </p:pic>
      <p:sp>
        <p:nvSpPr>
          <p:cNvPr id="271" name="Line 4"/>
          <p:cNvSpPr/>
          <p:nvPr/>
        </p:nvSpPr>
        <p:spPr>
          <a:xfrm>
            <a:off x="468360" y="692280"/>
            <a:ext cx="0" cy="597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179280" y="6597720"/>
            <a:ext cx="87854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95280" y="6453360"/>
            <a:ext cx="367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250920" y="1052640"/>
            <a:ext cx="0" cy="580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17080" y="260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ЗАЧЕМ ЧИСТИТЬ ЗУБЫ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179280" y="620640"/>
            <a:ext cx="32418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2994480" y="5373720"/>
            <a:ext cx="31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18-2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9" descr="32"/>
          <p:cNvPicPr/>
          <p:nvPr/>
        </p:nvPicPr>
        <p:blipFill>
          <a:blip r:embed="rId3"/>
          <a:stretch/>
        </p:blipFill>
        <p:spPr>
          <a:xfrm rot="2922000">
            <a:off x="538200" y="1373040"/>
            <a:ext cx="984240" cy="48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32"/>
          <p:cNvPicPr/>
          <p:nvPr/>
        </p:nvPicPr>
        <p:blipFill>
          <a:blip r:embed="rId4"/>
          <a:stretch/>
        </p:blipFill>
        <p:spPr>
          <a:xfrm rot="9121200">
            <a:off x="610920" y="2020680"/>
            <a:ext cx="984240" cy="485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32"/>
          <p:cNvPicPr/>
          <p:nvPr/>
        </p:nvPicPr>
        <p:blipFill>
          <a:blip r:embed="rId5"/>
          <a:stretch/>
        </p:blipFill>
        <p:spPr>
          <a:xfrm rot="19602600">
            <a:off x="971280" y="1484280"/>
            <a:ext cx="984240" cy="485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32"/>
          <p:cNvPicPr/>
          <p:nvPr/>
        </p:nvPicPr>
        <p:blipFill>
          <a:blip r:embed="rId6"/>
          <a:stretch/>
        </p:blipFill>
        <p:spPr>
          <a:xfrm rot="11951400">
            <a:off x="1115640" y="1412640"/>
            <a:ext cx="984240" cy="4856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4"/>
          <p:cNvSpPr/>
          <p:nvPr/>
        </p:nvSpPr>
        <p:spPr>
          <a:xfrm>
            <a:off x="450720" y="29242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5"/>
          <p:cNvSpPr/>
          <p:nvPr/>
        </p:nvSpPr>
        <p:spPr>
          <a:xfrm>
            <a:off x="2556000" y="2060640"/>
            <a:ext cx="576000" cy="576360"/>
          </a:xfrm>
          <a:prstGeom prst="plus">
            <a:avLst>
              <a:gd name="adj" fmla="val 4380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6"/>
          <p:cNvSpPr/>
          <p:nvPr/>
        </p:nvSpPr>
        <p:spPr>
          <a:xfrm>
            <a:off x="3274920" y="285444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7"/>
          <p:cNvSpPr/>
          <p:nvPr/>
        </p:nvSpPr>
        <p:spPr>
          <a:xfrm>
            <a:off x="3851280" y="292572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8"/>
          <p:cNvSpPr/>
          <p:nvPr/>
        </p:nvSpPr>
        <p:spPr>
          <a:xfrm>
            <a:off x="3564000" y="278280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9"/>
          <p:cNvSpPr/>
          <p:nvPr/>
        </p:nvSpPr>
        <p:spPr>
          <a:xfrm>
            <a:off x="3419640" y="242244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3635280" y="256536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3103200" y="36450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2"/>
          <p:cNvSpPr/>
          <p:nvPr/>
        </p:nvSpPr>
        <p:spPr>
          <a:xfrm rot="1648800">
            <a:off x="4859280" y="342900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3" descr="32"/>
          <p:cNvPicPr/>
          <p:nvPr/>
        </p:nvPicPr>
        <p:blipFill>
          <a:blip r:embed="rId7"/>
          <a:stretch/>
        </p:blipFill>
        <p:spPr>
          <a:xfrm rot="6213600">
            <a:off x="6224040" y="3352680"/>
            <a:ext cx="295200" cy="145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1" descr="32"/>
          <p:cNvPicPr/>
          <p:nvPr/>
        </p:nvPicPr>
        <p:blipFill>
          <a:blip r:embed="rId8"/>
          <a:stretch/>
        </p:blipFill>
        <p:spPr>
          <a:xfrm rot="11951400">
            <a:off x="1331640" y="1628640"/>
            <a:ext cx="984240" cy="486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2" descr="32"/>
          <p:cNvPicPr/>
          <p:nvPr/>
        </p:nvPicPr>
        <p:blipFill>
          <a:blip r:embed="rId9"/>
          <a:stretch/>
        </p:blipFill>
        <p:spPr>
          <a:xfrm rot="11951400">
            <a:off x="7030800" y="3187800"/>
            <a:ext cx="360360" cy="1778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3"/>
          <p:cNvSpPr/>
          <p:nvPr/>
        </p:nvSpPr>
        <p:spPr>
          <a:xfrm>
            <a:off x="5654160" y="48690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убной на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5556E-006 C -0.00278 -0.00231 -0.00347 -0.00416 -0.00521 -0.00763 C -0.00504 -0.00972 -0.00521 -0.0118 -0.00469 -0.01388 C -0.00365 -0.01828 0.00555 -0.01851 0.00781 -0.01874 C 0.00885 -0.02291 0.00816 -0.02453 0.00573 -0.02708 C 0.00417 -0.03124 0.00104 -0.03194 -0.00208 -0.03402 C -0.00191 -0.03541 -0.00226 -0.03703 -0.00156 -0.03819 C -0.00139 -0.03865 0.00451 -0.0405 0.00573 -0.04097 C 0.00816 -0.0405 0.01024 -0.03958 0.0125 -0.03888 C 0.01684 -0.04166 0.01528 -0.05092 0.01146 -0.05347 C 0.00937 -0.05694 0.00868 -0.0581 0.00937 -0.06249 C 0.0125 -0.06157 0.01215 -0.06041 0.01458 -0.05833 C 0.01528 -0.05532 0.01684 -0.05532 0.01875 -0.05347 C 0.02014 -0.05208 0.02292 -0.0493 0.02292 -0.0493 C 0.02674 -0.05185 0.02639 -0.0581 0.0276 -0.06319 C 0.02812 -0.06828 0.02778 -0.06967 0.03073 -0.07222 C 0.03594 -0.07129 0.03316 -0.07291 0.03594 -0.06874 C 0.03698 -0.06736 0.03906 -0.06458 0.03906 -0.06458 C 0.03958 -0.06157 0.04132 -0.05347 0.04219 -0.05069 C 0.04288 -0.04861 0.04392 -0.04861 0.04531 -0.04791 C 0.04635 -0.04814 0.04757 -0.04791 0.04844 -0.04861 C 0.05 -0.04999 0.05052 -0.05555 0.05052 -0.05555 C 0.04948 -0.06481 0.04826 -0.06481 0.05573 -0.06388 C 0.06111 -0.05902 0.05503 -0.04536 0.06094 -0.04027 C 0.06267 -0.04328 0.06424 -0.04606 0.06562 -0.0493 C 0.06632 -0.05115 0.06771 -0.05486 0.06771 -0.05486 C 0.06788 -0.05671 0.06771 -0.06435 0.06979 -0.06597 C 0.07066 -0.06666 0.07292 -0.06736 0.07292 -0.06736 C 0.07587 -0.06597 0.07812 -0.06319 0.08021 -0.06041 C 0.08351 -0.04745 0.07604 -0.04351 0.08646 -0.04513 C 0.09045 -0.04699 0.08906 -0.05393 0.09062 -0.05833 C 0.09913 -0.05763 0.09618 -0.05833 0.10104 -0.05416 C 0.10191 -0.05185 0.10312 -0.04722 0.10312 -0.04722 C 0.10278 -0.04282 0.10174 -0.04027 0.10104 -0.03611 C 0.10121 -0.03518 0.10104 -0.03402 0.10156 -0.03333 C 0.10243 -0.0324 0.10469 -0.03194 0.10469 -0.03194 C 0.10868 -0.0331 0.10972 -0.03425 0.11302 -0.03611 C 0.11406 -0.0368 0.11615 -0.03749 0.11615 -0.03749 C 0.11805 -0.03564 0.11962 -0.03425 0.12031 -0.03124 C 0.1191 -0.02453 0.11597 -0.01967 0.11094 -0.01805 C 0.10781 -0.01527 0.10694 -0.01388 0.10573 -0.00902 C 0.10642 -0.00509 0.10608 -0.00277 0.10885 -0.00069 C 0.10972 5.55556000000001E-006 0.11198 0.0007 0.11198 0.0007 C 0.11319 -0.00185 0.11441 -0.00138 0.1151 -0.00416 C 0.11441 -0.01087 0.1099 -0.01967 0.10521 -0.02291 C 0.10382 -0.02824 0.10677 -0.03194 0.10937 -0.03541 C 0.1099 -0.03726 0.11111 -0.03911 0.11094 -0.04097 C 0.1099 -0.04953 0.09774 -0.04953 0.09427 -0.04999 C 0.09132 -0.05601 0.09201 -0.06458 0.08594 -0.06736 C 0.0842 -0.06967 0.08264 -0.06967 0.08073 -0.07152 C 0.07882 -0.06898 0.0783 -0.06712 0.0776 -0.06388 C 0.07708 -0.05509 0.07986 -0.04374 0.075 -0.0493 C 0.07135 -0.0537 0.07378 -0.05208 0.07083 -0.05347 C 0.0658 -0.06018 0.07222 -0.05231 0.06771 -0.05624 C 0.06562 -0.0581 0.06562 -0.06064 0.06354 -0.06249 C 0.0625 -0.0655 0.0618 -0.06689 0.05937 -0.06805 C 0.05781 -0.05925 0.05885 -0.05092 0.05208 -0.04652 C 0.05069 -0.05185 0.04948 -0.05925 0.04583 -0.06249 C 0.04358 -0.06689 0.04549 -0.06249 0.04219 -0.06111 C 0.04115 -0.06157 0.03976 -0.06365 0.03906 -0.06249 C 0.03767 -0.05949 0.0368 -0.05532 0.03437 -0.05416 C 0.03299 -0.05671 0.03055 -0.05925 0.02865 -0.06111 C 0.02743 -0.06342 0.02656 -0.06435 0.02448 -0.06527 C 0.02274 -0.06874 0.02274 -0.06574 0.02031 -0.06458 C 0.01788 -0.05949 0.01771 -0.0618 0.01927 -0.05763 C 0.02014 -0.04999 0.02014 -0.05069 0.01615 -0.04722 C 0.0099 -0.04791 0.0066 -0.04837 0.00156 -0.05277 C -0.00017 -0.04606 -0.00208 -0.03796 0.00312 -0.03333 C 0.00417 -0.02939 0.00764 -0.02824 0.00885 -0.02361 C 0.00764 -0.01759 0.00052 -0.01921 -0.00313 -0.01874 C -0.00573 -0.01782 -0.00642 -0.01458 -0.00729 -0.01111 C -0.00434 -0.00532 -0.00243 -0.00578 0.00208 -0.00277 C 0.00486 -0.00092 0.00625 0.00232 0.00885 0.00417 C 0.00972 0.00764 0.00868 0.01019 0.00729 0.0132 C 0.00712 0.01413 0.00642 0.01505 0.00677 0.01598 C 0.00712 0.01667 0.01198 0.01783 0.0125 0.01806 C 0.01076 0.01922 0.00937 0.02014 0.00729 0.02014 E">
                                      <p:cBhvr>
                                        <p:cTn id="26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00104 -0.00092 0.00243 -0.00139 0.00312 -0.00277 C 0.00347 -0.0037 0.00781 -0.01759 0.00833 -0.01944 C 1.94444000000023E-006 -0.02314 -0.00278 -0.02592 -0.0125 -0.02777 C -0.01615 -0.03495 -0.01702 -0.04745 -0.02292 -0.05 C -0.03542 -0.04722 -0.03768 -0.04838 -0.04271 -0.03472 C -0.0448 -0.03518 -0.04688 -0.03541 -0.04896 -0.03611 C -0.05105 -0.0368 -0.05521 -0.03889 -0.05521 -0.03889 C -0.05938 -0.04629 -0.06806 -0.05532 -0.075 -0.05833 C -0.08282 -0.05486 -0.08108 -0.05301 -0.0875 -0.04861 C -0.09132 -0.04097 -0.09306 -0.03426 -0.09896 -0.02916 C -0.10244 -0.03078 -0.10834 -0.03611 -0.10834 -0.03611 C -0.11268 -0.02453 -0.1125 -0.01041 -0.10313 -0.00416 C -0.10087 0.00023 -0.09896 0.01111 -0.09896 0.01111 C -0.10018 0.02824 -0.09775 0.02593 -0.1073 0.02917 C -0.10903 0.02871 -0.11112 0.02917 -0.1125 0.02778 C -0.11268 0.02755 -0.11632 0.01644 -0.11667 0.01528 C -0.11632 0.01158 -0.1165 0.00764 -0.11563 0.00417 C -0.11372 -0.00324 -0.1073 -0.00463 -0.10313 -0.00833 C -0.10053 -0.01527 -0.10105 -0.01736 -0.10417 -0.02361 C -0.10487 -0.02731 -0.10556 -0.03102 -0.10625 -0.03472 C -0.1066 -0.03657 -0.1073 -0.04027 -0.1073 -0.04027 C -0.1066 -0.04213 -0.10625 -0.04421 -0.10521 -0.04583 C -0.10139 -0.05185 -0.09601 -0.04444 -0.09167 -0.04305 C -0.09063 -0.04213 -0.08959 -0.04143 -0.08855 -0.04027 C -0.08733 -0.03912 -0.08681 -0.03588 -0.08542 -0.03611 C -0.08369 -0.03657 -0.08351 -0.04004 -0.0823 -0.04166 C -0.08143 -0.04282 -0.08039 -0.04375 -0.07917 -0.04444 C -0.07709 -0.0456 -0.07292 -0.04722 -0.07292 -0.04722 C -0.07049 -0.04676 -0.06789 -0.04722 -0.06563 -0.04583 C -0.06476 -0.04537 -0.0599 -0.03402 -0.05834 -0.03194 C -0.05348 -0.04166 -0.05625 -0.03842 -0.05105 -0.04305 C -0.04098 -0.04189 -0.03507 -0.04259 -0.02813 -0.03333 C -0.02587 -0.04097 -0.025 -0.04676 -0.0198 -0.05139 C -0.01424 -0.04884 -0.01233 -0.04259 -0.0073 -0.04027 C -0.00573 -0.03402 -0.0073 -0.03078 -0.00938 -0.025 C -0.00712 -0.01898 -0.00521 -0.0162 -0.00105 -0.0125 C 0.00034 -0.00509 0.00156 -0.00416 -0.00105 0.00278 C 1.94444000000001E-006 0.00695 0.00069 0.01204 0.00312 0.01528 C 0.00399 0.01644 0.0059 0.01644 0.00625 0.01806 C 0.00694 0.02107 0.00625 0.02454 0.00625 0.02778 E">
                                      <p:cBhvr>
                                        <p:cTn id="2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123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1640" y="404640"/>
            <a:ext cx="1463760" cy="1873440"/>
          </a:xfrm>
          <a:prstGeom prst="rect">
            <a:avLst/>
          </a:prstGeom>
          <a:ln w="0">
            <a:noFill/>
          </a:ln>
        </p:spPr>
      </p:pic>
      <p:sp>
        <p:nvSpPr>
          <p:cNvPr id="296" name="Line 3"/>
          <p:cNvSpPr/>
          <p:nvPr/>
        </p:nvSpPr>
        <p:spPr>
          <a:xfrm>
            <a:off x="468360" y="692280"/>
            <a:ext cx="0" cy="597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179280" y="6597720"/>
            <a:ext cx="87854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395280" y="6453360"/>
            <a:ext cx="367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250920" y="1052640"/>
            <a:ext cx="0" cy="580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7080" y="260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ЗАЧЕМ ЧИСТИТЬ ЗУБЫ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79280" y="620640"/>
            <a:ext cx="32418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1"/>
          <p:cNvSpPr/>
          <p:nvPr/>
        </p:nvSpPr>
        <p:spPr>
          <a:xfrm>
            <a:off x="2124000" y="1413000"/>
            <a:ext cx="576360" cy="576000"/>
          </a:xfrm>
          <a:prstGeom prst="plus">
            <a:avLst>
              <a:gd name="adj" fmla="val 4380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2"/>
          <p:cNvSpPr/>
          <p:nvPr/>
        </p:nvSpPr>
        <p:spPr>
          <a:xfrm>
            <a:off x="3059280" y="220500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3"/>
          <p:cNvSpPr/>
          <p:nvPr/>
        </p:nvSpPr>
        <p:spPr>
          <a:xfrm>
            <a:off x="3635280" y="227664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4"/>
          <p:cNvSpPr/>
          <p:nvPr/>
        </p:nvSpPr>
        <p:spPr>
          <a:xfrm>
            <a:off x="3348000" y="213372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5"/>
          <p:cNvSpPr/>
          <p:nvPr/>
        </p:nvSpPr>
        <p:spPr>
          <a:xfrm>
            <a:off x="3203640" y="177336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6"/>
          <p:cNvSpPr/>
          <p:nvPr/>
        </p:nvSpPr>
        <p:spPr>
          <a:xfrm>
            <a:off x="3419640" y="191628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3247920" y="27813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8"/>
          <p:cNvSpPr/>
          <p:nvPr/>
        </p:nvSpPr>
        <p:spPr>
          <a:xfrm>
            <a:off x="4356000" y="162864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398160" y="2781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убной на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5"/>
          <p:cNvSpPr/>
          <p:nvPr/>
        </p:nvSpPr>
        <p:spPr>
          <a:xfrm>
            <a:off x="5361840" y="14842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КИСЛО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6" descr="21"/>
          <p:cNvPicPr/>
          <p:nvPr/>
        </p:nvPicPr>
        <p:blipFill>
          <a:blip r:embed="rId2"/>
          <a:stretch/>
        </p:blipFill>
        <p:spPr>
          <a:xfrm>
            <a:off x="4572000" y="2637000"/>
            <a:ext cx="1658880" cy="2923920"/>
          </a:xfrm>
          <a:prstGeom prst="rect">
            <a:avLst/>
          </a:prstGeom>
          <a:ln w="0">
            <a:noFill/>
          </a:ln>
        </p:spPr>
      </p:pic>
      <p:sp>
        <p:nvSpPr>
          <p:cNvPr id="313" name="Line 37"/>
          <p:cNvSpPr/>
          <p:nvPr/>
        </p:nvSpPr>
        <p:spPr>
          <a:xfrm flipH="1">
            <a:off x="6372000" y="2060640"/>
            <a:ext cx="64764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1118520" y="4508640"/>
            <a:ext cx="33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КАРИЕС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0" descr="876"/>
          <p:cNvPicPr/>
          <p:nvPr/>
        </p:nvPicPr>
        <p:blipFill>
          <a:blip r:embed="rId3"/>
          <a:stretch/>
        </p:blipFill>
        <p:spPr>
          <a:xfrm>
            <a:off x="684360" y="907920"/>
            <a:ext cx="1317600" cy="1663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1" descr="32"/>
          <p:cNvPicPr/>
          <p:nvPr/>
        </p:nvPicPr>
        <p:blipFill>
          <a:blip r:embed="rId4"/>
          <a:stretch/>
        </p:blipFill>
        <p:spPr>
          <a:xfrm rot="6213600">
            <a:off x="752040" y="1263240"/>
            <a:ext cx="295200" cy="146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2" descr="32"/>
          <p:cNvPicPr/>
          <p:nvPr/>
        </p:nvPicPr>
        <p:blipFill>
          <a:blip r:embed="rId5"/>
          <a:stretch/>
        </p:blipFill>
        <p:spPr>
          <a:xfrm rot="11951400">
            <a:off x="1558080" y="1098360"/>
            <a:ext cx="360360" cy="17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5556E-006 C -0.00278 -0.00231 -0.00347 -0.00416 -0.00521 -0.00763 C -0.00504 -0.00972 -0.00521 -0.0118 -0.00469 -0.01388 C -0.00365 -0.01828 0.00555 -0.01851 0.00781 -0.01874 C 0.00885 -0.02291 0.00816 -0.02453 0.00573 -0.02708 C 0.00417 -0.03124 0.00104 -0.03194 -0.00208 -0.03402 C -0.00191 -0.03541 -0.00226 -0.03703 -0.00156 -0.03819 C -0.00139 -0.03865 0.00451 -0.0405 0.00573 -0.04097 C 0.00816 -0.0405 0.01024 -0.03958 0.0125 -0.03888 C 0.01684 -0.04166 0.01528 -0.05092 0.01146 -0.05347 C 0.00937 -0.05694 0.00868 -0.0581 0.00937 -0.06249 C 0.0125 -0.06157 0.01215 -0.06041 0.01458 -0.05833 C 0.01528 -0.05532 0.01684 -0.05532 0.01875 -0.05347 C 0.02014 -0.05208 0.02292 -0.0493 0.02292 -0.0493 C 0.02674 -0.05185 0.02639 -0.0581 0.0276 -0.06319 C 0.02812 -0.06828 0.02778 -0.06967 0.03073 -0.07222 C 0.03594 -0.07129 0.03316 -0.07291 0.03594 -0.06874 C 0.03698 -0.06736 0.03906 -0.06458 0.03906 -0.06458 C 0.03958 -0.06157 0.04132 -0.05347 0.04219 -0.05069 C 0.04288 -0.04861 0.04392 -0.04861 0.04531 -0.04791 C 0.04635 -0.04814 0.04757 -0.04791 0.04844 -0.04861 C 0.05 -0.04999 0.05052 -0.05555 0.05052 -0.05555 C 0.04948 -0.06481 0.04826 -0.06481 0.05573 -0.06388 C 0.06111 -0.05902 0.05503 -0.04536 0.06094 -0.04027 C 0.06267 -0.04328 0.06424 -0.04606 0.06562 -0.0493 C 0.06632 -0.05115 0.06771 -0.05486 0.06771 -0.05486 C 0.06788 -0.05671 0.06771 -0.06435 0.06979 -0.06597 C 0.07066 -0.06666 0.07292 -0.06736 0.07292 -0.06736 C 0.07587 -0.06597 0.07812 -0.06319 0.08021 -0.06041 C 0.08351 -0.04745 0.07604 -0.04351 0.08646 -0.04513 C 0.09045 -0.04699 0.08906 -0.05393 0.09062 -0.05833 C 0.09913 -0.05763 0.09618 -0.05833 0.10104 -0.05416 C 0.10191 -0.05185 0.10312 -0.04722 0.10312 -0.04722 C 0.10278 -0.04282 0.10174 -0.04027 0.10104 -0.03611 C 0.10121 -0.03518 0.10104 -0.03402 0.10156 -0.03333 C 0.10243 -0.0324 0.10469 -0.03194 0.10469 -0.03194 C 0.10868 -0.0331 0.10972 -0.03425 0.11302 -0.03611 C 0.11406 -0.0368 0.11615 -0.03749 0.11615 -0.03749 C 0.11805 -0.03564 0.11962 -0.03425 0.12031 -0.03124 C 0.1191 -0.02453 0.11597 -0.01967 0.11094 -0.01805 C 0.10781 -0.01527 0.10694 -0.01388 0.10573 -0.00902 C 0.10642 -0.00509 0.10608 -0.00277 0.10885 -0.00069 C 0.10972 5.55556000000001E-006 0.11198 0.0007 0.11198 0.0007 C 0.11319 -0.00185 0.11441 -0.00138 0.1151 -0.00416 C 0.11441 -0.01087 0.1099 -0.01967 0.10521 -0.02291 C 0.10382 -0.02824 0.10677 -0.03194 0.10937 -0.03541 C 0.1099 -0.03726 0.11111 -0.03911 0.11094 -0.04097 C 0.1099 -0.04953 0.09774 -0.04953 0.09427 -0.04999 C 0.09132 -0.05601 0.09201 -0.06458 0.08594 -0.06736 C 0.0842 -0.06967 0.08264 -0.06967 0.08073 -0.07152 C 0.07882 -0.06898 0.0783 -0.06712 0.0776 -0.06388 C 0.07708 -0.05509 0.07986 -0.04374 0.075 -0.0493 C 0.07135 -0.0537 0.07378 -0.05208 0.07083 -0.05347 C 0.0658 -0.06018 0.07222 -0.05231 0.06771 -0.05624 C 0.06562 -0.0581 0.06562 -0.06064 0.06354 -0.06249 C 0.0625 -0.0655 0.0618 -0.06689 0.05937 -0.06805 C 0.05781 -0.05925 0.05885 -0.05092 0.05208 -0.04652 C 0.05069 -0.05185 0.04948 -0.05925 0.04583 -0.06249 C 0.04358 -0.06689 0.04549 -0.06249 0.04219 -0.06111 C 0.04115 -0.06157 0.03976 -0.06365 0.03906 -0.06249 C 0.03767 -0.05949 0.0368 -0.05532 0.03437 -0.05416 C 0.03299 -0.05671 0.03055 -0.05925 0.02865 -0.06111 C 0.02743 -0.06342 0.02656 -0.06435 0.02448 -0.06527 C 0.02274 -0.06874 0.02274 -0.06574 0.02031 -0.06458 C 0.01788 -0.05949 0.01771 -0.0618 0.01927 -0.05763 C 0.02014 -0.04999 0.02014 -0.05069 0.01615 -0.04722 C 0.0099 -0.04791 0.0066 -0.04837 0.00156 -0.05277 C -0.00017 -0.04606 -0.00208 -0.03796 0.00312 -0.03333 C 0.00417 -0.02939 0.00764 -0.02824 0.00885 -0.02361 C 0.00764 -0.01759 0.00052 -0.01921 -0.00313 -0.01874 C -0.00573 -0.01782 -0.00642 -0.01458 -0.00729 -0.01111 C -0.00434 -0.00532 -0.00243 -0.00578 0.00208 -0.00277 C 0.00486 -0.00092 0.00625 0.00232 0.00885 0.00417 C 0.00972 0.00764 0.00868 0.01019 0.00729 0.0132 C 0.00712 0.01413 0.00642 0.01505 0.00677 0.01598 C 0.00712 0.01667 0.01198 0.01783 0.0125 0.01806 C 0.01076 0.01922 0.00937 0.02014 0.00729 0.02014 E">
                                      <p:cBhvr>
                                        <p:cTn id="3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00104 -0.00092 0.00243 -0.00139 0.00312 -0.00277 C 0.00347 -0.0037 0.00781 -0.01759 0.00833 -0.01944 C 1.94444000000023E-006 -0.02314 -0.00278 -0.02592 -0.0125 -0.02777 C -0.01615 -0.03495 -0.01702 -0.04745 -0.02292 -0.05 C -0.03542 -0.04722 -0.03768 -0.04838 -0.04271 -0.03472 C -0.0448 -0.03518 -0.04688 -0.03541 -0.04896 -0.03611 C -0.05105 -0.0368 -0.05521 -0.03889 -0.05521 -0.03889 C -0.05938 -0.04629 -0.06806 -0.05532 -0.075 -0.05833 C -0.08282 -0.05486 -0.08108 -0.05301 -0.0875 -0.04861 C -0.09132 -0.04097 -0.09306 -0.03426 -0.09896 -0.02916 C -0.10244 -0.03078 -0.10834 -0.03611 -0.10834 -0.03611 C -0.11268 -0.02453 -0.1125 -0.01041 -0.10313 -0.00416 C -0.10087 0.00023 -0.09896 0.01111 -0.09896 0.01111 C -0.10018 0.02824 -0.09775 0.02593 -0.1073 0.02917 C -0.10903 0.02871 -0.11112 0.02917 -0.1125 0.02778 C -0.11268 0.02755 -0.11632 0.01644 -0.11667 0.01528 C -0.11632 0.01158 -0.1165 0.00764 -0.11563 0.00417 C -0.11372 -0.00324 -0.1073 -0.00463 -0.10313 -0.00833 C -0.10053 -0.01527 -0.10105 -0.01736 -0.10417 -0.02361 C -0.10487 -0.02731 -0.10556 -0.03102 -0.10625 -0.03472 C -0.1066 -0.03657 -0.1073 -0.04027 -0.1073 -0.04027 C -0.1066 -0.04213 -0.10625 -0.04421 -0.10521 -0.04583 C -0.10139 -0.05185 -0.09601 -0.04444 -0.09167 -0.04305 C -0.09063 -0.04213 -0.08959 -0.04143 -0.08855 -0.04027 C -0.08733 -0.03912 -0.08681 -0.03588 -0.08542 -0.03611 C -0.08369 -0.03657 -0.08351 -0.04004 -0.0823 -0.04166 C -0.08143 -0.04282 -0.08039 -0.04375 -0.07917 -0.04444 C -0.07709 -0.0456 -0.07292 -0.04722 -0.07292 -0.04722 C -0.07049 -0.04676 -0.06789 -0.04722 -0.06563 -0.04583 C -0.06476 -0.04537 -0.0599 -0.03402 -0.05834 -0.03194 C -0.05348 -0.04166 -0.05625 -0.03842 -0.05105 -0.04305 C -0.04098 -0.04189 -0.03507 -0.04259 -0.02813 -0.03333 C -0.02587 -0.04097 -0.025 -0.04676 -0.0198 -0.05139 C -0.01424 -0.04884 -0.01233 -0.04259 -0.0073 -0.04027 C -0.00573 -0.03402 -0.0073 -0.03078 -0.00938 -0.025 C -0.00712 -0.01898 -0.00521 -0.0162 -0.00105 -0.0125 C 0.00034 -0.00509 0.00156 -0.00416 -0.00105 0.00278 C 1.94444000000001E-006 0.00695 0.00069 0.01204 0.00312 0.01528 C 0.00399 0.01644 0.0059 0.01644 0.00625 0.01806 C 0.00694 0.02107 0.00625 0.02454 0.00625 0.02778 E">
                                      <p:cBhvr>
                                        <p:cTn id="3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4" descr=""/>
          <p:cNvPicPr/>
          <p:nvPr/>
        </p:nvPicPr>
        <p:blipFill>
          <a:blip r:embed="rId1"/>
          <a:stretch/>
        </p:blipFill>
        <p:spPr>
          <a:xfrm>
            <a:off x="2060640" y="268200"/>
            <a:ext cx="3962160" cy="21938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468360" y="-36360"/>
            <a:ext cx="8218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орядок чистки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836640"/>
            <a:ext cx="22320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Зубы надо чистить      2 раза в день: утром после завтрака и вечером перед сном. Продолжи-тельность процедуры – около 3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01"/>
          <p:cNvPicPr/>
          <p:nvPr/>
        </p:nvPicPr>
        <p:blipFill>
          <a:blip r:embed="rId2"/>
          <a:stretch/>
        </p:blipFill>
        <p:spPr>
          <a:xfrm>
            <a:off x="2087640" y="714240"/>
            <a:ext cx="7056360" cy="644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сещайте стоматолога              2 раза в го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9708_350zub"/>
          <p:cNvPicPr/>
          <p:nvPr/>
        </p:nvPicPr>
        <p:blipFill>
          <a:blip r:embed="rId1"/>
          <a:stretch/>
        </p:blipFill>
        <p:spPr>
          <a:xfrm>
            <a:off x="4067280" y="1557360"/>
            <a:ext cx="3733560" cy="2986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thumb"/>
          <p:cNvPicPr/>
          <p:nvPr/>
        </p:nvPicPr>
        <p:blipFill>
          <a:blip r:embed="rId2"/>
          <a:stretch/>
        </p:blipFill>
        <p:spPr>
          <a:xfrm>
            <a:off x="395280" y="1628640"/>
            <a:ext cx="3209760" cy="3210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38"/>
          <p:cNvPicPr/>
          <p:nvPr/>
        </p:nvPicPr>
        <p:blipFill>
          <a:blip r:embed="rId3"/>
          <a:stretch/>
        </p:blipFill>
        <p:spPr>
          <a:xfrm>
            <a:off x="2050920" y="4941720"/>
            <a:ext cx="2448000" cy="1652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Teeth2"/>
          <p:cNvPicPr/>
          <p:nvPr/>
        </p:nvPicPr>
        <p:blipFill>
          <a:blip r:embed="rId4"/>
          <a:stretch/>
        </p:blipFill>
        <p:spPr>
          <a:xfrm>
            <a:off x="6016680" y="4367160"/>
            <a:ext cx="312732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1:49:53Z</dcterms:created>
  <dc:creator>sega</dc:creator>
  <dc:description/>
  <dc:language>en-US</dc:language>
  <cp:lastModifiedBy>SamLab.ws</cp:lastModifiedBy>
  <dcterms:modified xsi:type="dcterms:W3CDTF">2017-03-13T18:18:11Z</dcterms:modified>
  <cp:revision>225</cp:revision>
  <dc:subject/>
  <dc:title>Слайд 1</dc:title>
</cp:coreProperties>
</file>