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7ED8-7CD7-4783-8769-64F1FDA8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5A3-B677-49B0-844E-ED8A1EE3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E46-384B-4195-A55B-A7169216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3687-2EF6-4C4C-A47D-1BBE3A13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AFBF-E497-4AD8-810C-3A58A493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69E6-1593-4376-8D6F-FADA6105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A092-97DE-4DFB-982F-7C92C3F4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F2F2-4EFB-4B30-A8A8-4EE9273A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64A4-C2DE-4829-AD26-B9B809C8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7F02-331A-4895-B9F0-B454A6A5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E9ED-CC83-47A5-8A8B-860BBCF0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63C0-55F1-4838-B58E-2861CACB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73D2-EC6C-4F39-9948-3BACBA7A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9DFE-5F71-4010-9BE1-ED471C10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F8BC-81A6-4308-8F23-C453BF01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122D-0D3E-4858-A5A6-ED7D4934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29B4-EDC9-4AB2-8C13-8BBBFAD7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9F19-A324-4616-8893-9FFFDD72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B415-0F6C-4189-9DEE-AD2B2D91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D8C-D3EA-4A6E-B51A-248C8F13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2D6-9A75-4877-848A-62579B14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E20-04E1-4DA1-9515-642CCEA3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9BAF-9896-4F19-B804-656CD0E8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DC5D-D097-4FA0-9C3B-670279FF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10241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Полилиния 10242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Полилиния 10243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Полилиния 10244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Полилиния 10245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Полилиния 10246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Полилиния 10247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Полилиния 10248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Полилиния 10249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Полилиния 10250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Полилиния 10251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Полилиния 10252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Полилиния 10253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Полилиния 10254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Полилиния 10255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Полилиния 10256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FD46-10E9-477C-BA8D-5BB4127C40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Группа 11265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Полилиния 11266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Полилиния 11267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Полилиния 11268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Полилиния 11269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Полилиния 11270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Полилиния 11271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Полилиния 11272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Полилиния 11273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Полилиния 11274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Полилиния 11275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Полилиния 11276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Полилиния 11277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Полилиния 11278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Полилиния 11279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Полилиния 11280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C257-6226-442F-B7D6-4CB0E7F39477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Как стать успешным человеком?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181480" y="586692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МОУ «СОШ №2 г.Верхнеуральска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авинова Рамиля Ревгатов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Изображение 4099" descr="iStock-918704584-1"/>
          <p:cNvPicPr/>
          <p:nvPr/>
        </p:nvPicPr>
        <p:blipFill>
          <a:blip r:embed="rId1"/>
          <a:stretch/>
        </p:blipFill>
        <p:spPr>
          <a:xfrm>
            <a:off x="304920" y="2209680"/>
            <a:ext cx="4800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Изображение 5123" descr="s1200"/>
          <p:cNvPicPr/>
          <p:nvPr/>
        </p:nvPicPr>
        <p:blipFill>
          <a:blip r:embed="rId1"/>
          <a:stretch/>
        </p:blipFill>
        <p:spPr>
          <a:xfrm>
            <a:off x="304920" y="685800"/>
            <a:ext cx="4038480" cy="548640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pic>
        <p:nvPicPr>
          <p:cNvPr id="118" name="Изображение 5124" descr="portret-pushkin-01"/>
          <p:cNvPicPr/>
          <p:nvPr/>
        </p:nvPicPr>
        <p:blipFill>
          <a:blip r:embed="rId2"/>
          <a:stretch/>
        </p:blipFill>
        <p:spPr>
          <a:xfrm>
            <a:off x="4800600" y="685800"/>
            <a:ext cx="4038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Успех</a:t>
            </a:r>
            <a:r>
              <a:rPr b="0" lang="ru-RU" sz="54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– положительный результат, удачное завершение чего-нибудь. 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Успех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 – это общественное признание, одобрение. 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Успех</a:t>
            </a:r>
            <a:r>
              <a:rPr b="0" lang="ru-RU" sz="5400" spc="-1" strike="noStrike">
                <a:solidFill>
                  <a:srgbClr val="eaeaea"/>
                </a:solidFill>
                <a:latin typeface="Times New Roman"/>
              </a:rPr>
              <a:t> – хорошие результаты в работе, занятиях.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imes New Roman"/>
              </a:rPr>
              <a:t>Чтобы стать успешным человеком, нужно…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ословиц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Успешный человек действует, а неуспешный откладывает действие на потом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Успешный стремится к большему, чем он есть сейчас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8T13:48:56Z</dcterms:created>
  <dc:creator/>
  <dc:description/>
  <dc:language>en-US</dc:language>
  <cp:lastModifiedBy>User</cp:lastModifiedBy>
  <dcterms:modified xsi:type="dcterms:W3CDTF">2022-09-08T14:09:5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50FD14128A7248E6BA661F53B18FD2EC</vt:lpwstr>
  </property>
  <property fmtid="{D5CDD505-2E9C-101B-9397-08002B2CF9AE}" pid="3" name="KSOProductBuildVer">
    <vt:lpwstr>1049-11.2.0.11306</vt:lpwstr>
  </property>
  <property fmtid="{D5CDD505-2E9C-101B-9397-08002B2CF9AE}" pid="4" name="Version">
    <vt:r8>1</vt:r8>
  </property>
</Properties>
</file>