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83.png" ContentType="image/png"/>
  <Override PartName="/ppt/media/image53.jpeg" ContentType="image/jpeg"/>
  <Override PartName="/ppt/media/image51.jpeg" ContentType="image/jpeg"/>
  <Override PartName="/ppt/media/image48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3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37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35.png" ContentType="image/png"/>
  <Override PartName="/ppt/media/image33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47.png" ContentType="image/png"/>
  <Override PartName="/ppt/media/image32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49.jpeg" ContentType="image/jpeg"/>
  <Override PartName="/ppt/media/image21.png" ContentType="image/png"/>
  <Override PartName="/ppt/media/image67.jpeg" ContentType="image/jpeg"/>
  <Override PartName="/ppt/media/image23.jpeg" ContentType="image/jpeg"/>
  <Override PartName="/ppt/media/image82.jpeg" ContentType="image/jpeg"/>
  <Override PartName="/ppt/media/image56.jpeg" ContentType="image/jpeg"/>
  <Override PartName="/ppt/media/image78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73.png" ContentType="image/pn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31.png" ContentType="image/png"/>
  <Override PartName="/ppt/media/image68.png" ContentType="image/png"/>
  <Override PartName="/ppt/media/image6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9.jpeg" ContentType="image/jpeg"/>
  <Override PartName="/ppt/media/image63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17.jpeg" ContentType="image/jpeg"/>
  <Override PartName="/ppt/media/image22.jpeg" ContentType="image/jpeg"/>
  <Override PartName="/ppt/media/image16.png" ContentType="image/png"/>
  <Override PartName="/ppt/media/image81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28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1.jpeg" ContentType="image/jpeg"/>
  <Override PartName="/ppt/media/image84.png" ContentType="image/png"/>
  <Override PartName="/ppt/media/image6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52.png" ContentType="image/png"/>
  <Override PartName="/ppt/media/image6.jpeg" ContentType="image/jpeg"/>
  <Override PartName="/ppt/media/image7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62A-7416-4493-AB74-A2B54353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DB9-D4CA-41F9-819C-A15E297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FFE-496F-4706-9F15-61B36AD6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64D-CB14-4D24-AAB4-573590F4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28C7-3CBA-42E3-8146-1BF81E1A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BF5B-614F-4D5C-952D-0E256DA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46A5-8CB5-463F-8CB0-C2362EF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1B3-4B05-4F2A-8479-6994A155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99B-629C-42A9-A47A-4995A2CD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4B46-BE92-4B6C-807A-A905038B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06FB-5FF5-47C4-8FBD-045D6A9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0CB-CCFE-4708-B956-FFC7F045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699-774E-440A-A92A-DCD5D0F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C211-53A1-4EC0-A1D3-BB26AA3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8544-F38A-4B88-83BF-AEAD9CDE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8AD-8ED1-416F-AF9D-82F3AC8D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FF5-7DAD-4205-95DA-41302906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46FB-698D-4AE5-B588-1A0E4B4D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CDBF-A8D8-480E-8FFB-A1BBDD8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4232-DCAA-42C3-82F2-24FB6D1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CEF3-E943-4B96-B5B8-21B20D14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4661-5A93-4D97-B0BC-C4A62D03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89E-8D3A-40F8-8D01-D1F4E80E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C00D-CF97-481D-AF89-60744F61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5ED5-EC64-4C83-B430-6A85CB2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8B71-453F-46E4-A111-000A652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EE90-3827-4541-9269-82026FD7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73D0-A791-4275-85F7-4502B36A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2CEF-7539-499F-B316-3935004F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2FDD-95A9-4D86-B49C-F84F0719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EA202-6B12-45D3-B7AF-623300B9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854B-C0DC-47AC-9A57-BABA52D9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345C-53BC-430F-900A-392590A6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466-98B9-4C14-8FAB-61D74422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6481-5416-43A2-9F20-7BC2DEB8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81F6-EA83-4A6D-9CB8-833E7751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B412-FC31-4C5E-9798-01B1592C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D984-27FA-4C31-A7D1-4B4AEF0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E36E-310E-473B-8CA8-9EA0DD3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04C4-BE15-4CF7-AB04-863BAC0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EE48-74E7-4D9F-8052-36BFAD03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9F4E-E5F9-4155-99A6-4223BF25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C60F-9E79-4264-B969-87AB7E10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B94-9195-4BF5-A5C2-1E28287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951-956D-40D6-8D69-8F8CAD5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482-C1FB-4666-9F21-D712977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50C-6F29-41B7-AEF7-194C936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692-7CBE-48F7-8612-C14A991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30E41-B9C6-4E5F-8AA7-7DA26B005002}" type="datetime">
              <a:rPr b="0" lang="en-US" sz="900" spc="-1" strike="noStrike">
                <a:solidFill>
                  <a:srgbClr val="898989"/>
                </a:solidFill>
                <a:latin typeface="Trebuchet MS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C92DD-5FB4-4E61-8E65-3D8F6E1505F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73DCD-0CF6-4FA4-AF77-F3BB08213B80}" type="datetime">
              <a:rPr b="0" lang="en-US" sz="900" spc="-1" strike="noStrike">
                <a:solidFill>
                  <a:srgbClr val="898989"/>
                </a:solidFill>
                <a:latin typeface="Trebuchet MS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B39C7-4E01-4C3B-9240-A6A779703166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35A84-A62C-415F-A9C2-D30455F98C3A}" type="datetime">
              <a:rPr b="0" lang="en-US" sz="900" spc="-1" strike="noStrike">
                <a:solidFill>
                  <a:srgbClr val="898989"/>
                </a:solidFill>
                <a:latin typeface="Trebuchet MS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AF9B6-3BEF-48AF-BD0F-0F211FB8382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394CF-0E92-4FAC-9BEC-96EABDD40CC3}" type="datetime">
              <a:rPr b="0" lang="en-US" sz="900" spc="-1" strike="noStrike">
                <a:solidFill>
                  <a:srgbClr val="898989"/>
                </a:solidFill>
                <a:latin typeface="Trebuchet MS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6A5A8-6884-4E20-82E7-C4AF1BEF48F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hyperlink" Target="https://yandex.ru/images/search?img_url=http%3A%2F%2Fdisus.ru%2Fimages1%2F3523%2Fimg15.jpg&amp;_=1440785119242&amp;p=1&amp;viewport=&amp;text=&#1075;&#1077;&#1085;&#1077;&#1090;&#1080;&#1082;&#1072;%20&#1095;&#1077;&#1083;&#1086;&#1074;&#1077;&#1082;&#1072;&amp;redircnt=1440785118.1&amp;pos=30&amp;rpt=simage&amp;pin=1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V.A. Mocart - .mp3" descr=""/>
          <p:cNvPicPr/>
          <p:nvPr/>
        </p:nvPicPr>
        <p:blipFill>
          <a:blip r:embed="rId1"/>
          <a:stretch/>
        </p:blipFill>
        <p:spPr>
          <a:xfrm>
            <a:off x="7620120" y="5562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40607"/>
                </a:solidFill>
                <a:latin typeface="Trebuchet MS"/>
              </a:rPr>
              <a:t>Государственное бюджетное профессиональное образовательное учреждение Республики Саха (Якутия)</a:t>
            </a:r>
            <a:br>
              <a:rPr sz="3200"/>
            </a:br>
            <a:r>
              <a:rPr b="1" lang="ru-RU" sz="2800" spc="-1" strike="noStrike">
                <a:solidFill>
                  <a:srgbClr val="040607"/>
                </a:solidFill>
                <a:latin typeface="Trebuchet MS"/>
              </a:rPr>
              <a:t>«</a:t>
            </a:r>
            <a:r>
              <a:rPr b="1" lang="ru-RU" sz="3600" spc="-1" strike="noStrike">
                <a:solidFill>
                  <a:srgbClr val="040607"/>
                </a:solidFill>
                <a:latin typeface="Trebuchet MS"/>
              </a:rPr>
              <a:t>Нерюнгринский медицинский колледж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14" name="Содержимое 9"/>
          <p:cNvGrpSpPr/>
          <p:nvPr/>
        </p:nvGrpSpPr>
        <p:grpSpPr>
          <a:xfrm>
            <a:off x="549360" y="2481120"/>
            <a:ext cx="8045280" cy="4005360"/>
            <a:chOff x="549360" y="2481120"/>
            <a:chExt cx="8045280" cy="4005360"/>
          </a:xfrm>
        </p:grpSpPr>
        <p:pic>
          <p:nvPicPr>
            <p:cNvPr id="215" name="Содержимое 9" descr=""/>
            <p:cNvPicPr/>
            <p:nvPr/>
          </p:nvPicPr>
          <p:blipFill>
            <a:blip r:embed="rId2"/>
            <a:stretch/>
          </p:blipFill>
          <p:spPr>
            <a:xfrm>
              <a:off x="549360" y="2481120"/>
              <a:ext cx="804528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09480" y="2514600"/>
              <a:ext cx="792504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rebuchet MS"/>
                </a:rPr>
                <a:t>Генетика человека с основами медицинской генетики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rebuchet MS"/>
                </a:rPr>
                <a:t>Основные понятия дисциплины и её связь с другими науками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rebuchet MS"/>
                </a:rPr>
                <a:t>История развития генетики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rebuchet MS"/>
                </a:rPr>
                <a:t>2026г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4689A-0CCA-44BB-A638-B2B4B9F7B9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Содержимое 2"/>
          <p:cNvGrpSpPr/>
          <p:nvPr/>
        </p:nvGrpSpPr>
        <p:grpSpPr>
          <a:xfrm>
            <a:off x="438120" y="743040"/>
            <a:ext cx="4603680" cy="5670360"/>
            <a:chOff x="438120" y="743040"/>
            <a:chExt cx="4603680" cy="5670360"/>
          </a:xfrm>
        </p:grpSpPr>
        <p:pic>
          <p:nvPicPr>
            <p:cNvPr id="27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60368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457200" y="762120"/>
              <a:ext cx="45720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9AD39-F792-4D30-8094-A66CA3EB4A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Прямоугольник 7"/>
          <p:cNvSpPr/>
          <p:nvPr/>
        </p:nvSpPr>
        <p:spPr>
          <a:xfrm>
            <a:off x="685800" y="1091160"/>
            <a:ext cx="419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атологически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мптомов сменилось изучением  форм болезненных процессов, которые можно было прослеживать в родословных как отдельные формы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явные успехи, в целом в XIX веке учение о наследственных болезнях содержало еще много противоречий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т период можно назвать 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оменделевски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http://900igr.net/datas/meditsina/Genetika-i-nasledstvennye-bolezni-cheloveka/0018-018-Reproduktsija-kartiny-Dzhordzhone.jpg"/>
          <p:cNvPicPr/>
          <p:nvPr/>
        </p:nvPicPr>
        <p:blipFill>
          <a:blip r:embed="rId2"/>
          <a:stretch/>
        </p:blipFill>
        <p:spPr>
          <a:xfrm>
            <a:off x="5181480" y="609480"/>
            <a:ext cx="3638520" cy="2729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byebyedoctor.com/wp-content/uploads/2011/01/progeria-pictures-2.jpg"/>
          <p:cNvPicPr/>
          <p:nvPr/>
        </p:nvPicPr>
        <p:blipFill>
          <a:blip r:embed="rId3"/>
          <a:stretch/>
        </p:blipFill>
        <p:spPr>
          <a:xfrm>
            <a:off x="5410080" y="3038400"/>
            <a:ext cx="335304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Содержимое 2"/>
          <p:cNvGrpSpPr/>
          <p:nvPr/>
        </p:nvGrpSpPr>
        <p:grpSpPr>
          <a:xfrm>
            <a:off x="438120" y="743040"/>
            <a:ext cx="5292720" cy="5670360"/>
            <a:chOff x="438120" y="743040"/>
            <a:chExt cx="5292720" cy="5670360"/>
          </a:xfrm>
        </p:grpSpPr>
        <p:pic>
          <p:nvPicPr>
            <p:cNvPr id="28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529272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57200" y="762120"/>
              <a:ext cx="52578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2F47A-7871-49FE-A80C-16113F6BE4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685800" y="1087560"/>
            <a:ext cx="48769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делевский пери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Переоткрытие законов Менделя в 1900 г. дало новый толчок развитию медицинской генетик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ледственность как этиолог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болезни прочно вошла в медицин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ые десятилетия XX века роль наследственности в формировании поведения человека и наследственной отягощенности населения была даже существенно преувеличена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://knopik.org/uploads/posts/2012-08/134638504437322.jpeg"/>
          <p:cNvPicPr/>
          <p:nvPr/>
        </p:nvPicPr>
        <p:blipFill>
          <a:blip r:embed="rId2"/>
          <a:stretch/>
        </p:blipFill>
        <p:spPr>
          <a:xfrm>
            <a:off x="5797440" y="1143000"/>
            <a:ext cx="334656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Содержимое 2"/>
          <p:cNvGrpSpPr/>
          <p:nvPr/>
        </p:nvGrpSpPr>
        <p:grpSpPr>
          <a:xfrm>
            <a:off x="438120" y="743040"/>
            <a:ext cx="4603680" cy="5670360"/>
            <a:chOff x="438120" y="743040"/>
            <a:chExt cx="4603680" cy="5670360"/>
          </a:xfrm>
        </p:grpSpPr>
        <p:pic>
          <p:nvPicPr>
            <p:cNvPr id="28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60368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762120"/>
              <a:ext cx="45720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0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FFF35-2675-4DEE-A5EC-FB3CA575FD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685800" y="109008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рождения семе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следственной патологией стала ведущей для объяснения отягощенности общества потомством таких больных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з наследственной болезни считался приговором больному и его семь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й почве сформировалось направление (или даже наука) об улучшении породы человека -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вген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евгенического движения стало освобождение человечества от лиц с наследственной патологией путем насильственной стерилизации и ограничения репродуктивной свободы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2" descr="http://vse-pro-geny.ru/uppload/Image/hvoroby/Neirofibromatoz/neirofibromatoz-I.jpg"/>
          <p:cNvPicPr/>
          <p:nvPr/>
        </p:nvPicPr>
        <p:blipFill>
          <a:blip r:embed="rId2"/>
          <a:stretch/>
        </p:blipFill>
        <p:spPr>
          <a:xfrm>
            <a:off x="5029200" y="304920"/>
            <a:ext cx="3927600" cy="3047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http://www.uchportal.ru/_ld/459/73211142.png"/>
          <p:cNvPicPr/>
          <p:nvPr/>
        </p:nvPicPr>
        <p:blipFill>
          <a:blip r:embed="rId3"/>
          <a:stretch/>
        </p:blipFill>
        <p:spPr>
          <a:xfrm>
            <a:off x="5030640" y="3429000"/>
            <a:ext cx="41133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Содержимое 2"/>
          <p:cNvGrpSpPr/>
          <p:nvPr/>
        </p:nvGrpSpPr>
        <p:grpSpPr>
          <a:xfrm>
            <a:off x="438120" y="438120"/>
            <a:ext cx="5823000" cy="5975280"/>
            <a:chOff x="438120" y="438120"/>
            <a:chExt cx="5823000" cy="5975280"/>
          </a:xfrm>
        </p:grpSpPr>
        <p:pic>
          <p:nvPicPr>
            <p:cNvPr id="29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438120"/>
              <a:ext cx="582300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57200" y="457200"/>
              <a:ext cx="579132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4E313-4509-4B32-801B-60944B07BB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685800" y="635400"/>
            <a:ext cx="510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 евгеника сыграла отрицательную роль в развитии генетики и медико-биологической наук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шей стране медицинская генетика успешно развивалась в 20-30-х года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1 г. Ю. А. Филипченко организовал бюро по евгенике при Российской Академии наук, впоследствии реорганизованное в лабораторию генетики, ставшую в 1933 г. институтом генетики, который возглавил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 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ви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2" descr="http://thecommonroomblog.com/common-room/wp-content/uploads/2010/11/eugenics-tree.jpg"/>
          <p:cNvPicPr/>
          <p:nvPr/>
        </p:nvPicPr>
        <p:blipFill>
          <a:blip r:embed="rId2"/>
          <a:stretch/>
        </p:blipFill>
        <p:spPr>
          <a:xfrm>
            <a:off x="5792760" y="762120"/>
            <a:ext cx="3351240" cy="2590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m.murmansk.kp.ru/share/i/12/6072103/big.jpg"/>
          <p:cNvPicPr/>
          <p:nvPr/>
        </p:nvPicPr>
        <p:blipFill>
          <a:blip r:embed="rId3"/>
          <a:stretch/>
        </p:blipFill>
        <p:spPr>
          <a:xfrm>
            <a:off x="5829480" y="3886200"/>
            <a:ext cx="33145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Содержимое 2"/>
          <p:cNvGrpSpPr/>
          <p:nvPr/>
        </p:nvGrpSpPr>
        <p:grpSpPr>
          <a:xfrm>
            <a:off x="438120" y="438120"/>
            <a:ext cx="5597640" cy="5975280"/>
            <a:chOff x="438120" y="438120"/>
            <a:chExt cx="5597640" cy="5975280"/>
          </a:xfrm>
        </p:grpSpPr>
        <p:pic>
          <p:nvPicPr>
            <p:cNvPr id="3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438120"/>
              <a:ext cx="559764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57200" y="457200"/>
              <a:ext cx="556272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04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57892-E7BF-4D4A-88A1-EF1A432622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685800" y="741600"/>
            <a:ext cx="5105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ая роль в развитии медицинского направления в генетике принадлежит основоположнику клинической генетики 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. Н. Давиденков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одновременно генетику и невропатолог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яду с огромным вкладом в изучение генетики нервных болезней он на несколько десятилетий определил разработку общегенетических пробле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ервым в мире поставил вопрос о необходимости составления каталога генов человека, сформулировал понятие о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нетической гетерог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наследственных болезней, организовал медико-генетическую консультацию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6" name="Picture 2" descr="http://100v.com.ua/sites/100v.com.ua/files/davidenkov_sergey_nikolaevich.jpg"/>
          <p:cNvPicPr/>
          <p:nvPr/>
        </p:nvPicPr>
        <p:blipFill>
          <a:blip r:embed="rId2"/>
          <a:stretch/>
        </p:blipFill>
        <p:spPr>
          <a:xfrm>
            <a:off x="6172200" y="609480"/>
            <a:ext cx="2362320" cy="3108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http://arh-info.ru/import/images/2015-04/1428765784_v-dnk-kazhdogo-cheloveka-est-ho.jpg"/>
          <p:cNvPicPr/>
          <p:nvPr/>
        </p:nvPicPr>
        <p:blipFill>
          <a:blip r:embed="rId3"/>
          <a:stretch/>
        </p:blipFill>
        <p:spPr>
          <a:xfrm>
            <a:off x="5867280" y="4191120"/>
            <a:ext cx="3081600" cy="186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Содержимое 2"/>
          <p:cNvGrpSpPr/>
          <p:nvPr/>
        </p:nvGrpSpPr>
        <p:grpSpPr>
          <a:xfrm>
            <a:off x="438120" y="743040"/>
            <a:ext cx="6054840" cy="5670360"/>
            <a:chOff x="438120" y="743040"/>
            <a:chExt cx="6054840" cy="5670360"/>
          </a:xfrm>
        </p:grpSpPr>
        <p:pic>
          <p:nvPicPr>
            <p:cNvPr id="30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605484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7200" y="762120"/>
              <a:ext cx="60199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11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0C4E8-CCB4-411F-9964-5647BBE47C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685800" y="941040"/>
            <a:ext cx="45720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7840" indent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1930-1937 гг. медицинская генетика развивалась в Медико-биологическом институте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 indent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ко в период сталинских репрессий генетика была объявлена "лженаукой"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 indent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 indent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тические исследования у нас в стране возобновились только в начале 60-х годов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 indent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 indent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этом в мире, начиная с 50-х годов XX века, наступает наиболее бурный период развития генетики человека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3" name="Picture 2" descr="http://images.khabaronline.ir/images/position1/2010/4/chromosomes.jpg"/>
          <p:cNvPicPr/>
          <p:nvPr/>
        </p:nvPicPr>
        <p:blipFill>
          <a:blip r:embed="rId2"/>
          <a:stretch/>
        </p:blipFill>
        <p:spPr>
          <a:xfrm>
            <a:off x="5257800" y="457200"/>
            <a:ext cx="3657600" cy="2879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labs.am-themes.com/Arno_HTML/img/custom-pages/portfolio-isotope-11.jpg"/>
          <p:cNvPicPr/>
          <p:nvPr/>
        </p:nvPicPr>
        <p:blipFill>
          <a:blip r:embed="rId3"/>
          <a:stretch/>
        </p:blipFill>
        <p:spPr>
          <a:xfrm>
            <a:off x="5257800" y="36576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одержимое 2"/>
          <p:cNvGrpSpPr/>
          <p:nvPr/>
        </p:nvGrpSpPr>
        <p:grpSpPr>
          <a:xfrm>
            <a:off x="438120" y="669960"/>
            <a:ext cx="4603680" cy="5670360"/>
            <a:chOff x="438120" y="669960"/>
            <a:chExt cx="4603680" cy="5670360"/>
          </a:xfrm>
        </p:grpSpPr>
        <p:pic>
          <p:nvPicPr>
            <p:cNvPr id="31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669960"/>
              <a:ext cx="460368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57200" y="685800"/>
              <a:ext cx="45720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18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D8DFE-24DA-49CB-A545-902B899CD5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685800" y="938880"/>
            <a:ext cx="426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1959 г. была открыта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хромосомная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рода болезней, и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цитогене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на несколько лет стала ведущим направлением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этот период сформировалась клиническая генетика как результат слияния цитогенетики, менделевской генетики и биохимической генетики, а человек стал главным объектом общегенетических исследован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0" name="Picture 4" descr="http://i1.sndcdn.com/artworks-000084879238-p39rm6-t500x500.jpg"/>
          <p:cNvPicPr/>
          <p:nvPr/>
        </p:nvPicPr>
        <p:blipFill>
          <a:blip r:embed="rId2"/>
          <a:stretch/>
        </p:blipFill>
        <p:spPr>
          <a:xfrm>
            <a:off x="5105520" y="685800"/>
            <a:ext cx="380988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Содержимое 2"/>
          <p:cNvGrpSpPr/>
          <p:nvPr/>
        </p:nvGrpSpPr>
        <p:grpSpPr>
          <a:xfrm>
            <a:off x="438120" y="743040"/>
            <a:ext cx="3841920" cy="5670360"/>
            <a:chOff x="438120" y="743040"/>
            <a:chExt cx="3841920" cy="5670360"/>
          </a:xfrm>
        </p:grpSpPr>
        <p:pic>
          <p:nvPicPr>
            <p:cNvPr id="32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384192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57200" y="762120"/>
              <a:ext cx="38098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4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0D2A9-9C79-404A-9C28-EFC62969B2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Прямоугольник 7"/>
          <p:cNvSpPr/>
          <p:nvPr/>
        </p:nvSpPr>
        <p:spPr>
          <a:xfrm>
            <a:off x="685800" y="936000"/>
            <a:ext cx="320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едмет и задачи медицинской генетик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ене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s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оисхождение) – наука, изучающая явления наследственности и изменчивости организма человека на всех уровнях его организаци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6" name="Picture 2" descr="http://do.gendocs.ru/pars_docs/tw_refs/84/83737/83737_html_1269972.png"/>
          <p:cNvPicPr/>
          <p:nvPr/>
        </p:nvPicPr>
        <p:blipFill>
          <a:blip r:embed="rId2"/>
          <a:stretch/>
        </p:blipFill>
        <p:spPr>
          <a:xfrm>
            <a:off x="4343400" y="1447920"/>
            <a:ext cx="45529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Содержимое 2"/>
          <p:cNvGrpSpPr/>
          <p:nvPr/>
        </p:nvGrpSpPr>
        <p:grpSpPr>
          <a:xfrm>
            <a:off x="438120" y="743040"/>
            <a:ext cx="4987800" cy="5670360"/>
            <a:chOff x="438120" y="743040"/>
            <a:chExt cx="4987800" cy="5670360"/>
          </a:xfrm>
        </p:grpSpPr>
        <p:pic>
          <p:nvPicPr>
            <p:cNvPr id="32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98780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57200" y="762120"/>
              <a:ext cx="49528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0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C5678-6DE2-4C74-BD65-DB2044DA8A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 7"/>
          <p:cNvSpPr/>
          <p:nvPr/>
        </p:nvSpPr>
        <p:spPr>
          <a:xfrm>
            <a:off x="685800" y="935640"/>
            <a:ext cx="4876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следстве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войство организма повторять в ряду поколений сходные признаки, типы обмена веществ и индивидуальное развитие, т.е. производить себе подобных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этом наследственность означает не полное повторение родительских особей, а лишь их чрезвычайное сходство между собой и отличие от индивидов, принадлежащих к другим близким биологическим индивида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http://dialekar.ru/uploads/posts/2015-05/nasledstvennost.jpg"/>
          <p:cNvPicPr/>
          <p:nvPr/>
        </p:nvPicPr>
        <p:blipFill>
          <a:blip r:embed="rId2"/>
          <a:stretch/>
        </p:blipFill>
        <p:spPr>
          <a:xfrm>
            <a:off x="5715000" y="3809880"/>
            <a:ext cx="3098880" cy="2519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tardokanatomy.ru/sites/default/files/cvetglaz.jpg"/>
          <p:cNvPicPr/>
          <p:nvPr/>
        </p:nvPicPr>
        <p:blipFill>
          <a:blip r:embed="rId3"/>
          <a:stretch/>
        </p:blipFill>
        <p:spPr>
          <a:xfrm>
            <a:off x="5791320" y="457200"/>
            <a:ext cx="294948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Содержимое 2"/>
          <p:cNvGrpSpPr/>
          <p:nvPr/>
        </p:nvGrpSpPr>
        <p:grpSpPr>
          <a:xfrm>
            <a:off x="438120" y="743040"/>
            <a:ext cx="4683240" cy="5670360"/>
            <a:chOff x="438120" y="743040"/>
            <a:chExt cx="4683240" cy="5670360"/>
          </a:xfrm>
        </p:grpSpPr>
        <p:pic>
          <p:nvPicPr>
            <p:cNvPr id="33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68324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57200" y="762120"/>
              <a:ext cx="46483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F6A87-49F4-4A2C-9210-1EEEB296DE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685800" y="940320"/>
            <a:ext cx="4191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ледственности сопутствует феномен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изменчив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 явление, отражающее индивидуальные, семейные и иные различия между особями одного вида, благодаря которым у потомства появляются новые признаки, обеспечивающие естественный отбор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овокупности наследственность и изменчивость живых организмов составляют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мет изучения генети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9" name="Picture 2" descr="http://player.myshared.ru/399384/data/images/img24.jpg"/>
          <p:cNvPicPr/>
          <p:nvPr/>
        </p:nvPicPr>
        <p:blipFill>
          <a:blip r:embed="rId2"/>
          <a:stretch/>
        </p:blipFill>
        <p:spPr>
          <a:xfrm>
            <a:off x="5334120" y="762120"/>
            <a:ext cx="3438360" cy="2292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o.quizlet.com/QD3E7yZPupglO9qNIJYvDA_m.jpg"/>
          <p:cNvPicPr/>
          <p:nvPr/>
        </p:nvPicPr>
        <p:blipFill>
          <a:blip r:embed="rId3"/>
          <a:stretch/>
        </p:blipFill>
        <p:spPr>
          <a:xfrm>
            <a:off x="5486400" y="3276720"/>
            <a:ext cx="2971800" cy="32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40607"/>
                </a:solidFill>
                <a:latin typeface="Trebuchet MS"/>
              </a:rPr>
              <a:t>Содержани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19" name="Содержимое 2"/>
          <p:cNvGrpSpPr/>
          <p:nvPr/>
        </p:nvGrpSpPr>
        <p:grpSpPr>
          <a:xfrm>
            <a:off x="438120" y="1657440"/>
            <a:ext cx="8340840" cy="4682880"/>
            <a:chOff x="438120" y="1657440"/>
            <a:chExt cx="8340840" cy="4682880"/>
          </a:xfrm>
        </p:grpSpPr>
        <p:pic>
          <p:nvPicPr>
            <p:cNvPr id="22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1657440"/>
              <a:ext cx="8340840" cy="46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7200" y="1676520"/>
              <a:ext cx="8305920" cy="46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Введение в предмет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История развития генетики человек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Место генетики в практической медицине. 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Зарождение учения о наследственности 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Предмет и задачи медицинской генетики. Наследственность и изменчивость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Понятие медицинской генетики и основные положения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Задачи медицинской генетики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404040"/>
                  </a:solidFill>
                  <a:latin typeface="Trebuchet MS"/>
                </a:rPr>
                <a:t>Контрольные вопросы по теме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e6b91e"/>
                </a:buClr>
                <a:buSzPct val="80000"/>
                <a:buFont typeface="Wingdings 2" charset="2"/>
                <a:buChar char="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2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7718B-7DD2-4FFA-AA8D-523FE901B2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Содержимое 2"/>
          <p:cNvGrpSpPr/>
          <p:nvPr/>
        </p:nvGrpSpPr>
        <p:grpSpPr>
          <a:xfrm>
            <a:off x="438120" y="743040"/>
            <a:ext cx="7956720" cy="5670360"/>
            <a:chOff x="438120" y="743040"/>
            <a:chExt cx="7956720" cy="5670360"/>
          </a:xfrm>
        </p:grpSpPr>
        <p:pic>
          <p:nvPicPr>
            <p:cNvPr id="34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795672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57200" y="762120"/>
              <a:ext cx="79246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44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B72DB-1427-46B5-AEB4-D013518DB4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Прямоугольник 7"/>
          <p:cNvSpPr/>
          <p:nvPr/>
        </p:nvSpPr>
        <p:spPr>
          <a:xfrm>
            <a:off x="685800" y="941040"/>
            <a:ext cx="678168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тика не только изучает закономерности наследственности и изменчивости у человека, но и стремится найти способы управлять им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тика прошла несколько этапов, в результате чего появились современные классические знания о генетических основах живого организм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тику можно считать теоретическим фундаментом современной медицинской нау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тика занимает  лидирующую роль в фундаментальной биологии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яду с физиологией, биохимией, морфологие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ижения практической генетики внедряются в ежедневную работу практической медицин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88BDB-7563-40A6-A970-38290E2BAD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7" name="Picture 2" descr="http://images.myshared.ru/910620/slide_6.jpg"/>
          <p:cNvPicPr/>
          <p:nvPr/>
        </p:nvPicPr>
        <p:blipFill>
          <a:blip r:embed="rId1"/>
          <a:stretch/>
        </p:blipFill>
        <p:spPr>
          <a:xfrm>
            <a:off x="685800" y="485640"/>
            <a:ext cx="7924680" cy="5943600"/>
          </a:xfrm>
          <a:prstGeom prst="rect">
            <a:avLst/>
          </a:prstGeom>
          <a:ln cap="rnd" w="19080">
            <a:solidFill>
              <a:srgbClr val="000000"/>
            </a:solidFill>
            <a:miter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Содержимое 2"/>
          <p:cNvGrpSpPr/>
          <p:nvPr/>
        </p:nvGrpSpPr>
        <p:grpSpPr>
          <a:xfrm>
            <a:off x="438120" y="743040"/>
            <a:ext cx="5597640" cy="5670360"/>
            <a:chOff x="438120" y="743040"/>
            <a:chExt cx="5597640" cy="5670360"/>
          </a:xfrm>
        </p:grpSpPr>
        <p:pic>
          <p:nvPicPr>
            <p:cNvPr id="34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559764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57200" y="762120"/>
              <a:ext cx="55627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51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D32FB-8EB8-4ABD-9FFC-D36BC43D77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Прямоугольник 7"/>
          <p:cNvSpPr/>
          <p:nvPr/>
        </p:nvSpPr>
        <p:spPr>
          <a:xfrm>
            <a:off x="685800" y="936000"/>
            <a:ext cx="5410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7840" indent="27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едицинская гене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изучает роль наследственности в патологии человека, закономерности передачи от поколения поколению наследственных болезней, а также разрабатывает методы диагностики, лечения и профилактики наследственной патологии, в том числе и болезней с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следственной предрасположен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бъединяя, таким образом, медицинские и генетические открытия и достижения для борьбы с недугами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3" name="Picture 2" descr="http://www.ukazka.ru/img/b/uk295707.jpg"/>
          <p:cNvPicPr/>
          <p:nvPr/>
        </p:nvPicPr>
        <p:blipFill>
          <a:blip r:embed="rId2"/>
          <a:stretch/>
        </p:blipFill>
        <p:spPr>
          <a:xfrm>
            <a:off x="6095880" y="228600"/>
            <a:ext cx="2381400" cy="3724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health-news.ru/doc/med/images/34943.jpg"/>
          <p:cNvPicPr/>
          <p:nvPr/>
        </p:nvPicPr>
        <p:blipFill>
          <a:blip r:embed="rId3"/>
          <a:stretch/>
        </p:blipFill>
        <p:spPr>
          <a:xfrm>
            <a:off x="6400800" y="3200400"/>
            <a:ext cx="239724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Содержимое 2"/>
          <p:cNvGrpSpPr/>
          <p:nvPr/>
        </p:nvGrpSpPr>
        <p:grpSpPr>
          <a:xfrm>
            <a:off x="285840" y="285840"/>
            <a:ext cx="6127560" cy="6207120"/>
            <a:chOff x="285840" y="285840"/>
            <a:chExt cx="6127560" cy="6207120"/>
          </a:xfrm>
        </p:grpSpPr>
        <p:pic>
          <p:nvPicPr>
            <p:cNvPr id="35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85840" y="285840"/>
              <a:ext cx="6127560" cy="62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304920" y="304920"/>
              <a:ext cx="6095880" cy="61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58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B392C-ECDB-4881-97A0-65CBD883E2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685800" y="485280"/>
            <a:ext cx="5181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кладным разделом МГ является клиническая генетик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линическая гене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прикладной раздел медицинской генетики, в котором достижения последней применяются для решения клинических проблем у пациентов или в их семья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а изучает роль наследственных факторов в возникновении патологических симптомов и признаков в организме человека, закономерности передачи наследственных болезней, а также болезней с наследственной предрасположенностью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0" name="Picture 2" descr="http://www.urologi.ru/books/images/tmpAD62-98.jpg"/>
          <p:cNvPicPr/>
          <p:nvPr/>
        </p:nvPicPr>
        <p:blipFill>
          <a:blip r:embed="rId2"/>
          <a:stretch/>
        </p:blipFill>
        <p:spPr>
          <a:xfrm>
            <a:off x="5638680" y="363600"/>
            <a:ext cx="3451320" cy="2928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http://larece.ru/wp-content/uploads/2012/12/08-150x150.gif"/>
          <p:cNvPicPr/>
          <p:nvPr/>
        </p:nvPicPr>
        <p:blipFill>
          <a:blip r:embed="rId3"/>
          <a:stretch/>
        </p:blipFill>
        <p:spPr>
          <a:xfrm>
            <a:off x="5715000" y="3581280"/>
            <a:ext cx="3200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Содержимое 2"/>
          <p:cNvGrpSpPr/>
          <p:nvPr/>
        </p:nvGrpSpPr>
        <p:grpSpPr>
          <a:xfrm>
            <a:off x="517680" y="590400"/>
            <a:ext cx="4146480" cy="5902560"/>
            <a:chOff x="517680" y="590400"/>
            <a:chExt cx="4146480" cy="5902560"/>
          </a:xfrm>
        </p:grpSpPr>
        <p:pic>
          <p:nvPicPr>
            <p:cNvPr id="363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17680" y="590400"/>
              <a:ext cx="4146480" cy="59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33520" y="609480"/>
              <a:ext cx="4114800" cy="58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65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2EE6F-B6E1-416D-9B1D-BD7FAC9DA4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685800" y="940320"/>
            <a:ext cx="3809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ижения медицины и МГ направлены на борьбу с болезнями и на улучшение здоровья люде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жнейшей задачей МГ является изучение процессов функционирования организм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ижения в генетике обусловлены анализом законов природы и типом наследования мутационных изменений у человек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7" name="Picture 2" descr="http://dommedika.com/Img/4.jpg"/>
          <p:cNvPicPr/>
          <p:nvPr/>
        </p:nvPicPr>
        <p:blipFill>
          <a:blip r:embed="rId2"/>
          <a:stretch/>
        </p:blipFill>
        <p:spPr>
          <a:xfrm>
            <a:off x="5105520" y="457200"/>
            <a:ext cx="3485880" cy="2130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https://encrypted-tbn2.gstatic.com/images?q=tbn:ANd9GcSdfiBxYWwtb6Ctx3nk6rAiRAOAuenb6m82L6wATGH3pgOZYq7G"/>
          <p:cNvPicPr/>
          <p:nvPr/>
        </p:nvPicPr>
        <p:blipFill>
          <a:blip r:embed="rId3"/>
          <a:stretch/>
        </p:blipFill>
        <p:spPr>
          <a:xfrm>
            <a:off x="5257800" y="266688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Содержимое 2"/>
          <p:cNvGrpSpPr/>
          <p:nvPr/>
        </p:nvGrpSpPr>
        <p:grpSpPr>
          <a:xfrm>
            <a:off x="212760" y="291960"/>
            <a:ext cx="5133960" cy="6353280"/>
            <a:chOff x="212760" y="291960"/>
            <a:chExt cx="5133960" cy="6353280"/>
          </a:xfrm>
        </p:grpSpPr>
        <p:pic>
          <p:nvPicPr>
            <p:cNvPr id="37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12760" y="291960"/>
              <a:ext cx="5133960" cy="635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28600" y="304920"/>
              <a:ext cx="510552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2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AF69C-8B0A-427E-AC97-CDD7F677FC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685800" y="260280"/>
            <a:ext cx="434340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ые положения медицинской генетики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ледственные болезни возникают в результате общей наследственной изменчивости человека. Популяции человека отягощены огромным грузом мутаци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азвитии наследственной патологии играет роль генотип и внешняя сред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ледственность современного человека отягощена накоплением патологических мутаций в процессе эволюции и вновь возникшими наследственными изменениями в половых клетках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4" name="Picture 2" descr="http://medicalplanet.su/genetica/Img/219.jpg"/>
          <p:cNvPicPr/>
          <p:nvPr/>
        </p:nvPicPr>
        <p:blipFill>
          <a:blip r:embed="rId2"/>
          <a:stretch/>
        </p:blipFill>
        <p:spPr>
          <a:xfrm>
            <a:off x="5486400" y="380880"/>
            <a:ext cx="3271680" cy="3372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smdoctor.typo3lab.ru/uploads/pics/vrozhdennaja-kosolapost.jpg"/>
          <p:cNvPicPr/>
          <p:nvPr/>
        </p:nvPicPr>
        <p:blipFill>
          <a:blip r:embed="rId3"/>
          <a:stretch/>
        </p:blipFill>
        <p:spPr>
          <a:xfrm>
            <a:off x="6248520" y="403848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Содержимое 2"/>
          <p:cNvGrpSpPr/>
          <p:nvPr/>
        </p:nvGrpSpPr>
        <p:grpSpPr>
          <a:xfrm>
            <a:off x="212760" y="291960"/>
            <a:ext cx="6048360" cy="6274080"/>
            <a:chOff x="212760" y="291960"/>
            <a:chExt cx="6048360" cy="6274080"/>
          </a:xfrm>
        </p:grpSpPr>
        <p:pic>
          <p:nvPicPr>
            <p:cNvPr id="37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12760" y="291960"/>
              <a:ext cx="6048360" cy="62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28600" y="304920"/>
              <a:ext cx="6019920" cy="62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9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CB622-1C69-4E1D-A95C-7EFAFFFEA3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85800" y="487080"/>
            <a:ext cx="5410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ко изменилась среда обитания человека, планирование семьи и границы браков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 сталкивается с новыми условиями среды, испытывает нагрузки социального и экологического характер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лись масштабы миграции, расширился круг потенциальных партнер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ая МГ обладает большими возможностями в ДЗ, профилактике и лечении наследственной патологии, основываясь на данных цитогенетики, биохимической генетики, клинической и молекулярной генетики, а т.ж. популяционной и экологической генети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1" name="Picture 2" descr="http://www.mumbook.ru/sites/default/files/imagecache/520x325/novye_diagnosticheskie_testy_pozvolyayut_uznat_bolshe_o_geneticheskih_anomaliyah.jpg"/>
          <p:cNvPicPr/>
          <p:nvPr/>
        </p:nvPicPr>
        <p:blipFill>
          <a:blip r:embed="rId2"/>
          <a:stretch/>
        </p:blipFill>
        <p:spPr>
          <a:xfrm>
            <a:off x="6324480" y="380880"/>
            <a:ext cx="2819520" cy="1762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artstroy16.ru/zapis-k-detskom/imgs/37514861-zapis-k-terapevtu-yarcevo.jpg"/>
          <p:cNvPicPr/>
          <p:nvPr/>
        </p:nvPicPr>
        <p:blipFill>
          <a:blip r:embed="rId3"/>
          <a:stretch/>
        </p:blipFill>
        <p:spPr>
          <a:xfrm>
            <a:off x="6364440" y="2286000"/>
            <a:ext cx="2779560" cy="1846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900igr.net/datai/meditsina/Nasledstvennye-zabolevanija-cheloveka/0014-015-Sostavte-rodoslovnuju-semi-Prosledite-esli-vozmozhno-nasledovanie.jpg"/>
          <p:cNvPicPr/>
          <p:nvPr/>
        </p:nvPicPr>
        <p:blipFill>
          <a:blip r:embed="rId4"/>
          <a:stretch/>
        </p:blipFill>
        <p:spPr>
          <a:xfrm>
            <a:off x="6227640" y="4419720"/>
            <a:ext cx="2916360" cy="167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Содержимое 2"/>
          <p:cNvGrpSpPr/>
          <p:nvPr/>
        </p:nvGrpSpPr>
        <p:grpSpPr>
          <a:xfrm>
            <a:off x="438120" y="743040"/>
            <a:ext cx="3689280" cy="5670360"/>
            <a:chOff x="438120" y="743040"/>
            <a:chExt cx="3689280" cy="5670360"/>
          </a:xfrm>
        </p:grpSpPr>
        <p:pic>
          <p:nvPicPr>
            <p:cNvPr id="38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368928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7200" y="762120"/>
              <a:ext cx="36576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D9F3E-8505-4F27-A907-7524115EB9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685800" y="938520"/>
            <a:ext cx="335268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едицинская генетика включает в себя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муногенетику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тику онтогенез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когенетику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йрогенетику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тальмогенетику и др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9" name="Picture 2" descr="http://gdb.rferl.org/A5E21E55-2056-4100-BAFC-1288C130104B_mw800_s.jpg"/>
          <p:cNvPicPr/>
          <p:nvPr/>
        </p:nvPicPr>
        <p:blipFill>
          <a:blip r:embed="rId2"/>
          <a:stretch/>
        </p:blipFill>
        <p:spPr>
          <a:xfrm>
            <a:off x="4419720" y="3049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g2.nh.ee/images/pix/900x585/3040e6f9/file63109098_e1a9a95a.jpg"/>
          <p:cNvPicPr/>
          <p:nvPr/>
        </p:nvPicPr>
        <p:blipFill>
          <a:blip r:embed="rId3"/>
          <a:stretch/>
        </p:blipFill>
        <p:spPr>
          <a:xfrm>
            <a:off x="4419720" y="3657600"/>
            <a:ext cx="4295520" cy="279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Содержимое 2"/>
          <p:cNvGrpSpPr/>
          <p:nvPr/>
        </p:nvGrpSpPr>
        <p:grpSpPr>
          <a:xfrm>
            <a:off x="438120" y="743040"/>
            <a:ext cx="4378320" cy="5670360"/>
            <a:chOff x="438120" y="743040"/>
            <a:chExt cx="4378320" cy="5670360"/>
          </a:xfrm>
        </p:grpSpPr>
        <p:pic>
          <p:nvPicPr>
            <p:cNvPr id="39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37832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7200" y="762120"/>
              <a:ext cx="43434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4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A7CA7-5F5B-4AE8-887C-27961CF457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685800" y="941040"/>
            <a:ext cx="36576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о, в течение жизни человека примерно у 70% людей проявляются те или иные наследственные заболева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наследственными и врожденными заболеваниями рождаются около 5% детей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вестно более 10 000 наследственных признаков, половину из которых составляют наследственные болезни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6" name="Picture 2" descr="http://vse-pro-geny.ru/uppload/Image/hvoroby/X-zcheplenyy%20ihtioz/x-zcheplenyy-ikhtioz.jpg"/>
          <p:cNvPicPr/>
          <p:nvPr/>
        </p:nvPicPr>
        <p:blipFill>
          <a:blip r:embed="rId2"/>
          <a:stretch/>
        </p:blipFill>
        <p:spPr>
          <a:xfrm>
            <a:off x="5029200" y="762120"/>
            <a:ext cx="396396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Содержимое 2"/>
          <p:cNvGrpSpPr/>
          <p:nvPr/>
        </p:nvGrpSpPr>
        <p:grpSpPr>
          <a:xfrm>
            <a:off x="438120" y="743040"/>
            <a:ext cx="3079800" cy="5670360"/>
            <a:chOff x="438120" y="743040"/>
            <a:chExt cx="3079800" cy="5670360"/>
          </a:xfrm>
        </p:grpSpPr>
        <p:pic>
          <p:nvPicPr>
            <p:cNvPr id="39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307980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57200" y="762120"/>
              <a:ext cx="30481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00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09500-9251-4804-94BD-EA1BB6FFB2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685800" y="936000"/>
            <a:ext cx="2819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им образом, у  большинства людей в течение жизни проявляется хотя бы 1 генетически обусловленное отклонение от нормы, снижающее работоспособность и продолжительность жизни человек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2" name="Picture 2" descr="http://ic.pics.livejournal.com/medgyna/40794594/14435/14435_original.jpg"/>
          <p:cNvPicPr/>
          <p:nvPr/>
        </p:nvPicPr>
        <p:blipFill>
          <a:blip r:embed="rId2"/>
          <a:stretch/>
        </p:blipFill>
        <p:spPr>
          <a:xfrm>
            <a:off x="4038480" y="609480"/>
            <a:ext cx="4562640" cy="244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meduniver.com/Medical/Physiology/Img/3015.jpg"/>
          <p:cNvPicPr/>
          <p:nvPr/>
        </p:nvPicPr>
        <p:blipFill>
          <a:blip r:embed="rId3"/>
          <a:stretch/>
        </p:blipFill>
        <p:spPr>
          <a:xfrm>
            <a:off x="4572000" y="3124080"/>
            <a:ext cx="3610080" cy="33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Содержимое 2"/>
          <p:cNvGrpSpPr/>
          <p:nvPr/>
        </p:nvGrpSpPr>
        <p:grpSpPr>
          <a:xfrm>
            <a:off x="438120" y="365040"/>
            <a:ext cx="4603680" cy="6048360"/>
            <a:chOff x="438120" y="365040"/>
            <a:chExt cx="4603680" cy="6048360"/>
          </a:xfrm>
        </p:grpSpPr>
        <p:pic>
          <p:nvPicPr>
            <p:cNvPr id="22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365040"/>
              <a:ext cx="4603680" cy="60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380880"/>
              <a:ext cx="4572000" cy="60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6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50634-C681-4E0E-AB05-74B69E0022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685800" y="1090800"/>
            <a:ext cx="4191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едение в предмет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неполных 100 лет после вторичного открытия законов 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Г.Менд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ка прошла путь от понимания законов наследственности и изменчивости через экспериментальное накопление фактов к молекулярно-биологическому пониманию сущности гена, его структуры и функц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10" descr="http://topbooks.com.ua/modules/pages/pictures/168x225/1005464070.jpg"/>
          <p:cNvPicPr/>
          <p:nvPr/>
        </p:nvPicPr>
        <p:blipFill>
          <a:blip r:embed="rId2"/>
          <a:stretch/>
        </p:blipFill>
        <p:spPr>
          <a:xfrm>
            <a:off x="6324480" y="685800"/>
            <a:ext cx="1600200" cy="2486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perlbal.hi-pi.com/blog-images/395113/gd/1186840809/CIVILIZACAO-E-FORMACAO-A-experiencia-da-palavra-e-as-fronteiras-da-alfabetizacao.jpg"/>
          <p:cNvPicPr/>
          <p:nvPr/>
        </p:nvPicPr>
        <p:blipFill>
          <a:blip r:embed="rId3"/>
          <a:stretch/>
        </p:blipFill>
        <p:spPr>
          <a:xfrm>
            <a:off x="5187960" y="2895480"/>
            <a:ext cx="39560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Содержимое 2"/>
          <p:cNvGrpSpPr/>
          <p:nvPr/>
        </p:nvGrpSpPr>
        <p:grpSpPr>
          <a:xfrm>
            <a:off x="438120" y="438120"/>
            <a:ext cx="6737400" cy="5902200"/>
            <a:chOff x="438120" y="438120"/>
            <a:chExt cx="6737400" cy="5902200"/>
          </a:xfrm>
        </p:grpSpPr>
        <p:pic>
          <p:nvPicPr>
            <p:cNvPr id="40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438120"/>
              <a:ext cx="6737400" cy="59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57200" y="457200"/>
              <a:ext cx="6705720" cy="58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0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1079D-8AED-48BA-AFED-EB5F051964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685800" y="636120"/>
            <a:ext cx="624852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важными направлениям в исследованиях считаются изучение молекулярной природы генетических изменений, анализ их закономерностей, оценка их распространенности, изучение роли мутагенных факторов окружающей сред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нсивное  изучение наследственных болезней увеличило их число до 10 000 (только в 1966г было изучено 1500 НБ)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более 3900 из этих недугов изучена локализация мутантных генов в хромосомах и проведен молекулярный анализ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и достижения легли в основу разработки новых методов 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офилактики и генотерапии наследственных болезне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9" name="Picture 2" descr="http://www.nature.com/polopoly_fs/7.8135.1356081836%21/image/F0021445-DNA_structure.jpg_gen/derivatives/landscape_300/F0021445-DNA_structure.jpg"/>
          <p:cNvPicPr/>
          <p:nvPr/>
        </p:nvPicPr>
        <p:blipFill>
          <a:blip r:embed="rId2"/>
          <a:stretch/>
        </p:blipFill>
        <p:spPr>
          <a:xfrm>
            <a:off x="6019920" y="228600"/>
            <a:ext cx="2857320" cy="1847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http://paranormal-news.ru/_nw/102/63910111.jpg"/>
          <p:cNvPicPr/>
          <p:nvPr/>
        </p:nvPicPr>
        <p:blipFill>
          <a:blip r:embed="rId3"/>
          <a:stretch/>
        </p:blipFill>
        <p:spPr>
          <a:xfrm>
            <a:off x="7315200" y="2362320"/>
            <a:ext cx="156204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CDF4E-9A92-42EA-8D99-45D6F11B7C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2" name="Picture 2" descr="http://myjobisdumb.com/image/55869c5b775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Содержимое 2"/>
          <p:cNvGrpSpPr/>
          <p:nvPr/>
        </p:nvGrpSpPr>
        <p:grpSpPr>
          <a:xfrm>
            <a:off x="438120" y="743040"/>
            <a:ext cx="6054840" cy="5670360"/>
            <a:chOff x="438120" y="743040"/>
            <a:chExt cx="6054840" cy="5670360"/>
          </a:xfrm>
        </p:grpSpPr>
        <p:pic>
          <p:nvPicPr>
            <p:cNvPr id="4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605484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200" y="762120"/>
              <a:ext cx="60199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16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6BA53-98F7-4A0A-9B6A-8FDF9C9207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685800" y="941040"/>
            <a:ext cx="556272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6.Задачи и направления медицинской генетики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 роли генетических и внешних факторов в развитии наследственной патологии, а так же характера наследования и проявления патологических ген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молекулярной природы генетических изменений и анализа закономерностей их наследов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характера наследственной патологии на клеточном, молекулярном, организменном и популяционном уровнях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а систематики, ДЗ и профилактики НЗ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8" name="Picture 2" descr="http://cdn1.medicalnewstoday.com/content/images/articles/296/296337/magnifying-glass-examines-portion-of-dna.jpg"/>
          <p:cNvPicPr/>
          <p:nvPr/>
        </p:nvPicPr>
        <p:blipFill>
          <a:blip r:embed="rId2"/>
          <a:stretch/>
        </p:blipFill>
        <p:spPr>
          <a:xfrm>
            <a:off x="6629400" y="762120"/>
            <a:ext cx="22860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Содержимое 2"/>
          <p:cNvGrpSpPr/>
          <p:nvPr/>
        </p:nvGrpSpPr>
        <p:grpSpPr>
          <a:xfrm>
            <a:off x="444600" y="517680"/>
            <a:ext cx="5511600" cy="5895720"/>
            <a:chOff x="444600" y="517680"/>
            <a:chExt cx="5511600" cy="5895720"/>
          </a:xfrm>
        </p:grpSpPr>
        <p:pic>
          <p:nvPicPr>
            <p:cNvPr id="42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44600" y="517680"/>
              <a:ext cx="5511600" cy="58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57200" y="533520"/>
              <a:ext cx="5486400" cy="58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2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2837A-5F3E-468C-B3D9-0252AF7453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685800" y="711720"/>
            <a:ext cx="4876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распространения НБ и ВПР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ценка их в различных популяциях челове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мутагенных факторов внешней среды и разработка их нейтрализаци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ершенствование методов генной инженерии с целью генотерапии и получения новых лекарственных вещест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рокое и повсеместное применение МГ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методов преконцепционной профилактики и пренатальной диагности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4" name="Picture 2" descr="http://neobionika.ru/images/stories/genetika_medicinskie_stati_3521_1274966137.jpg"/>
          <p:cNvPicPr/>
          <p:nvPr/>
        </p:nvPicPr>
        <p:blipFill>
          <a:blip r:embed="rId2"/>
          <a:stretch/>
        </p:blipFill>
        <p:spPr>
          <a:xfrm>
            <a:off x="6172200" y="685800"/>
            <a:ext cx="25527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Содержимое 2"/>
          <p:cNvGrpSpPr/>
          <p:nvPr/>
        </p:nvGrpSpPr>
        <p:grpSpPr>
          <a:xfrm>
            <a:off x="438120" y="895320"/>
            <a:ext cx="8261280" cy="5597640"/>
            <a:chOff x="438120" y="895320"/>
            <a:chExt cx="8261280" cy="5597640"/>
          </a:xfrm>
        </p:grpSpPr>
        <p:pic>
          <p:nvPicPr>
            <p:cNvPr id="42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895320"/>
              <a:ext cx="8261280" cy="55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57200" y="914400"/>
              <a:ext cx="82296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200" spc="-1" strike="noStrike">
                  <a:solidFill>
                    <a:srgbClr val="404040"/>
                  </a:solidFill>
                  <a:latin typeface="Trebuchet MS"/>
                </a:rPr>
                <a:t>Контрольные вопросы: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Дайте понятие генетики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Назовите основные положения медицинской генетики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В чем суть наследственности и изменчивости?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Что такое наследственные болезни с точки зрения эволюции?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Назовите достижения медицинской генетики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Назовите примеры значения медицинской генетики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Что изучает медицинская генетика?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Какова связь с другими дисциплинами?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Что является объектом изучения клинической генетики?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404040"/>
                  </a:solidFill>
                  <a:latin typeface="Trebuchet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buClr>
                  <a:srgbClr val="e6b91e"/>
                </a:buClr>
                <a:buSzPct val="80000"/>
                <a:buFont typeface="Trebuchet MS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8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DAB95-B2E7-4E9D-9ECC-1DFB1B8BE8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Содержимое 2"/>
          <p:cNvGrpSpPr/>
          <p:nvPr/>
        </p:nvGrpSpPr>
        <p:grpSpPr>
          <a:xfrm>
            <a:off x="438120" y="895320"/>
            <a:ext cx="8261280" cy="5597640"/>
            <a:chOff x="438120" y="895320"/>
            <a:chExt cx="8261280" cy="5597640"/>
          </a:xfrm>
        </p:grpSpPr>
        <p:pic>
          <p:nvPicPr>
            <p:cNvPr id="43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895320"/>
              <a:ext cx="8261280" cy="55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57200" y="914400"/>
              <a:ext cx="82296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290520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290520">
                <a:spcBef>
                  <a:spcPts val="1001"/>
                </a:spcBef>
                <a:buClr>
                  <a:srgbClr val="e6b91e"/>
                </a:buClr>
                <a:buSzPct val="80000"/>
                <a:buFont typeface="Trebuchet MS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290520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32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AA821-7CB1-40D6-88A6-274FA896FF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TextBox 8" descr=""/>
          <p:cNvPicPr/>
          <p:nvPr/>
        </p:nvPicPr>
        <p:blipFill>
          <a:blip r:embed="rId2"/>
          <a:stretch/>
        </p:blipFill>
        <p:spPr>
          <a:xfrm>
            <a:off x="689040" y="2133720"/>
            <a:ext cx="7845480" cy="193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Содержимое 2"/>
          <p:cNvGrpSpPr/>
          <p:nvPr/>
        </p:nvGrpSpPr>
        <p:grpSpPr>
          <a:xfrm>
            <a:off x="438120" y="438120"/>
            <a:ext cx="5060880" cy="5975280"/>
            <a:chOff x="438120" y="438120"/>
            <a:chExt cx="5060880" cy="5975280"/>
          </a:xfrm>
        </p:grpSpPr>
        <p:pic>
          <p:nvPicPr>
            <p:cNvPr id="23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438120"/>
              <a:ext cx="506088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57200" y="457200"/>
              <a:ext cx="50292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3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3B614-FD5C-43B7-B9BA-457C5E2510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685800" y="633600"/>
            <a:ext cx="5105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теоретических построений о гене ка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трактной единице наслед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к пониманию его материальной природы как фрагмента молекулы ДНК, до клонирования индивидуальных генов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я подробных генетических карт человека, животных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кации генов, мутации которых сопряжены с тяжелыми наследственными недугами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тодов биотехноло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ной инжене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зволяющих направленно получать организмы с заданными наследственными признаками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проводить направленную коррекцию мутантных генов человека, то есть генотерапию наследственных заболевани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http://misanec.ru/wp-content/uploads/2015/06/genetika1.jpg"/>
          <p:cNvPicPr/>
          <p:nvPr/>
        </p:nvPicPr>
        <p:blipFill>
          <a:blip r:embed="rId2"/>
          <a:stretch/>
        </p:blipFill>
        <p:spPr>
          <a:xfrm>
            <a:off x="5638680" y="946080"/>
            <a:ext cx="3329280" cy="2254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fishki.net/picsw/042013/11/post_anti/mutaciya/4.jpg"/>
          <p:cNvPicPr/>
          <p:nvPr/>
        </p:nvPicPr>
        <p:blipFill>
          <a:blip r:embed="rId3"/>
          <a:stretch/>
        </p:blipFill>
        <p:spPr>
          <a:xfrm>
            <a:off x="5664240" y="3657600"/>
            <a:ext cx="32637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Содержимое 2"/>
          <p:cNvGrpSpPr/>
          <p:nvPr/>
        </p:nvGrpSpPr>
        <p:grpSpPr>
          <a:xfrm>
            <a:off x="438120" y="743040"/>
            <a:ext cx="5140440" cy="5670360"/>
            <a:chOff x="438120" y="743040"/>
            <a:chExt cx="5140440" cy="5670360"/>
          </a:xfrm>
        </p:grpSpPr>
        <p:pic>
          <p:nvPicPr>
            <p:cNvPr id="23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514044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57200" y="762120"/>
              <a:ext cx="51055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0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62AA4-3A57-4417-9D4C-A9AF65244C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609480" y="894240"/>
            <a:ext cx="4724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Место генетики в практической медици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е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наука о наследственности и изменчивости организмов, она раскрывает сущность того, каким образом каждая живая форма воспроизводит себя в следующем поколении, и как в этих условиях возникают наследственные изменения, которые передаются потомкам, участвуя в процессах эволюции и селекции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ом генетики человека служит изучение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влений наслед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изменчивости у человека на всех уровнях его организации и существования: молекулярно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точном, организменном, популяционном, биохронологическом,  биогеохимическ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http://900igr.net/datai/fizkultura/Faktory-zdorovja-cheloveka/0002-001-Eksperty-Vsemirnoj-organizatsii-zdravookhranenija.jpg"/>
          <p:cNvPicPr/>
          <p:nvPr/>
        </p:nvPicPr>
        <p:blipFill>
          <a:blip r:embed="rId2"/>
          <a:stretch/>
        </p:blipFill>
        <p:spPr>
          <a:xfrm>
            <a:off x="5562720" y="3733920"/>
            <a:ext cx="3200400" cy="2333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evolution2.com.ua/picture.php?albumid=37&amp;pictureid=2145"/>
          <p:cNvPicPr/>
          <p:nvPr/>
        </p:nvPicPr>
        <p:blipFill>
          <a:blip r:embed="rId3"/>
          <a:stretch/>
        </p:blipFill>
        <p:spPr>
          <a:xfrm>
            <a:off x="6095880" y="304920"/>
            <a:ext cx="251460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Содержимое 2"/>
          <p:cNvGrpSpPr/>
          <p:nvPr/>
        </p:nvGrpSpPr>
        <p:grpSpPr>
          <a:xfrm>
            <a:off x="438120" y="743040"/>
            <a:ext cx="4378320" cy="4682880"/>
            <a:chOff x="438120" y="743040"/>
            <a:chExt cx="4378320" cy="4682880"/>
          </a:xfrm>
        </p:grpSpPr>
        <p:pic>
          <p:nvPicPr>
            <p:cNvPr id="24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378320" cy="46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7200" y="762120"/>
              <a:ext cx="4343400" cy="46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7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7FAA6-5C26-46E5-957B-37C54D8D1A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685800" y="108396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ственность как свойство всех организмов интересовала людей с древних време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только в 19в это явление стали объективно изуча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2" descr="http://img.pandawhale.com/post-29195-The-hottest-researcher-of-2012-f8Hi.jpeg"/>
          <p:cNvPicPr/>
          <p:nvPr/>
        </p:nvPicPr>
        <p:blipFill>
          <a:blip r:embed="rId2"/>
          <a:stretch/>
        </p:blipFill>
        <p:spPr>
          <a:xfrm>
            <a:off x="4876920" y="304920"/>
            <a:ext cx="3962160" cy="2665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http://do.gendocs.ru/pars_docs/tw_refs/84/83737/83737_html_m3c768276.png"/>
          <p:cNvPicPr/>
          <p:nvPr/>
        </p:nvPicPr>
        <p:blipFill>
          <a:blip r:embed="rId3"/>
          <a:stretch/>
        </p:blipFill>
        <p:spPr>
          <a:xfrm>
            <a:off x="4800600" y="32004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Содержимое 2"/>
          <p:cNvGrpSpPr/>
          <p:nvPr/>
        </p:nvGrpSpPr>
        <p:grpSpPr>
          <a:xfrm>
            <a:off x="438120" y="743040"/>
            <a:ext cx="4603680" cy="5670360"/>
            <a:chOff x="438120" y="743040"/>
            <a:chExt cx="4603680" cy="567036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60368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762120"/>
              <a:ext cx="45720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4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FFB60-267E-4258-B668-FADDDFF8F1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685800" y="109080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рождение учения о наследствен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е о наслед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человека зарождалось в недрах медицины из эмпирических наблюдений семейных и врожденных болезне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VIII- XIX веках появились отдельные работы о значении наследственности в происхождении болезней.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Луи Моро 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пертю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в 1750 г. описал, чт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дактил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может передаваться по аутосомно-доминантному типу любым из родителе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2" descr="http://img0.liveinternet.ru/images/attach/c/0/46/409/46409892_PierreLouis_Moreau_de_Maupertuis.jpg"/>
          <p:cNvPicPr/>
          <p:nvPr/>
        </p:nvPicPr>
        <p:blipFill>
          <a:blip r:embed="rId2"/>
          <a:stretch/>
        </p:blipFill>
        <p:spPr>
          <a:xfrm>
            <a:off x="6095880" y="304920"/>
            <a:ext cx="2133720" cy="3584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http://ribalych.ru/wp-content/uploads/2011/10/1_00140.jpg"/>
          <p:cNvPicPr/>
          <p:nvPr/>
        </p:nvPicPr>
        <p:blipFill>
          <a:blip r:embed="rId3"/>
          <a:stretch/>
        </p:blipFill>
        <p:spPr>
          <a:xfrm>
            <a:off x="5219640" y="4038480"/>
            <a:ext cx="392436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Содержимое 2"/>
          <p:cNvGrpSpPr/>
          <p:nvPr/>
        </p:nvGrpSpPr>
        <p:grpSpPr>
          <a:xfrm>
            <a:off x="438120" y="743040"/>
            <a:ext cx="4603680" cy="5670360"/>
            <a:chOff x="438120" y="743040"/>
            <a:chExt cx="4603680" cy="5670360"/>
          </a:xfrm>
        </p:grpSpPr>
        <p:pic>
          <p:nvPicPr>
            <p:cNvPr id="25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743040"/>
              <a:ext cx="460368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200" y="762120"/>
              <a:ext cx="45720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1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80EC9-D520-46D5-B3E8-4F9F8ADD8D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Прямоугольник 7"/>
          <p:cNvSpPr/>
          <p:nvPr/>
        </p:nvSpPr>
        <p:spPr>
          <a:xfrm>
            <a:off x="685800" y="1091160"/>
            <a:ext cx="39625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чале XIX века при исследовании ряда родословных, в которых встречались лица, страдающие гемофилией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ли выявлены некоторые закономерности наследования этой болезни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торой половине XIX века понятие о патологической наследственности у человека утвердилось, и было принято многими врачебными школами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http://rpp.nashaucheba.ru/pars_docs/refs/174/173154/img24.jpg"/>
          <p:cNvPicPr/>
          <p:nvPr/>
        </p:nvPicPr>
        <p:blipFill>
          <a:blip r:embed="rId2"/>
          <a:stretch/>
        </p:blipFill>
        <p:spPr>
          <a:xfrm>
            <a:off x="4952880" y="3049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s://im2-tub-ru.yandex.net/i?id=1fa9fd6b54a91595a3753b3af271cf9c&amp;n=33&amp;h=1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3505320"/>
            <a:ext cx="20574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Содержимое 2"/>
          <p:cNvGrpSpPr/>
          <p:nvPr/>
        </p:nvGrpSpPr>
        <p:grpSpPr>
          <a:xfrm>
            <a:off x="438120" y="285840"/>
            <a:ext cx="5140440" cy="6127560"/>
            <a:chOff x="438120" y="285840"/>
            <a:chExt cx="5140440" cy="6127560"/>
          </a:xfrm>
        </p:grpSpPr>
        <p:pic>
          <p:nvPicPr>
            <p:cNvPr id="26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38120" y="285840"/>
              <a:ext cx="5140440" cy="61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7200" y="304920"/>
              <a:ext cx="510552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8" name="Номер слайда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BA794-FF99-484F-BBCB-3F022F8EBA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685800" y="546480"/>
            <a:ext cx="4724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осылки развития учения о наследственности человека вытекали из биологических открытий: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еточной теории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еодор Шван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азательства клеточной преемственности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удольф Вирх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лении идеи об онто - и филогенезе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ории естественного отбора и борьбы за существование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арльз Дарви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оме того, изучение причин заболевания стало главным направлением в медицинской наук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2" descr="http://1.avatars.mds.yandex.net/get-entity_search/35065/3979653/S120xU"/>
          <p:cNvPicPr/>
          <p:nvPr/>
        </p:nvPicPr>
        <p:blipFill>
          <a:blip r:embed="rId2"/>
          <a:stretch/>
        </p:blipFill>
        <p:spPr>
          <a:xfrm>
            <a:off x="5715000" y="457200"/>
            <a:ext cx="1828800" cy="2530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1.avatars.mds.yandex.net/get-entity_search/15931/1044663/S70x98Face"/>
          <p:cNvPicPr/>
          <p:nvPr/>
        </p:nvPicPr>
        <p:blipFill>
          <a:blip r:embed="rId3"/>
          <a:stretch/>
        </p:blipFill>
        <p:spPr>
          <a:xfrm>
            <a:off x="7391520" y="960480"/>
            <a:ext cx="1752480" cy="2452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im0-tub-ru.yandex.net/i?id=53a829e77b81b574b7a8b2003f33677f&amp;n=24"/>
          <p:cNvPicPr/>
          <p:nvPr/>
        </p:nvPicPr>
        <p:blipFill>
          <a:blip r:embed="rId4"/>
          <a:stretch/>
        </p:blipFill>
        <p:spPr>
          <a:xfrm>
            <a:off x="5638680" y="3200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1.avatars.mds.yandex.net/get-entity_search/15188/37282380/S70x98Face"/>
          <p:cNvPicPr/>
          <p:nvPr/>
        </p:nvPicPr>
        <p:blipFill>
          <a:blip r:embed="rId5"/>
          <a:stretch/>
        </p:blipFill>
        <p:spPr>
          <a:xfrm>
            <a:off x="7315200" y="44956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6:20:07Z</dcterms:created>
  <dc:creator>Общее</dc:creator>
  <dc:description/>
  <dc:language>en-US</dc:language>
  <cp:lastModifiedBy>Asus PC</cp:lastModifiedBy>
  <dcterms:modified xsi:type="dcterms:W3CDTF">2026-01-06T09:58:51Z</dcterms:modified>
  <cp:revision>214</cp:revision>
  <dc:subject/>
  <dc:title>Слайд 1</dc:title>
</cp:coreProperties>
</file>