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jpeg" ContentType="image/jpeg"/>
  <Override PartName="/ppt/media/image22.png" ContentType="image/png"/>
  <Override PartName="/ppt/media/image21.jpeg" ContentType="image/jpeg"/>
  <Override PartName="/ppt/media/image6.gif" ContentType="image/gi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34.jpeg" ContentType="image/jpeg"/>
  <Override PartName="/ppt/media/image28.jpeg" ContentType="image/jpeg"/>
  <Override PartName="/ppt/media/image29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9.jpeg" ContentType="image/jpeg"/>
  <Override PartName="/ppt/media/image2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3.png" ContentType="image/pn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CFB7-9B78-4C4E-B226-1BFB3D6B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3434-BD2E-4692-A236-762494FC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5CE7-3DE5-49C7-9E57-422D77D2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5834-3841-4966-991B-E5F5283E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688B-1405-4F29-8B5A-5205B024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FBE2-F253-4750-82AA-D6F67E8F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689F-1498-406A-AD1A-E7A0EAA0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576C-F142-4FAB-8C95-BF816238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F592-5417-4878-AED9-B259EB69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B05C-3A75-42F5-B801-BA4059A8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CA38-464B-47BA-9228-61BB95FC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8F86-5715-432D-B15B-B5D4216B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960E-444A-4F99-8EB2-5840A7AF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B665-A9E5-44B3-81B2-80BAF44D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1EC4-0426-490D-84B5-E606A7BC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621E-7DC3-4642-81AF-88A83970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8029-1220-4A5F-AD35-8336A902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234DE-0DEC-4354-B7EB-C99B53E9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330C2-CA60-4C1C-BEDA-E6CB451C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2C098-9636-43A8-BF7A-35C86616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52333-1920-4068-8783-3BDAE6A9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5907B-EE9F-4A3C-A15E-B57EA575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A9E3-73DB-48E1-98A9-87A46E5F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F9F5C-E536-4427-8EB1-37020A7B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3240D-5BAA-4EA1-A8AB-FFFA018B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FC48F-B4F4-40EB-A3C5-B710E63F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D4418-DE39-4235-9817-FF6C3179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28E04-BC7D-4C4E-95DF-5EF53FEB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09E65-60C1-4C61-B5C1-05B51147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EAD32-255E-447A-9A9D-4FE7055C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D6096-B68D-40FD-86E7-B464F766C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2F137-CEA0-46B5-9E28-86D5BA42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52CC7-545A-44C7-A6CD-E3473CAC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8217-8300-4FF7-AAB5-973E593F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84F9A-D4E4-4C08-A176-635A2489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AE417-2C37-4518-80AE-D9CD6EA6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B32D5-B60C-46A3-A4DC-7916C733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01687-8B5A-472C-8574-64BEFA5F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8DF17-2F98-4561-B4A7-009D30DE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70B4D-B871-464E-BEED-1662038A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CF7EE-641E-44FE-BE0C-99F08A02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A5483-93B2-4930-9F19-E737A462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4799B-60C1-4924-88FA-C1109923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DFC24F-11F1-4A65-86E3-2BC8CEC68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1AF0-9049-48E1-90B5-EE3B1C33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8EA34F-8070-43CB-8F92-2D05D976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2296EB-DC8F-403F-B103-FBFB7BB8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2432FF-58DF-4447-A043-A31EBB7A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928F09-1E03-414F-BF1F-30EDD601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EB6100-9103-412B-82C3-2FD702D1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9A4C6E-FDA5-4614-A989-BEE39AA4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E93F51-7A9B-43F9-B532-EC3D4F61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CCB9B1-A814-4CB4-8D7B-FBC62A20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B3420A-3FDF-4A06-B506-CA747730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9B4AEA-38C3-4DC7-AAD3-71712CB6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ADA8-1D95-4218-A333-EFF4ED5A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AF69E5-D56E-45EC-BEDF-CA777FD1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C276-617E-4A3C-A602-A8C4418F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FBC9-7DF1-477E-8A54-200C9D1C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196B-E659-4B3A-8B3A-9277AC62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F16B-E5E7-4889-9488-618136E789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46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93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0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9DFE-1EB4-4317-949A-C7324B423C9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dt" idx="7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8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898C-D315-4720-92E5-7ED55CCA78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207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3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254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0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1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2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FE3C-653E-4A7E-B43B-2A63115ECF0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3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2837-272E-4819-8D41-111ACEF3E5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4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dt" idx="15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ff9966"/>
                </a:solidFill>
                <a:latin typeface="Times New Roman"/>
              </a:rPr>
              <a:t>Электромагнитные волны разных диапазонов</a:t>
            </a:r>
            <a:r>
              <a:rPr b="0" lang="ru-RU" sz="4000" spc="-1" strike="noStrike">
                <a:solidFill>
                  <a:srgbClr val="ff9966"/>
                </a:solidFill>
                <a:latin typeface="Times New Roman"/>
              </a:rPr>
              <a:t>.</a:t>
            </a:r>
            <a:br>
              <a:rPr sz="2800"/>
            </a:br>
            <a:br>
              <a:rPr sz="2800"/>
            </a:br>
            <a:endParaRPr b="0" lang="en-US" sz="40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208240" y="2285640"/>
            <a:ext cx="6478560" cy="38862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C:\Users\Игорь\Рабочий стол\e408dd72238caafda34faab44d4b994b.jpg"/>
          <p:cNvPicPr/>
          <p:nvPr/>
        </p:nvPicPr>
        <p:blipFill>
          <a:blip r:embed="rId2"/>
          <a:stretch/>
        </p:blipFill>
        <p:spPr>
          <a:xfrm>
            <a:off x="304920" y="1447920"/>
            <a:ext cx="4395600" cy="3189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C:\Users\Игорь\Рабочий стол\EMI-volny-768x576.jpg"/>
          <p:cNvPicPr/>
          <p:nvPr/>
        </p:nvPicPr>
        <p:blipFill>
          <a:blip r:embed="rId3"/>
          <a:stretch/>
        </p:blipFill>
        <p:spPr>
          <a:xfrm>
            <a:off x="4724280" y="1752480"/>
            <a:ext cx="4238640" cy="3213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C:\Users\Игорь\Рабочий стол\TbEQIj1_GokOKJccnIGSgRDaBaTccAgX.jpg"/>
          <p:cNvPicPr/>
          <p:nvPr/>
        </p:nvPicPr>
        <p:blipFill>
          <a:blip r:embed="rId4"/>
          <a:stretch/>
        </p:blipFill>
        <p:spPr>
          <a:xfrm>
            <a:off x="1981080" y="4419720"/>
            <a:ext cx="440064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Видимое излуче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сть электромагнитного излучения воспринимаемая глазом, дает человеку максимальную информация об окружающем ми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лияет на протекание фотосинтез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растен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чески не поглощаемо зем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тмосферой. Чистый воздух рассеив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ий свет сильнее , чем свет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шими длинами волн, поэтому полуденное небо выглядит голуб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2" descr="C:\Users\Игорь\Рабочий стол\images.jpg"/>
          <p:cNvPicPr/>
          <p:nvPr/>
        </p:nvPicPr>
        <p:blipFill>
          <a:blip r:embed="rId1"/>
          <a:stretch/>
        </p:blipFill>
        <p:spPr>
          <a:xfrm>
            <a:off x="6705720" y="1828800"/>
            <a:ext cx="2133360" cy="27241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C:\Users\Игорь\Рабочий стол\images (1).jpg"/>
          <p:cNvPicPr/>
          <p:nvPr/>
        </p:nvPicPr>
        <p:blipFill>
          <a:blip r:embed="rId2"/>
          <a:stretch/>
        </p:blipFill>
        <p:spPr>
          <a:xfrm>
            <a:off x="3657600" y="4876920"/>
            <a:ext cx="3043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Times New Roman"/>
              </a:rPr>
              <a:t>Ультрафиолетовое излучение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cc3399"/>
                </a:solidFill>
                <a:latin typeface="Times New Roman"/>
                <a:ea typeface="Arial"/>
              </a:rPr>
              <a:t>λ</a:t>
            </a:r>
            <a:r>
              <a:rPr b="1" lang="ru-RU" sz="3200" spc="-1" strike="noStrike">
                <a:solidFill>
                  <a:srgbClr val="cc3399"/>
                </a:solidFill>
                <a:latin typeface="Times New Roman"/>
              </a:rPr>
              <a:t> = 380 нм -  10 н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028840" y="1371240"/>
            <a:ext cx="3956040" cy="470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точник излучения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лнце, ртутные ламп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cc3399"/>
                </a:solidFill>
                <a:latin typeface="Times New Roman"/>
              </a:rPr>
              <a:t>Свойств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тенсивно поглощается атмосферо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ладает высокой химической и биологической активность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онизирует возду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10" descr="200px-Wollaston_William_Hyde_Jackson_color"/>
          <p:cNvPicPr/>
          <p:nvPr/>
        </p:nvPicPr>
        <p:blipFill>
          <a:blip r:embed="rId4"/>
          <a:stretch/>
        </p:blipFill>
        <p:spPr>
          <a:xfrm>
            <a:off x="1371600" y="1981080"/>
            <a:ext cx="3230640" cy="40388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1" descr="180px-Prism_rainbow_schema"/>
          <p:cNvPicPr/>
          <p:nvPr/>
        </p:nvPicPr>
        <p:blipFill>
          <a:blip r:embed="rId5"/>
          <a:stretch/>
        </p:blipFill>
        <p:spPr>
          <a:xfrm>
            <a:off x="609480" y="1447920"/>
            <a:ext cx="1944720" cy="1711080"/>
          </a:xfrm>
          <a:prstGeom prst="rect">
            <a:avLst/>
          </a:prstGeom>
          <a:ln w="0">
            <a:noFill/>
          </a:ln>
        </p:spPr>
      </p:pic>
      <p:sp>
        <p:nvSpPr>
          <p:cNvPr id="418" name="Line 12"/>
          <p:cNvSpPr/>
          <p:nvPr/>
        </p:nvSpPr>
        <p:spPr>
          <a:xfrm flipV="1">
            <a:off x="1371600" y="2742840"/>
            <a:ext cx="91440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5"/>
          <p:cNvSpPr/>
          <p:nvPr/>
        </p:nvSpPr>
        <p:spPr>
          <a:xfrm>
            <a:off x="152280" y="6172200"/>
            <a:ext cx="4724640" cy="457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ильям Хайд Волласто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англ.) 18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УФИ-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жительное воздействие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ает тонус живого организм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ирует защитные механиз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ает уровень  иммуните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уются  вещества, которые обладают сосудорасширяющим действием, повышают проницаемость кожных сосуд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уется в организме витамин Д, укрепляющий костно-мышечную систему и обладающий антирахитным действ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рицательное воздействие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кожу в больших количествах (ожог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сетчатку глаза (нарушение зрения)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0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cc"/>
                </a:solidFill>
                <a:latin typeface="Arial"/>
              </a:rPr>
              <a:t>          </a:t>
            </a:r>
            <a:r>
              <a:rPr b="1" i="1" lang="ru-RU" sz="4000" spc="-1" strike="noStrike">
                <a:solidFill>
                  <a:srgbClr val="cc00cc"/>
                </a:solidFill>
                <a:latin typeface="Arial"/>
              </a:rPr>
              <a:t>Источники УФИ. </a:t>
            </a:r>
            <a:br>
              <a:rPr sz="4000"/>
            </a:br>
            <a:r>
              <a:rPr b="1" i="1" lang="ru-RU" sz="4000" spc="-1" strike="noStrike">
                <a:solidFill>
                  <a:srgbClr val="cc00cc"/>
                </a:solidFill>
                <a:latin typeface="Arial"/>
              </a:rPr>
              <a:t>              Применение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лн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лнц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тутно-кварцевые ламп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428640" y="1219320"/>
            <a:ext cx="5257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юминесцент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амп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варцевание инструмен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лаборатор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ляр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ксперты-криминалисты с помощью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Ф      обнаруживают следы кров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 одежде и предметах быта, 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акже следы особой краски 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уках взяточник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7" descr="250px-171879main_LimbFlareJan12_lg"/>
          <p:cNvPicPr/>
          <p:nvPr/>
        </p:nvPicPr>
        <p:blipFill>
          <a:blip r:embed="rId1"/>
          <a:stretch/>
        </p:blipFill>
        <p:spPr>
          <a:xfrm>
            <a:off x="380880" y="2362320"/>
            <a:ext cx="2819520" cy="18316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200px-%D0%94%D0%A0%D0%9B250"/>
          <p:cNvPicPr/>
          <p:nvPr/>
        </p:nvPicPr>
        <p:blipFill>
          <a:blip r:embed="rId2"/>
          <a:stretch/>
        </p:blipFill>
        <p:spPr>
          <a:xfrm>
            <a:off x="457200" y="464832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" descr="180px-Leuchtstofflampen-chtaube050409"/>
          <p:cNvPicPr/>
          <p:nvPr/>
        </p:nvPicPr>
        <p:blipFill>
          <a:blip r:embed="rId3"/>
          <a:stretch/>
        </p:blipFill>
        <p:spPr>
          <a:xfrm>
            <a:off x="3429000" y="202896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0" descr="250px-UV-ontsmetting_laminaire-vloeikast"/>
          <p:cNvPicPr/>
          <p:nvPr/>
        </p:nvPicPr>
        <p:blipFill>
          <a:blip r:embed="rId4"/>
          <a:stretch/>
        </p:blipFill>
        <p:spPr>
          <a:xfrm>
            <a:off x="6400800" y="0"/>
            <a:ext cx="2743200" cy="20620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1" descr="180px-715px-Sunbedoff_large"/>
          <p:cNvPicPr/>
          <p:nvPr/>
        </p:nvPicPr>
        <p:blipFill>
          <a:blip r:embed="rId5"/>
          <a:stretch/>
        </p:blipFill>
        <p:spPr>
          <a:xfrm>
            <a:off x="6095880" y="2819520"/>
            <a:ext cx="2227320" cy="186840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9" descr="Здесь должен быть рисунок"/>
          <p:cNvPicPr/>
          <p:nvPr/>
        </p:nvPicPr>
        <p:blipFill>
          <a:blip r:embed="rId6"/>
          <a:stretch/>
        </p:blipFill>
        <p:spPr>
          <a:xfrm>
            <a:off x="0" y="0"/>
            <a:ext cx="1425600" cy="190980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10" descr="Здесь должен быть рисунок"/>
          <p:cNvPicPr/>
          <p:nvPr/>
        </p:nvPicPr>
        <p:blipFill>
          <a:blip r:embed="rId7"/>
          <a:stretch/>
        </p:blipFill>
        <p:spPr>
          <a:xfrm>
            <a:off x="6629400" y="5181480"/>
            <a:ext cx="2362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Рентгеновские лучи</a:t>
            </a:r>
            <a:br>
              <a:rPr sz="4400"/>
            </a:br>
            <a:r>
              <a:rPr b="1" lang="el-GR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λ</a:t>
            </a:r>
            <a:r>
              <a:rPr b="1" lang="ru-RU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= 10</a:t>
            </a:r>
            <a:r>
              <a:rPr b="1" lang="ru-RU" sz="5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-14</a:t>
            </a:r>
            <a:r>
              <a:rPr b="1" lang="ru-RU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до 10</a:t>
            </a:r>
            <a:r>
              <a:rPr b="1" lang="ru-RU" sz="4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-8</a:t>
            </a:r>
            <a:r>
              <a:rPr b="1" lang="ru-RU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м</a:t>
            </a:r>
            <a:r>
              <a:rPr b="1" lang="ru-RU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войств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окая химическая и биологическая актив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онизирует возду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окая проникающая способ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зывает свечение газ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зывает мутацию организмов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8" descr="Файл:Wilhelm Conrad Röntgen (1845--1923).jpg"/>
          <p:cNvPicPr/>
          <p:nvPr/>
        </p:nvPicPr>
        <p:blipFill>
          <a:blip r:embed="rId1"/>
          <a:stretch/>
        </p:blipFill>
        <p:spPr>
          <a:xfrm>
            <a:off x="609480" y="1219320"/>
            <a:ext cx="2976840" cy="45720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10"/>
          <p:cNvSpPr/>
          <p:nvPr/>
        </p:nvSpPr>
        <p:spPr>
          <a:xfrm>
            <a:off x="304920" y="5867280"/>
            <a:ext cx="3886200" cy="76212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льгельм Конрад Рёнтген 189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3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30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30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3000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3000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3000"/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4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3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3000"/>
                                        <p:tgtEl>
                                          <p:spTgt spid="4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4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4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Х- лучи 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4864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нтгеновская фотография (рентгенограмма) руки, сделанная В. К. Рентген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8" descr="Файл:Roentgen-Roehre.svg"/>
          <p:cNvPicPr/>
          <p:nvPr/>
        </p:nvPicPr>
        <p:blipFill>
          <a:blip r:embed="rId1"/>
          <a:stretch/>
        </p:blipFill>
        <p:spPr>
          <a:xfrm>
            <a:off x="457200" y="1828800"/>
            <a:ext cx="4800600" cy="35053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0" descr="180px-Roentgen-x-ray-von-kollikers-hand"/>
          <p:cNvPicPr/>
          <p:nvPr/>
        </p:nvPicPr>
        <p:blipFill>
          <a:blip r:embed="rId2"/>
          <a:stretch/>
        </p:blipFill>
        <p:spPr>
          <a:xfrm>
            <a:off x="6248520" y="1447920"/>
            <a:ext cx="17143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рименение Р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дицина: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люорография Рентгеноскопия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нтгенограф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нтгеноспектромет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ышлен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фектоскопия .Выявление дефектов в изделиях (рельсах, сварочных швах и т. д.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оме того, при помощи рентгеновских лучей может быть определён химический состав веще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4" descr="изображение"/>
          <p:cNvPicPr/>
          <p:nvPr/>
        </p:nvPicPr>
        <p:blipFill>
          <a:blip r:embed="rId1"/>
          <a:stretch/>
        </p:blipFill>
        <p:spPr>
          <a:xfrm>
            <a:off x="5105520" y="1447920"/>
            <a:ext cx="2950920" cy="16761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" descr="400px-NDT_test_of_an_V2500_engine_blade_route"/>
          <p:cNvPicPr/>
          <p:nvPr/>
        </p:nvPicPr>
        <p:blipFill>
          <a:blip r:embed="rId2"/>
          <a:stretch/>
        </p:blipFill>
        <p:spPr>
          <a:xfrm>
            <a:off x="4419720" y="3352680"/>
            <a:ext cx="3809880" cy="9525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5" descr="280px-Pocket3"/>
          <p:cNvPicPr/>
          <p:nvPr/>
        </p:nvPicPr>
        <p:blipFill>
          <a:blip r:embed="rId3"/>
          <a:stretch/>
        </p:blipFill>
        <p:spPr>
          <a:xfrm>
            <a:off x="152280" y="1676520"/>
            <a:ext cx="18288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3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30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3000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3000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3000"/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3434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В аэропортах применяются рентгенотелевизионные интроскопы, позволяющие просматривать содержимое ручной клади и багажа в целях обнаружения на экране монитора предметов, представляющих опасность.</a:t>
            </a: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46" name="Picture 3" descr="C:\Users\ИЛЬДАР\Desktop\NickVeasey00.jpg"/>
          <p:cNvPicPr/>
          <p:nvPr/>
        </p:nvPicPr>
        <p:blipFill>
          <a:blip r:embed="rId1"/>
          <a:stretch/>
        </p:blipFill>
        <p:spPr>
          <a:xfrm>
            <a:off x="5105520" y="0"/>
            <a:ext cx="3193920" cy="37339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4" descr="C:\Users\Игорь\Рабочий стол\lv-xray-art-02-jef-140624-10x13-1600.jpg"/>
          <p:cNvPicPr/>
          <p:nvPr/>
        </p:nvPicPr>
        <p:blipFill>
          <a:blip r:embed="rId2"/>
          <a:stretch/>
        </p:blipFill>
        <p:spPr>
          <a:xfrm>
            <a:off x="5791320" y="3809880"/>
            <a:ext cx="25318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Гамма-излуче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  излучения, с чрезвычайно малой длиной волны — менее 2⋅10</a:t>
            </a:r>
            <a:r>
              <a:rPr b="1" i="1" lang="ru-RU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−10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м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ускается атомными ядрами при радиоактивных превращениях и ядерных реакциях (взрывах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азывает сильное биологическое воздейств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отклоняются электрически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 магнитными полями.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арактеризую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ромной  проникающ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собность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4800600" y="4495680"/>
            <a:ext cx="3990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верьте себ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Заряженная частица излучает электромагнитные волн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только п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движении с ускорение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только п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 движении с постоянной скоростью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только в состоянии поко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как в состоянии покоя, так и при движении с постоянной скор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35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66"/>
                </a:solidFill>
                <a:latin typeface="Times New Roman"/>
              </a:rPr>
              <a:t>Виды электромагнитных излучений. </a:t>
            </a:r>
            <a:endParaRPr b="0" lang="en-US" sz="36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904760" y="228564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диоволны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фракрасное  излучение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имое излучение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льтрафиолетовое  излучение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нтгеновское   излучение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амма-излучение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Arial Narrow"/>
              </a:rPr>
              <a:t>Распространяются в вакууме со скоростью 300 000 км/с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Расположите в порядке возрастания частоты электромагнитные излучения разной природ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инфракрасное излучение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рентгеновское излучение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видимый свет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ультрафиолетовое излуч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. радиоволн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ользуйтесь шкалой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Какое излучение вызывает нагревание тел 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инфракрасное излучение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рентгеновское излучение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видимый свет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ультрафиолетовое излу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. радиовол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С помощью какого излучение можно предавать информацию на большие расстоян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Какой вид излучения обладает наибольшей проникающей способностью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инфракрасное излучение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рентгеновское излучение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видимый свет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ультрафиолетовое излу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ользуйтесь шкалой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е из приведенных природных явлений не может служить примером излучения электромагнитных волн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088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молния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полярное сияние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излучение звезд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гр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К какому виду излучения относятся волны с длиной электромагнитных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лн 5*10</a:t>
            </a:r>
            <a:r>
              <a:rPr b="1" lang="ru-RU" sz="4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7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 ?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…..</a:t>
            </a:r>
            <a:r>
              <a:rPr b="1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*10</a:t>
            </a:r>
            <a:r>
              <a:rPr b="1" lang="ru-RU" sz="4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9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 ?</a:t>
            </a: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350532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инфракрасное излучение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рентгеновское излучение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видимый свет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ультрафиолетовое излу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ороша физика, но жизнь коротка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”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Защита от электромагнитного излучения.</a:t>
            </a:r>
            <a:r>
              <a:rPr b="1" lang="ru-RU" sz="32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 Несколько шагов к здоровью)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омагнитное излучение имеет меньшее воздействие с увеличением расстояния от источника до объек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возможности используйте жидкокристаллический монитор, поскольку его излучение значительно меньше у мониторов с электроннолучевой труб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 как электромагнитное излучение от стенок монитора намного больше, чем от поверхности экрана постарайтесь поставить монитор в угол, так что бы излучение поглощалось стен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посвящай свою жизнь компьютеру ,не забывай про регулярные прогулки на свежем воздухе, проветривание помещения, занятия спортом, соблюдение элементарных правил р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людайте осторожность при приёме ультрафиолетовых ван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держивайте сроки прохождения флюорограф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щищайте свои глаза от ультрафиолетового све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7391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Виды электромагнитных волн 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2208240" y="2285640"/>
            <a:ext cx="6478560" cy="38862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C:\Users\Игорь\Рабочий стол\откр урок  шкала ЭМ излучения\печать\img0.jpg"/>
          <p:cNvPicPr/>
          <p:nvPr/>
        </p:nvPicPr>
        <p:blipFill>
          <a:blip r:embed="rId2"/>
          <a:stretch/>
        </p:blipFill>
        <p:spPr>
          <a:xfrm>
            <a:off x="-203040" y="0"/>
            <a:ext cx="934704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Радиоволны</a:t>
            </a:r>
            <a:r>
              <a:rPr b="0" lang="ru-RU" sz="2800" spc="-1" strike="noStrike">
                <a:solidFill>
                  <a:srgbClr val="ff9966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9966"/>
                </a:solidFill>
                <a:latin typeface="Times New Roman"/>
              </a:rPr>
              <a:t>длина волны от 100 мкм до 100 км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379" name="Picture 2" descr="C:\Users\Игорь\Рабочий стол\откр урок  шкала ЭМ излучения\Dipole_xmting_antenna_animation_4_408x318x150ms.gif"/>
          <p:cNvPicPr/>
          <p:nvPr/>
        </p:nvPicPr>
        <p:blipFill>
          <a:blip r:embed="rId1"/>
          <a:stretch/>
        </p:blipFill>
        <p:spPr>
          <a:xfrm>
            <a:off x="5943600" y="1981080"/>
            <a:ext cx="3025800" cy="236232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 4"/>
          <p:cNvSpPr/>
          <p:nvPr/>
        </p:nvSpPr>
        <p:spPr>
          <a:xfrm>
            <a:off x="1905120" y="1981080"/>
            <a:ext cx="3657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Естественные источники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 звёзды, в том числе Солнце, галактики, планеты. Радиоволны возникают при разряде мол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Искусственные источники: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нтенны,  телефоны, микроволновые печи .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3" descr="C:\Users\Игорь\Рабочий стол\220px-Radar_antenna.jpg"/>
          <p:cNvPicPr/>
          <p:nvPr/>
        </p:nvPicPr>
        <p:blipFill>
          <a:blip r:embed="rId2"/>
          <a:stretch/>
        </p:blipFill>
        <p:spPr>
          <a:xfrm>
            <a:off x="304920" y="4495680"/>
            <a:ext cx="1849320" cy="23623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C:\Users\Игорь\Рабочий стол\unnamed.jpg"/>
          <p:cNvPicPr/>
          <p:nvPr/>
        </p:nvPicPr>
        <p:blipFill>
          <a:blip r:embed="rId3"/>
          <a:stretch/>
        </p:blipFill>
        <p:spPr>
          <a:xfrm>
            <a:off x="2743200" y="4516560"/>
            <a:ext cx="2360520" cy="23414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C:\Users\Игорь\Рабочий стол\images.jpg"/>
          <p:cNvPicPr/>
          <p:nvPr/>
        </p:nvPicPr>
        <p:blipFill>
          <a:blip r:embed="rId4"/>
          <a:stretch/>
        </p:blipFill>
        <p:spPr>
          <a:xfrm>
            <a:off x="5410080" y="4572000"/>
            <a:ext cx="2976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Применение радиоволн.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99"/>
                </a:solidFill>
                <a:latin typeface="Times New Roman"/>
              </a:rPr>
              <a:t>Военная радиолокация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99"/>
                </a:solidFill>
                <a:latin typeface="Times New Roman"/>
              </a:rPr>
              <a:t>Радиотелескопы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99"/>
                </a:solidFill>
                <a:latin typeface="Times New Roman"/>
              </a:rPr>
              <a:t>Радио и телевидение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99"/>
                </a:solidFill>
                <a:latin typeface="Times New Roman"/>
              </a:rPr>
              <a:t>Метеорология и геология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99"/>
                </a:solidFill>
                <a:latin typeface="Times New Roman"/>
              </a:rPr>
              <a:t>Телефония и интернет</a:t>
            </a:r>
            <a:r>
              <a:rPr b="0" lang="ru-RU" sz="3200" spc="-1" strike="noStrike">
                <a:solidFill>
                  <a:srgbClr val="ffcc99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1625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66"/>
                </a:solidFill>
                <a:latin typeface="Times New Roman"/>
              </a:rPr>
              <a:t>Крабовидная туманность в радиодиапазоне, в оптическом диапазоне.</a:t>
            </a:r>
            <a:br>
              <a:rPr sz="4400"/>
            </a:b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C:\Users\Игорь\Рабочий стол\К УРОКАМ !!!!!\астрономия\звезды\краб туманность.jpg"/>
          <p:cNvPicPr/>
          <p:nvPr/>
        </p:nvPicPr>
        <p:blipFill>
          <a:blip r:embed="rId2"/>
          <a:stretch/>
        </p:blipFill>
        <p:spPr>
          <a:xfrm>
            <a:off x="4572000" y="3657600"/>
            <a:ext cx="4286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Инфракрасное излучение </a:t>
            </a:r>
            <a:br>
              <a:rPr sz="4400"/>
            </a:br>
            <a:r>
              <a:rPr b="1" lang="ru-RU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λ=0,74 - 2000 мкм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952880" y="1371240"/>
            <a:ext cx="3733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ракрасное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тепловое» излуч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чник излуч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любые нагретые тела.  50% энергии Солнца излучается в ИК диапазо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йств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ло поглощаются воздухом, пыль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зывают нагревание т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7"/>
          <p:cNvSpPr/>
          <p:nvPr/>
        </p:nvSpPr>
        <p:spPr>
          <a:xfrm>
            <a:off x="457200" y="3886200"/>
            <a:ext cx="1523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rc 8"/>
          <p:cNvSpPr/>
          <p:nvPr/>
        </p:nvSpPr>
        <p:spPr>
          <a:xfrm rot="10481400">
            <a:off x="761400" y="2361600"/>
            <a:ext cx="990360" cy="1066680"/>
          </a:xfrm>
          <a:custGeom>
            <a:avLst/>
            <a:gdLst>
              <a:gd name="textAreaLeft" fmla="*/ 0 w 990360"/>
              <a:gd name="textAreaRight" fmla="*/ 990720 w 99036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685800" y="243828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10"/>
          <p:cNvSpPr/>
          <p:nvPr/>
        </p:nvSpPr>
        <p:spPr>
          <a:xfrm>
            <a:off x="1752480" y="3352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15"/>
          <p:cNvSpPr/>
          <p:nvPr/>
        </p:nvSpPr>
        <p:spPr>
          <a:xfrm>
            <a:off x="0" y="5638680"/>
            <a:ext cx="4800600" cy="685800"/>
          </a:xfrm>
          <a:prstGeom prst="rect">
            <a:avLst/>
          </a:prstGeom>
          <a:solidFill>
            <a:srgbClr val="00808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ильям Гершель  (нем)    1800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16"/>
          <p:cNvSpPr/>
          <p:nvPr/>
        </p:nvSpPr>
        <p:spPr>
          <a:xfrm>
            <a:off x="1523880" y="4038480"/>
            <a:ext cx="381240" cy="45720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17"/>
          <p:cNvSpPr/>
          <p:nvPr/>
        </p:nvSpPr>
        <p:spPr>
          <a:xfrm>
            <a:off x="457200" y="4038480"/>
            <a:ext cx="380880" cy="45720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2" descr="Файл:William Herschel01.jpg"/>
          <p:cNvPicPr/>
          <p:nvPr/>
        </p:nvPicPr>
        <p:blipFill>
          <a:blip r:embed="rId4"/>
          <a:stretch/>
        </p:blipFill>
        <p:spPr>
          <a:xfrm>
            <a:off x="533520" y="1523880"/>
            <a:ext cx="297180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5410080" y="3124080"/>
            <a:ext cx="1981440" cy="18194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Использование инфракрасного излучения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К применяются в пультах дистанцион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вления, системах автоматики, охранных  системах и т. п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ИК термометрах дл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рения температуры  т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К излучатели применяют 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ышленности для  сушки лакокрасочны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рытий, овощей и фрукт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рилизации пищевых продук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4"/>
          <a:stretch/>
        </p:blipFill>
        <p:spPr>
          <a:xfrm>
            <a:off x="6172200" y="838080"/>
            <a:ext cx="2824200" cy="2386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"/>
          <p:cNvPicPr/>
          <p:nvPr/>
        </p:nvPicPr>
        <p:blipFill>
          <a:blip r:embed="rId5"/>
          <a:stretch/>
        </p:blipFill>
        <p:spPr>
          <a:xfrm>
            <a:off x="6095880" y="4419720"/>
            <a:ext cx="284976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Человеческий глаз не в состоянии 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видеть в этой части спектра, 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но мы можем чувствовать тепло. 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Созданы приборы ночного 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видения – тепловизоры, 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в которых инфракрасное 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изображение объекта 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ревращается в видимое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06" name="Picture 2" descr="C:\Users\KENT\Desktop\Инфракрасное излучение\Новая папка\1251962817_1.jpg"/>
          <p:cNvPicPr/>
          <p:nvPr/>
        </p:nvPicPr>
        <p:blipFill>
          <a:blip r:embed="rId1"/>
          <a:stretch/>
        </p:blipFill>
        <p:spPr>
          <a:xfrm>
            <a:off x="5867280" y="609480"/>
            <a:ext cx="3073680" cy="2270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07" name="Picture 4" descr="C:\Users\KENT\Desktop\Новая папка\post-2-12801221371300.jpg"/>
          <p:cNvPicPr/>
          <p:nvPr/>
        </p:nvPicPr>
        <p:blipFill>
          <a:blip r:embed="rId2"/>
          <a:srcRect l="0" t="0" r="37681" b="0"/>
          <a:stretch/>
        </p:blipFill>
        <p:spPr>
          <a:xfrm>
            <a:off x="4495680" y="3124080"/>
            <a:ext cx="4245120" cy="3471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08" name="Прямоугольник 5"/>
          <p:cNvSpPr/>
          <p:nvPr/>
        </p:nvSpPr>
        <p:spPr>
          <a:xfrm>
            <a:off x="152280" y="990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Picture 3" descr="C:\Users\KENT\Desktop\Новая папка\ircat.gif"/>
          <p:cNvPicPr/>
          <p:nvPr/>
        </p:nvPicPr>
        <p:blipFill>
          <a:blip r:embed="rId3"/>
          <a:stretch/>
        </p:blipFill>
        <p:spPr>
          <a:xfrm>
            <a:off x="762120" y="3809880"/>
            <a:ext cx="2895480" cy="2895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рпинская С.М.</dc:creator>
  <dc:description/>
  <dc:language>en-US</dc:language>
  <cp:lastModifiedBy>Пользователь</cp:lastModifiedBy>
  <dcterms:modified xsi:type="dcterms:W3CDTF">2025-03-12T13:10:54Z</dcterms:modified>
  <cp:revision>88</cp:revision>
  <dc:subject/>
  <dc:title>виды излучений 11 к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