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12A6-FF5B-4C9B-B9D0-E5AB98BE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2A0-3436-40DD-88C5-8A0413DAE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B97-A428-42F3-8F33-DF470B71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ADBC-195F-4B47-8093-5B09ABBD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C3C3-123C-4315-A9A0-E9ECC3B8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C4C-9755-47D2-BE3D-EF4D057B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B2A-04C0-44E9-A761-E12D0102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951-4B95-4FEB-B426-D0574F0F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BD6-B508-46DF-A59B-FE296089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C4C2-8092-4B9D-BC3C-125DA056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BC3-5168-4777-BB0A-2322DDC5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58B-1FCF-42E0-8927-7D6C6FD9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AE8D-423E-4CBE-9E52-F762E4251F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original"/>
          <p:cNvPicPr/>
          <p:nvPr/>
        </p:nvPicPr>
        <p:blipFill>
          <a:blip r:embed="rId1"/>
          <a:stretch/>
        </p:blipFill>
        <p:spPr>
          <a:xfrm>
            <a:off x="1042920" y="1628640"/>
            <a:ext cx="7777080" cy="492624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24" descr=""/>
          <p:cNvPicPr/>
          <p:nvPr/>
        </p:nvPicPr>
        <p:blipFill>
          <a:blip r:embed="rId2"/>
          <a:stretch/>
        </p:blipFill>
        <p:spPr>
          <a:xfrm>
            <a:off x="1036800" y="396720"/>
            <a:ext cx="7783200" cy="11210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7045920" y="522936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скина Н.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Бараньи рога» — «Хой муоһа, «почки» — «бүөр ойуу» существует и в якутской  орнаментике. Выполняется вышивкой бисером и цветными нитками и … | Узоры,  Рога, Орнаменты"/>
          <p:cNvPicPr/>
          <p:nvPr/>
        </p:nvPicPr>
        <p:blipFill>
          <a:blip r:embed="rId1"/>
          <a:srcRect l="0" t="2856" r="1720" b="0"/>
          <a:stretch/>
        </p:blipFill>
        <p:spPr>
          <a:xfrm>
            <a:off x="1403280" y="3789360"/>
            <a:ext cx="5616720" cy="245124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4788000" y="692280"/>
            <a:ext cx="3384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 орнамента «РОГ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http://player.myshared.ru/19/1222913/slides/slide_8.jpg"/>
          <p:cNvPicPr/>
          <p:nvPr/>
        </p:nvPicPr>
        <p:blipFill>
          <a:blip r:embed="rId2"/>
          <a:srcRect l="3779" t="21424" r="48028" b="50866"/>
          <a:stretch/>
        </p:blipFill>
        <p:spPr>
          <a:xfrm>
            <a:off x="2857680" y="1714680"/>
            <a:ext cx="3671640" cy="1584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2"/>
          <p:cNvSpPr/>
          <p:nvPr/>
        </p:nvSpPr>
        <p:spPr>
          <a:xfrm>
            <a:off x="4211640" y="573264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аньи ро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 орнамента «Птиц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подействовать с ними. Экспозиции выставки в музее - мобильные передв"/>
          <p:cNvPicPr/>
          <p:nvPr/>
        </p:nvPicPr>
        <p:blipFill>
          <a:blip r:embed="rId1"/>
          <a:stretch/>
        </p:blipFill>
        <p:spPr>
          <a:xfrm>
            <a:off x="1332000" y="1628640"/>
            <a:ext cx="2663640" cy="4818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Симметрия в орнаментах алтайских национальных костюмов - online presentation"/>
          <p:cNvPicPr/>
          <p:nvPr/>
        </p:nvPicPr>
        <p:blipFill>
          <a:blip r:embed="rId2"/>
          <a:srcRect l="75306" t="14783" r="4025" b="49738"/>
          <a:stretch/>
        </p:blipFill>
        <p:spPr>
          <a:xfrm>
            <a:off x="5148360" y="1700280"/>
            <a:ext cx="3527280" cy="4681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32360" y="3428640"/>
            <a:ext cx="38512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1"/>
          <p:cNvSpPr/>
          <p:nvPr/>
        </p:nvSpPr>
        <p:spPr>
          <a:xfrm>
            <a:off x="4211640" y="549360"/>
            <a:ext cx="33847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Восточный гороскоп на 2018 год: чего ждать в год Собаки - Жизнь - Главред"/>
          <p:cNvPicPr/>
          <p:nvPr/>
        </p:nvPicPr>
        <p:blipFill>
          <a:blip r:embed="rId1"/>
          <a:stretch/>
        </p:blipFill>
        <p:spPr>
          <a:xfrm>
            <a:off x="2643120" y="1714680"/>
            <a:ext cx="4314960" cy="42861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1835280" y="907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очный календар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611280" y="478440"/>
            <a:ext cx="286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116000" y="2233080"/>
            <a:ext cx="755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аким образом, я пришёл к выводу, что алтайски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орнамен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- 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ставная часть художественной национальн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сохранившая самобытный характер, преемственную связь с прошлым, отличающаяся особой устойчивостью традиционных образов, мотивов, фор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мволика и семантика алтайских орнаментов многолика и разнообразна. Он тесно связан с бытом народа, с его обрядами и обычаями. Обычно орнаменты символизируют все вечные ценности, заложенные в национальной культуре на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3429000" y="92880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1042920" y="270828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Book Antiqua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115640" y="160020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блема изучения орнамен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была и остается одной из актуальных для понимания основ традиционной культуры, путей развития историко-культурного процесса в це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Орнаменты для украшения"/>
          <p:cNvPicPr/>
          <p:nvPr/>
        </p:nvPicPr>
        <p:blipFill>
          <a:blip r:embed="rId1"/>
          <a:srcRect l="0" t="0" r="48132" b="81504"/>
          <a:stretch/>
        </p:blipFill>
        <p:spPr>
          <a:xfrm>
            <a:off x="1692360" y="4724280"/>
            <a:ext cx="5975280" cy="1409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, задачи и методы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16000" y="1642680"/>
            <a:ext cx="75708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зучение образов животного мира в алтайских орнаментах древних времё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алтайский  орна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ь и сделать анализ орнаментов разных народ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 описать их особ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значение и использование образов животного мира в алтайских орнаментах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24"/>
          <p:cNvSpPr txBox="1"/>
          <p:nvPr/>
        </p:nvSpPr>
        <p:spPr>
          <a:xfrm>
            <a:off x="1258920" y="1341360"/>
            <a:ext cx="7345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РНАМЕНТ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Text Box 25"/>
          <p:cNvSpPr/>
          <p:nvPr/>
        </p:nvSpPr>
        <p:spPr>
          <a:xfrm>
            <a:off x="1116000" y="2492280"/>
            <a:ext cx="75438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(от лат. </a:t>
            </a:r>
            <a:r>
              <a:rPr b="0" i="1" lang="ru-RU" sz="2800" spc="-1" strike="noStrike">
                <a:solidFill>
                  <a:srgbClr val="000000"/>
                </a:solidFill>
                <a:latin typeface="Book Antiqua"/>
              </a:rPr>
              <a:t>о</a:t>
            </a:r>
            <a:r>
              <a:rPr b="0" i="1" lang="en-US" sz="2800" spc="-1" strike="noStrike">
                <a:solidFill>
                  <a:srgbClr val="000000"/>
                </a:solidFill>
                <a:latin typeface="Book Antiqua"/>
              </a:rPr>
              <a:t>rnamentum – </a:t>
            </a: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украш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Это узор, основанный на повтор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и чередовании составляющих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элемент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187280" y="620640"/>
            <a:ext cx="7417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Book Antiqua"/>
              </a:rPr>
              <a:t>Основное назначение </a:t>
            </a:r>
            <a:r>
              <a:rPr b="0" lang="ru-RU" sz="3600" spc="-1" strike="noStrike">
                <a:solidFill>
                  <a:srgbClr val="000000"/>
                </a:solidFill>
                <a:latin typeface="Book Antiqua"/>
              </a:rPr>
              <a:t>орнамента украсить поверхность предмета, подчеркнуть его форм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7" descr="Украшение из бронзы"/>
          <p:cNvPicPr/>
          <p:nvPr/>
        </p:nvPicPr>
        <p:blipFill>
          <a:blip r:embed="rId1"/>
          <a:srcRect l="0" t="42950" r="0" b="0"/>
          <a:stretch/>
        </p:blipFill>
        <p:spPr>
          <a:xfrm>
            <a:off x="971640" y="3645000"/>
            <a:ext cx="4248000" cy="2808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8" descr="Узоры на бересте"/>
          <p:cNvPicPr/>
          <p:nvPr/>
        </p:nvPicPr>
        <p:blipFill>
          <a:blip r:embed="rId2"/>
          <a:srcRect l="0" t="0" r="36145" b="64487"/>
          <a:stretch/>
        </p:blipFill>
        <p:spPr>
          <a:xfrm>
            <a:off x="5219640" y="3573360"/>
            <a:ext cx="3529080" cy="2808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88000" y="495000"/>
            <a:ext cx="3960720" cy="29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-первичный элемент орнамент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тм-повторение или закономерное чередование мотивов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метрия-отражение относительно плоскости в простран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539640" y="4724280"/>
            <a:ext cx="39610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Симметрия в орнаментах алтайских национальных костюмов - online presentation"/>
          <p:cNvPicPr/>
          <p:nvPr/>
        </p:nvPicPr>
        <p:blipFill>
          <a:blip r:embed="rId1"/>
          <a:stretch/>
        </p:blipFill>
        <p:spPr>
          <a:xfrm>
            <a:off x="1155600" y="3398760"/>
            <a:ext cx="3643560" cy="292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Презентация на тему: &quot;Аппликация и вышивка на одежде алтайцев, самобытность  и высокие художественные достоинства алтайских национальных орнаментов  привлекли наше внимание.&quot;. Скачать бесплатно и без регистрации."/>
          <p:cNvPicPr/>
          <p:nvPr/>
        </p:nvPicPr>
        <p:blipFill>
          <a:blip r:embed="rId2"/>
          <a:stretch/>
        </p:blipFill>
        <p:spPr>
          <a:xfrm>
            <a:off x="1042920" y="365040"/>
            <a:ext cx="3745080" cy="296064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Орнамент. Ритм в орнаменте - online presentation"/>
          <p:cNvPicPr/>
          <p:nvPr/>
        </p:nvPicPr>
        <p:blipFill>
          <a:blip r:embed="rId3"/>
          <a:stretch/>
        </p:blipFill>
        <p:spPr>
          <a:xfrm>
            <a:off x="4929120" y="4143240"/>
            <a:ext cx="3749760" cy="2303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1187280" y="3068640"/>
            <a:ext cx="3611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5786280" y="371484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Bahnschrift"/>
              </a:rPr>
              <a:t>Ритм-повто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орн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1155600" y="1005840"/>
            <a:ext cx="7497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ие (точка – символ начала; прямые и ломаные олицетворяют собой движение; зигзаги – элементы, служащие знаком воды; круги – воздействуют на поверхность, замыкая её в себя; ромб – символ устойчивости и силы; спираль – символ творчества, развития жизни, а также символ власти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оморфные или анималистические; к ним относятся натуралистические и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тизированные изображения фигур животных, части их тел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е, или космогонические (солнце, луна, вода, огонь 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https://i.pinimg.com/736x/d7/fd/2a/d7fd2af7cf341e8a80e95704d4eae5d1.jpg"/>
          <p:cNvPicPr/>
          <p:nvPr/>
        </p:nvPicPr>
        <p:blipFill>
          <a:blip r:embed="rId1"/>
          <a:srcRect l="0" t="24710" r="0" b="51906"/>
          <a:stretch/>
        </p:blipFill>
        <p:spPr>
          <a:xfrm>
            <a:off x="1689120" y="2465280"/>
            <a:ext cx="2625840" cy="81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Рисунок 5" descr="https://demiart.ru/forum/uploads5/post-403267-1266065869.jpg"/>
          <p:cNvPicPr/>
          <p:nvPr/>
        </p:nvPicPr>
        <p:blipFill>
          <a:blip r:embed="rId2"/>
          <a:srcRect l="0" t="21119" r="0" b="23756"/>
          <a:stretch/>
        </p:blipFill>
        <p:spPr>
          <a:xfrm>
            <a:off x="1432080" y="4030560"/>
            <a:ext cx="3139920" cy="9255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7" descr="https://fsd.multiurok.ru/html/2018/10/13/s_5bc1715375414/img3.jpg"/>
          <p:cNvPicPr/>
          <p:nvPr/>
        </p:nvPicPr>
        <p:blipFill>
          <a:blip r:embed="rId3"/>
          <a:srcRect l="50753" t="68843" r="6502" b="6331"/>
          <a:stretch/>
        </p:blipFill>
        <p:spPr>
          <a:xfrm>
            <a:off x="3429000" y="5429160"/>
            <a:ext cx="2606760" cy="10717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8" descr="https://i2.wp.com/xn--j1ahfl.xn--p1ai/data/images/u187983/t1550729881ah.jpg"/>
          <p:cNvPicPr/>
          <p:nvPr/>
        </p:nvPicPr>
        <p:blipFill>
          <a:blip r:embed="rId4"/>
          <a:srcRect l="46057" t="48808" r="6992" b="5585"/>
          <a:stretch/>
        </p:blipFill>
        <p:spPr>
          <a:xfrm>
            <a:off x="5124600" y="2201760"/>
            <a:ext cx="2788920" cy="10429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https://im0-tub-ru.yandex.net/i?id=e7249c66729a5c12956b57e171b2f06e-srl&amp;n=13"/>
          <p:cNvPicPr/>
          <p:nvPr/>
        </p:nvPicPr>
        <p:blipFill>
          <a:blip r:embed="rId5"/>
          <a:srcRect l="0" t="12316" r="0" b="11488"/>
          <a:stretch/>
        </p:blipFill>
        <p:spPr>
          <a:xfrm>
            <a:off x="5097600" y="3860640"/>
            <a:ext cx="2538360" cy="1357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орн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1042920" y="142416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ые (листья, цветы, плоды, лотос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1012680" y="3357720"/>
            <a:ext cx="79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льтовые орнаменты связаны, естественно, с религ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https://fsd.multiurok.ru/html/2018/10/13/s_5bc1715375414/img3.jpg"/>
          <p:cNvPicPr/>
          <p:nvPr/>
        </p:nvPicPr>
        <p:blipFill>
          <a:blip r:embed="rId1"/>
          <a:srcRect l="52483" t="39173" r="2079" b="32433"/>
          <a:stretch/>
        </p:blipFill>
        <p:spPr>
          <a:xfrm>
            <a:off x="1187280" y="1936800"/>
            <a:ext cx="3168720" cy="1368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https://ds03.infourok.ru/uploads/ex/0d03/00014582-33813e1f/img26.jpg"/>
          <p:cNvPicPr/>
          <p:nvPr/>
        </p:nvPicPr>
        <p:blipFill>
          <a:blip r:embed="rId2"/>
          <a:srcRect l="14110" t="12656" r="14815" b="39449"/>
          <a:stretch/>
        </p:blipFill>
        <p:spPr>
          <a:xfrm>
            <a:off x="4572000" y="1849320"/>
            <a:ext cx="3718080" cy="1543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s://i.pinimg.com/736x/f2/bc/63/f2bc63a12d4f3994e3edd257c4a0bdf3--tibet-nepal.jpg"/>
          <p:cNvPicPr/>
          <p:nvPr/>
        </p:nvPicPr>
        <p:blipFill>
          <a:blip r:embed="rId3"/>
          <a:stretch/>
        </p:blipFill>
        <p:spPr>
          <a:xfrm>
            <a:off x="1692360" y="4092480"/>
            <a:ext cx="2259000" cy="239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monornament.ru/uploads/compositions/2013-2-54-4-4168dff50f.png"/>
          <p:cNvPicPr/>
          <p:nvPr/>
        </p:nvPicPr>
        <p:blipFill>
          <a:blip r:embed="rId4"/>
          <a:stretch/>
        </p:blipFill>
        <p:spPr>
          <a:xfrm>
            <a:off x="155520" y="-13644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://monornament.ru/uploads/compositions/2013-2-54-4-4168dff50f.png"/>
          <p:cNvPicPr/>
          <p:nvPr/>
        </p:nvPicPr>
        <p:blipFill>
          <a:blip r:embed="rId5"/>
          <a:stretch/>
        </p:blipFill>
        <p:spPr>
          <a:xfrm>
            <a:off x="307800" y="158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http://monornament.ru/uploads/compositions/2013-2-54-4-4168dff50f.png"/>
          <p:cNvPicPr/>
          <p:nvPr/>
        </p:nvPicPr>
        <p:blipFill>
          <a:blip r:embed="rId6"/>
          <a:stretch/>
        </p:blipFill>
        <p:spPr>
          <a:xfrm>
            <a:off x="460440" y="16812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http://monornament.ru/uploads/compositions/201055-2-6ff06f1e33.png"/>
          <p:cNvPicPr/>
          <p:nvPr/>
        </p:nvPicPr>
        <p:blipFill>
          <a:blip r:embed="rId7"/>
          <a:stretch/>
        </p:blipFill>
        <p:spPr>
          <a:xfrm>
            <a:off x="612720" y="32076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http://monornament.ru/uploads/compositions/201055-2-6ff06f1e33.png"/>
          <p:cNvPicPr/>
          <p:nvPr/>
        </p:nvPicPr>
        <p:blipFill>
          <a:blip r:embed="rId8"/>
          <a:stretch/>
        </p:blipFill>
        <p:spPr>
          <a:xfrm>
            <a:off x="765000" y="4730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http://monornament.ru/uploads/compositions/201055-2-6ff06f1e33.png"/>
          <p:cNvPicPr/>
          <p:nvPr/>
        </p:nvPicPr>
        <p:blipFill>
          <a:blip r:embed="rId9"/>
          <a:stretch/>
        </p:blipFill>
        <p:spPr>
          <a:xfrm>
            <a:off x="917640" y="62532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"/>
          <p:cNvPicPr/>
          <p:nvPr/>
        </p:nvPicPr>
        <p:blipFill>
          <a:blip r:embed="rId10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http://monornament.ru/uploads/compositions/201055-2-6ff06f1e33.png"/>
          <p:cNvPicPr/>
          <p:nvPr/>
        </p:nvPicPr>
        <p:blipFill>
          <a:blip r:embed="rId11"/>
          <a:stretch/>
        </p:blipFill>
        <p:spPr>
          <a:xfrm>
            <a:off x="1069920" y="77796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8" descr="http://monornament.ru/uploads/compositions/201055-2-6ff06f1e33.png"/>
          <p:cNvPicPr/>
          <p:nvPr/>
        </p:nvPicPr>
        <p:blipFill>
          <a:blip r:embed="rId12"/>
          <a:stretch/>
        </p:blipFill>
        <p:spPr>
          <a:xfrm>
            <a:off x="1222200" y="930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0" descr="http://monornament.ru/uploads/compositions/201055-2-6ff06f1e33.png"/>
          <p:cNvPicPr/>
          <p:nvPr/>
        </p:nvPicPr>
        <p:blipFill>
          <a:blip r:embed="rId13"/>
          <a:stretch/>
        </p:blipFill>
        <p:spPr>
          <a:xfrm>
            <a:off x="1374840" y="108252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7" descr=""/>
          <p:cNvPicPr/>
          <p:nvPr/>
        </p:nvPicPr>
        <p:blipFill>
          <a:blip r:embed="rId14"/>
          <a:stretch/>
        </p:blipFill>
        <p:spPr>
          <a:xfrm>
            <a:off x="4719600" y="357660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8" descr="https://im0-tub-ru.yandex.net/i?id=983ad0b0fb37244f32222310a9224f5d&amp;ref=rim&amp;n=33&amp;w=230&amp;h=188"/>
          <p:cNvPicPr/>
          <p:nvPr/>
        </p:nvPicPr>
        <p:blipFill>
          <a:blip r:embed="rId15"/>
          <a:stretch/>
        </p:blipFill>
        <p:spPr>
          <a:xfrm>
            <a:off x="5219640" y="4440240"/>
            <a:ext cx="2195640" cy="1782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3573360"/>
            <a:ext cx="432144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5183280" y="981000"/>
            <a:ext cx="39607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3003120" y="692280"/>
            <a:ext cx="40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ооморфные орнамен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7" descr="https://im0-tub-ru.yandex.net/i?id=e7249c66729a5c12956b57e171b2f06e-srl&amp;n=13"/>
          <p:cNvPicPr/>
          <p:nvPr/>
        </p:nvPicPr>
        <p:blipFill>
          <a:blip r:embed="rId1"/>
          <a:stretch/>
        </p:blipFill>
        <p:spPr>
          <a:xfrm>
            <a:off x="1763640" y="1268280"/>
            <a:ext cx="3240000" cy="280836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https://www.tattoox.ru/upload/iblock/d9c/d9c0d3c22b616fe85b6bb506dba286d7.jpg"/>
          <p:cNvPicPr/>
          <p:nvPr/>
        </p:nvPicPr>
        <p:blipFill>
          <a:blip r:embed="rId2"/>
          <a:stretch/>
        </p:blipFill>
        <p:spPr>
          <a:xfrm>
            <a:off x="5219640" y="2708280"/>
            <a:ext cx="3168720" cy="25560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" descr="Зооморфные мотивы в бурятских орнаментах"/>
          <p:cNvPicPr/>
          <p:nvPr/>
        </p:nvPicPr>
        <p:blipFill>
          <a:blip r:embed="rId3"/>
          <a:stretch/>
        </p:blipFill>
        <p:spPr>
          <a:xfrm>
            <a:off x="2843280" y="450864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18:26:02Z</dcterms:created>
  <dc:creator>NATASHA</dc:creator>
  <dc:description/>
  <dc:language>en-US</dc:language>
  <cp:lastModifiedBy>енн88енгеге</cp:lastModifiedBy>
  <dcterms:modified xsi:type="dcterms:W3CDTF">2026-02-15T14:20:06Z</dcterms:modified>
  <cp:revision>52</cp:revision>
  <dc:subject/>
  <dc:title>Орнамент</dc:title>
</cp:coreProperties>
</file>