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99C-4720-45AE-9696-782CF9A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1CB-5156-40D1-9C8A-DA51711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8B0-E7C4-4AF6-9930-DA27D4D6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BEC-832D-4951-B428-B4BD1CC6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8662-D64C-4B59-8081-A765DB39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390C-EC8C-4FA5-A654-3A7E745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4D6C-E8FC-429C-93FE-D1614254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FEEC-FBAA-4097-B75D-C771D74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7FF9-7E68-4B77-94D0-A1E7C24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F9E-572D-4B88-9D99-DCE81A96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E0E5-3CDB-428E-9854-B6054BBA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07B-CEDC-4F6D-80E2-940016A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2539-F69D-49B2-BAC8-63EF818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9394-048B-4E0F-A2D1-EAE76AE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F28-1FB0-4C84-9750-D25CB996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4FD3-CE24-41C3-B397-47AACCE6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664-B8B6-4D9C-8589-2DA7154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7E21-5BFD-4FBE-A31F-AE89385F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1438-193D-4D65-AF96-93A9343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7160-7FA4-44DD-A9BE-E6F735A5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BE8A-005F-435E-8A9D-64F17F3E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C72B-F48E-4211-82A7-EC9464E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8FF-EA9A-4260-9E56-AF85B2D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84E4-C833-44D4-B139-FA602FB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4448-DFE9-496F-AB45-8BAC032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9F96-AE5A-490A-8250-A3A28D1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6F7B-2535-45D4-A534-283A3FA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062C-D960-4BB6-857E-F5D1C86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11B0-A13A-4FE6-9287-772EF1AB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1AF1-D700-4802-AC29-7338DA5D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F03D-E2F3-480C-987D-3535878C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E718-2034-4E1E-A86D-5A33733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DD64-7C1F-4F56-93D7-9B072C95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E7B-9FC8-4BDF-8501-CCC9BD9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EE8B4-D376-4A33-9185-17149EF7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3349-0313-4060-BAAA-5324A9F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A2E3-6C22-478E-86E7-CCD72DFB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C860-FE32-4DFE-8024-E8F9F82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CAF18-CFAA-495B-AACE-F8AEC8D9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2149-C8E8-4085-A094-430BD8F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3919-938C-4315-9E72-9663924F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E4B9-73ED-43EC-9157-976543B8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258F-CCA8-4B74-AD47-9D7357C7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4BEB3-5EDF-4FBD-B8DD-E994F777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91D-021C-46E6-B4C3-0609230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D97C-A224-4805-95B8-DFD1CB26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FA1A-EA6E-465F-B6A0-C9AC57D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C46F-03CA-4BDB-9AFA-E8AE13F5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8276-428D-4685-896F-94E76F3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6A7B-3B08-478D-8276-58705DBB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3DE56-6AB9-4FF3-8150-29AE41D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2570-2E69-401D-AF92-18FA7BC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CCF9-B50D-488B-B33A-235CA19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3E68-034E-4E23-B5A2-AF02EBED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F398-0632-442E-8899-D2AB9F90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AF0-84BD-4111-B86B-584AB4E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F62D8-7D10-4E63-BD1F-067F550E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FDF1C-1BF1-4FE6-8BE7-C3B42C30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8C30-37CF-4BCD-9E63-30F0536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EA0F-7665-4F37-A1EA-95323BA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C4A7-D81F-47BC-B554-973AF42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A4B3-91F2-4C58-A274-9048291C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CD0D-5814-4CA5-9EB1-D487E91D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AA25F-36E6-4828-A5D3-6F08E64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F18B-668D-49E9-91ED-D1704B6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103E5-19A5-483C-B1F9-A1D9642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911-1343-4EB0-A9F2-CFDD303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3D15-C2AD-4926-91EF-A2953D0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10097-95DA-425F-93A9-2AC3CE31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651E-C66C-4534-8C34-1462DAF5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070B-5C13-4883-A79C-5DD9750B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AA99-A576-4D04-87FB-0D29D9B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C7B8-65B5-4BD1-84AC-3840474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ADBE7-1A0A-4BD3-B1B9-C7F34541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BC84-0381-43F7-9ECE-8D9984B2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050D-8F42-43A2-A052-F8DBC5EC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DBC8-798D-4FF4-9195-99385D6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36C-D9A7-4905-AB58-422B6C4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D3146-56C7-4736-B0E3-2A8438F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6444-F406-4CD2-ABD0-120F457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9EEB-6694-4DC0-8D3B-58477B75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2380-27B3-41F8-9EDD-878ED7F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33783-6C77-41BD-A468-B8551A51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7AC-E880-43F9-8649-8E6B6EB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4E1-9131-4599-A5AF-F3A9C1A98E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4711-CD77-4499-B193-BAFFE3A60B67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DFE-56DA-450E-80BE-456F630CC4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9A5F-DE08-41A4-BAA8-4CB61F66EF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C9D4-4FA1-4B89-A90B-EED9EDB4CE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157-F41B-40AF-90AD-85F70B198E35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62C5-901B-4D4B-BD58-97C4341636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268000" y="2349000"/>
            <a:ext cx="6409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ема: «Закладка с бахромой и вышив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064200" y="409716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651640" y="40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аботу выполняла:                                                          ученица 1 «В» класса                                                   Гладких Дарья                                         Учитель:                                                    Вязовик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214160" y="6021360"/>
            <a:ext cx="133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МОУ УН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г.Удом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025 г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ыбор и обоснован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68000" y="2332080"/>
            <a:ext cx="63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а уроке я долго искала нужную страницу и отстала от других ребят. Я очень расстроилась, но учительница мне сказала: «Что у тебя просто нет закладки». Мы с Ладой Иннокентьевной нашли выход и решили сделать закладку сами, чтобы не брать у мамы денег. С этой целью мы взяли книгу «Работа с тканью» и выбрали понравившуюся подел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Исследование и развитие иде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68360" y="1557000"/>
            <a:ext cx="66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 магазине продаётся много разных школьных принадлежностей, в том числе и закладки для книг. Все они изготовлены в основном из картона. Я думаю, что это непрочный материал, так как бумага быстро мнётся и рвётся. Поэтому я решила сделать закладку из ткани. Мне уже 7 лет. Я умею вышивать и могу украсить свою поделку выши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Чтобы изготовить эту закладку, мне пришлось решить некоторые вопро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з какой ткани её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ля изготовления нужно взять суровое полотно или ситец. Эта ткань не будет рассыпаться и закладка будет проч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7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Для работы мне понадобятся</a:t>
            </a:r>
            <a:br>
              <a:rPr sz="2800"/>
            </a:b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 инструмент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62755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рисунки для выш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выкро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Как я делала поде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84360" y="1988640"/>
            <a:ext cx="634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крепили выкройку на ткань, вырезали тк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разовали бахрому на под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догнули боковые срезы и прометали их швом «вперёд игол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нова подогнули боковые стороны и прошили их швом «вперёд игол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еревели рисунок на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ышивали швом «вперёд иголку» по рису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8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Оценка мое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11280" y="2288880"/>
            <a:ext cx="62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не понравилась моя закладка, потому что я сделала её своими руками. Теперь я приготовила закладки для всех учебников, чтобы не терять зря время на уроке. А лучшую поделку я подарила своей подру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339640" y="69192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Расчет сто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39640" y="2332080"/>
            <a:ext cx="642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Ткань я взяла у мамы из старых лоскутков. Нитки для вышивки у меня были в папке для уроков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.В. Дубова Организация проектной деятельности младших школьников. Практическое пособие для учителей начальных классов. – М.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 Гостодникова М.К., Полянина Н.Б. и др. Проектная деятельность в начальной школе. – Волгоград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ото из личного арх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13:16Z</dcterms:created>
  <dc:creator>User</dc:creator>
  <dc:description/>
  <dc:language>en-US</dc:language>
  <cp:lastModifiedBy>1</cp:lastModifiedBy>
  <dcterms:modified xsi:type="dcterms:W3CDTF">2026-02-16T04:42:08Z</dcterms:modified>
  <cp:revision>9</cp:revision>
  <dc:subject/>
  <dc:title>Творческий проект</dc:title>
</cp:coreProperties>
</file>