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AECF-A1E9-4955-9142-F54B023D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571-3E03-422A-A2AF-1655E811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C4E-1AC0-4884-8C50-B062CDCF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50F4-B63B-45F1-9FCE-7C19764B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19B8-04C4-40B4-A93B-960E0451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D1A6-604E-47AB-AEA1-E4C5BCEE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8554-8D1F-417C-A497-E2A35A53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A659-23B3-4597-BB3D-86E40058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36B2-5580-4E4E-BE9C-2A38BFEA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A3A1-4B8C-4FA2-BE0D-A3392294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0F4B-BD8B-4926-BBD9-6C0FB562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E9F-5DCB-435C-9EBA-BC3AF388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F830-E0A4-48BB-BCB0-C1B2A165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CC6F-88D8-4750-98C7-3D9AD2A6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B428-7363-45A6-9629-87AFAB13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1420-278B-4292-AB52-45D6E830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7352-98B8-46B8-94F8-AD1CF8D3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F3F65-EF84-461C-B002-3453F26B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6CFE8-9545-40B4-8994-D084DE2F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B7A35-D21A-4B1D-B81D-FB148735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0C727-A26E-4BEC-8BDD-8F88F89F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78D41-72D9-4E32-984E-A436A95F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592-617D-4D95-BAA5-DE84090A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C4963-4CC1-4C45-B049-974E7948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90FE0-558C-49D8-8444-4E3C1ABB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4867F-98E1-4AB4-AA12-D93A3F10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C2B38-BB61-4BDA-B259-E593CBA3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8CCAB-3929-4D3C-B61E-3BE45D42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9EB57-A509-43D0-B4E5-53972050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7ABF2-CE22-41F6-8E33-F6FD6512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70C7D-89C6-46D5-8AD1-E4CA91A8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877D8-58C4-4FA8-AFEA-A70A72F3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B6459-8DC8-4D2F-84C1-CECAF384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C456-84A0-491B-B6FB-A159E52B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EDEB2-FD5C-49EB-BB70-5F47B96D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7A097-9DC7-4291-A9F2-2C6A3A8A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7B0E8-22C8-40C5-AB22-8E489363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9753D-0E53-4B1E-BBA1-1C2F03C2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25FAF-731E-4C45-9660-0690C908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3D8C5-0C01-461A-AA9C-34CD769F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EBBCA-47BA-4A9B-BE27-F2B8397C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DC542-B791-4506-B070-EF025378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0DA61-FDB0-4A5D-BAC6-16B195FA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16E47-5A8B-405A-A09D-AEBDE250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767B-F5D8-4536-8144-7FE61001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ECEF9-8483-406C-8EF5-05CFC8B8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CCF97-8953-4C40-AC2F-EBD23FF2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BDE54-0850-468C-816D-619BE3FD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F39B7-B5D4-4CF7-AC4D-5020CD82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65F03-7AB2-4432-A6CD-C923CDFA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55A3A-AB2A-4112-95C6-02CB1D54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A66DE-EDE6-46E4-BB95-D3A91D08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B81EA-49D8-4379-AC70-EA39C362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38210-4FC4-4190-91BD-2C9C6B0A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77B04-3AC6-4475-B576-5C27972F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5B1-ABC1-4027-9016-A4CC145E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1B8CD-1DB4-47F0-8718-A8115CD4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E9B98-240D-412B-A887-8D46BB19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192A5-8D26-4402-B31D-7308689E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28DB9-699A-4A4B-A2E4-B11E15A8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2A958-8896-4B87-8406-6C86A1C2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BAF51-DD50-4FC0-A237-F01D44E5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FF21D-FC7C-435B-BC30-BAF80C7B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3A650-A845-4970-A5F0-A1AE5DDF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4DDC0-0473-4A1B-82C4-45F28B8E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4886C-D607-44D8-AD14-2136DBFB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16C7-03B2-4BA1-B6A5-2934ED0B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83629-392E-412F-A378-FC1A2F28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022DE-429C-47AB-B0C5-BC45A0C4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014E7-D177-442D-930C-C559F201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32298-9A5E-44E7-90DA-6D843DCA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3C3F6-0BFF-4612-B868-F4E859F7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20C63-3D1F-42C6-BD9A-A9DF46C5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C905B-16B2-4815-9233-DB5D3112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25E3B-C0AA-450D-AF2E-75451101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F0F5B-A24C-4881-A64E-FBF02292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D85B6-FDCA-4A45-89E1-F4AE7666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B784-D289-4D52-897B-0FAD32EE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0740B-D3DA-422B-B22A-BF7D5419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C3BB0-57B0-49B1-B015-E04E745E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D87CD-E6B3-4022-881A-F1733EB4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01C41-A847-468F-9BAC-7AB44D70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EE060-3E8E-470F-9EA4-6CD18A5D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C33-5DEE-42DB-A572-6D07B3BA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2E1C-F3FA-4C17-B1F4-085E6D4C29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08B6-DDC4-49F4-AF75-05ED668279D5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6A3B-D97F-4B03-A517-113E5B2CDFC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42E3-A61E-44E3-99FB-756BDCEE1B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0388-92CA-4521-BF21-82B600C5E9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134A-C021-4609-B08E-EC6D4EE2494B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948F-3A83-4E76-9F65-08EA1DBD74E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19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"/>
              </a:rPr>
              <a:t>Творчески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2268000" y="2349000"/>
            <a:ext cx="64090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Тема: «Закладка с бахромой и вышивк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6064200" y="4097160"/>
            <a:ext cx="22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5651640" y="4076640"/>
            <a:ext cx="30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Работу выполняла:                                                          ученица 1 «В» класса                                                   Гладких Дарья                                         Учитель:                                                    Вязовикова Л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4214160" y="6021360"/>
            <a:ext cx="133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МОУ УНОШ №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г.Удом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2025 г</a:t>
            </a:r>
            <a:r>
              <a:rPr b="0" lang="ru-RU" sz="1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</a:rPr>
              <a:t>Выбор и обоснование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68000" y="2332080"/>
            <a:ext cx="6356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а уроке я долго искала нужную страницу и отстала от других ребят. Я очень расстроилась, но учительница мне сказала: «Что у тебя просто нет закладки». Мы с Ладой Иннокентьевной нашли выход и решили сделать закладку сами, чтобы не брать у мамы денег. С этой целью мы взяли книгу «Работа с тканью» и выбрали понравившуюся подел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8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Исследование и развитие идеи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68360" y="1557000"/>
            <a:ext cx="66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В магазине продаётся много разных школьных принадлежностей, в том числе и закладки для книг. Все они изготовлены в основном из картона. Я думаю, что это непрочный материал, так как бумага быстро мнётся и рвётся. Поэтому я решила сделать закладку из ткани. Мне уже 7 лет. Я умею вышивать и могу украсить свою поделку вышив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Чтобы изготовить эту закладку, мне пришлось решить некоторые вопрос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из какой ткани её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Для изготовления нужно взять суровое полотно или ситец. Эта ткань не будет рассыпаться и закладка будет проч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2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7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7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7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7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Для работы мне понадобятся</a:t>
            </a:r>
            <a:br>
              <a:rPr sz="2800"/>
            </a:b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 инструменты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340000" y="2133720"/>
            <a:ext cx="62755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- 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- каранд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- 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- була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- рисунки для выши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- выкро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2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8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8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8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8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8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8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Как я делала подел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484360" y="1988640"/>
            <a:ext cx="6346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Закрепили выкройку на ткань, вырезали тка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Образовали бахрому на подел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одогнули боковые срезы и прометали их швом «вперёд иголк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Снова подогнули боковые стороны и прошили их швом «вперёд иголк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еревели рисунок на тк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Вышивали швом «вперёд иголку» по рису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2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8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8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8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8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8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8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Оценка мое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411280" y="2288880"/>
            <a:ext cx="6275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Мне понравилась моя закладка, потому что я сделала её своими руками. Теперь я приготовила закладки для всех учебников, чтобы не терять зря время на уроке. А лучшую поделку я подарила своей подру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7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770" fill="hold"/>
                                        <p:tgtEl>
                                          <p:spTgt spid="3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339640" y="69192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Расчет сто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339640" y="2332080"/>
            <a:ext cx="642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Ткань я взяла у мамы из старых лоскутков. Нитки для вышивки у меня были в папке для уроков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77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770" fill="hold"/>
                                        <p:tgtEl>
                                          <p:spTgt spid="3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8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уемых источников: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3400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М.В. Дубова Организация проектной деятельности младших школьников. Практическое пособие для учителей начальных классов. – М.,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 Гостодникова М.К., Полянина Н.Б. и др. Проектная деятельность в начальной школе. – Волгоград,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Фото из личного арх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13:16Z</dcterms:created>
  <dc:creator>User</dc:creator>
  <dc:description/>
  <dc:language>en-US</dc:language>
  <cp:lastModifiedBy>1</cp:lastModifiedBy>
  <dcterms:modified xsi:type="dcterms:W3CDTF">2026-02-16T04:42:08Z</dcterms:modified>
  <cp:revision>9</cp:revision>
  <dc:subject/>
  <dc:title>Творческий проект</dc:title>
</cp:coreProperties>
</file>