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A40-8AD3-4CC9-89F9-4E0E5144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32DF-27B8-41D7-B28A-70AECB19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6D8-BD90-4E08-A592-53070D18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2C2-EA20-496A-A8FA-1D29D5FA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857A-21B1-490A-AA8E-51CF927E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2F36-4468-4F5C-8391-39C94775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05AE-C81E-4C3A-A1A0-B12B4388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2D6D-CE17-4218-9EB5-D230DAA4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C60B-C2B1-4FB2-90AA-68511870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A6DF-5A4D-47A5-A952-2A529AE4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C7B3-6C04-4DD6-9007-9A797901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92A-7B37-4AA5-A33F-20831135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264F-68F5-49A7-839D-27F9EC30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83E6-E6A4-46FE-9685-07ACF487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3914-A26E-4B30-A0A1-B803C22C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F013-1528-40AA-B369-EF3918EA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0E93-1724-4D09-9799-87C7B406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F8B-7F62-4D03-88EC-EE3FF8ED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B88-2411-49BD-8AA2-B589E4DD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D1C0-7023-4646-BB4E-6E78BDA0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EE42-3251-4AE2-B319-D60DAD96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4DA-13F8-44F9-AA90-31D8EAA7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117E-0C52-4B3A-97FC-BA74FE6E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4241-79EE-44A4-A536-66F15B3C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00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DA47-3E10-46CD-AE06-77311746FE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59A1-ABD3-4DA9-9F48-9D69444570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02560" cy="283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26920" y="2499840"/>
            <a:ext cx="780912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«Роль семьи в воспитании одарённого ребёнка»</a:t>
            </a: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68360" y="0"/>
            <a:ext cx="77040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ГБОУ РК «Крымская гимназия-интернат для одаренных детей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</a:rPr>
              <a:t>Воспитание ответственности и самодисциплины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</a:rPr>
              <a:t>Родительский авторитет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2072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Родители должны знать !!!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56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Verdana"/>
              </a:rPr>
              <a:t>Развитие детской одаренности зависит от следующих факторов: реакции окружающих на творчество ребенка, материально-информационных условий, вида обуч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val 8"/>
          <p:cNvSpPr/>
          <p:nvPr/>
        </p:nvSpPr>
        <p:spPr>
          <a:xfrm>
            <a:off x="3132000" y="1197000"/>
            <a:ext cx="3168720" cy="280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3059280" y="2060640"/>
            <a:ext cx="316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95280" y="692280"/>
            <a:ext cx="2521080" cy="12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971640" y="2924280"/>
            <a:ext cx="18716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539640" y="5157720"/>
            <a:ext cx="230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3492360" y="4365720"/>
            <a:ext cx="3095640" cy="180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6804000" y="692280"/>
            <a:ext cx="1800360" cy="16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6516720" y="2781360"/>
            <a:ext cx="21589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6877080" y="5300640"/>
            <a:ext cx="1727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611280" y="76500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сихолого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гностическ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971640" y="2924280"/>
            <a:ext cx="194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тратег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755640" y="53006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 «Фор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ы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21"/>
          <p:cNvSpPr/>
          <p:nvPr/>
        </p:nvSpPr>
        <p:spPr>
          <a:xfrm>
            <a:off x="3708360" y="465300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 «Семья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6804000" y="92880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Цел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задач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ения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6588000" y="29973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одержан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6948360" y="5465880"/>
            <a:ext cx="14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етод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Line 25"/>
          <p:cNvSpPr/>
          <p:nvPr/>
        </p:nvSpPr>
        <p:spPr>
          <a:xfrm flipH="1" flipV="1">
            <a:off x="2987280" y="126792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Line 26"/>
          <p:cNvSpPr/>
          <p:nvPr/>
        </p:nvSpPr>
        <p:spPr>
          <a:xfrm flipV="1">
            <a:off x="5867280" y="1052280"/>
            <a:ext cx="10098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Line 27"/>
          <p:cNvSpPr/>
          <p:nvPr/>
        </p:nvSpPr>
        <p:spPr>
          <a:xfrm flipH="1">
            <a:off x="2771280" y="4149720"/>
            <a:ext cx="360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Line 28"/>
          <p:cNvSpPr/>
          <p:nvPr/>
        </p:nvSpPr>
        <p:spPr>
          <a:xfrm flipH="1">
            <a:off x="2556000" y="242100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30"/>
          <p:cNvSpPr/>
          <p:nvPr/>
        </p:nvSpPr>
        <p:spPr>
          <a:xfrm>
            <a:off x="5867280" y="3716280"/>
            <a:ext cx="217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31"/>
          <p:cNvSpPr/>
          <p:nvPr/>
        </p:nvSpPr>
        <p:spPr>
          <a:xfrm>
            <a:off x="6443640" y="3933720"/>
            <a:ext cx="7207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32"/>
          <p:cNvSpPr/>
          <p:nvPr/>
        </p:nvSpPr>
        <p:spPr>
          <a:xfrm>
            <a:off x="6588000" y="2565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7"/>
          <p:cNvGrpSpPr/>
          <p:nvPr/>
        </p:nvGrpSpPr>
        <p:grpSpPr>
          <a:xfrm>
            <a:off x="2987640" y="2637000"/>
            <a:ext cx="3240000" cy="2087280"/>
            <a:chOff x="2987640" y="2637000"/>
            <a:chExt cx="3240000" cy="2087280"/>
          </a:xfrm>
        </p:grpSpPr>
        <p:sp>
          <p:nvSpPr>
            <p:cNvPr id="194" name="Oval 5"/>
            <p:cNvSpPr/>
            <p:nvPr/>
          </p:nvSpPr>
          <p:spPr>
            <a:xfrm>
              <a:off x="2987640" y="2637000"/>
              <a:ext cx="3240000" cy="20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Text Box 6"/>
            <p:cNvSpPr/>
            <p:nvPr/>
          </p:nvSpPr>
          <p:spPr>
            <a:xfrm>
              <a:off x="3614760" y="2944800"/>
              <a:ext cx="1892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сновные принципы воспитания одарённых детей в семье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6" name="Oval 8"/>
          <p:cNvSpPr/>
          <p:nvPr/>
        </p:nvSpPr>
        <p:spPr>
          <a:xfrm>
            <a:off x="6588000" y="765000"/>
            <a:ext cx="230508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Oval 9"/>
          <p:cNvSpPr/>
          <p:nvPr/>
        </p:nvSpPr>
        <p:spPr>
          <a:xfrm>
            <a:off x="3564000" y="765000"/>
            <a:ext cx="2138400" cy="1490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539640" y="765000"/>
            <a:ext cx="2138400" cy="1490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Oval 11"/>
          <p:cNvSpPr/>
          <p:nvPr/>
        </p:nvSpPr>
        <p:spPr>
          <a:xfrm>
            <a:off x="539640" y="5084640"/>
            <a:ext cx="2282760" cy="1417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203640" y="5157720"/>
            <a:ext cx="295272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Oval 13"/>
          <p:cNvSpPr/>
          <p:nvPr/>
        </p:nvSpPr>
        <p:spPr>
          <a:xfrm>
            <a:off x="6372360" y="5013360"/>
            <a:ext cx="2447640" cy="14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455840" y="128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15"/>
          <p:cNvSpPr/>
          <p:nvPr/>
        </p:nvSpPr>
        <p:spPr>
          <a:xfrm flipH="1" flipV="1">
            <a:off x="2268000" y="2133360"/>
            <a:ext cx="100836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16"/>
          <p:cNvSpPr/>
          <p:nvPr/>
        </p:nvSpPr>
        <p:spPr>
          <a:xfrm flipV="1">
            <a:off x="4572000" y="2133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Line 17"/>
          <p:cNvSpPr/>
          <p:nvPr/>
        </p:nvSpPr>
        <p:spPr>
          <a:xfrm flipV="1">
            <a:off x="5867280" y="2060640"/>
            <a:ext cx="10098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Line 20"/>
          <p:cNvSpPr/>
          <p:nvPr/>
        </p:nvSpPr>
        <p:spPr>
          <a:xfrm flipH="1">
            <a:off x="2627280" y="4508640"/>
            <a:ext cx="720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Line 22"/>
          <p:cNvSpPr/>
          <p:nvPr/>
        </p:nvSpPr>
        <p:spPr>
          <a:xfrm>
            <a:off x="464328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Line 23"/>
          <p:cNvSpPr/>
          <p:nvPr/>
        </p:nvSpPr>
        <p:spPr>
          <a:xfrm>
            <a:off x="5867280" y="4437000"/>
            <a:ext cx="115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971640" y="10526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84360" y="12160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ят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ён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3998160" y="119700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знан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ён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6804000" y="9079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ьск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29"/>
          <p:cNvSpPr/>
          <p:nvPr/>
        </p:nvSpPr>
        <p:spPr>
          <a:xfrm>
            <a:off x="611280" y="5373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ьска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3419640" y="522936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н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ственност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амодисциплин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6516720" y="5229360"/>
            <a:ext cx="20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ит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ецепт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взять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принятие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, добавить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признание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, смешать с определенным количеством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родительской любви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доступности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, добавить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собственной ответственности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, приправленной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любящим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отцовским  и материнским авторитетом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900000" y="154944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</a:rPr>
              <a:t>Принятие одаренного ребенка 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36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</a:rPr>
              <a:t>Признание ребенка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</a:rPr>
              <a:t>Родительская любовь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00"/>
                </a:solidFill>
                <a:latin typeface="Comic Sans MS"/>
              </a:rPr>
              <a:t>Восточная мудрость:</a:t>
            </a:r>
            <a:endParaRPr b="0" lang="en-US" sz="6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1360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Посеешь любовь, тепло и ласку в детском возрасте, будешь ее холить и лелеять в подростковом – пожнешь сполна в старости: она вернется к тебе заботой и пониманием, терпением и терпимостью уже выросших детей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</a:rPr>
              <a:t>Принцип доступности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07:11:18Z</dcterms:created>
  <dc:creator>Эльдар Османов</dc:creator>
  <dc:description/>
  <dc:language>en-US</dc:language>
  <cp:lastModifiedBy>User</cp:lastModifiedBy>
  <dcterms:modified xsi:type="dcterms:W3CDTF">2021-04-16T07:42:00Z</dcterms:modified>
  <cp:revision>4</cp:revision>
  <dc:subject/>
  <dc:title>   </dc:title>
</cp:coreProperties>
</file>